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C51-C5BA-4034-B4E4-DDADB541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01B1-5239-4097-ADAE-B149E86DB1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162D-69E2-4DCB-9BD0-09343C62C4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3B41-C303-4BD1-B315-8541146CB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8CB2-4F26-42AA-A0FA-BDDF2549E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655-F1DF-4939-8585-ECF9C6F92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AAA-4EC0-4FDF-9C0D-DA7F48BB5C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A5C1-E4ED-4165-AEA6-717906D3C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4377-F042-4E3D-B78B-815A6B4854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F343-42C3-433D-9B7F-DBFCD6CA4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F8AF-4DC8-41DF-879B-55F13B3E5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1912-40FB-4D77-9F22-75C53AC5F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49FB-21A3-4AFF-B980-D6064701A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A8FB7-6EA4-4869-89AB-B97CA808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67539-BEB9-4992-9E40-DFB2D82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07E75-85F8-4A65-ACC1-2C10974C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A54C0-B8A3-4FB2-B70C-0068B9EB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7C708-6EC1-4A3E-8EBF-35FA03E4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67C1D-3A99-4418-A1EA-9E9BBAA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E26BC-AF84-4D5D-888E-9DC2371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ECF0-273C-43AB-BD6F-1F9285F62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BDA8-CD4E-46E6-BCB5-4AFA85F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D93F3-F78C-457E-87F8-1BACE0D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279E4-BDF5-4515-9C9E-6C95E2D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DC92B-A0DA-4670-AB79-364A5EC5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FD0C8-A2D4-445A-AB68-7F7947BF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91D3-F2CC-4E01-80CA-C3BFF3A3F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AA4D-4C03-40F9-B4CB-EE734EF13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D9A1-6B87-4863-BB53-304FEF2A5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0D05-38A0-46D7-81FB-E4DEFB7F5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9CE0-91DF-4399-872A-80E8D4863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9F41-DC8F-47A3-90A7-430A0676A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B7EE-00BF-4D7C-AD8C-3F1326E37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rot="3042000">
            <a:off x="332604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-7308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248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59B3-316A-41CC-BD99-37D382224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GraphicTIF1"/>
          <p:cNvPicPr/>
          <p:nvPr/>
        </p:nvPicPr>
        <p:blipFill>
          <a:blip r:embed="rId2"/>
          <a:stretch/>
        </p:blipFill>
        <p:spPr>
          <a:xfrm>
            <a:off x="8229600" y="6095880"/>
            <a:ext cx="9237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 rot="2770800">
            <a:off x="332568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-7632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GraphicTIF1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0353-5363-48AC-A636-01A79AD57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G3"/>
          <p:cNvPicPr/>
          <p:nvPr/>
        </p:nvPicPr>
        <p:blipFill>
          <a:blip r:embed="rId1"/>
          <a:stretch/>
        </p:blipFill>
        <p:spPr>
          <a:xfrm>
            <a:off x="-533520" y="22860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Asian Development Bank and Social Protection</a:t>
            </a:r>
            <a:br>
              <a:rPr sz="4800"/>
            </a:br>
            <a:br>
              <a:rPr sz="4800"/>
            </a:b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entation by Bart W. É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C Social Protection Training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4 June 2012 - Bangk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PI Highligh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expenditures on social insurance &gt; social assistance and labor market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ending/GDP: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7% in Vanuatu to 19.2%  in Japan (mean of 4.2%, median 2.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: broad SP programs with small benefits to larg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: narrow SP programs with generous benefits to f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Partnerships for SP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laboration on MDGs with UN partners, on jobs with ILO, on health with WHO and UNAIDS, and social sectors with UNICE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gular dialogue with global union federations and the ITU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nowledge sharing across the South between ADB and Inter-American Development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action with bilateral development agencies and N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992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ADB Views Social Prot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sential for inclusive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ks the cycle of pov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sts i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ndia poverty.jpg"/>
          <p:cNvPicPr/>
          <p:nvPr/>
        </p:nvPicPr>
        <p:blipFill>
          <a:blip r:embed="rId1"/>
          <a:stretch/>
        </p:blipFill>
        <p:spPr>
          <a:xfrm>
            <a:off x="4610160" y="3886200"/>
            <a:ext cx="4533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Social Protection Strategy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 poverty &amp; vulner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ngthen country 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hance partne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a medium-to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ng-term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Strategy 2020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Exp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uman capacities through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059" descr="cat_community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ngo rep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unding Social Prot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ll share of ADB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ans, grants,  &amp; TAs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 reform and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ikes in c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ducation, health, 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nditure management/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id02_07b"/>
          <p:cNvPicPr/>
          <p:nvPr/>
        </p:nvPicPr>
        <p:blipFill>
          <a:blip r:embed="rId1"/>
          <a:stretch/>
        </p:blipFill>
        <p:spPr>
          <a:xfrm>
            <a:off x="5419800" y="1600200"/>
            <a:ext cx="3724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eas of Social Protection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market policies/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insurance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 and area based sche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ANGLADESH_(F)_0340_-_Disable_begger_in_Dhaka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velop Knowledge Solution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876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analysis of social protection trends and policy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ular attention to so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and br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sharing events i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ko-graphic"/>
          <p:cNvPicPr/>
          <p:nvPr/>
        </p:nvPicPr>
        <p:blipFill>
          <a:blip r:embed="rId1"/>
          <a:stretch/>
        </p:blipFill>
        <p:spPr>
          <a:xfrm>
            <a:off x="5715000" y="1371600"/>
            <a:ext cx="28954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ocial Protection Index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 expenditures per potential beneficiaries divided by poverty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more than 3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nding, poverty targeting, co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llaboration with OECD and 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w indicator for inclusive growth within ADB’s results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classroom%20with%20Little%20Hands%20of%20Asia%20backpacks"/>
          <p:cNvPicPr/>
          <p:nvPr/>
        </p:nvPicPr>
        <p:blipFill>
          <a:blip r:embed="rId1"/>
          <a:stretch/>
        </p:blipFill>
        <p:spPr>
          <a:xfrm>
            <a:off x="838080" y="22860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00:56:57Z</dcterms:created>
  <dc:creator>OIST</dc:creator>
  <dc:description/>
  <dc:language>en-US</dc:language>
  <cp:lastModifiedBy>Nick</cp:lastModifiedBy>
  <cp:lastPrinted>2002-11-26T00:08:22Z</cp:lastPrinted>
  <dcterms:modified xsi:type="dcterms:W3CDTF">2012-06-14T05:14:49Z</dcterms:modified>
  <cp:revision>192</cp:revision>
  <dc:subject/>
  <dc:title>No Slide Title</dc:title>
</cp:coreProperties>
</file>