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1D4E-E62D-4FF6-B0F2-92964F2CD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627-6E84-4C46-BE7B-5EEEA86619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00EB-450B-415B-924B-269C6ACA4B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328-A3B5-4F3D-B67A-9D69B2C054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91EF-69D4-4C7A-93CF-1DA4AB9117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ACD-8EEC-4300-A452-6EB8499D3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8FF-D508-41FC-B674-AFF4896C2B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0F73-210E-493C-AD40-9067BAD288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723-B893-4A0F-9E6B-7F191B4E1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C41F-92FF-4676-AB72-92A8906C0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DED0-B2E7-44B5-9DF6-0FDF4939C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7C2F-3938-4AD3-ACC8-7879C07F2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69CD-9DA7-41F6-9305-4E3CC49E3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6AA02-C949-4825-AB9A-DAEAFFD6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A407-BA5B-44DD-AE84-4F495AEE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8231D-DC11-411E-8737-E653762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9A191-B58A-48EA-96A8-B662C6C8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6EE10-F6C8-4738-89CF-083BC17D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0C07B-9106-4350-BC8B-4C61BBC2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1859F-FBB2-49DC-B8EA-4E385E97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0E97-7579-4FA7-B027-0C0678B3E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2A5E5-A8C3-4BCB-A0B4-1A1B126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5D204-FB09-4FEB-B08E-CCB0E66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005C9-4389-4260-A672-67785188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F5A37-F74A-4721-85BA-B4BCD16E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055AA-3719-490E-8AAE-F7B2404F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FDF9-982C-45B5-B0A7-EF30F3E7D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47B2-B487-4ED0-B364-2B41AED17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7E98-D49F-4A29-9E98-81E177297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9354-DB09-49E9-879C-B36944597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AA59-8580-429D-A90D-4FE24E743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D8FF-6C6C-4A3B-A98F-C24282C89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174C-BD2F-4E2F-82D1-3735D5A84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 rot="3042000">
            <a:off x="332604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0"/>
          <p:cNvSpPr/>
          <p:nvPr/>
        </p:nvSpPr>
        <p:spPr>
          <a:xfrm>
            <a:off x="-7308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248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B89F-09C6-4009-8852-30998DF6E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GraphicTIF1"/>
          <p:cNvPicPr/>
          <p:nvPr/>
        </p:nvPicPr>
        <p:blipFill>
          <a:blip r:embed="rId2"/>
          <a:stretch/>
        </p:blipFill>
        <p:spPr>
          <a:xfrm>
            <a:off x="8229600" y="6095880"/>
            <a:ext cx="92376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5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2"/>
          <p:cNvSpPr/>
          <p:nvPr/>
        </p:nvSpPr>
        <p:spPr>
          <a:xfrm rot="2770800">
            <a:off x="3325680" y="325440"/>
            <a:ext cx="6172200" cy="5937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-76320" y="6684840"/>
            <a:ext cx="8686800" cy="1731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GraphicTIF1"/>
          <p:cNvPicPr/>
          <p:nvPr/>
        </p:nvPicPr>
        <p:blipFill>
          <a:blip r:embed="rId2"/>
          <a:stretch/>
        </p:blipFill>
        <p:spPr>
          <a:xfrm>
            <a:off x="8226360" y="6095880"/>
            <a:ext cx="924120" cy="790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263880" indent="-263880"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63880" indent="-263880"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5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6" marL="263880" indent="-263880"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588C-3F4D-4D0D-B424-C7918C8D2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G3"/>
          <p:cNvPicPr/>
          <p:nvPr/>
        </p:nvPicPr>
        <p:blipFill>
          <a:blip r:embed="rId1"/>
          <a:stretch/>
        </p:blipFill>
        <p:spPr>
          <a:xfrm>
            <a:off x="-533520" y="22860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Asian Development Bank and Social Protection</a:t>
            </a:r>
            <a:br>
              <a:rPr sz="4800"/>
            </a:br>
            <a:br>
              <a:rPr sz="4800"/>
            </a:b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37335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entation by Bart W. É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C Social Protection Training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4 June 2012 - Bangk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PI Highligh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 expenditures on social insurance &gt; social assistance and labor market progra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pending/GDP: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7% in Vanuatu to 19.2%  in Japan (mean of 4.2%, median 2.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untries: broad SP programs with small benefits to larg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: narrow SP programs with generous benefits to fe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Partnerships for SP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laboration on MDGs with UN partners, on jobs with ILO, on health with WHO and UNAIDS, and social sectors with UNICE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gular dialogue with global union federations and the ITU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nowledge sharing across the South between ADB and Inter-American Development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raction with bilateral development agencies and N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Tahoma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992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ow ADB Views Social Prot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sential for inclusive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eaks the cycle of pov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vests i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india poverty.jpg"/>
          <p:cNvPicPr/>
          <p:nvPr/>
        </p:nvPicPr>
        <p:blipFill>
          <a:blip r:embed="rId1"/>
          <a:stretch/>
        </p:blipFill>
        <p:spPr>
          <a:xfrm>
            <a:off x="4610160" y="3886200"/>
            <a:ext cx="45338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Social Protection Strategy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duce poverty &amp; vulner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rengthen country 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hance partner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ake a medium-to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ng-term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Strategy 2020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: Exp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uman capacities through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059" descr="cat_community"/>
          <p:cNvPicPr/>
          <p:nvPr/>
        </p:nvPicPr>
        <p:blipFill>
          <a:blip r:embed="rId1"/>
          <a:stretch/>
        </p:blipFill>
        <p:spPr>
          <a:xfrm>
            <a:off x="5791320" y="228600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ngo rep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unding Social Protec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mall share of ADB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ans, grants,  &amp; TAs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 reform and expa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ikes in c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ducation, health, 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nditure management/f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id02_07b"/>
          <p:cNvPicPr/>
          <p:nvPr/>
        </p:nvPicPr>
        <p:blipFill>
          <a:blip r:embed="rId1"/>
          <a:stretch/>
        </p:blipFill>
        <p:spPr>
          <a:xfrm>
            <a:off x="5419800" y="1600200"/>
            <a:ext cx="3724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reas of Social Protection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market policies/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insurance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 as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 and area based sche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1749"/>
              </a:spcBef>
              <a:spcAft>
                <a:spcPts val="700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BANGLADESH_(F)_0340_-_Disable_begger_in_Dhaka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velop Knowledge Solutions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4876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analysis of social protection trends and policy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ular attention to social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and br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sharing events in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ko-graphic"/>
          <p:cNvPicPr/>
          <p:nvPr/>
        </p:nvPicPr>
        <p:blipFill>
          <a:blip r:embed="rId1"/>
          <a:stretch/>
        </p:blipFill>
        <p:spPr>
          <a:xfrm>
            <a:off x="5715000" y="1371600"/>
            <a:ext cx="28954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ocial Protection Index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 expenditures per potential beneficiaries divided by poverty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s more than 30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nding, poverty targeting, cove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ollaboration with OECD and I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ew indicator for inclusive growth within ADB’s results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classroom%20with%20Little%20Hands%20of%20Asia%20backpacks"/>
          <p:cNvPicPr/>
          <p:nvPr/>
        </p:nvPicPr>
        <p:blipFill>
          <a:blip r:embed="rId1"/>
          <a:stretch/>
        </p:blipFill>
        <p:spPr>
          <a:xfrm>
            <a:off x="838080" y="22860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4T00:56:57Z</dcterms:created>
  <dc:creator>OIST</dc:creator>
  <dc:description/>
  <dc:language>en-US</dc:language>
  <cp:lastModifiedBy>Nick</cp:lastModifiedBy>
  <cp:lastPrinted>2002-11-26T00:08:22Z</cp:lastPrinted>
  <dcterms:modified xsi:type="dcterms:W3CDTF">2012-06-14T05:14:49Z</dcterms:modified>
  <cp:revision>192</cp:revision>
  <dc:subject/>
  <dc:title>No Slide Title</dc:title>
</cp:coreProperties>
</file>