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F58A-D38C-455A-B80D-DF417C6182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EDEB-8E0C-4615-BC6A-FF0F9F2469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ED72-2B97-4729-AEE2-DB76ACF8E1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3CA9-BDFC-4CDD-8FA3-5806830AF8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A31A-2C65-4ABF-8C33-D9F5DA32B2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70F5-CE4A-49C6-9998-F46AC4EA3D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8A30-7C97-4AC0-88C8-D0E6881944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C13E-AB96-4726-A864-7523AB14E8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070D-9FAB-416E-AD27-F3B1E012F1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1788-07E8-4BB7-A3B8-1E9DB6A10B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97E9-004A-4612-B6AE-B6317EF46F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D4F5-2118-4769-83C2-69DD874947C7}"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810F-3171-4591-8C9D-006F6FF0DF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4E03-F280-4290-A0B8-4C18235FD7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9B0E-3088-4259-81CA-658921E6A7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13F6-5852-4BA7-80AC-089E1021CD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61E1-1823-4956-BFDD-A4F59524D0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8748-E0B4-4BEF-A661-85DB60F1D3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3D06-4E0A-449A-94B6-2B402A155F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6F1C-866A-4B76-A1EE-9B9B66F035B7}"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1470-AD67-4428-BE08-4EAFFCA304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74E2-0371-48D0-8377-E7DC3EECF7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A878-393D-4D53-AF28-465407DB94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835A-5968-4525-8022-2F71FA98CA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CCE6-1069-4846-93A9-3688D31271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AB33-9787-40D7-B30E-F6CCA0B866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CA5B-0432-4A2B-AC7A-C5AA14306E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9E63-09E0-4D47-B75B-F7D53EA80C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7965-21DD-4E81-A450-EA8A7AF1CF82}"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8B57-5EA6-426F-BCE3-FFB4FF69AF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6A29-960D-4345-95B4-C6689C78DC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5651-314B-43F5-8663-ED6FC2FD94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851A-00AF-4F1A-B12B-AC7DE44BF2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A653-4DEB-4C91-8E3A-8D8E57B423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30A6-9DE1-42F3-8529-2FF6E09E5E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7758-050E-4248-B6DB-FA309799B2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4AEF-84DB-4466-8C66-6DBB5D833C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D1DC-74B8-4347-ADA9-975D81F45F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03F6-B9F4-414C-A3B0-42A10410BC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878D-80E8-42AC-8930-AA53BB0B75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EB7EB-E3A2-42FC-A453-4DBCB12B9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4016-EC54-4921-854A-45DA34938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5C44A-4F84-40C5-810B-6FDE53E44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421A4-F00B-4951-B4AC-D8EAF4457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4906F-483B-4CCD-9388-974F170A7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66BE8-1813-445E-B304-D5454C4DA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6A1ED-6CFB-47EC-8740-291685D0A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690FF-7D61-4174-BC2F-BE66C72B2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BAA45-812D-4B0D-B8FC-D734F57C8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5A117-F6BE-4514-8416-FFE0560E9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A3817-6532-417B-994E-730268FE3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0668-A4A4-4F5D-B039-AC96B9AD1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127EA-5645-4558-8CB5-3D26AEB3C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CDD71-6B3B-4051-88EF-F343FA19C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DF627-9045-4D62-A0A1-6F7030789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A0779-13C0-430E-A96B-FF1A3876B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B23BA-98F4-4B43-9BAD-0FE399FD5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973A-9215-4C3E-ACDE-75D2E7554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19D6-F4F1-4D3F-A211-88252890C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0B4A1-8288-46D7-B29F-17B5D9723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638C4-43E8-4C33-960E-E480A684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C0E32-8705-4AC5-8B82-E7C27909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012A-5BAC-4714-819E-B96C51A40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5DE96-418C-44C3-8A0A-0D372CBDC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DC17-9E45-4EB6-9FC5-647BECDC37D9}"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08FE-9BFD-4CA3-BBAE-9AD407C0824E}" type="datetime">
              <a:rPr b="0" lang="en-US" sz="1200" spc="-1" strike="noStrike">
                <a:solidFill>
                  <a:srgbClr val="898989"/>
                </a:solidFill>
                <a:latin typeface="Verdana"/>
                <a:ea typeface="ＭＳ Ｐゴシック"/>
              </a:rPr>
              <a:t>07/31/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943D-E90E-441A-92B0-E993E1BAA3C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7BF6-BA88-4DDB-9660-4912F377FE8B}"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6F97-C39E-4C6C-B1FF-AC31AAE2E098}"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