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FE22-5770-4343-B8C1-40112D542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F5DD-5826-4341-9213-2A5D5A54F63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2916-0C24-4B9F-AA07-F5138B82BE3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F5FB-8EF5-4C9F-9790-05E88881DB5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9EA9-42DF-48EA-9587-DB34B2E0FB3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A32C-BCAC-42D7-88EA-EF7A26875D3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0B63-3B5D-45C7-B097-AD8846618F8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09CC-4C7D-46A7-8EAA-5FBCB28BA12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BC7C-F4D8-429B-9ED9-3B24FDFCCBC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92D3-06C6-462E-8F02-D4148D6FB6B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7286-D1C9-45E5-A95E-18F9EE3A12E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EB2E-AA8C-4029-9A2C-181245AC0AB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asons why we need to measure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purposes (= make the poor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ely since introduction of PRSPs is poverty reduction one of the main goal for development programs and projects; most projects have as their ‘impact objective’  or ‘outcome’  a goal such as ‘to reduce poverty’  or to increase the living standard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fare of the population is the result of all national policies. If everybody would  benefit equally, there would be no need for poverty and inequality measures, but some benefit more than others. Some policies, esp. social protection policies are explicitly targeted to reduce poverty, and, consequently,  we have to measure poverty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D6A8-562B-426A-9A64-EDB78118DCA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A316-23B1-45F6-BA1E-DF7B71DDD58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onsumer theory states that everybody makes the choice that provides the highest utility. The welfarist approach assumes that hhs have preferences and they are expressed in what they consume (food or health?) and that this choice gives them the highest utility they can possibly achieve. As such money is a good representation of welfare. No value attached to the choices made by the household. It also assumes that everything can be bought/consumed. Shows immediately shortcomings of purely welfarist approach. – choices made by household may not be wise; intra-household distribution? Accessibility of services? Only works if all choice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so in non-welfarist approach and capability approach, command over commodities as an instrument to increase well-being still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4FA2-69A3-46D3-8E82-BCF4AE88FAB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evelopment away from simple income or consumption based concept  to more sophisticated and complex conce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come may not enough to describe poverty. Poverty can materialize in other aspects, such as basic needs not covered, lack of access to education, health and other public services, relative deprivation, etc. Non-monetary measures gained ground over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y then, after all, are still most poverty assessments based on a monetary measure? All agree that poverty is multidimensional phenomenon, but many of the non-monetary concepts are difficult to be measured and valu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Monetary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oncept/idea: welfarist approach where monetary status reflects a household’s utility level and prefere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Economic welfare: goods and services consumed by househ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traightforward, easy to interpret, may not capture well-being when markets do not function proper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Capability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erm coined by Amartya 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 capability approach argues that individuals are poor if they do not have the freedom to achieve their goals of well being and they are vulnerable when this lack of freedom persists over time (Sen 199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Utility’ and other commodity based formulations as a metric of welfare are rejec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Well-being’ means ‘being well’: ‘… value of living standards lies in the living and not in the possession of commodities…’ (Sen,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overty is seen as a failure to achieve certain basic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Basic capabilities: ‘the ability to satisfy certain crucially important functionings’ (Sen, 199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n individual’s state of being can be viewed as a vector of functionings; i.e. achieved outcomes that determine life and liv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se functionings are attained by utilising resources over which individuals have legal ownership rights, what Sen (1981) called entit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easuring capabilities is difficult, since capabilities represent a set of potential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 practice: focus on functionings (e.g. life expectancy, literacy, nutrition levels…)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very close basic needs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Social ex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1980s and 90s: social exclusion emerged as concept in E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rginalization and deprivation can exist even in rich societies with well developed welfare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E is ‘…a process whereby certain individuals are pushed to the edge of society and prevented from participating fully by virtue of their poverty, or lack of basic competencies and lifelong learning opportunities, or as a result of discrimination.’(EC,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oes beyond income poverty and includes social, cultural and political dimensions of exclusion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non-welfarist aspects of depriv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lose to Townsend’s concept of depr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cknowledges the fact that deprivation can have multiple f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pen method of coordination, Lisbon Agenda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Laeken indicato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in characteristics of social exclusion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Relativity: Relative to a particular socie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ency: SE as result of action of an ag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ynamics: Future is relevant as well, one disadvantage may lead to more disadvant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ultidimensional: Raises aggregation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roblems with SE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pplication to developing countries problematic as characteristics of SE di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gregation, causality between different dimen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at is ‘normal’? What are appropriate SE characterist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verall, least-defined and most difficult approach to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Vulner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No consensus on concept, how to define and measure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riginates in Disaster Risk Red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eneral agreement that it differs from poverty and is a forward looking con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ost often: vulnerability as risk of falling into poverty, measured as expected poverty (Calvo&amp;Dercon, 2005; Pritchett et.al. 2002; Haughton&amp;Khandker 2009, and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5C3E-9B7C-4760-90CB-10E757FC8C2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1E36-BB69-4E94-954E-00032C49CAC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D4B3-9C90-41FE-B6F2-BAE7DD1EEDE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2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54DE-B3F6-4A79-86F9-81F69800EE3C}" type="slidenum">
              <a:rPr b="0" lang="en-US" sz="1200" spc="-1" strike="noStrike">
                <a:solidFill>
                  <a:srgbClr val="000000"/>
                </a:solidFill>
                <a:latin typeface="Times New Roman"/>
              </a:rPr>
              <a:t>&lt;number&gt;</a:t>
            </a:fld>
            <a:endParaRPr b="0" lang="en-US" sz="1200" spc="-1" strike="noStrike">
              <a:solidFill>
                <a:srgbClr val="80808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F385-9433-466F-AEAC-2514FE43A81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comparison between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or mean? What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line has also relative asp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etermines what needs to be cov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services in minimum basket differ per country, ev. Even per region- think for example of Russia with very warm and very cold regions – needs for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poverty line also depends on purpose of poverty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not useful for national policy mak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can be close or far off national li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is defined regardless of the general welfare level or distribution in a given society. An individual is considered poor if he/she is not able to obtain the minimum necessities to maintain a purely physical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identifies those people that are poorest within the overall distribution in a given society. The concept changes with the ideas and values prevailing in a society.</a:t>
            </a:r>
            <a:endParaRPr b="0" lang="en-US" sz="1200" spc="-1" strike="noStrike">
              <a:solidFill>
                <a:srgbClr val="000000"/>
              </a:solidFill>
              <a:latin typeface="Arial"/>
            </a:endParaRPr>
          </a:p>
        </p:txBody>
      </p:sp>
      <p:sp>
        <p:nvSpPr>
          <p:cNvPr id="2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CE4B-4413-4390-AE3E-7ACE7791F6A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ECC6-A684-4486-BB59-6AD64C2940F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ways to define minimum standards. Think of MDGs, or CRC. Regarding the latter: formulated rather generally, minimum still has to be defined; varies per socie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7BFD-2D2C-4106-BF51-483B4DD5BC3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thods: e.g. food share (show engel curve); this can also be applied to other expenditure items, e.g. housing (to determine housing allowance), but has its own problems in latter case – preference of hh where and how to live. No general acceptable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subsistence level – very popular in former SU countries! Not based on hbs, but on scientifically determined consumption standar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7927-E657-492D-8CB5-956CCD8E244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AE1F-E578-460D-972D-D443EB3DED2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BC19-EA98-436D-AE99-E6F257C530E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507B-48A8-4ECE-AEE8-2AEC3F2C7D7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67F3-D71B-4825-B2BC-C9B1A7673E6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0A1F-2C56-46AE-8940-1191B2DAC78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BB70-A638-44FF-9A0F-6F98C8AA0FC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FEE1-80FB-44A0-977B-F01E56B587C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060D-9BE5-4654-8BF4-3E5E4BAA9C5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1DEE-A260-459E-B0CF-C63C319B11B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DFD4-1154-4678-AB72-DE6E0752992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32AB-311B-4049-971A-304C02D10A8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37DA-8902-4CAE-A347-3D2824D69A5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C014-F4D8-408F-9243-262448A58C8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D0B0-B4AD-4FA5-9BBD-BEDC162CEBB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EBC64-EB4D-43DE-8826-D56BFA82B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0A4E8-D76E-4F04-BB1C-5E9C313F2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782F4-341E-43C7-B58B-6218AB3F1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BCD8D-1660-43FD-9A37-3F31D292C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13D67-33F8-41F3-94B3-8DB98B5B8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67CAF-22F1-444E-86E7-4430C631D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09F28-4335-432B-8D04-17892205E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B53A4-D325-42CA-A870-39510FE8D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51499-A04F-4548-AB42-F9E70A588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B9EC0-E85D-4D5A-A2A9-A5F87DC63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AE4C3-3449-4BCB-86DF-62A97AB8B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4BB76-D14D-4ABE-88FB-FAB0CFEDE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55511-FF5B-4D30-AC29-CA46DD9F6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3F0F8-3F72-4E77-9CBA-C292DFAA5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0E68F-99B1-4D2D-9080-B98AB8151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A2491-955B-4ABB-9134-E88C0CFB8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5D7E1-80C6-4AB2-B4E8-1B3F4C502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1CDFD-31BE-46E7-A782-D1750CEFF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2E2D5-0E7B-4AA4-963D-B72B31E0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7810F-691D-4AD9-ADBF-B51B45795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D99F5-09D6-4FEF-AB2F-96BAFEDF2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A17E-9B71-4A02-BD01-FC6BDF06C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FFC96-B8FB-4B50-8022-0A10D41D1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17D7B-07F0-4222-967D-F18C92C05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7A98-9232-4346-97ED-AA5B810556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EFFE-8A48-47D9-BE94-30AB364DFFA4}"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565360"/>
            <a:ext cx="856764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d624"/>
                </a:solidFill>
                <a:latin typeface="Verdana"/>
              </a:rPr>
              <a:t>Performance Measurement for Social Protection</a:t>
            </a:r>
            <a:endParaRPr b="1" lang="en-US" sz="4000" spc="-1" strike="noStrike">
              <a:solidFill>
                <a:srgbClr val="0f5494"/>
              </a:solidFill>
              <a:latin typeface="Verdana"/>
            </a:endParaRPr>
          </a:p>
        </p:txBody>
      </p:sp>
      <p:sp>
        <p:nvSpPr>
          <p:cNvPr id="96" name="PlaceHolder 2"/>
          <p:cNvSpPr>
            <a:spLocks noGrp="1"/>
          </p:cNvSpPr>
          <p:nvPr>
            <p:ph type="subTitle"/>
          </p:nvPr>
        </p:nvSpPr>
        <p:spPr>
          <a:xfrm>
            <a:off x="611280" y="393372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Franziska Gassmann</a:t>
            </a:r>
            <a:endParaRPr b="0" i="1" lang="en-US" sz="3000" spc="-1" strike="noStrike">
              <a:solidFill>
                <a:srgbClr val="0f5494"/>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Bangkok, June 2012</a:t>
            </a:r>
            <a:endParaRPr b="0" i="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ypes of indicators</a:t>
            </a:r>
            <a:endParaRPr b="1" lang="en-US" sz="3000" spc="-1" strike="noStrike">
              <a:solidFill>
                <a:srgbClr val="0f5494"/>
              </a:solidFill>
              <a:latin typeface="Verdana"/>
            </a:endParaRPr>
          </a:p>
        </p:txBody>
      </p:sp>
      <p:sp>
        <p:nvSpPr>
          <p:cNvPr id="115" name="Line 13"/>
          <p:cNvSpPr/>
          <p:nvPr/>
        </p:nvSpPr>
        <p:spPr>
          <a:xfrm flipV="1">
            <a:off x="5435640" y="3212640"/>
            <a:ext cx="2089080" cy="71640"/>
          </a:xfrm>
          <a:prstGeom prst="line">
            <a:avLst/>
          </a:prstGeom>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6" name="Line 14"/>
          <p:cNvSpPr/>
          <p:nvPr/>
        </p:nvSpPr>
        <p:spPr>
          <a:xfrm>
            <a:off x="5508720" y="3357720"/>
            <a:ext cx="230328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17" name="Object 3"/>
          <p:cNvGraphicFramePr/>
          <p:nvPr/>
        </p:nvGraphicFramePr>
        <p:xfrm>
          <a:off x="625320" y="2141640"/>
          <a:ext cx="8218800" cy="3555720"/>
        </p:xfrm>
        <a:graphic>
          <a:graphicData uri="http://schemas.openxmlformats.org/presentationml/2006/ole">
            <p:oleObj progId="Word.Document.12" r:id="rId1" spid="">
              <p:embed/>
              <p:pic>
                <p:nvPicPr>
                  <p:cNvPr id="118" name="Object 3" descr=""/>
                  <p:cNvPicPr/>
                  <p:nvPr/>
                </p:nvPicPr>
                <p:blipFill>
                  <a:blip r:embed="rId2"/>
                  <a:stretch/>
                </p:blipFill>
                <p:spPr>
                  <a:xfrm>
                    <a:off x="625320" y="2141640"/>
                    <a:ext cx="8218800" cy="3555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good indicator is…</a:t>
            </a:r>
            <a:br>
              <a:rPr sz="3000"/>
            </a:br>
            <a:r>
              <a:rPr b="0" lang="en-US" sz="1800" spc="-1" strike="noStrike">
                <a:solidFill>
                  <a:srgbClr val="0f5494"/>
                </a:solidFill>
                <a:latin typeface="Verdana"/>
              </a:rPr>
              <a:t>(World Bank, 2004)</a:t>
            </a:r>
            <a:endParaRPr b="1" lang="en-US" sz="1800" spc="-1" strike="noStrike">
              <a:solidFill>
                <a:srgbClr val="0f5494"/>
              </a:solidFill>
              <a:latin typeface="Verdana"/>
            </a:endParaRPr>
          </a:p>
        </p:txBody>
      </p:sp>
      <p:sp>
        <p:nvSpPr>
          <p:cNvPr id="120" name=""/>
          <p:cNvSpPr txBox="1"/>
          <p:nvPr/>
        </p:nvSpPr>
        <p:spPr>
          <a:xfrm>
            <a:off x="457200" y="2491920"/>
            <a:ext cx="8229600" cy="3529080"/>
          </a:xfrm>
          <a:prstGeom prst="rect">
            <a:avLst/>
          </a:prstGeom>
          <a:noFill/>
          <a:ln w="0">
            <a:noFill/>
          </a:ln>
        </p:spPr>
        <p:txBody>
          <a:bodyPr anchor="t">
            <a:normAutofit fontScale="94000"/>
          </a:bodyPr>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 direct and clear measure of progress (specific)</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ries across areas, groups and over tim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nsitive to changes in policie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t easy to manipulate or blown off by unrelated development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evant for policy making</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tracked in a cost-effective way (avail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policy-making cyc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y to understand</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i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data availability and data collection capacit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US" sz="3000" spc="-1" strike="noStrike">
                <a:solidFill>
                  <a:srgbClr val="0f5494"/>
                </a:solidFill>
                <a:latin typeface="Verdana"/>
              </a:rPr>
              <a:t>and supported by intelligent benchmarks</a:t>
            </a:r>
            <a:br>
              <a:rPr sz="3000"/>
            </a:br>
            <a:r>
              <a:rPr b="0" lang="en-US" sz="1800" spc="-1" strike="noStrike">
                <a:solidFill>
                  <a:srgbClr val="0f5494"/>
                </a:solidFill>
                <a:latin typeface="Verdana"/>
              </a:rPr>
              <a:t>(Cichon et.al, 2004)</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22" name=""/>
          <p:cNvSpPr txBox="1"/>
          <p:nvPr/>
        </p:nvSpPr>
        <p:spPr>
          <a:xfrm>
            <a:off x="457200" y="3499920"/>
            <a:ext cx="8229600" cy="25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im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national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international benchmark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wo dimensions of social protection performance</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rizont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ectiveness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der-coverage (exclusion) reduces horizontal efficienc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ertic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iciency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s reduce vertical efficienc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341360"/>
            <a:ext cx="7786800" cy="782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efficiency – evaluation matrix</a:t>
            </a:r>
            <a:endParaRPr b="1" lang="en-US" sz="2400" spc="-1" strike="noStrike">
              <a:solidFill>
                <a:srgbClr val="0f5494"/>
              </a:solidFill>
              <a:latin typeface="Verdana"/>
            </a:endParaRPr>
          </a:p>
        </p:txBody>
      </p:sp>
      <p:graphicFrame>
        <p:nvGraphicFramePr>
          <p:cNvPr id="126" name=""/>
          <p:cNvGraphicFramePr/>
          <p:nvPr/>
        </p:nvGraphicFramePr>
        <p:xfrm>
          <a:off x="468360" y="2276640"/>
          <a:ext cx="8229600" cy="4211640"/>
        </p:xfrm>
        <a:graphic>
          <a:graphicData uri="http://schemas.openxmlformats.org/drawingml/2006/table">
            <a:tbl>
              <a:tblPr/>
              <a:tblGrid>
                <a:gridCol w="2743200"/>
                <a:gridCol w="2743200"/>
                <a:gridCol w="2743200"/>
              </a:tblGrid>
              <a:tr h="1184040">
                <a:tc>
                  <a:txBody>
                    <a:bodyPr lIns="90000" rIns="90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Non-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452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Household receives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In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ype I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r>
              <a:tr h="151308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Household does not receive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Ex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ype 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341000"/>
            <a:ext cx="77868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exclusion and inclusion errors</a:t>
            </a:r>
            <a:br>
              <a:rPr sz="2400"/>
            </a:br>
            <a:endParaRPr b="1" lang="en-US" sz="2400" spc="-1" strike="noStrike">
              <a:solidFill>
                <a:srgbClr val="0f5494"/>
              </a:solidFill>
              <a:latin typeface="Verdana"/>
            </a:endParaRPr>
          </a:p>
        </p:txBody>
      </p:sp>
      <p:sp>
        <p:nvSpPr>
          <p:cNvPr id="128"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clusion error (under-cover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poor w/o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all poor</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lusion error =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non-poor with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beneficiaries</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k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Total amount of benefits received by non-poor</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Total amount of benefits paid</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stributional analysis – example</a:t>
            </a:r>
            <a:endParaRPr b="1" lang="en-US" sz="3000" spc="-1" strike="noStrike">
              <a:solidFill>
                <a:srgbClr val="0f5494"/>
              </a:solidFill>
              <a:latin typeface="Verdana"/>
            </a:endParaRPr>
          </a:p>
        </p:txBody>
      </p:sp>
      <p:pic>
        <p:nvPicPr>
          <p:cNvPr id="130" name="Picture 3" descr=""/>
          <p:cNvPicPr/>
          <p:nvPr/>
        </p:nvPicPr>
        <p:blipFill>
          <a:blip r:embed="rId1"/>
          <a:stretch/>
        </p:blipFill>
        <p:spPr>
          <a:xfrm>
            <a:off x="476280" y="2430360"/>
            <a:ext cx="8124840" cy="263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targeting effectiveness</a:t>
            </a:r>
            <a:endParaRPr b="1" lang="en-US" sz="3000" spc="-1" strike="noStrike">
              <a:solidFill>
                <a:srgbClr val="0f5494"/>
              </a:solidFill>
              <a:latin typeface="Verdana"/>
            </a:endParaRPr>
          </a:p>
        </p:txBody>
      </p:sp>
      <p:sp>
        <p:nvSpPr>
          <p:cNvPr id="132" name=""/>
          <p:cNvSpPr txBox="1"/>
          <p:nvPr/>
        </p:nvSpPr>
        <p:spPr>
          <a:xfrm>
            <a:off x="457200" y="2060640"/>
            <a:ext cx="8229600" cy="3960720"/>
          </a:xfrm>
          <a:prstGeom prst="rect">
            <a:avLst/>
          </a:prstGeom>
          <a:noFill/>
          <a:ln w="0">
            <a:noFill/>
          </a:ln>
        </p:spPr>
        <p:txBody>
          <a:bodyPr anchor="t">
            <a:normAutofit fontScale="85000"/>
          </a:bodyPr>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hare of transfers going to the poor =</a:t>
            </a:r>
            <a:endParaRPr b="0" i="1" lang="en-US" sz="2000" spc="-1" strike="noStrike">
              <a:solidFill>
                <a:srgbClr val="0f5494"/>
              </a:solidFill>
              <a:latin typeface="Verdana"/>
            </a:endParaRPr>
          </a:p>
          <a:p>
            <a:pPr marL="291600" indent="-291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99"/>
                </a:solidFill>
                <a:uFillTx/>
                <a:latin typeface="Verdana"/>
              </a:rPr>
              <a:t>% of transfers received by poor</a:t>
            </a:r>
            <a:endParaRPr b="1" lang="en-US" sz="18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Verdana"/>
              </a:rPr>
              <a:t>% of poor in total population</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or are 40% of the total population</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ts received by the poor = 20%</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hare received by the poor = 20/40 = 0.5</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terpretation:</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 1: targeting is neutral</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lt; 1: targeting is regressive</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gt; 1: targeting is progressiv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adequacy</a:t>
            </a:r>
            <a:endParaRPr b="1" lang="en-US" sz="3000" spc="-1" strike="noStrike">
              <a:solidFill>
                <a:srgbClr val="0f5494"/>
              </a:solidFill>
              <a:latin typeface="Verdana"/>
            </a:endParaRPr>
          </a:p>
        </p:txBody>
      </p:sp>
      <p:sp>
        <p:nvSpPr>
          <p:cNvPr id="134" name=""/>
          <p:cNvSpPr txBox="1"/>
          <p:nvPr/>
        </p:nvSpPr>
        <p:spPr>
          <a:xfrm>
            <a:off x="457200" y="249192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are of benefits in total household income (consumption) =</a:t>
            </a:r>
            <a:endParaRPr b="0" i="1" lang="en-US" sz="24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Benefit value</a:t>
            </a: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Household income</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hange in poverty rates before and after transfer</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bsolute change = change in percentage point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lative change = change as % of pre-transfer povert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Poverty (a very short intro to…)</a:t>
            </a:r>
            <a:endParaRPr b="1" lang="en-US" sz="2400" spc="-1" strike="noStrike">
              <a:solidFill>
                <a:srgbClr val="0f5494"/>
              </a:solidFill>
              <a:latin typeface="Verdana"/>
            </a:endParaRPr>
          </a:p>
        </p:txBody>
      </p:sp>
      <p:sp>
        <p:nvSpPr>
          <p:cNvPr id="136" name=""/>
          <p:cNvSpPr txBox="1"/>
          <p:nvPr/>
        </p:nvSpPr>
        <p:spPr>
          <a:xfrm>
            <a:off x="457200" y="2204640"/>
            <a:ext cx="8229600" cy="381636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y measure poverty?</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living standard of population, identify the poor</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dentify needs/areas for policy suppor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valuate effectiveness of national poverty-reduction and redistribution polici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impact and performance of development ai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at do we need (besides dat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cep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ndicator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sur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nalysis and interpretation</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bjectives</a:t>
            </a:r>
            <a:endParaRPr b="1" lang="en-US" sz="3000" spc="-1" strike="noStrike">
              <a:solidFill>
                <a:srgbClr val="0f5494"/>
              </a:solidFill>
              <a:latin typeface="Verdana"/>
            </a:endParaRPr>
          </a:p>
        </p:txBody>
      </p:sp>
      <p:sp>
        <p:nvSpPr>
          <p:cNvPr id="98" name=""/>
          <p:cNvSpPr txBox="1"/>
          <p:nvPr/>
        </p:nvSpPr>
        <p:spPr>
          <a:xfrm>
            <a:off x="457200" y="2060280"/>
            <a:ext cx="8229600" cy="4321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importance of performance measurement as an essential tool for social protection governance. </a:t>
            </a:r>
            <a:endParaRPr b="0" i="1" lang="en-US" sz="18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at is performance measurement? </a:t>
            </a:r>
            <a:endParaRPr b="1" lang="en-US" sz="16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ere is it applied/can it be applied?</a:t>
            </a:r>
            <a:endParaRPr b="1" lang="en-US" sz="16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basic principles underlying performance measurements in relation to social protection by discussing the type and characteristics of indicators and related issues of data collection and data quality.</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Link performance measurement to the policy making process and the dialogue with partner countr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how to select indicators and set targets for EC programme management.</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eptualizing poverty, cq well-being</a:t>
            </a:r>
            <a:endParaRPr b="1" lang="en-US" sz="3000" spc="-1" strike="noStrike">
              <a:solidFill>
                <a:srgbClr val="0f5494"/>
              </a:solidFill>
              <a:latin typeface="Verdana"/>
            </a:endParaRPr>
          </a:p>
        </p:txBody>
      </p:sp>
      <p:sp>
        <p:nvSpPr>
          <p:cNvPr id="138" name=""/>
          <p:cNvSpPr txBox="1"/>
          <p:nvPr/>
        </p:nvSpPr>
        <p:spPr>
          <a:xfrm>
            <a:off x="457200" y="2491920"/>
            <a:ext cx="822960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ist approach:</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vidual utility determines well-being</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well-being expressed in the level of income, consumption, assets, etc. </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onetary measures</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welfarist point of view:</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ther aspects determine well-being, such as ownership of commodities, fulfillment of basic needs, access to basic services, being socially included….</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capabilities to func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st common approaches</a:t>
            </a:r>
            <a:endParaRPr b="1" lang="en-US" sz="3000" spc="-1" strike="noStrike">
              <a:solidFill>
                <a:srgbClr val="0f5494"/>
              </a:solidFill>
              <a:latin typeface="Verdana"/>
            </a:endParaRPr>
          </a:p>
        </p:txBody>
      </p:sp>
      <p:sp>
        <p:nvSpPr>
          <p:cNvPr id="140"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income, consumption, expenditure, assets,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apability approach (coined by A. Se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ocial exclusion (think ‘EU’)</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ulnerability (origin in disaster-risk-reductio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one-dimensional (although, implicitly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Other approaches: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Still most common approach used for policy evaluation and poverty assessments</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oor ≠ Poor</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fontScale="92000"/>
          </a:bodyPr>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approach has different perspective on what constitutes a good life</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requires methodological assumptions</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has different policy implications</a:t>
            </a:r>
            <a:endParaRPr b="0" i="1" lang="en-US" sz="20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A: ensuring higher income solves problem</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 wider range of action needed (social provision of goods, improved allocation within family, efficient use of goods to achieve outcomes)</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E: relative aspect important; just raising the level does not do the trick; redistribute policies </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 order to measure poverty, we need…</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lfare indicator</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is best suited to determine the living standard of a household or individual in a given socie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allows ranking households from poorest to riches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fferent welfare concepts imply different indicators, and my identify different groups of poor</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fine a cut-off threshold, cq. poverty line</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bsolute versus relative pover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constitutes a minimum living standar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80040" y="1563120"/>
            <a:ext cx="73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Proportion of health deprived children by income quintile, Vietnam 2006</a:t>
            </a:r>
            <a:endParaRPr b="0" lang="en-US" sz="1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endParaRPr b="0" lang="en-US" sz="1800" spc="-1" strike="noStrike">
              <a:solidFill>
                <a:srgbClr val="808080"/>
              </a:solidFill>
              <a:latin typeface="Arial"/>
            </a:endParaRPr>
          </a:p>
        </p:txBody>
      </p:sp>
      <p:pic>
        <p:nvPicPr>
          <p:cNvPr id="146" name="Picture 4" descr=""/>
          <p:cNvPicPr/>
          <p:nvPr/>
        </p:nvPicPr>
        <p:blipFill>
          <a:blip r:embed="rId1"/>
          <a:stretch/>
        </p:blipFill>
        <p:spPr>
          <a:xfrm>
            <a:off x="1442880" y="2205000"/>
            <a:ext cx="6120000" cy="447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ative vs. absolute </a:t>
            </a:r>
            <a:endParaRPr b="1" lang="en-US" sz="3000" spc="-1" strike="noStrike">
              <a:solidFill>
                <a:srgbClr val="0f5494"/>
              </a:solidFill>
              <a:latin typeface="Verdana"/>
            </a:endParaRPr>
          </a:p>
        </p:txBody>
      </p:sp>
      <p:sp>
        <p:nvSpPr>
          <p:cNvPr id="14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ativ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et as a share of average or median income or expenditure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oving concept; there will ‘always’ remain a class of poor people</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Closely linked with income distribution</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EU social indicator (60% of median income)</a:t>
            </a:r>
            <a:endParaRPr b="0" lang="en-US" sz="1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bsolut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ased on minimum consumption basket (food plu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urvey-based or derived from other standards (e.g. national legislation, WHO)</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1$ per day line, national poverty line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Verdana"/>
              </a:rPr>
              <a:t>Example: Poverty in Country X</a:t>
            </a:r>
            <a:br>
              <a:rPr sz="1900"/>
            </a:br>
            <a:endParaRPr b="1" lang="en-US" sz="1900" spc="-1" strike="noStrike">
              <a:solidFill>
                <a:srgbClr val="0f5494"/>
              </a:solidFill>
              <a:latin typeface="Verdana"/>
            </a:endParaRPr>
          </a:p>
        </p:txBody>
      </p:sp>
      <p:sp>
        <p:nvSpPr>
          <p:cNvPr id="150" name="Rectangle 3"/>
          <p:cNvSpPr/>
          <p:nvPr/>
        </p:nvSpPr>
        <p:spPr>
          <a:xfrm>
            <a:off x="1825560" y="2209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51" name="Object 4"/>
          <p:cNvGraphicFramePr/>
          <p:nvPr/>
        </p:nvGraphicFramePr>
        <p:xfrm>
          <a:off x="900000" y="2209680"/>
          <a:ext cx="7275600" cy="4200480"/>
        </p:xfrm>
        <a:graphic>
          <a:graphicData uri="http://schemas.openxmlformats.org/presentationml/2006/ole">
            <p:oleObj progId="Excel.Sheet.12" r:id="rId1" spid="">
              <p:embed/>
              <p:pic>
                <p:nvPicPr>
                  <p:cNvPr id="152" name="Object 4" descr=""/>
                  <p:cNvPicPr/>
                  <p:nvPr/>
                </p:nvPicPr>
                <p:blipFill>
                  <a:blip r:embed="rId2"/>
                  <a:stretch/>
                </p:blipFill>
                <p:spPr>
                  <a:xfrm>
                    <a:off x="900000" y="2209680"/>
                    <a:ext cx="7275600" cy="42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How to determine the minimum living standard?</a:t>
            </a:r>
            <a:endParaRPr b="1" lang="en-US" sz="2400" spc="-1" strike="noStrike">
              <a:solidFill>
                <a:srgbClr val="0f5494"/>
              </a:solidFill>
              <a:latin typeface="Verdana"/>
            </a:endParaRPr>
          </a:p>
        </p:txBody>
      </p:sp>
      <p:sp>
        <p:nvSpPr>
          <p:cNvPr id="154" name=""/>
          <p:cNvSpPr txBox="1"/>
          <p:nvPr/>
        </p:nvSpPr>
        <p:spPr>
          <a:xfrm>
            <a:off x="457200" y="2276280"/>
            <a:ext cx="8229600" cy="3600360"/>
          </a:xfrm>
          <a:prstGeom prst="rect">
            <a:avLst/>
          </a:prstGeom>
          <a:noFill/>
          <a:ln w="0">
            <a:noFill/>
          </a:ln>
        </p:spPr>
        <p:txBody>
          <a:bodyPr anchor="t">
            <a:normAutofit fontScale="92000"/>
          </a:bodyPr>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monetary terms:</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ly defined minimum, e.g. based on a basket of goods and services – absolute level</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 a percentage of the average living standard – relative level</a:t>
            </a:r>
            <a:endParaRPr b="1" lang="en-US" sz="18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non-monetary terms: </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inimum years of schooling</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ccess to primary health care</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ssession of x household appliances</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ving one hot meal per day</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s of poverty lines</a:t>
            </a:r>
            <a:endParaRPr b="1" lang="en-US" sz="3000" spc="-1" strike="noStrike">
              <a:solidFill>
                <a:srgbClr val="0f5494"/>
              </a:solidFill>
              <a:latin typeface="Verdana"/>
            </a:endParaRPr>
          </a:p>
        </p:txBody>
      </p:sp>
      <p:sp>
        <p:nvSpPr>
          <p:cNvPr id="156" name=""/>
          <p:cNvSpPr txBox="1"/>
          <p:nvPr/>
        </p:nvSpPr>
        <p:spPr>
          <a:xfrm>
            <a:off x="457200" y="2204640"/>
            <a:ext cx="8229600" cy="3816360"/>
          </a:xfrm>
          <a:prstGeom prst="rect">
            <a:avLst/>
          </a:prstGeom>
          <a:noFill/>
          <a:ln w="0">
            <a:noFill/>
          </a:ln>
        </p:spPr>
        <p:txBody>
          <a:bodyPr anchor="t">
            <a:normAutofit fontScale="93000"/>
          </a:bodyPr>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absolute poverty lines: </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1.25 USD PPP per capita per day</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eful for international comparison, but not necessarily for national policy making</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rela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60% of median income per adult equivalent</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orld Bank methodology based on actual consumption for national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xtreme poverty: costs to obtain a minimum food basket</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bsolute poverty: Minimum food basket plus allowance for non-food goods and servic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bjec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rived from minimum income question</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Frequently higher than ‘objective’ poverty lin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uaranteed minimum income (budget based)</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2"/>
          <p:cNvSpPr/>
          <p:nvPr/>
        </p:nvSpPr>
        <p:spPr>
          <a:xfrm flipV="1">
            <a:off x="2068560" y="1463760"/>
            <a:ext cx="0" cy="36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8" name="Line 3"/>
          <p:cNvSpPr/>
          <p:nvPr/>
        </p:nvSpPr>
        <p:spPr>
          <a:xfrm>
            <a:off x="2068560" y="5092560"/>
            <a:ext cx="471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9" name="Text Box 4"/>
          <p:cNvSpPr/>
          <p:nvPr/>
        </p:nvSpPr>
        <p:spPr>
          <a:xfrm>
            <a:off x="1665360" y="1463760"/>
            <a:ext cx="29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808080"/>
              </a:solidFill>
              <a:latin typeface="Arial"/>
            </a:endParaRPr>
          </a:p>
        </p:txBody>
      </p:sp>
      <p:sp>
        <p:nvSpPr>
          <p:cNvPr id="160" name="Text Box 5"/>
          <p:cNvSpPr/>
          <p:nvPr/>
        </p:nvSpPr>
        <p:spPr>
          <a:xfrm>
            <a:off x="55818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808080"/>
              </a:solidFill>
              <a:latin typeface="Arial"/>
            </a:endParaRPr>
          </a:p>
        </p:txBody>
      </p:sp>
      <p:sp>
        <p:nvSpPr>
          <p:cNvPr id="161" name="Line 6"/>
          <p:cNvSpPr/>
          <p:nvPr/>
        </p:nvSpPr>
        <p:spPr>
          <a:xfrm flipV="1">
            <a:off x="2068560" y="2152440"/>
            <a:ext cx="4289400" cy="260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2" name="Line 7"/>
          <p:cNvSpPr/>
          <p:nvPr/>
        </p:nvSpPr>
        <p:spPr>
          <a:xfrm>
            <a:off x="2068560" y="3292560"/>
            <a:ext cx="45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Text Box 8"/>
          <p:cNvSpPr/>
          <p:nvPr/>
        </p:nvSpPr>
        <p:spPr>
          <a:xfrm>
            <a:off x="1666800" y="31082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808080"/>
              </a:solidFill>
              <a:latin typeface="Arial"/>
            </a:endParaRPr>
          </a:p>
        </p:txBody>
      </p:sp>
      <p:sp>
        <p:nvSpPr>
          <p:cNvPr id="164" name="Text Box 9"/>
          <p:cNvSpPr/>
          <p:nvPr/>
        </p:nvSpPr>
        <p:spPr>
          <a:xfrm>
            <a:off x="3134160" y="285264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a:t>
            </a:r>
            <a:endParaRPr b="0" lang="en-US" sz="1800" spc="-1" strike="noStrike">
              <a:solidFill>
                <a:srgbClr val="808080"/>
              </a:solidFill>
              <a:latin typeface="Arial"/>
            </a:endParaRPr>
          </a:p>
        </p:txBody>
      </p:sp>
      <p:sp>
        <p:nvSpPr>
          <p:cNvPr id="165" name="Line 10"/>
          <p:cNvSpPr/>
          <p:nvPr/>
        </p:nvSpPr>
        <p:spPr>
          <a:xfrm>
            <a:off x="4540320" y="3292560"/>
            <a:ext cx="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6" name="Freeform 11"/>
          <p:cNvSpPr/>
          <p:nvPr/>
        </p:nvSpPr>
        <p:spPr>
          <a:xfrm>
            <a:off x="2068560" y="3292560"/>
            <a:ext cx="2405160" cy="1461960"/>
          </a:xfrm>
          <a:custGeom>
            <a:avLst/>
            <a:gdLst/>
            <a:ahLst/>
            <a:rect l="l" t="t" r="r" b="b"/>
            <a:pathLst>
              <a:path w="1515" h="921">
                <a:moveTo>
                  <a:pt x="9" y="0"/>
                </a:moveTo>
                <a:lnTo>
                  <a:pt x="1515" y="0"/>
                </a:lnTo>
                <a:lnTo>
                  <a:pt x="0" y="921"/>
                </a:lnTo>
                <a:lnTo>
                  <a:pt x="9"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7" name="Text Box 12"/>
          <p:cNvSpPr/>
          <p:nvPr/>
        </p:nvSpPr>
        <p:spPr>
          <a:xfrm>
            <a:off x="842760" y="411948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t>
            </a:r>
            <a:endParaRPr b="0" lang="en-US" sz="1800" spc="-1" strike="noStrike">
              <a:solidFill>
                <a:srgbClr val="808080"/>
              </a:solidFill>
              <a:latin typeface="Arial"/>
            </a:endParaRPr>
          </a:p>
        </p:txBody>
      </p:sp>
      <p:sp>
        <p:nvSpPr>
          <p:cNvPr id="168" name="Line 13"/>
          <p:cNvSpPr/>
          <p:nvPr/>
        </p:nvSpPr>
        <p:spPr>
          <a:xfrm flipV="1">
            <a:off x="1355760" y="3952440"/>
            <a:ext cx="10778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9" name="Rectangle 14"/>
          <p:cNvSpPr/>
          <p:nvPr/>
        </p:nvSpPr>
        <p:spPr>
          <a:xfrm>
            <a:off x="4346640" y="1463760"/>
            <a:ext cx="4618080" cy="73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verty measures</a:t>
            </a:r>
            <a:endParaRPr b="0" lang="en-US" sz="3000" spc="-1" strike="noStrike">
              <a:solidFill>
                <a:srgbClr val="808080"/>
              </a:solidFill>
              <a:latin typeface="Arial"/>
            </a:endParaRPr>
          </a:p>
        </p:txBody>
      </p:sp>
      <p:pic>
        <p:nvPicPr>
          <p:cNvPr id="170" name="Picture 15" descr=""/>
          <p:cNvPicPr/>
          <p:nvPr/>
        </p:nvPicPr>
        <p:blipFill>
          <a:blip r:embed="rId2"/>
          <a:stretch/>
        </p:blipFill>
        <p:spPr>
          <a:xfrm>
            <a:off x="6335640" y="3403440"/>
            <a:ext cx="2379600" cy="1098720"/>
          </a:xfrm>
          <a:prstGeom prst="rect">
            <a:avLst/>
          </a:prstGeom>
          <a:ln w="0">
            <a:noFill/>
          </a:ln>
        </p:spPr>
      </p:pic>
      <p:sp>
        <p:nvSpPr>
          <p:cNvPr id="171" name="Text Box 16"/>
          <p:cNvSpPr/>
          <p:nvPr/>
        </p:nvSpPr>
        <p:spPr>
          <a:xfrm>
            <a:off x="2700360" y="5157720"/>
            <a:ext cx="311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q</a:t>
            </a:r>
            <a:endParaRPr b="0" lang="en-US" sz="1600" spc="-1" strike="noStrike">
              <a:solidFill>
                <a:srgbClr val="808080"/>
              </a:solidFill>
              <a:latin typeface="Arial"/>
            </a:endParaRPr>
          </a:p>
        </p:txBody>
      </p:sp>
      <p:sp>
        <p:nvSpPr>
          <p:cNvPr id="172" name="Line 17"/>
          <p:cNvSpPr/>
          <p:nvPr/>
        </p:nvSpPr>
        <p:spPr>
          <a:xfrm>
            <a:off x="2050920" y="5229360"/>
            <a:ext cx="244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3" name="Line 18"/>
          <p:cNvSpPr/>
          <p:nvPr/>
        </p:nvSpPr>
        <p:spPr>
          <a:xfrm>
            <a:off x="2050920" y="5516640"/>
            <a:ext cx="47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ocial Protection</a:t>
            </a:r>
            <a:endParaRPr b="1" lang="en-US" sz="3000" spc="-1" strike="noStrike">
              <a:solidFill>
                <a:srgbClr val="0f5494"/>
              </a:solidFill>
              <a:latin typeface="Verdana"/>
            </a:endParaRPr>
          </a:p>
        </p:txBody>
      </p:sp>
      <p:sp>
        <p:nvSpPr>
          <p:cNvPr id="100" name=""/>
          <p:cNvSpPr txBox="1"/>
          <p:nvPr/>
        </p:nvSpPr>
        <p:spPr>
          <a:xfrm>
            <a:off x="457200" y="2204640"/>
            <a:ext cx="8229600" cy="3816360"/>
          </a:xfrm>
          <a:prstGeom prst="rect">
            <a:avLst/>
          </a:prstGeom>
          <a:noFill/>
          <a:ln w="0">
            <a:noFill/>
          </a:ln>
        </p:spPr>
        <p:txBody>
          <a:bodyPr anchor="t">
            <a:normAutofit fontScale="91000"/>
          </a:bodyPr>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fined as public interventions to support poor and vulnerable households and individuals with the objectives to</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mooth consumption </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support during difficult ti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duce poverty and inequality</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timulate economic development</a:t>
            </a:r>
            <a:endParaRPr b="1" lang="en-US" sz="1600" spc="-1" strike="noStrike">
              <a:solidFill>
                <a:srgbClr val="0f5494"/>
              </a:solidFill>
              <a:latin typeface="Verdana"/>
            </a:endParaRPr>
          </a:p>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focus is on non-contributory programs financed from general government revenues, such as</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sh transfer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ubsidized goods and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irect food support</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blic work program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ocial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idential care provision</a:t>
            </a:r>
            <a:endParaRPr b="1" lang="en-US" sz="1600" spc="-1" strike="noStrike">
              <a:solidFill>
                <a:srgbClr val="0f5494"/>
              </a:solidFill>
              <a:latin typeface="Verdana"/>
            </a:endParaRPr>
          </a:p>
          <a:p>
            <a:pPr marL="312120" indent="-312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1052640"/>
            <a:ext cx="8458200" cy="93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3 most common poverty indicators</a:t>
            </a:r>
            <a:br>
              <a:rPr sz="2800"/>
            </a:br>
            <a:r>
              <a:rPr b="0" lang="en-US" sz="1800" spc="-1" strike="noStrike">
                <a:solidFill>
                  <a:srgbClr val="ff0000"/>
                </a:solidFill>
                <a:latin typeface="Verdana"/>
              </a:rPr>
              <a:t>n=total population; q=poor; y</a:t>
            </a:r>
            <a:r>
              <a:rPr b="0" lang="en-US" sz="1800" spc="-1" strike="noStrike" baseline="-25000">
                <a:solidFill>
                  <a:srgbClr val="ff0000"/>
                </a:solidFill>
                <a:latin typeface="Verdana"/>
              </a:rPr>
              <a:t>i</a:t>
            </a:r>
            <a:r>
              <a:rPr b="0" lang="en-US" sz="1800" spc="-1" strike="noStrike">
                <a:solidFill>
                  <a:srgbClr val="ff0000"/>
                </a:solidFill>
                <a:latin typeface="Verdana"/>
              </a:rPr>
              <a:t>=welfare level; z=poverty line</a:t>
            </a:r>
            <a:endParaRPr b="1" lang="en-US" sz="1800" spc="-1" strike="noStrike">
              <a:solidFill>
                <a:srgbClr val="0f5494"/>
              </a:solidFill>
              <a:latin typeface="Verdana"/>
            </a:endParaRPr>
          </a:p>
        </p:txBody>
      </p:sp>
      <p:sp>
        <p:nvSpPr>
          <p:cNvPr id="175" name=""/>
          <p:cNvSpPr txBox="1"/>
          <p:nvPr/>
        </p:nvSpPr>
        <p:spPr>
          <a:xfrm>
            <a:off x="250920" y="2133360"/>
            <a:ext cx="8642160" cy="4276440"/>
          </a:xfrm>
          <a:prstGeom prst="rect">
            <a:avLst/>
          </a:prstGeom>
          <a:noFill/>
          <a:ln w="0">
            <a:noFill/>
          </a:ln>
        </p:spPr>
        <p:txBody>
          <a:bodyPr anchor="t">
            <a:normAutofit fontScale="94000"/>
          </a:bodyPr>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incidence (headcount) </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0</a:t>
            </a:r>
            <a:r>
              <a:rPr b="1" lang="en-US" sz="2400" spc="-1" strike="noStrike">
                <a:solidFill>
                  <a:srgbClr val="ff0000"/>
                </a:solidFill>
                <a:latin typeface="Verdana"/>
              </a:rPr>
              <a:t> = </a:t>
            </a:r>
            <a:r>
              <a:rPr b="1" lang="en-US" sz="2400" spc="-1" strike="noStrike">
                <a:solidFill>
                  <a:srgbClr val="ff0000"/>
                </a:solidFill>
                <a:latin typeface="Verdana"/>
              </a:rPr>
              <a:t>	</a:t>
            </a:r>
            <a:r>
              <a:rPr b="1" lang="en-US" sz="2400" spc="-1" strike="noStrike">
                <a:solidFill>
                  <a:srgbClr val="ff0000"/>
                </a:solidFill>
                <a:latin typeface="Verdana"/>
              </a:rPr>
              <a:t>q/n   =</a:t>
            </a:r>
            <a:r>
              <a:rPr b="1" lang="en-US" sz="2400" spc="-1" strike="noStrike">
                <a:solidFill>
                  <a:srgbClr val="ff0000"/>
                </a:solidFill>
                <a:latin typeface="Verdana"/>
              </a:rPr>
              <a:t>	</a:t>
            </a:r>
            <a:r>
              <a:rPr b="1" lang="en-US" sz="2400" spc="-1" strike="noStrike" u="sng">
                <a:solidFill>
                  <a:srgbClr val="ff0000"/>
                </a:solidFill>
                <a:uFillTx/>
                <a:latin typeface="Verdana"/>
              </a:rPr>
              <a:t>number of poor</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total population</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gap = average gap as a percentage of the poverty line</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1</a:t>
            </a:r>
            <a:r>
              <a:rPr b="1" lang="en-US" sz="2400" spc="-1" strike="noStrike">
                <a:solidFill>
                  <a:srgbClr val="ff0000"/>
                </a:solidFill>
                <a:latin typeface="Verdana"/>
              </a:rPr>
              <a:t> = 1/n </a:t>
            </a:r>
            <a:r>
              <a:rPr b="1" lang="en-US" sz="2400" spc="-1" strike="noStrike">
                <a:solidFill>
                  <a:srgbClr val="ff0000"/>
                </a:solidFill>
                <a:latin typeface="Arial Unicode MS"/>
                <a:ea typeface="Arial Unicode MS"/>
              </a:rPr>
              <a:t>∑ </a:t>
            </a:r>
            <a:r>
              <a:rPr b="1" lang="en-US" sz="20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db"/>
                </a:solidFill>
                <a:latin typeface="Verdana"/>
              </a:rPr>
              <a:t>non-poor: gap is zero!</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severity = weighted average gap</a:t>
            </a:r>
            <a:endParaRPr b="0" i="1" lang="en-US" sz="2800" spc="-1" strike="noStrike">
              <a:solidFill>
                <a:srgbClr val="0f5494"/>
              </a:solidFill>
              <a:latin typeface="Verdana"/>
            </a:endParaRPr>
          </a:p>
          <a:p>
            <a:pPr lvl="1" marL="698400" indent="-268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2</a:t>
            </a:r>
            <a:r>
              <a:rPr b="1" lang="en-US" sz="2400" spc="-1" strike="noStrike">
                <a:solidFill>
                  <a:srgbClr val="ff0000"/>
                </a:solidFill>
                <a:latin typeface="Verdana"/>
              </a:rPr>
              <a:t>= 1/n </a:t>
            </a:r>
            <a:r>
              <a:rPr b="1" lang="en-US" sz="2400" spc="-1" strike="noStrike">
                <a:solidFill>
                  <a:srgbClr val="ff0000"/>
                </a:solidFill>
                <a:latin typeface="Arial Unicode MS"/>
                <a:ea typeface="Arial Unicode MS"/>
              </a:rPr>
              <a:t>∑</a:t>
            </a:r>
            <a:r>
              <a:rPr b="1" lang="en-US" sz="24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baseline="30000">
                <a:solidFill>
                  <a:srgbClr val="ff0000"/>
                </a:solidFill>
                <a:latin typeface="Verdana"/>
              </a:rPr>
              <a:t>2</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a:solidFill>
                  <a:srgbClr val="00a2db"/>
                </a:solidFill>
                <a:latin typeface="Verdana"/>
              </a:rPr>
              <a:t>INDEX!</a:t>
            </a:r>
            <a:endParaRPr b="1" lang="en-US" sz="2000" spc="-1" strike="noStrike">
              <a:solidFill>
                <a:srgbClr val="0f5494"/>
              </a:solidFill>
              <a:latin typeface="Verdana"/>
            </a:endParaRPr>
          </a:p>
        </p:txBody>
      </p:sp>
      <p:sp>
        <p:nvSpPr>
          <p:cNvPr id="176" name="AutoShape 4"/>
          <p:cNvSpPr/>
          <p:nvPr/>
        </p:nvSpPr>
        <p:spPr>
          <a:xfrm>
            <a:off x="5724360" y="6093000"/>
            <a:ext cx="1152720" cy="72720"/>
          </a:xfrm>
          <a:prstGeom prst="rightArrow">
            <a:avLst>
              <a:gd name="adj1" fmla="val 50000"/>
              <a:gd name="adj2" fmla="val 39628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Kyrgyz Republic 2005</a:t>
            </a:r>
            <a:br>
              <a:rPr sz="3000"/>
            </a:br>
            <a:r>
              <a:rPr b="1" lang="en-US" sz="1500" spc="-1" strike="noStrike">
                <a:solidFill>
                  <a:srgbClr val="0f5494"/>
                </a:solidFill>
                <a:latin typeface="Verdana"/>
              </a:rPr>
              <a:t>Source: WB (2010)</a:t>
            </a:r>
            <a:endParaRPr b="1" lang="en-US" sz="1500" spc="-1" strike="noStrike">
              <a:solidFill>
                <a:srgbClr val="0f5494"/>
              </a:solidFill>
              <a:latin typeface="Verdana"/>
            </a:endParaRPr>
          </a:p>
        </p:txBody>
      </p:sp>
      <p:pic>
        <p:nvPicPr>
          <p:cNvPr id="178" name="Picture 7" descr=""/>
          <p:cNvPicPr/>
          <p:nvPr/>
        </p:nvPicPr>
        <p:blipFill>
          <a:blip r:embed="rId1"/>
          <a:stretch/>
        </p:blipFill>
        <p:spPr>
          <a:xfrm>
            <a:off x="324000" y="2909880"/>
            <a:ext cx="8497800" cy="2786040"/>
          </a:xfrm>
          <a:prstGeom prst="rect">
            <a:avLst/>
          </a:prstGeom>
          <a:ln w="0">
            <a:noFill/>
          </a:ln>
        </p:spPr>
      </p:pic>
      <p:sp>
        <p:nvSpPr>
          <p:cNvPr id="179" name="Rectangle 8"/>
          <p:cNvSpPr/>
          <p:nvPr/>
        </p:nvSpPr>
        <p:spPr>
          <a:xfrm>
            <a:off x="814320" y="2385000"/>
            <a:ext cx="5972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overty indicators by region (absolute poverty line) </a:t>
            </a:r>
            <a:endParaRPr b="0" lang="en-US" sz="2000" spc="-1" strike="noStrike">
              <a:solidFill>
                <a:srgbClr val="808080"/>
              </a:solidFill>
              <a:latin typeface="Arial"/>
            </a:endParaRPr>
          </a:p>
        </p:txBody>
      </p:sp>
      <p:sp>
        <p:nvSpPr>
          <p:cNvPr id="180" name="Text Box 9"/>
          <p:cNvSpPr/>
          <p:nvPr/>
        </p:nvSpPr>
        <p:spPr>
          <a:xfrm>
            <a:off x="395280" y="508464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1" name="Text Box 10"/>
          <p:cNvSpPr/>
          <p:nvPr/>
        </p:nvSpPr>
        <p:spPr>
          <a:xfrm>
            <a:off x="470160" y="5429160"/>
            <a:ext cx="766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unt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3.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5%</a:t>
            </a:r>
            <a:r>
              <a:rPr b="0" lang="en-US" sz="1800" spc="-1" strike="noStrike">
                <a:solidFill>
                  <a:srgbClr val="000000"/>
                </a:solidFill>
                <a:latin typeface="Arial"/>
              </a:rPr>
              <a:t>	</a:t>
            </a:r>
            <a:r>
              <a:rPr b="0" lang="en-US" sz="1800" spc="-1" strike="noStrike">
                <a:solidFill>
                  <a:srgbClr val="000000"/>
                </a:solidFill>
                <a:latin typeface="Arial"/>
              </a:rPr>
              <a:t>            3.6</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07560"/>
            <a:ext cx="7786800" cy="14986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corecard Kyrgyz Republic </a:t>
            </a:r>
            <a:br>
              <a:rPr sz="2400"/>
            </a:br>
            <a:r>
              <a:rPr b="0" lang="en-US" sz="1800" spc="-1" strike="noStrike">
                <a:solidFill>
                  <a:srgbClr val="0f5494"/>
                </a:solidFill>
                <a:latin typeface="Verdana"/>
              </a:rPr>
              <a:t>(WB, 2009)</a:t>
            </a:r>
            <a:endParaRPr b="1" lang="en-US" sz="1800" spc="-1" strike="noStrike">
              <a:solidFill>
                <a:srgbClr val="0f5494"/>
              </a:solidFill>
              <a:latin typeface="Verdana"/>
            </a:endParaRPr>
          </a:p>
        </p:txBody>
      </p:sp>
      <p:pic>
        <p:nvPicPr>
          <p:cNvPr id="183" name="Picture 3" descr=""/>
          <p:cNvPicPr/>
          <p:nvPr/>
        </p:nvPicPr>
        <p:blipFill>
          <a:blip r:embed="rId1"/>
          <a:stretch/>
        </p:blipFill>
        <p:spPr>
          <a:xfrm>
            <a:off x="250920" y="2492280"/>
            <a:ext cx="8748720" cy="33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Types of data</a:t>
            </a:r>
            <a:endParaRPr b="1" lang="en-US" sz="3000" spc="-1" strike="noStrike">
              <a:solidFill>
                <a:srgbClr val="0f5494"/>
              </a:solidFill>
              <a:latin typeface="Verdana"/>
            </a:endParaRPr>
          </a:p>
        </p:txBody>
      </p:sp>
      <p:sp>
        <p:nvSpPr>
          <p:cNvPr id="185" name=""/>
          <p:cNvSpPr txBox="1"/>
          <p:nvPr/>
        </p:nvSpPr>
        <p:spPr>
          <a:xfrm>
            <a:off x="457200" y="2491920"/>
            <a:ext cx="8229600" cy="3529080"/>
          </a:xfrm>
          <a:prstGeom prst="rect">
            <a:avLst/>
          </a:prstGeom>
          <a:noFill/>
          <a:ln w="0">
            <a:noFill/>
          </a:ln>
        </p:spPr>
        <p:txBody>
          <a:bodyPr anchor="t">
            <a:normAutofit fontScale="88000"/>
          </a:bodyPr>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ministrative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information on inputs and output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ollected by line ministries or special agenci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ess suitable for analysis of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usehold survey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presentative sample of population</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poverty analysi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assessing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opulation census</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asic information on all inhabitants (limited indicato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Very costly, at most every 10 yea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eeded for poverty map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ually not suitable for assessing policy outcom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household surveys</a:t>
            </a:r>
            <a:endParaRPr b="1" lang="en-US" sz="3000" spc="-1" strike="noStrike">
              <a:solidFill>
                <a:srgbClr val="0f5494"/>
              </a:solidFill>
              <a:latin typeface="Verdana"/>
            </a:endParaRPr>
          </a:p>
        </p:txBody>
      </p:sp>
      <p:sp>
        <p:nvSpPr>
          <p:cNvPr id="187"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ssential for analysis of policy outcom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vailability improved considerably over the past decad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any variations, but not all equally suit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HBS, LSMS, MICS, DHS, etc.</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ave their own shortcoming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liability of information (e.g. income from transfer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Questionnaires not always in line with latest policie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arget groups cannot always be identified (e.g. disabled, war veterans)</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w frequent should they be avail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general rule</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t least every 2-3 years, if financially affordable</a:t>
            </a:r>
            <a:endParaRPr b="1" lang="en-US" sz="16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qualitative data</a:t>
            </a:r>
            <a:endParaRPr b="1" lang="en-US" sz="3000" spc="-1" strike="noStrike">
              <a:solidFill>
                <a:srgbClr val="0f5494"/>
              </a:solidFill>
              <a:latin typeface="Verdana"/>
            </a:endParaRPr>
          </a:p>
        </p:txBody>
      </p:sp>
      <p:sp>
        <p:nvSpPr>
          <p:cNvPr id="18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vides information not provided in survey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bjective dimensions of well-be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tra-household inequa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arriers to access (benefits,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ultural, political or social factors that determine policy outcomes and impa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epth interviews, focus group discussion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o inform survey design or to validate findings from surve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rap up</a:t>
            </a:r>
            <a:endParaRPr b="1" lang="en-US" sz="3000" spc="-1" strike="noStrike">
              <a:solidFill>
                <a:srgbClr val="0f5494"/>
              </a:solidFill>
              <a:latin typeface="Verdana"/>
            </a:endParaRPr>
          </a:p>
        </p:txBody>
      </p:sp>
      <p:sp>
        <p:nvSpPr>
          <p:cNvPr id="191" name=""/>
          <p:cNvSpPr txBox="1"/>
          <p:nvPr/>
        </p:nvSpPr>
        <p:spPr>
          <a:xfrm>
            <a:off x="457200" y="249192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ensures the accountability of the policy maker and the transparency of the decisions taken </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vailability and measurement of performance indicators is essential for social protection policy making</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sure regular and systematic collection of reliable information</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nalyse the collected information from various perspectives</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Data requirements need to be carefully assessed as resources are often scarce</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etter have a limited set of core indicators which are regularly collected and analysed</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is part of the policy process and the interpretation of indicators needs to be placed in the political and economic context</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2"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evance of performance measurement for social protection</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icators for performance measurement</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fferent types of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haracteristics of good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erformance indicators for social protection policie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suring poverty</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ata requirements</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rap up</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a:t>
            </a:r>
            <a:endParaRPr b="1" lang="en-US" sz="30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nitors at a programme level the cost and quality of services and outcomes for clients in order to account for public expendi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is a tool for controlling and managing resource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requires the definition of outcome objectives for policies and programm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provides regular and systematic information whether a program, policy or development strategy is implemented as planned, is achieving its objectives and whether and how it can be improved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ves the focus from inputs/outputs to outcomes and result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focus on outcomes?</a:t>
            </a:r>
            <a:br>
              <a:rPr sz="3000"/>
            </a:br>
            <a:r>
              <a:rPr b="0" lang="en-US" sz="2000" spc="-1" strike="noStrike">
                <a:solidFill>
                  <a:srgbClr val="0f5494"/>
                </a:solidFill>
                <a:latin typeface="Verdana"/>
              </a:rPr>
              <a:t>(EC Guidelines 2009)</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 matte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evidence-based policy mak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tect political space of beneficiary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domestic accountabili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mulate demand for high quality data</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 for social protection</a:t>
            </a:r>
            <a:endParaRPr b="1" lang="en-US" sz="3000" spc="-1" strike="noStrike">
              <a:solidFill>
                <a:srgbClr val="0f5494"/>
              </a:solidFill>
              <a:latin typeface="Verdana"/>
            </a:endParaRPr>
          </a:p>
        </p:txBody>
      </p:sp>
      <p:sp>
        <p:nvSpPr>
          <p:cNvPr id="108" name=""/>
          <p:cNvSpPr txBox="1"/>
          <p:nvPr/>
        </p:nvSpPr>
        <p:spPr>
          <a:xfrm>
            <a:off x="457200" y="2491920"/>
            <a:ext cx="8229600" cy="381636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on-contributory social protection policies are financed from general government revenu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pending on social protection is heavily scrutinized and subject to constant pressur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t is vital for the government to prove that public spending on social protection achieves its objectives effectively and efficientl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r>
              <a:rPr b="1" i="1" lang="en-GB" sz="1800" spc="-1" strike="noStrike">
                <a:solidFill>
                  <a:srgbClr val="0f5494"/>
                </a:solidFill>
                <a:latin typeface="Verdana"/>
              </a:rPr>
              <a:t>The systematic and regular monitoring and evaluation of social protection policies is therefore crucial for any national government accountable to the public.</a:t>
            </a: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AutoShape 5"/>
          <p:cNvSpPr/>
          <p:nvPr/>
        </p:nvSpPr>
        <p:spPr>
          <a:xfrm>
            <a:off x="3948120" y="4437000"/>
            <a:ext cx="576360" cy="720720"/>
          </a:xfrm>
          <a:prstGeom prst="downArrow">
            <a:avLst>
              <a:gd name="adj1" fmla="val 50000"/>
              <a:gd name="adj2" fmla="val 31262"/>
            </a:avLst>
          </a:prstGeom>
          <a:solidFill>
            <a:srgbClr val="d6323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gular performance measurement is especially important for social protection </a:t>
            </a:r>
            <a:endParaRPr b="1" lang="en-US" sz="2400" spc="-1" strike="noStrike">
              <a:solidFill>
                <a:srgbClr val="0f5494"/>
              </a:solidFill>
              <a:latin typeface="Verdana"/>
            </a:endParaRPr>
          </a:p>
        </p:txBody>
      </p:sp>
      <p:sp>
        <p:nvSpPr>
          <p:cNvPr id="111" name=""/>
          <p:cNvSpPr txBox="1"/>
          <p:nvPr/>
        </p:nvSpPr>
        <p:spPr>
          <a:xfrm>
            <a:off x="468360" y="2923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tection policies are developed at central government level, but service delivery takes place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grams rely on implementing agen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oor often live in remote areas or socially isolated surrounding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forces are less prevalent in social service deliver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uidelines for measuring progress towards intended outcomes in social protection</a:t>
            </a:r>
            <a:endParaRPr b="1" lang="en-US" sz="24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Use information that is already available</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itor the extent to which social protection systems are pro-poor</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gree on a common set of indicator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vest in building national capacity</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3)</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erformance indicators measuring achievements of objectives should be coherent with national and sector polic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herence with MDG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 programme ensuring the quality of the indicators should be in place</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9)</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franziska-desktop</cp:lastModifiedBy>
  <dcterms:modified xsi:type="dcterms:W3CDTF">2012-05-06T11:27:15Z</dcterms:modified>
  <cp:revision>27</cp:revision>
  <dc:subject/>
  <dc:title>Slide 1</dc:title>
</cp:coreProperties>
</file>