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CD0C-D5B3-4F97-8927-C5A3A1631A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block grants have been introduced to off-set fee abolition for school operational (non-salary) budgets and school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7A7-D33C-4E21-B8A3-2C0CB87D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A48-6300-4FD6-B330-595BB4BB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AFF-A705-42C1-A68D-9311EA73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31E-5216-4075-BED5-CCE3F4D8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EDEE-E2CA-489C-8CEC-F5347D03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1E45-D232-4917-93AC-18C2A552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D526-534F-4AE2-82A2-8241F8BA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F29A-B8F8-483F-B777-A58D0DB2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E8EF-3A5E-4A7A-B499-8DA6C985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F200-BD41-4A6D-B7AB-DA4D2141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79A2-3736-42E2-B5D6-D9853F5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F53-0941-4FA1-A763-4ED61CA4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29AA-A0B1-4C6F-8E0B-725EE660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F468-5B6E-4A41-AB73-5C39F34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8AC5-2C3B-4D03-BB22-693E3AE1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DD27-C5E0-4C41-818D-ACD6BA89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1B0A-2734-4C7B-8DAA-5C04703D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EC8-F617-4BBB-936D-864F32B9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182-56EA-4827-8225-A3961367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834-1F88-451C-92B5-28745A5C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2B7-7150-47D7-AF31-EEEADD37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C58-BE91-47E0-8C5F-A6512AC0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01A-F3FC-42DA-9A78-5E16BA74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709-AB7A-4242-803E-690104B9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81E0-70AC-4D49-B5E2-46F0D608D8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BD4C-921E-42DF-B742-C212F93BA7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ocial Protection System, Lao PD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al Protection Semina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ngkok June 12-15, 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2578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EU involves in social protection project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dget support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Health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e M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(Capitation Gra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munity Nutrition Project (Trust Fund/AA with W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al Cash Transfer pilo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al Partnership for Education (G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Block Grants and Community G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ool Meals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22860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hool Block Gra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help facilitate equitable access to basic educa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provide administrative funding to schools to finance their operating cos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acilitate the school administration, learning and teaching activities by ensuring that teachers and students have adequate and sufficient instructional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enrollment by reducing education costs for parent with a focus on gradually eradicating school fees (registration and instruction fee) for basic and post basic education in the fut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increase the completion rate by improving school conditions, learning and social/community particip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u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rent FY2011/2012, the Government allocated LAK 16 billion (appx. USD2 million) or LAK 20,000/student/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mited local capac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certainty of the budgetary alloc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block grant methodology implemented by MoES has induced a lot of perverse incentives or coping mechanism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sks associated with Block grants distribution to sch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ay forw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bilize TA and capacity development support to the MoES and MoF, to assist in the delivery of SBGs to primary schoo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Gs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hool development plan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Quality Standar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17136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4600" y="490536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952880"/>
            <a:ext cx="463680" cy="123840"/>
          </a:xfrm>
          <a:prstGeom prst="leftRightArrow">
            <a:avLst>
              <a:gd name="adj1" fmla="val 50000"/>
              <a:gd name="adj2" fmla="val 7453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8751" t="14844" r="39376" b="69534"/>
          <a:stretch/>
        </p:blipFill>
        <p:spPr>
          <a:xfrm>
            <a:off x="5486400" y="304920"/>
            <a:ext cx="3168720" cy="763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30:47Z</dcterms:created>
  <dc:creator>vongsch</dc:creator>
  <dc:description/>
  <dc:language>en-US</dc:language>
  <cp:lastModifiedBy>vongsch</cp:lastModifiedBy>
  <dcterms:modified xsi:type="dcterms:W3CDTF">2012-05-28T08:53:01Z</dcterms:modified>
  <cp:revision>9</cp:revision>
  <dc:subject/>
  <dc:title>Social Protection System, Lao PDR</dc:title>
</cp:coreProperties>
</file>