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722-D7E1-4FA7-A775-C2E06AF4EE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67DE-657E-41AD-BCB1-6BF7E1A4E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19BB-850D-41EF-B5EA-88941344F3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4160" y="71424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988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52CB-B756-4659-9DBF-9B09369C3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3F4-6372-4B14-9CA5-F924AC6BC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62A0-3D5B-44F7-B8D4-228BEAA83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F87D-20CA-4B75-82C3-BFAC33359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E73-36EA-4F8A-BC53-57744CDF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D95-3358-4818-B43A-4345290A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E23-C8CA-490F-B26B-49924BD0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9AB-B2B9-4515-905B-6A814D9A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430A-50E6-4D59-A2E3-48F0986E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4787-CD5A-4BE4-BE48-F457EBC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9B00-6D57-4D2D-BDB5-9BA7D3D5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031D-09DC-4B66-BD36-F82AF38C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7A2D-5B70-431E-9712-D455B591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0568-0978-40FD-BF80-1777E862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B43A-E35C-4227-BCCA-731739E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55B-0E8E-4830-8BFF-82E4ADFC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27BA-0B5E-43C8-854E-716CEA1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3172-D821-4AEC-BA72-675A7E37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3FAC-C9A5-4BF1-BFF0-15B33362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F7A5-12D0-4BE8-AF0D-04BF133E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FD78-F784-46E4-8CAE-3253AC6F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270-DF55-432B-B437-7D5D71F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5BF-4B4D-4457-B882-2ED3735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BA8-F91D-4AB1-BE6F-7F85A038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1E1-3776-429D-BA0E-469BDCBA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F75-6DCE-4C2A-9043-729FF25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542-BBD0-49E1-97AE-4FB7EEE0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D2C-4307-49A6-8414-0DF15E11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84BD-7A9D-4260-8BF7-6E06AA774A2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C57C-87CC-4C4B-9547-2CAA4E334A0B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vettewo/Local%20Settings/Temp/wzbcdc/GENERAL%20PRESENTATION%20+%20DOCS/Staff%20Working%20Paper%20Final%20SEC58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025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03c72"/>
                </a:solidFill>
                <a:latin typeface="Verdana"/>
              </a:rPr>
              <a:t>Governance Initiative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103c72"/>
                </a:solidFill>
                <a:latin typeface="Verdana"/>
              </a:rPr>
              <a:t>study – 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103c72"/>
                </a:solidFill>
                <a:latin typeface="Verdana"/>
              </a:rPr>
              <a:t>aims on what next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0920" y="4005000"/>
            <a:ext cx="70880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03c72"/>
                </a:solidFill>
                <a:latin typeface="Verdana"/>
              </a:rPr>
              <a:t>Agata Nieboj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03c72"/>
                </a:solidFill>
                <a:latin typeface="Verdana"/>
              </a:rPr>
              <a:t>DEVCO D1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34136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2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99cc"/>
                </a:solidFill>
                <a:latin typeface="Verdana"/>
              </a:rPr>
              <a:t>Governance Initiative 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502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502560" indent="-50256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Initial objectiv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55440" indent="-50256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Reinforce governance aspects in CSP proc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55440" indent="-50256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Better governance in ACP countries through political and financial incentives for reform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55440" indent="-50256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EU speaks with one voice on govern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5544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2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Main component – Governance Incentive Tranche wit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2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2.7 bln euro reserved to top up intitial count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2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allo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Reminder - Steps in the process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24000" y="141300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Governance Profile prepared by EC and 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rogramming 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ction plan put forward by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lan assessed by EC H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ssessment and level of Incentive Tranche discussed with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EU 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SP (with incentive tranche) submitted to  EDF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mmittee and 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Around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€ 2,3 billion have been allocated to 70 A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untries with toping ups ranging from 10 to 30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%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Several states suffering from instability and/or under art 96 have not presented a GAP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.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he Bahamas opted not to submit a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AP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611280" y="1557360"/>
            <a:ext cx="590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848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2c8"/>
                </a:solidFill>
                <a:latin typeface="Verdana"/>
              </a:rPr>
              <a:t>Initial review 2008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1916280"/>
            <a:ext cx="777708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Demanded by the 2006 council conclusions – premature assessment as the process started only mid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Study done by consultants, resulted with </a:t>
            </a:r>
            <a:r>
              <a:rPr b="0" lang="fr-BE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taff Working 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I describes as innovative and promissing proces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positive impact on political dialogue and pu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overnance at core of progra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However notices need to increase the ownership, clar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uidlines and monitoring, simplify the GP, adapt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different country situations (in particular fragile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Council Conclusions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on democratic governance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(19.05.2009)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– request report in earl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777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2c8"/>
                </a:solidFill>
                <a:latin typeface="Verdana"/>
              </a:rPr>
              <a:t>2010/2011 study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4981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ts val="1998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Specific objective</a:t>
            </a:r>
            <a:r>
              <a:rPr b="1" lang="pl-PL" sz="2000" spc="-1" strike="noStrike">
                <a:solidFill>
                  <a:srgbClr val="333399"/>
                </a:solidFill>
                <a:latin typeface="Verdana"/>
              </a:rPr>
              <a:t> -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ssess the Governance Initiative and provide recommendations for the future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in particular the follow-up to the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AP- monitoring an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he influence on the political dialogue with partner countries as well as partner countries' internal dynamics and debat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ssess how the different EU initiatives and instruments to promote democratic governance are linked with each oth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rovide recommendations on how to support better ownership of governance refor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rovide recommendations as to how be better link up with regional processes and organisations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87280" y="189000"/>
            <a:ext cx="525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5864400"/>
            <a:ext cx="792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2c8"/>
                </a:solidFill>
                <a:latin typeface="Verdana"/>
              </a:rPr>
              <a:t>What next?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1628640"/>
            <a:ext cx="8675640" cy="41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Consultations with MS and CSOs in September to discuss draf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Finalisation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Staff Working Pap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Report to the Council in first half of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Recommendations for 11th EDF</a:t>
            </a:r>
            <a:r>
              <a:rPr b="0" lang="pl-PL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103c72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56:47Z</dcterms:created>
  <dc:creator>vandrjo</dc:creator>
  <dc:description/>
  <dc:language>en-US</dc:language>
  <cp:lastModifiedBy>Agata</cp:lastModifiedBy>
  <dcterms:modified xsi:type="dcterms:W3CDTF">2011-07-08T06:19:38Z</dcterms:modified>
  <cp:revision>48</cp:revision>
  <dc:subject/>
  <dc:title>Reference Template for    Presentations</dc:title>
</cp:coreProperties>
</file>