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7E1-940D-48B1-BC74-5F8DBE650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64D8-730C-4B66-AE38-B5009B817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B9FC-F427-4D88-BE28-44844FAFE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4160" y="71424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988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C58-E6B8-4477-8CEE-DD6BB65276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020-4CAB-4424-A367-EF32DFDFE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E30-51F6-4404-8DC9-C64B01D08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6E8-3FDE-4742-AAEB-030DF398C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489-09FA-40E7-ADCD-6B415D56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98F-90A1-41BD-B9AF-67033770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7AF-ED4C-46F3-A169-844135C5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1C-FAFC-421C-AF93-675D939D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E060-7CBA-400B-B695-3A4CF25A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861-D508-4958-AED3-BBEAC5EE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53C-1143-45AB-A283-94AA0189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D82D-7AB5-4020-9CA8-24FB8321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5E5F-8694-445E-A33B-E47EC0AF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0E4F-6C25-4E2F-AF14-9EC2298A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4BE0-C18E-4EE5-878E-35D611C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63D-5022-45CD-B6F7-36D3D7E0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74B-D5AB-4939-9B81-2C05825F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0F76-3070-4814-8760-4D174A4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7857-B156-4B77-A9F7-2D643FE5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22BB-F3CD-4C5C-91EF-DF6B9E25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4E43-DE88-442D-AB25-BE279EE4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0E8-BA82-4B01-BAD3-2EA79238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616-86D1-4AD4-BF9D-7819170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5F8-4063-4A1E-B018-ED1E954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C2A-5DD2-4F2E-B3F5-00AF92C3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D14-C603-48B7-BB17-AD36B6BA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CCB-B7D9-4A65-930E-1A8C3571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139-08D8-441C-8C49-5E44B07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52A2-09E2-4CB1-9B24-60A8EB10D14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B982-979F-4AF8-A97D-87DC4B7098D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vettewo/Local%20Settings/Temp/wzbcdc/GENERAL%20PRESENTATION%20+%20DOCS/Staff%20Working%20Paper%20Final%20SEC58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Governance Initiative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study – 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03c72"/>
                </a:solidFill>
                <a:latin typeface="Verdana"/>
              </a:rPr>
              <a:t>aims on what next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10920" y="4005000"/>
            <a:ext cx="70880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03c72"/>
                </a:solidFill>
                <a:latin typeface="Verdana"/>
              </a:rPr>
              <a:t>Agata Nieboj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03c72"/>
                </a:solidFill>
                <a:latin typeface="Verdana"/>
              </a:rPr>
              <a:t>DEVCO D1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3413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2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99cc"/>
                </a:solidFill>
                <a:latin typeface="Verdana"/>
              </a:rPr>
              <a:t>Governance Initiative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502560" indent="-50256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Initial objec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Reinforce governance aspects in CSP proc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Better governance in ACP countries through political and financial incentives for reform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-502560">
              <a:lnSpc>
                <a:spcPts val="2798"/>
              </a:lnSpc>
              <a:buClr>
                <a:srgbClr val="333399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U speaks with one voice on govern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55440" indent="0">
              <a:lnSpc>
                <a:spcPts val="2798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Main component – Governance Incentive Tranche wit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2.7 bln euro reserved to top up intitial countr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25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alloca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84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Reminder - Steps in the process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141300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Governance Profile prepared by EC and 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gramming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ction plan put forward by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lan assessed by EC H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ment and level of Incentive Tranche discussed with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EU 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SP (with incentive tranche) submitted to  EDF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mmittee and 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Around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€ 2,3 billion have been allocated to 70 A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untries with toping ups ranging from 10 to 30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%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Several states suffering from instability and/or under art 96 have not presented a GAP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.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e Bahamas opted not to submit a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AP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611280" y="1557360"/>
            <a:ext cx="590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8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Initial review 2008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916280"/>
            <a:ext cx="777708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Demanded by the 2006 council conclusions – premature assessment as the process started only mid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Study done by consultants, resulted with </a:t>
            </a:r>
            <a:r>
              <a:rPr b="0" lang="fr-BE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taff Working Pa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I describes as innovative and promissing proces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positive impact on political dialogue and p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overnance at core of progra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However notices need to increase the ownership, clar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uidlines and monitoring, simplify the GP, adap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different country situations (in particular fragile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Council Conclusions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on democratic governance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fr-BE" sz="2000" spc="-1" strike="noStrike">
                <a:solidFill>
                  <a:srgbClr val="333399"/>
                </a:solidFill>
                <a:latin typeface="Verdana"/>
              </a:rPr>
              <a:t>(19.05.2009)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 – request report in ear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777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2010/2011 study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4981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ts val="1998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pecific objective</a:t>
            </a:r>
            <a:r>
              <a:rPr b="1" lang="pl-PL" sz="2000" spc="-1" strike="noStrike">
                <a:solidFill>
                  <a:srgbClr val="333399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 the Governance Initiative and provide recommendations for the future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in particular the follow-up to the 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GAP- monitoring an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he influence on the political dialogue with partner countries as well as partner countries' internal dynamics and debat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ssess how the different EU initiatives and instruments to promote democratic governance are linked with each oth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vide recommendations on how to support better ownership of governance refor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19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rovide recommendations as to how be better link up with regional processes and organisations</a:t>
            </a: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87280" y="189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5864400"/>
            <a:ext cx="7920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2c8"/>
                </a:solidFill>
                <a:latin typeface="Verdana"/>
              </a:rPr>
              <a:t>What next?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1628640"/>
            <a:ext cx="867564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Consultations with MS and CSOs in September to discuss draf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Finalisation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Staff Working Pa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Report to the Council in first half of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333399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Verdana"/>
              </a:rPr>
              <a:t>Recommendations for 11th EDF</a:t>
            </a:r>
            <a:r>
              <a:rPr b="0" lang="pl-PL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20000"/>
              </a:lnSpc>
              <a:buClr>
                <a:srgbClr val="103c72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103c7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9:56:47Z</dcterms:created>
  <dc:creator>vandrjo</dc:creator>
  <dc:description/>
  <dc:language>en-US</dc:language>
  <cp:lastModifiedBy>Agata</cp:lastModifiedBy>
  <dcterms:modified xsi:type="dcterms:W3CDTF">2011-07-08T06:19:38Z</dcterms:modified>
  <cp:revision>48</cp:revision>
  <dc:subject/>
  <dc:title>Reference Template for    Presentations</dc:title>
</cp:coreProperties>
</file>