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C87A-A1CB-409D-826C-870F4BE3BA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A270-6F16-4462-A59A-E9EA74EBF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DFD-5770-4983-BB41-90CEC248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3A2-317B-4534-8BA9-A2E2D2E4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B48-712B-4B99-9C18-22BC60C4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8F4-BEFB-4651-8C7D-89883F01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F06-C907-4959-A102-2B782127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A36-FE28-4A19-8B06-7957D0C1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92F-6A19-41A5-B7A7-13B89F5C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710-CBB3-4CC2-825C-C94E2786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116-A28F-4481-BE92-C9E46C21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D31-57FE-47B1-9B1D-A368D2C2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92B-5499-43F7-992D-2194A805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A6E-5C36-428E-939B-9D9183CA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ACA8-DB49-4FC9-84FC-3B277135AA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ies.ch/diving/lake_zurich/index.en.php/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Governance Initiative Support Stud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sentation key findings GI study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d some questions for the future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C Seminar on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ussels, 8 Jul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(1) Positive dynamics 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impetus to focus more on governance in EU partnerships with A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tion/learning on how to assess governance (via the G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terest of EU Member States for 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P actors generally not hostile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sessing governance (according to P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olitical traction at start 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3"/>
          <p:cNvSpPr/>
          <p:nvPr/>
        </p:nvSpPr>
        <p:spPr>
          <a:xfrm>
            <a:off x="609480" y="5562720"/>
            <a:ext cx="1447920" cy="484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2)  Major implementation challe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clear/consistent guidance/communication from HQ on how to implement innovativ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ve approach versus donor driven process (who does what, what is shar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ship of GAP versus responding to GI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ing effective implementation/monitoring of GAP when funds are disbursed befor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/capacities to assessing/measuring/scoring governance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ing transparency all alo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existence of many other governance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ng an effective political dialogue around 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ding to loss of traction and relevance of the GITP as reflected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knowledge across the board about 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ho know about it are also confused (why, what, how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 superseded by other governance processes or by events in country (dynamic nature of governance/flexibility instru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impact of GI on harmonization EU-MS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impact of GI on political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ttention to GI/GAP in Mid-Term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(3) Unrealistic assump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9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nce of a strong EU vision/strategy on its own governance agenda with partn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ze fits it all” approach are useful to promote governance across hugely different ACP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nce of real added value GI compared to ongoing governance processes/plans/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can stimulate ownership (GAP) and accelerate reforms on side partn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financial incentive based on “commitment to reform” instead actu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GI to be a catalyst to enhance political dialo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) How relevant is a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lob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overnance initiative for hugely different country/governance con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) How to ensure effective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wnershi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governance programmes (limits of “buying reform”; risk of proliferation action plan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) Need fo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reater differentiation and selectiv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=return of conditionalities and performance-based incentives)? If so, how can this b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) How to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ssess qu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governance and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onitor progre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hieved (relevance indicators and measuring tool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) How to create demand side for better govern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me emerging strategic ques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ome emerging strategic question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How to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te conditions (on both sides) for an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ffective political dialog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) How to deal with the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tested concep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“situations of fragility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) How to enhance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nsparency and legitimac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is type of externally supported initi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) To whom should African States be accountable (citizens vs. donor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) Growing sup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stronger articulation/coherence with national/regional/Pan-African governance  processes (APRM) but how can it be done in an effective and sustainable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Your feedback is welcome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governance initiative in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ype of incentives that may work (“more for more”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ext?  Alternatives to Governance Initi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 bit of history to situate 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Initiative (GI) launched in 2006 by Commissioner Louis M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 = critical juncture in development cooperation paradigm : Paris Declaration and European Consensus o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based on ownership, political dialogue,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support for governance priorities partner (= extra resources linked to “commitment to reform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political will on EU side to “upgrade” governance as core priority development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for innovation and experimentation EU level (“GI was something new for all of u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nstituent elements of GI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43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2008 Support Study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enhanc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wne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ngthen the political dialogue with national stakeholders, regional and supranational organisations (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linkages between the APRM and the G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 the implementation of the GAP (as the cornerstone for the credibility of the G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 a transparent and evidence-based allo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ationale present Support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 multi-actor assessment of overall GI concept and implement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 various innovative tools of GI (governance profile, governance action pla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implementation of recommendations of 2008 Support Stu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interest to engage in a Dialogue with African stakeholders on governance support (including 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into rethinking future EU governance approaches and related (financial)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ethodology and follow-up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entrusted to two independent institutions (AIG and ECD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 study with different tools including a questionnaire as well as 4 short field missions in Burundi, Kenya, Mali and Mozamb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workshops (Dakar, Bruss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port :  September-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follow-up foreseen at EU level (Commission report, Council Conclu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Diver with ligh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824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476360" y="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Navigating to find new ways to engage on governance with partner countrie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necting two still largely separated wor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066680" y="2133720"/>
            <a:ext cx="2514600" cy="3047760"/>
          </a:xfrm>
          <a:prstGeom prst="ellips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AN POLICIES AND APPROACHES TO GOVER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5486400" y="2057400"/>
            <a:ext cx="2514600" cy="2971800"/>
          </a:xfrm>
          <a:prstGeom prst="ellips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RICAN NORMS, STRATEGIES AND APPROACHES TO GOVER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-Right Arrow 5"/>
          <p:cNvSpPr/>
          <p:nvPr/>
        </p:nvSpPr>
        <p:spPr>
          <a:xfrm>
            <a:off x="3657600" y="3581280"/>
            <a:ext cx="1752480" cy="484200"/>
          </a:xfrm>
          <a:prstGeom prst="left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Key findings on GI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dynamics 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implementation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alistic assum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8:53:45Z</dcterms:created>
  <dc:creator>jb</dc:creator>
  <dc:description/>
  <dc:language>en-US</dc:language>
  <cp:lastModifiedBy>Jean Bossuyt</cp:lastModifiedBy>
  <dcterms:modified xsi:type="dcterms:W3CDTF">2011-07-07T21:59:33Z</dcterms:modified>
  <cp:revision>53</cp:revision>
  <dc:subject/>
  <dc:title>Slide 1</dc:title>
</cp:coreProperties>
</file>