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F76-1877-4BA6-BABF-8A9991012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5AC2-826C-4A50-8DCD-9BA1683C7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EF3-2711-494C-8340-662F63B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193-7C25-4826-A5CF-ACB9495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D2F-CC96-4C8A-9E30-7B678984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DB3-BCD6-4E1D-A26B-8728656C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8FA-6570-4878-9A2D-A2028D48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EBB-2170-4084-A4D6-E679880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939-DEB4-435E-9DAA-25ADBD93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ED3-A8F2-4A64-A6B8-2D5F124C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E2E-07AD-4F1D-A3A3-B5E74B5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961-5E77-4170-A38D-F8C8E32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F0E-E654-43B3-A1F7-532D752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978-849D-42F5-B968-B45D1F0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068-766D-4F6E-A282-2FAAA5180F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ies.ch/diving/lake_zurich/index.en.php/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Governance Initiative Support Stud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ation key findings GI study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 some questions for the futur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 Seminar on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ussels, 8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1) Positive dynamics 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mpetus to focus more on governance in EU partnerships with 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/learning on how to assess governance (via the G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terest of EU Member States for 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P actors generally not hostil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sessing governance (according to P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itical traction at start 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"/>
          <p:cNvSpPr/>
          <p:nvPr/>
        </p:nvSpPr>
        <p:spPr>
          <a:xfrm>
            <a:off x="609480" y="5562720"/>
            <a:ext cx="1447920" cy="484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2)  Major implementation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clear/consistent guidance/communication from HQ on how to implement innovativ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approach versus donor driven process (who does what, what is shar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of GAP versus responding to GI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effective implementation/monitoring of GAP when funds are disbursed befor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capacities to assessing/measuring/scoring governance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ransparency all alo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existence of many other governance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ing an effective political dialogue around 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ding to loss of traction and relevance of the GITP as reflected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knowledge across the board about 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ho know about it are also confused (why, what, ho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 superseded by other governance processes or by events in country (dynamic nature of governance/flexibility instr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mpact of GI on harmonization EU-M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mpact of GI on political di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ttention to GI/GAP in Mid-Term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3) Unrealistic assump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a strong EU vision/strategy on its own governance agenda with partn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ze fits it all” approach are useful to promote governance across hugely different ACP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ce of real added value GI compared to ongoing governance processes/plans/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can stimulate ownership (GAP) and accelerate reforms on side partn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financial incentive based on “commitment to reform” instead act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GI to be a catalyst to enhance political dialo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How relevant is a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overnance initiative for hugely different country/governance contex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How to ensure effectiv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governance programmes (limits of “buying reform”; risk of proliferation action plan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Need for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reater differentiation and selectiv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=return of conditionalities and performance-based incentives)? If so, how can this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 How to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ssess qu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governance and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onitor progre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hieved (relevance indicators and measuring tool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How to create demand side for better govern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me emerging strategic ques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ome emerging strategic questi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How to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te conditions (on both sides) for an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ffective political dialog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) How to deal with th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ntested concep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“situations of fragil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) How to enhanc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nsparency and legitimac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is type of externally supported initi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) To whom should African States be accountable (citizens vs. donor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) Growing 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ronger articulation/coherence with national/regional/Pan-African governance  processes (APRM) but how can it be done in an effective and sustainable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Your feedback is welcom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governance initiative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ype of incentives that may work (“more for more”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xt?  Alternatives to Governance Initi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bit of history to situate 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Initiative (GI) launched in 2006 by Commissioner Louis Mic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= critical juncture in development cooperation paradigm : Paris Declaration and European Consensus 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based on ownership, political dialogue,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upport for governance priorities partner (= extra resources linked to “commitment to reform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political will on EU side to “upgrade” governance as core priority development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innovation and experimentation EU level (“GI was something new for all of u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stituent elements of GI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43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2008 Support Stud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enhan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ne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en the political dialogue with national stakeholders, regional and supranational organisations (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linkages between the APRM and the G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 the implementation of the GAP (as the cornerstone for the credibility of the 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a transparent and evidence-based allo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ationale present Support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 multi-actor assessment of overall GI concept and implemen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various innovative tools of GI (governance profile, governance action pla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implementation of recommendations of 2008 Support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interest to engage in a Dialogue with African stakeholders on governance support (including 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into rethinking future EU governance approaches and related (financial)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ethodology and follow-up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entrusted to two independent institutions (AIG and ECD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study with different tools including a questionnaire as well as 4 short field missions in Burundi, Kenya, Mali and Mozamb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orkshops (Dakar, Bru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port :  September-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follow-up foreseen at EU level (Commission report, Council Conclu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iver with 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824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476360" y="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cc"/>
                </a:solidFill>
                <a:latin typeface="Verdana"/>
                <a:ea typeface="Times New Roman"/>
              </a:rPr>
              <a:t>Navigating to find new ways to engage on governance with partner countries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necting two still largely separated wor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066680" y="2133720"/>
            <a:ext cx="2514600" cy="304776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POLICIES AND APPROACHES TO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5486400" y="2057400"/>
            <a:ext cx="2514600" cy="297180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N NORMS, STRATEGIES AND APPROACHES TO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eft-Right Arrow 5"/>
          <p:cNvSpPr/>
          <p:nvPr/>
        </p:nvSpPr>
        <p:spPr>
          <a:xfrm>
            <a:off x="3657600" y="3581280"/>
            <a:ext cx="1752480" cy="484200"/>
          </a:xfrm>
          <a:prstGeom prst="left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ey findings on GI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dynamics 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implement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alistic assum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53:45Z</dcterms:created>
  <dc:creator>jb</dc:creator>
  <dc:description/>
  <dc:language>en-US</dc:language>
  <cp:lastModifiedBy>Jean Bossuyt</cp:lastModifiedBy>
  <dcterms:modified xsi:type="dcterms:W3CDTF">2011-07-07T21:59:33Z</dcterms:modified>
  <cp:revision>53</cp:revision>
  <dc:subject/>
  <dc:title>Slide 1</dc:title>
</cp:coreProperties>
</file>