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ED68-E9E4-489E-98C8-699E57C16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AD02-D9C7-447B-A7FC-AB7A079AD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CDBD-0DB0-4D2A-89E8-6CCC47D01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D8B-3F84-46CD-9085-30C4CDE5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ABA-B5DB-4321-9A2A-F8D5422B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A9D-DB52-4714-A52A-9F2E293E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24B-C97F-48E4-BBB3-31244CA9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1A3-5331-4E40-A0B6-A79F050F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9D3-B171-4E29-88D2-FDB713C7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A8C-9AF3-4FE3-ADAD-44CC93F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312-1AB5-433A-BD0F-204D538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1D6-DFA2-4BC4-9DD0-9D544198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58C-2564-4169-AAA5-6CD373D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A73-4CE2-432D-B203-A97DD08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205-2A36-495D-A008-B5744C85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179E-FBA5-414A-BDA9-F20AFA2368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e creation of an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“African Governance Architecture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nd an “African Governance Platform</a:t>
            </a:r>
            <a:br>
              <a:rPr sz="3200"/>
            </a:b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hat does it mean in practice and why is it important for the EU (and you)?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EC Seminar on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Brussels 8 Jul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u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promotion of the African Charter on Democracy, Elections and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ing for compliance of norms (Bamako seminar, May 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rough second generation of APRM in the Africa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the dialogue with EU (JA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at does it mean for EU (and for yo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 is still very young and fragile but has potential (could use smart capacity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gendas and processes on governance can facilitate/support EU efforts i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more effective dialogue and join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govern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such an “African Governance Architectur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African governance initiatives at different levels but unknown/dis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frican Union several Organs dealing with governance, but also dis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Economic Communities (RECs) more and more doing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ATIO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ample of African Peac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rchite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3"/>
          <p:cNvSpPr/>
          <p:nvPr/>
        </p:nvSpPr>
        <p:spPr>
          <a:xfrm>
            <a:off x="2057400" y="4648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4"/>
          <p:cNvSpPr/>
          <p:nvPr/>
        </p:nvSpPr>
        <p:spPr>
          <a:xfrm>
            <a:off x="2057400" y="5486400"/>
            <a:ext cx="914400" cy="4842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at is the African Governance Archite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611280" y="1557360"/>
            <a:ext cx="8137440" cy="446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FRICAN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OVERALL POLITICAL AND I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FRAMEWORK FOR THE PROMO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GOVERNANCE AT CONTINENT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18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304920" y="1989000"/>
            <a:ext cx="8597880" cy="3816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304920" y="5734080"/>
            <a:ext cx="8610480" cy="863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S AS THE PILLARS OF THE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1"/>
          <p:cNvSpPr/>
          <p:nvPr/>
        </p:nvSpPr>
        <p:spPr>
          <a:xfrm>
            <a:off x="7086600" y="4952880"/>
            <a:ext cx="15127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OSO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304920" y="1125360"/>
            <a:ext cx="85978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RIC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2514600" y="3200400"/>
            <a:ext cx="1305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"/>
          <p:cNvSpPr/>
          <p:nvPr/>
        </p:nvSpPr>
        <p:spPr>
          <a:xfrm>
            <a:off x="7086600" y="4419720"/>
            <a:ext cx="1440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6"/>
          <p:cNvSpPr/>
          <p:nvPr/>
        </p:nvSpPr>
        <p:spPr>
          <a:xfrm>
            <a:off x="5410080" y="2060640"/>
            <a:ext cx="33037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Poli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ssembly, 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cil, PRC,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3581280" y="4365720"/>
            <a:ext cx="2133720" cy="10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 Exec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gans (PS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HP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African Governance Architecture :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A house with several rooms (pi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826920" y="1557360"/>
            <a:ext cx="7704360" cy="11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 GENERAL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2708280"/>
            <a:ext cx="17290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564000" y="2708280"/>
            <a:ext cx="244800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948360" y="2708280"/>
            <a:ext cx="148932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Plat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826920" y="4869000"/>
            <a:ext cx="763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2556000" y="3573360"/>
            <a:ext cx="1079280" cy="486000"/>
          </a:xfrm>
          <a:prstGeom prst="leftRightArrow">
            <a:avLst>
              <a:gd name="adj1" fmla="val 50000"/>
              <a:gd name="adj2" fmla="val 44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6012000" y="3573360"/>
            <a:ext cx="936360" cy="647640"/>
          </a:xfrm>
          <a:prstGeom prst="leftRightArrow">
            <a:avLst>
              <a:gd name="adj1" fmla="val 50000"/>
              <a:gd name="adj2" fmla="val 28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12279000">
            <a:off x="6073560" y="2320200"/>
            <a:ext cx="1716120" cy="709560"/>
          </a:xfrm>
          <a:prstGeom prst="rightArrow">
            <a:avLst>
              <a:gd name="adj1" fmla="val 50000"/>
              <a:gd name="adj2" fmla="val 604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otential add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ing hug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ing coordination/complement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iculating four layers of governance (continental, regional, national, 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er impact (e.g. comp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n governance agendas (‘speaking with one voice’ within Africa, with development partners and in global for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nforcement A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The African Governance Architectur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overnance-731936"/>
          <p:cNvPicPr/>
          <p:nvPr/>
        </p:nvPicPr>
        <p:blipFill>
          <a:blip r:embed="rId1"/>
          <a:stretch/>
        </p:blipFill>
        <p:spPr>
          <a:xfrm>
            <a:off x="395280" y="1268280"/>
            <a:ext cx="821376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ONSOLIDATING THE AG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EANS STRENGTHE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ACH OF THE PILLARS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Arial"/>
              </a:rPr>
              <a:t>What are the main objectives of the Platform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ganise systematic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xchange of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n ‘who is doing what’ on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ffective synergi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mplementariti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ween the various institutional governance actors and their respectiv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forum for dialogu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n how to strengthen AGA (including selection of core thematic prior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ke stock of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goo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ffective implement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rogress achieved as well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9:37:39Z</dcterms:created>
  <dc:creator>jb</dc:creator>
  <dc:description/>
  <dc:language>en-US</dc:language>
  <cp:lastModifiedBy>Jean Bossuyt</cp:lastModifiedBy>
  <dcterms:modified xsi:type="dcterms:W3CDTF">2011-07-07T09:54:24Z</dcterms:modified>
  <cp:revision>17</cp:revision>
  <dc:subject/>
  <dc:title>Meeting on   African Governance Architecture  Nairobi 10-12 December 2009 </dc:title>
</cp:coreProperties>
</file>