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move the slide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6F501-4470-47C4-B151-22236F34B76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DBE7EC8D-00B4-49CA-91E2-A777CBF824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08D790E-55C2-4BB9-B147-F3645C27541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EA1AF60-9029-49FD-97BD-D7B265DDDD4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EDF338F1-43BA-46AF-9C85-9337A7618EB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CD0C28EB-1F57-46FE-8EF6-F752A1B8DD9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987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lgeria, Egypt, Jordan, Lebanon, Morocc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yria, Tunisia, WB&amp;GS) and Israel (eligi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gional cooperation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A123E161-0B6A-4C04-9D2A-A7CA5363F3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335AB3F3-D291-4EB8-9780-204793488B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application of the five principles of the Paris Declaration (ownership, harmonisation, alignment, mutual accountability and results based management) has benefited from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Despite in-country differences, Budget Support financial flows have increased throughout the evaluation period in both absolute and relativ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E477182D-4234-4A8F-B4DB-56163C8D07D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9B380BD0-CAF1-42F3-A8C8-A9D8F0A3C22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1065965E-D09B-44FB-A936-74C1E55C762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Freeform 1"/>
          <p:cNvSpPr/>
          <p:nvPr/>
        </p:nvSpPr>
        <p:spPr>
          <a:xfrm>
            <a:off x="976320" y="723960"/>
            <a:ext cx="489600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628F41F8-5162-4681-BABC-8185A8EE37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Tunesia: Strong Opportunity Framework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:  There was a very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strong government commitment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towards stabilisation and growth policy and support to the private sector, and a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framework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overing a wide EU/Tunesian Association Agreement including trade and economic integration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AD7-7FFC-4FC0-BE24-DC7702EF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A37-0A73-49AC-A696-3B7D27A3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25A-C98E-4D33-A46B-F35AAD44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E1B-2FEE-4459-A4B7-92C5863A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160-C3DB-42CD-ACE0-5CAD19D0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108-4723-4883-B148-A514A6C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8ED-80E1-4AAD-AA1C-147DB74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E5F6-BEF1-40A8-BA19-E40E878B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714-66D9-45B2-B8CB-C88D6C58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55BA-A9B7-404D-9DF4-818198F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FFED-EADE-4F04-A39D-B9D66C8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ECB-FA2A-4473-A75C-FE7885D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4914-2F86-4230-9812-92DA77B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54A5-3A11-43EC-A6FE-E24FDBF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8AE-AEBB-4BBD-83A0-C03128A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A5C-F1F3-49E4-8A8D-3B478B48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5506-A0E1-4BAF-A279-339A88D2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1E25-2119-473C-91FC-575C7035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3B29-BC11-4498-A7D3-400CBB5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9DAA-33A3-4704-A723-EB2F18C7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A926-4E6A-4EC4-9D74-195A428C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7BAD-1840-45B0-87B6-F5D4CD70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217-3AFA-43B4-A26B-70D8725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3A80-FA92-48E1-8BE6-A40000D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7F41-F7DD-41F6-B7A2-48CC3E1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74F9-F01E-4EEE-8676-C2A6ACE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5ECB-023F-498A-BB3C-4EAFFA1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9EB0-C01C-40FF-8395-C335541A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9157-BD7D-4C6C-B748-12BFFFE1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66F1-9FCA-4C77-8BF2-A99D8CD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0F6-CF5E-4F8F-8B2E-A8A17EC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79D-5D95-4B31-B90D-C813C9F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8FF-DA89-47F1-8438-C3B68FC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A9D-D519-4DCA-9715-4C1D3F9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1B9-5FF0-4C6F-8FF0-84BB887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FF3-18C7-4B49-82E5-4CC5964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A1C-3805-454D-AA76-38CE4848139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002D-E721-4532-A3BA-508FFB692B6A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/27/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85C-AED8-45C2-A2AE-35A53AB81EC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186000" y="2276640"/>
            <a:ext cx="5778720" cy="38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4760" y="2349000"/>
            <a:ext cx="5222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lnSpc>
                <a:spcPct val="10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Garamond"/>
              </a:rPr>
              <a:t>Evaluation of Budget support:</a:t>
            </a:r>
            <a:br>
              <a:rPr sz="3000"/>
            </a:br>
            <a:r>
              <a:rPr b="1" i="1" lang="en-GB" sz="3000" spc="-1" strike="noStrike">
                <a:solidFill>
                  <a:srgbClr val="333399"/>
                </a:solidFill>
                <a:latin typeface="Garamond"/>
              </a:rPr>
              <a:t> Results of  Three Pilot Cases</a:t>
            </a:r>
            <a:endParaRPr b="1" lang="en-US" sz="3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419640" y="4076280"/>
            <a:ext cx="514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ergen Lovasz, DEVCO 08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ly 2014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"/>
          <p:cNvSpPr/>
          <p:nvPr/>
        </p:nvSpPr>
        <p:spPr>
          <a:xfrm>
            <a:off x="250920" y="14652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contribution to growth and social policies improved income and non-income poverty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reeform 2"/>
          <p:cNvSpPr/>
          <p:nvPr/>
        </p:nvSpPr>
        <p:spPr>
          <a:xfrm>
            <a:off x="360360" y="3240000"/>
            <a:ext cx="8099280" cy="33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Rural poverty has not been tackled adequately by government (Zambia)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0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0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0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1"/>
          <p:cNvSpPr/>
          <p:nvPr/>
        </p:nvSpPr>
        <p:spPr>
          <a:xfrm>
            <a:off x="1284120" y="1689120"/>
            <a:ext cx="605016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Freeform 2"/>
          <p:cNvSpPr/>
          <p:nvPr/>
        </p:nvSpPr>
        <p:spPr>
          <a:xfrm>
            <a:off x="324000" y="2276640"/>
            <a:ext cx="7970760" cy="5619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an effective tool in a country with robust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annot determine major policy changes but can provide sound support for policy reforms, that is not possible with only project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more beneficial with high degree of harmonisation and align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strengthened and multiplied when it is linked to wider political and economic partnership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1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1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1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1"/>
          <p:cNvSpPr/>
          <p:nvPr/>
        </p:nvSpPr>
        <p:spPr>
          <a:xfrm>
            <a:off x="1440000" y="1293840"/>
            <a:ext cx="597672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.: 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Freeform 2"/>
          <p:cNvSpPr/>
          <p:nvPr/>
        </p:nvSpPr>
        <p:spPr>
          <a:xfrm>
            <a:off x="324000" y="1884240"/>
            <a:ext cx="8208720" cy="4799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has been an instrument conducive to increasing transparency and accountability of budget processes and public expenditure management and may be used to support anti-corruption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benefits if it is complementary with other forms of aid, especially for capacity building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The choices between GBS and SBS should be flexible and based on the context.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mproved documented policy dialogue, data production and policy assessments of development results is require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21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23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ZoneTexte 2"/>
          <p:cNvSpPr/>
          <p:nvPr/>
        </p:nvSpPr>
        <p:spPr>
          <a:xfrm>
            <a:off x="1332000" y="26370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!</a:t>
            </a:r>
            <a:endParaRPr b="0" lang="en-US" sz="6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90120"/>
            <a:ext cx="78598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f5494"/>
                </a:solidFill>
                <a:latin typeface="Garamond"/>
              </a:rPr>
              <a:t>Tunisia</a:t>
            </a:r>
            <a:endParaRPr b="1" lang="en-US" sz="3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21844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7 out of 12 operations financed by the European Commission over the period 1996-2009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Four GBS and three SBS, covering secondary and tertiary education and vocational / educational training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European Commission, World Bank, AfDB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773000"/>
            <a:ext cx="77151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32 out of 33 operations financed by 11 donors over the period 2003-09,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AfDB, WB-IDA, Canada, Denmark, European Commission, France, Netherland, Swede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- PFM: Canada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social sectors: Belgium, Canada, France, The Netherlands, Sweden-Norway, Spai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decentralisation: EC</a:t>
            </a: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1187280" y="549360"/>
            <a:ext cx="4176720" cy="131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    </a:t>
            </a: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Mali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698840"/>
            <a:ext cx="76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Garamond"/>
              </a:rPr>
              <a:t>Zambia</a:t>
            </a: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overty Reduction Strategy Budget Support and 3 Sector Budget Support (roads, public financial management, health) over the period 2002-2009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RSBS: European Commission, Finland, Germany, The Netherlands, Norway, Swede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1"/>
          <p:cNvSpPr/>
          <p:nvPr/>
        </p:nvSpPr>
        <p:spPr>
          <a:xfrm>
            <a:off x="250920" y="7650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ribution of Budget Support to the aid framework and partner country polici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24000" y="2276640"/>
            <a:ext cx="8281800" cy="4412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Contribution to the implementation of the Paris Declaration and AA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Increased financial resources and strengthened budget management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Adapted design, positive dialogue frameworks and diversified use of T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5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5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5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1"/>
          <p:cNvSpPr/>
          <p:nvPr/>
        </p:nvSpPr>
        <p:spPr>
          <a:xfrm>
            <a:off x="250920" y="1181160"/>
            <a:ext cx="792144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 </a:t>
            </a: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..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Freeform 2"/>
          <p:cNvSpPr/>
          <p:nvPr/>
        </p:nvSpPr>
        <p:spPr>
          <a:xfrm>
            <a:off x="287280" y="2060640"/>
            <a:ext cx="8172360" cy="4443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lthough harmonisation and alignment improved, they are far from completed</a:t>
            </a:r>
            <a:r>
              <a:rPr b="1" lang="en-GB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: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ll coordinated sector interven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unrealistic PAF conditions and targets     (donor driven indicators)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ultiplication of coordination structur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6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6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6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1"/>
          <p:cNvSpPr/>
          <p:nvPr/>
        </p:nvSpPr>
        <p:spPr>
          <a:xfrm>
            <a:off x="250920" y="132408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ncreased discretionary expenditure and allocation to targeted sector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24000" y="2637000"/>
            <a:ext cx="8135640" cy="3957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nd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Effective support to implementation of Public Financial Management &amp; other reforms when government and society are committed: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dget Support cannot buy reform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7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7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7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"/>
          <p:cNvSpPr/>
          <p:nvPr/>
        </p:nvSpPr>
        <p:spPr>
          <a:xfrm>
            <a:off x="430200" y="1763640"/>
            <a:ext cx="792180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increased public investment and reform implementation that  produced significant outcomes in education and health</a:t>
            </a:r>
            <a:r>
              <a:rPr b="0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324000" y="3645000"/>
            <a:ext cx="8135640" cy="283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In the three countries, the reforms and related investments supported by higher levels of public expenditure produced significant outcomes and some measurable impacts as well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8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8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8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"/>
          <p:cNvSpPr/>
          <p:nvPr/>
        </p:nvSpPr>
        <p:spPr>
          <a:xfrm>
            <a:off x="250920" y="1125360"/>
            <a:ext cx="792144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ontributed partly to sound macro economic policies,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Freeform 2"/>
          <p:cNvSpPr/>
          <p:nvPr/>
        </p:nvSpPr>
        <p:spPr>
          <a:xfrm>
            <a:off x="360360" y="2852640"/>
            <a:ext cx="8099280" cy="4115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Tunisia: “Strong Opportunity Framework” including BS contributed to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Mali/Zambia: While BS funds contributed to sound macro economic policies, other important factors (regional integration, export prices, debt relief, etc) also played an important role</a:t>
            </a: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9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9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9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9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OVASZ Juergen (DEVCO)</cp:lastModifiedBy>
  <cp:lastPrinted>2013-05-13T15:53:28Z</cp:lastPrinted>
  <dcterms:modified xsi:type="dcterms:W3CDTF">2014-07-03T10:35:41Z</dcterms:modified>
  <cp:revision>277</cp:revision>
  <dc:subject/>
  <dc:title>Slide 1</dc:title>
</cp:coreProperties>
</file>