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54160" y="-360"/>
            <a:ext cx="29494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920880" y="747720"/>
            <a:ext cx="49672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move the slide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4500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9442080"/>
            <a:ext cx="294948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54160" y="9442080"/>
            <a:ext cx="294948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A0ED1A0-05E3-453A-8A8B-0D63CB569E7F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10"/>
          <p:cNvSpPr/>
          <p:nvPr/>
        </p:nvSpPr>
        <p:spPr>
          <a:xfrm>
            <a:off x="3854520" y="9442440"/>
            <a:ext cx="2949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7480"/>
                <a:tab algn="l" pos="4946760"/>
                <a:tab algn="l" pos="5397480"/>
                <a:tab algn="l" pos="5846760"/>
                <a:tab algn="l" pos="6296040"/>
                <a:tab algn="l" pos="6746760"/>
                <a:tab algn="l" pos="7196040"/>
                <a:tab algn="l" pos="7647120"/>
                <a:tab algn="l" pos="8096400"/>
                <a:tab algn="l" pos="8547120"/>
                <a:tab algn="l" pos="8996400"/>
                <a:tab algn="l" pos="9128160"/>
                <a:tab algn="l" pos="10040760"/>
                <a:tab algn="l" pos="10953720"/>
              </a:tabLst>
            </a:pPr>
            <a:fld id="{3B702F60-3322-4902-9EA6-8C589E7610A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Freeform 1"/>
          <p:cNvSpPr/>
          <p:nvPr/>
        </p:nvSpPr>
        <p:spPr>
          <a:xfrm>
            <a:off x="955800" y="746280"/>
            <a:ext cx="4897440" cy="372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682200" y="4724280"/>
            <a:ext cx="54356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10"/>
          <p:cNvSpPr/>
          <p:nvPr/>
        </p:nvSpPr>
        <p:spPr>
          <a:xfrm>
            <a:off x="3852720" y="943920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6B5ACB39-697C-4D34-A4E9-8C3D2A3A20D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Freeform 1"/>
          <p:cNvSpPr/>
          <p:nvPr/>
        </p:nvSpPr>
        <p:spPr>
          <a:xfrm>
            <a:off x="955800" y="746280"/>
            <a:ext cx="4897440" cy="372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2200" y="4724280"/>
            <a:ext cx="54356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10"/>
          <p:cNvSpPr/>
          <p:nvPr/>
        </p:nvSpPr>
        <p:spPr>
          <a:xfrm>
            <a:off x="3852720" y="943920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848B9BCE-C2FC-4E6C-A6A1-D48074C632A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Freeform 1"/>
          <p:cNvSpPr/>
          <p:nvPr/>
        </p:nvSpPr>
        <p:spPr>
          <a:xfrm>
            <a:off x="955800" y="746280"/>
            <a:ext cx="4897440" cy="372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682200" y="4724280"/>
            <a:ext cx="54356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10"/>
          <p:cNvSpPr/>
          <p:nvPr/>
        </p:nvSpPr>
        <p:spPr>
          <a:xfrm>
            <a:off x="3854520" y="9442440"/>
            <a:ext cx="2949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7480"/>
                <a:tab algn="l" pos="4946760"/>
                <a:tab algn="l" pos="5397480"/>
                <a:tab algn="l" pos="5846760"/>
                <a:tab algn="l" pos="6296040"/>
                <a:tab algn="l" pos="6746760"/>
                <a:tab algn="l" pos="7196040"/>
                <a:tab algn="l" pos="7647120"/>
                <a:tab algn="l" pos="8096400"/>
                <a:tab algn="l" pos="8547120"/>
                <a:tab algn="l" pos="8996400"/>
                <a:tab algn="l" pos="9128160"/>
                <a:tab algn="l" pos="10040760"/>
                <a:tab algn="l" pos="10953720"/>
              </a:tabLst>
            </a:pPr>
            <a:fld id="{86D55D80-ED48-4EB3-9690-74069A97071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Freeform 1"/>
          <p:cNvSpPr/>
          <p:nvPr/>
        </p:nvSpPr>
        <p:spPr>
          <a:xfrm>
            <a:off x="955800" y="746280"/>
            <a:ext cx="4897440" cy="372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82200" y="4724280"/>
            <a:ext cx="54356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Arial Unicode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10"/>
          <p:cNvSpPr/>
          <p:nvPr/>
        </p:nvSpPr>
        <p:spPr>
          <a:xfrm>
            <a:off x="3854520" y="9442440"/>
            <a:ext cx="2949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7480"/>
                <a:tab algn="l" pos="4946760"/>
                <a:tab algn="l" pos="5397480"/>
                <a:tab algn="l" pos="5846760"/>
                <a:tab algn="l" pos="6296040"/>
                <a:tab algn="l" pos="6746760"/>
                <a:tab algn="l" pos="7196040"/>
                <a:tab algn="l" pos="7647120"/>
                <a:tab algn="l" pos="8096400"/>
                <a:tab algn="l" pos="8547120"/>
                <a:tab algn="l" pos="8996400"/>
                <a:tab algn="l" pos="9128160"/>
                <a:tab algn="l" pos="10040760"/>
                <a:tab algn="l" pos="10953720"/>
              </a:tabLst>
            </a:pPr>
            <a:fld id="{E2E47882-539D-4C87-97EA-9682B92024E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Freeform 1"/>
          <p:cNvSpPr/>
          <p:nvPr/>
        </p:nvSpPr>
        <p:spPr>
          <a:xfrm>
            <a:off x="955800" y="746280"/>
            <a:ext cx="4897440" cy="372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682560" y="4723920"/>
            <a:ext cx="5440320" cy="987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lgeria, Egypt, Jordan, Lebanon, Morocc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Syria, Tunisia, WB&amp;GS) and Israel (eligi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regional cooperation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10"/>
          <p:cNvSpPr/>
          <p:nvPr/>
        </p:nvSpPr>
        <p:spPr>
          <a:xfrm>
            <a:off x="3854520" y="9442440"/>
            <a:ext cx="2949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7480"/>
                <a:tab algn="l" pos="4946760"/>
                <a:tab algn="l" pos="5397480"/>
                <a:tab algn="l" pos="5846760"/>
                <a:tab algn="l" pos="6296040"/>
                <a:tab algn="l" pos="6746760"/>
                <a:tab algn="l" pos="7196040"/>
                <a:tab algn="l" pos="7647120"/>
                <a:tab algn="l" pos="8096400"/>
                <a:tab algn="l" pos="8547120"/>
                <a:tab algn="l" pos="8996400"/>
                <a:tab algn="l" pos="9128160"/>
                <a:tab algn="l" pos="10040760"/>
                <a:tab algn="l" pos="10953720"/>
              </a:tabLst>
            </a:pPr>
            <a:fld id="{4E3E606C-671B-42CB-A04D-5A4DD3ECBBC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Freeform 1"/>
          <p:cNvSpPr/>
          <p:nvPr/>
        </p:nvSpPr>
        <p:spPr>
          <a:xfrm>
            <a:off x="955800" y="746280"/>
            <a:ext cx="4897440" cy="372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2200" y="4724280"/>
            <a:ext cx="54356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Arial Unicode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10"/>
          <p:cNvSpPr/>
          <p:nvPr/>
        </p:nvSpPr>
        <p:spPr>
          <a:xfrm>
            <a:off x="3854520" y="9442440"/>
            <a:ext cx="2949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7480"/>
                <a:tab algn="l" pos="4946760"/>
                <a:tab algn="l" pos="5397480"/>
                <a:tab algn="l" pos="5846760"/>
                <a:tab algn="l" pos="6296040"/>
                <a:tab algn="l" pos="6746760"/>
                <a:tab algn="l" pos="7196040"/>
                <a:tab algn="l" pos="7647120"/>
                <a:tab algn="l" pos="8096400"/>
                <a:tab algn="l" pos="8547120"/>
                <a:tab algn="l" pos="8996400"/>
                <a:tab algn="l" pos="9128160"/>
                <a:tab algn="l" pos="10040760"/>
                <a:tab algn="l" pos="10953720"/>
              </a:tabLst>
            </a:pPr>
            <a:fld id="{C7989B90-FCB2-4305-B3DB-31A108A1BBD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Freeform 1"/>
          <p:cNvSpPr/>
          <p:nvPr/>
        </p:nvSpPr>
        <p:spPr>
          <a:xfrm>
            <a:off x="955800" y="746280"/>
            <a:ext cx="4897440" cy="372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82560" y="4723920"/>
            <a:ext cx="544032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The application of the five principles of the Paris Declaration (ownership, harmonisation, alignment, mutual accountability and results based management) has benefited from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upportDespite in-country differences, Budget Support financial flows have increased throughout the evaluation period in both absolute and relative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ar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10"/>
          <p:cNvSpPr/>
          <p:nvPr/>
        </p:nvSpPr>
        <p:spPr>
          <a:xfrm>
            <a:off x="3854520" y="9442440"/>
            <a:ext cx="2949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7480"/>
                <a:tab algn="l" pos="4946760"/>
                <a:tab algn="l" pos="5397480"/>
                <a:tab algn="l" pos="5846760"/>
                <a:tab algn="l" pos="6296040"/>
                <a:tab algn="l" pos="6746760"/>
                <a:tab algn="l" pos="7196040"/>
                <a:tab algn="l" pos="7647120"/>
                <a:tab algn="l" pos="8096400"/>
                <a:tab algn="l" pos="8547120"/>
                <a:tab algn="l" pos="8996400"/>
                <a:tab algn="l" pos="9128160"/>
                <a:tab algn="l" pos="10040760"/>
                <a:tab algn="l" pos="10953720"/>
              </a:tabLst>
            </a:pPr>
            <a:fld id="{95C84AF8-0B43-49E9-A40A-A731331E878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Freeform 1"/>
          <p:cNvSpPr/>
          <p:nvPr/>
        </p:nvSpPr>
        <p:spPr>
          <a:xfrm>
            <a:off x="955800" y="746280"/>
            <a:ext cx="4897440" cy="372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2200" y="4724280"/>
            <a:ext cx="54356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10"/>
          <p:cNvSpPr/>
          <p:nvPr/>
        </p:nvSpPr>
        <p:spPr>
          <a:xfrm>
            <a:off x="3854520" y="9442440"/>
            <a:ext cx="2949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7480"/>
                <a:tab algn="l" pos="4946760"/>
                <a:tab algn="l" pos="5397480"/>
                <a:tab algn="l" pos="5846760"/>
                <a:tab algn="l" pos="6296040"/>
                <a:tab algn="l" pos="6746760"/>
                <a:tab algn="l" pos="7196040"/>
                <a:tab algn="l" pos="7647120"/>
                <a:tab algn="l" pos="8096400"/>
                <a:tab algn="l" pos="8547120"/>
                <a:tab algn="l" pos="8996400"/>
                <a:tab algn="l" pos="9128160"/>
                <a:tab algn="l" pos="10040760"/>
                <a:tab algn="l" pos="10953720"/>
              </a:tabLst>
            </a:pPr>
            <a:fld id="{ACFB039E-181F-411B-9FE4-4248C9A474D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Freeform 1"/>
          <p:cNvSpPr/>
          <p:nvPr/>
        </p:nvSpPr>
        <p:spPr>
          <a:xfrm>
            <a:off x="955800" y="746280"/>
            <a:ext cx="4897440" cy="372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82200" y="4724280"/>
            <a:ext cx="54356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10"/>
          <p:cNvSpPr/>
          <p:nvPr/>
        </p:nvSpPr>
        <p:spPr>
          <a:xfrm>
            <a:off x="3854520" y="9442440"/>
            <a:ext cx="2949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7480"/>
                <a:tab algn="l" pos="4946760"/>
                <a:tab algn="l" pos="5397480"/>
                <a:tab algn="l" pos="5846760"/>
                <a:tab algn="l" pos="6296040"/>
                <a:tab algn="l" pos="6746760"/>
                <a:tab algn="l" pos="7196040"/>
                <a:tab algn="l" pos="7647120"/>
                <a:tab algn="l" pos="8096400"/>
                <a:tab algn="l" pos="8547120"/>
                <a:tab algn="l" pos="8996400"/>
                <a:tab algn="l" pos="9128160"/>
                <a:tab algn="l" pos="10040760"/>
                <a:tab algn="l" pos="10953720"/>
              </a:tabLst>
            </a:pPr>
            <a:fld id="{B1C8B616-C166-4100-BEEC-EDE4EDBF159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Freeform 1"/>
          <p:cNvSpPr/>
          <p:nvPr/>
        </p:nvSpPr>
        <p:spPr>
          <a:xfrm>
            <a:off x="976320" y="723960"/>
            <a:ext cx="4896000" cy="372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682200" y="4724280"/>
            <a:ext cx="54356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10"/>
          <p:cNvSpPr/>
          <p:nvPr/>
        </p:nvSpPr>
        <p:spPr>
          <a:xfrm>
            <a:off x="3854520" y="9442440"/>
            <a:ext cx="2949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7840"/>
                <a:tab algn="l" pos="179712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7480"/>
                <a:tab algn="l" pos="4946760"/>
                <a:tab algn="l" pos="5397480"/>
                <a:tab algn="l" pos="5846760"/>
                <a:tab algn="l" pos="6296040"/>
                <a:tab algn="l" pos="6746760"/>
                <a:tab algn="l" pos="7196040"/>
                <a:tab algn="l" pos="7647120"/>
                <a:tab algn="l" pos="8096400"/>
                <a:tab algn="l" pos="8547120"/>
                <a:tab algn="l" pos="8996400"/>
                <a:tab algn="l" pos="9128160"/>
                <a:tab algn="l" pos="10040760"/>
                <a:tab algn="l" pos="10953720"/>
              </a:tabLst>
            </a:pPr>
            <a:fld id="{C17D94F2-EF5F-46F9-A211-BA434B596F7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Freeform 1"/>
          <p:cNvSpPr/>
          <p:nvPr/>
        </p:nvSpPr>
        <p:spPr>
          <a:xfrm>
            <a:off x="955800" y="746280"/>
            <a:ext cx="4897440" cy="372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682560" y="4723920"/>
            <a:ext cx="5440320" cy="21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Tunesia: Strong Opportunity Framework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:  There was a very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strong government commitment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towards stabilisation and growth policy and support to the private sector, and a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framework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covering a wide EU/Tunesian Association Agreement including trade and economic integration poli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F834-BCAB-4D0F-A952-01F98EE8B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B96D-4A76-4EF3-A132-58735FD2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65B7-13B3-4D74-9278-DF66F4758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F0BC-3D8C-4C4B-9CA4-2B03FBAA7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E44D-C180-430B-A3F3-287E3F7A9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FE29-28E4-4EF0-8542-705002D8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9541-EE35-4415-AAB5-3BEE8A3B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8B4E-098B-41A0-9AFA-39414778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4D6D-8931-4515-BCBF-289D5E70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5D8B-A018-4DF2-BD24-81E062B9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1821-6B54-44E8-88E0-55BA350C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765D-A7D3-4EE1-9386-D10A71B2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611A-C6A6-4A3F-B13D-E27BF557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DBBF-C493-4829-AEBE-131EE127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41C5-AB3E-46B3-8558-5568B908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3FE9-BBA5-413C-A7A1-045CAFE67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4183-642F-4E03-A23A-B31B0509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5A448-8004-434F-9DDD-B34CEBF67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466D9-4966-47CE-96E9-182B5A3F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511BC-0AB0-4F3C-9A0C-3E406FDA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72F9E-0E61-4DD6-93A3-466C03D1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F239A-1130-47B0-8108-970EBD46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AB0C-467E-4846-913F-98DA1C6A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E5D25-ACA6-4A62-9E42-F6276648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C8031-20BA-4353-9265-E533DAC3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765DC-EA36-422A-ABC5-B6FA29CC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16ABE-193D-44B4-827D-EEA74E44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74FEF-969F-4D43-A3EE-4E5318EA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C40BC-A41D-49CA-98BF-AFD415D21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E7172-C7E8-427E-9A39-E4D4C0014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0678-D195-4077-8F0D-CCA140F2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F110-8BE3-44DA-B817-7E44FE25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15ED-DEBB-4929-A002-278AAD5D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08B2-4162-42D7-8E56-041D8936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E76C-56FF-4FD5-B931-74C868BA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B08E-ACB6-44A3-AE39-0C96CACC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37EA-A28D-4E6B-BC50-EFD47D65FD91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outlin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1" marL="343080" indent="-343080">
              <a:spcBef>
                <a:spcPts val="224"/>
              </a:spcBef>
              <a:buClr>
                <a:srgbClr val="009fb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con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2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Thir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3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our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4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if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5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ix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6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ven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outlin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1" marL="343080" indent="-343080">
              <a:spcBef>
                <a:spcPts val="224"/>
              </a:spcBef>
              <a:buClr>
                <a:srgbClr val="009fb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con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2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Thir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3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our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4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if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5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ix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6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ven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DFCB-520B-4CDB-8D0B-BC4590E43EE9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0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Click to edit the outline text format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1" marL="343080" indent="-343080">
              <a:spcBef>
                <a:spcPts val="224"/>
              </a:spcBef>
              <a:buClr>
                <a:srgbClr val="009fb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con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2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Third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3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our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4" marL="343080" indent="-343080">
              <a:spcBef>
                <a:spcPts val="224"/>
              </a:spcBef>
              <a:buClr>
                <a:srgbClr val="0f549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Fif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5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ix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  <a:p>
            <a:pPr lvl="6" marL="343080" indent="-343080">
              <a:spcBef>
                <a:spcPts val="224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Garamond"/>
              </a:rPr>
              <a:t>Seventh Outline Level</a:t>
            </a:r>
            <a:endParaRPr b="1" lang="en-US" sz="18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09/27/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1BE3-4969-4666-9CA4-DD391030AEFD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3186000" y="2276640"/>
            <a:ext cx="5778720" cy="388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344760" y="2349000"/>
            <a:ext cx="52228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r">
              <a:lnSpc>
                <a:spcPct val="105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Garamond"/>
              </a:rPr>
              <a:t>Evaluation of Budget support:</a:t>
            </a:r>
            <a:br>
              <a:rPr sz="3000"/>
            </a:br>
            <a:r>
              <a:rPr b="1" i="1" lang="en-GB" sz="3000" spc="-1" strike="noStrike">
                <a:solidFill>
                  <a:srgbClr val="333399"/>
                </a:solidFill>
                <a:latin typeface="Garamond"/>
              </a:rPr>
              <a:t> Results of  Three Pilot Cases</a:t>
            </a:r>
            <a:endParaRPr b="1" lang="en-US" sz="30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419640" y="4076280"/>
            <a:ext cx="5148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 indent="0" algn="r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Garamond"/>
              </a:rPr>
              <a:t>Juergen Lovasz, DEVCO 08</a:t>
            </a: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 indent="0" algn="r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Garamond"/>
              </a:rPr>
              <a:t>July 2014</a:t>
            </a: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 indent="0" algn="r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reeform 1"/>
          <p:cNvSpPr/>
          <p:nvPr/>
        </p:nvSpPr>
        <p:spPr>
          <a:xfrm>
            <a:off x="250920" y="1465200"/>
            <a:ext cx="7921440" cy="1068840"/>
          </a:xfrm>
          <a:prstGeom prst="pie">
            <a:avLst/>
          </a:prstGeom>
          <a:solidFill>
            <a:srgbClr val="d6ec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Arial Narrow"/>
                <a:ea typeface="Arial Unicode MS"/>
              </a:rPr>
              <a:t>BS contribution to growth and social policies improved income and non-income poverty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Freeform 2"/>
          <p:cNvSpPr/>
          <p:nvPr/>
        </p:nvSpPr>
        <p:spPr>
          <a:xfrm>
            <a:off x="360360" y="3240000"/>
            <a:ext cx="8099280" cy="3385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But</a:t>
            </a: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f5494"/>
                </a:solidFill>
                <a:latin typeface="Arial Narrow"/>
                <a:ea typeface="Arial Unicode MS"/>
              </a:rPr>
              <a:t>Rural poverty has not been tackled adequately by government (Zambia)</a:t>
            </a: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75888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202" name="Freeform 5"/>
            <p:cNvSpPr/>
            <p:nvPr/>
          </p:nvSpPr>
          <p:spPr>
            <a:xfrm>
              <a:off x="8783640" y="0"/>
              <a:ext cx="360360" cy="6858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grpSp>
          <p:nvGrpSpPr>
            <p:cNvPr id="203" name="Group 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204" name="Freeform 7"/>
              <p:cNvSpPr/>
              <p:nvPr/>
            </p:nvSpPr>
            <p:spPr>
              <a:xfrm>
                <a:off x="8294760" y="161928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05" name="Freeform 8"/>
              <p:cNvSpPr/>
              <p:nvPr/>
            </p:nvSpPr>
            <p:spPr>
              <a:xfrm>
                <a:off x="8294760" y="115092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06" name="Freeform 9"/>
              <p:cNvSpPr/>
              <p:nvPr/>
            </p:nvSpPr>
            <p:spPr>
              <a:xfrm>
                <a:off x="8294760" y="68256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</p:grpSp>
      <p:sp>
        <p:nvSpPr>
          <p:cNvPr id="207" name="Freeform 10"/>
          <p:cNvSpPr/>
          <p:nvPr/>
        </p:nvSpPr>
        <p:spPr>
          <a:xfrm>
            <a:off x="2556000" y="101520"/>
            <a:ext cx="3109680" cy="581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Main findings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reeform 1"/>
          <p:cNvSpPr/>
          <p:nvPr/>
        </p:nvSpPr>
        <p:spPr>
          <a:xfrm>
            <a:off x="1284120" y="1689120"/>
            <a:ext cx="6050160" cy="581400"/>
          </a:xfrm>
          <a:prstGeom prst="pie">
            <a:avLst/>
          </a:prstGeom>
          <a:solidFill>
            <a:srgbClr val="d6ec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Key Lessons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Freeform 2"/>
          <p:cNvSpPr/>
          <p:nvPr/>
        </p:nvSpPr>
        <p:spPr>
          <a:xfrm>
            <a:off x="324000" y="2276640"/>
            <a:ext cx="7970760" cy="56192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0f549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BS is an effective tool in a country with robust policie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0f549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BS cannot determine major policy changes but can provide sound support for policy reforms, that is not possible with only project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0f549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BS is more beneficial with high degree of harmonisation and alignment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0f549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BS is strengthened and multiplied when it is linked to wider political and economic partnership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0f549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0f549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758880"/>
          </a:xfrm>
          <a:prstGeom prst="rect">
            <a:avLst/>
          </a:prstGeom>
          <a:ln w="0">
            <a:noFill/>
          </a:ln>
        </p:spPr>
      </p:pic>
      <p:grpSp>
        <p:nvGrpSpPr>
          <p:cNvPr id="211" name="Group 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212" name="Freeform 5"/>
            <p:cNvSpPr/>
            <p:nvPr/>
          </p:nvSpPr>
          <p:spPr>
            <a:xfrm>
              <a:off x="8783640" y="0"/>
              <a:ext cx="360360" cy="6858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grpSp>
          <p:nvGrpSpPr>
            <p:cNvPr id="213" name="Group 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214" name="Freeform 7"/>
              <p:cNvSpPr/>
              <p:nvPr/>
            </p:nvSpPr>
            <p:spPr>
              <a:xfrm>
                <a:off x="8294760" y="161928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15" name="Freeform 8"/>
              <p:cNvSpPr/>
              <p:nvPr/>
            </p:nvSpPr>
            <p:spPr>
              <a:xfrm>
                <a:off x="8294760" y="115092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16" name="Freeform 9"/>
              <p:cNvSpPr/>
              <p:nvPr/>
            </p:nvSpPr>
            <p:spPr>
              <a:xfrm>
                <a:off x="8294760" y="68256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reeform 1"/>
          <p:cNvSpPr/>
          <p:nvPr/>
        </p:nvSpPr>
        <p:spPr>
          <a:xfrm>
            <a:off x="1440000" y="1293840"/>
            <a:ext cx="5976720" cy="581400"/>
          </a:xfrm>
          <a:prstGeom prst="pie">
            <a:avLst/>
          </a:prstGeom>
          <a:solidFill>
            <a:srgbClr val="d6ec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Cont.: Key Lessons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Freeform 2"/>
          <p:cNvSpPr/>
          <p:nvPr/>
        </p:nvSpPr>
        <p:spPr>
          <a:xfrm>
            <a:off x="324000" y="1884240"/>
            <a:ext cx="8208720" cy="47991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0f549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BS has been an instrument conducive to increasing transparency and accountability of budget processes and public expenditure management and may be used to support anti-corruption policie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0f549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BS benefits if it is complementary with other forms of aid, especially for capacity building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0f549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The choices between GBS and SBS should be flexible and based on the context.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0f549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Improved documented policy dialogue, data production and policy assessments of development results is required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75888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221" name="Freeform 5"/>
            <p:cNvSpPr/>
            <p:nvPr/>
          </p:nvSpPr>
          <p:spPr>
            <a:xfrm>
              <a:off x="8783640" y="0"/>
              <a:ext cx="360360" cy="6858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grpSp>
          <p:nvGrpSpPr>
            <p:cNvPr id="222" name="Group 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223" name="Freeform 7"/>
              <p:cNvSpPr/>
              <p:nvPr/>
            </p:nvSpPr>
            <p:spPr>
              <a:xfrm>
                <a:off x="8294760" y="161928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24" name="Freeform 8"/>
              <p:cNvSpPr/>
              <p:nvPr/>
            </p:nvSpPr>
            <p:spPr>
              <a:xfrm>
                <a:off x="8294760" y="115092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25" name="Freeform 9"/>
              <p:cNvSpPr/>
              <p:nvPr/>
            </p:nvSpPr>
            <p:spPr>
              <a:xfrm>
                <a:off x="8294760" y="68256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ZoneTexte 2"/>
          <p:cNvSpPr/>
          <p:nvPr/>
        </p:nvSpPr>
        <p:spPr>
          <a:xfrm>
            <a:off x="1332000" y="2637000"/>
            <a:ext cx="670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THANK YOU!</a:t>
            </a:r>
            <a:endParaRPr b="0" lang="en-US" sz="6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690120"/>
            <a:ext cx="785988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fr-BE" sz="3600" spc="-1" strike="noStrike">
                <a:solidFill>
                  <a:srgbClr val="0f5494"/>
                </a:solidFill>
                <a:latin typeface="Garamond"/>
              </a:rPr>
              <a:t>Tunisia</a:t>
            </a:r>
            <a:endParaRPr b="1" lang="en-US" sz="36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218440" cy="37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103c72"/>
              </a:buClr>
              <a:buFont typeface="Times New Roman"/>
              <a:buChar char="•"/>
              <a:tabLst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  <a:ea typeface="Lucida Sans Unicode"/>
              </a:rPr>
              <a:t>7 out of 12 operations financed by the European Commission over the period 1996-2009.</a:t>
            </a: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103c72"/>
              </a:buClr>
              <a:buFont typeface="Times New Roman"/>
              <a:buChar char="•"/>
              <a:tabLst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  <a:ea typeface="Lucida Sans Unicode"/>
              </a:rPr>
              <a:t>Four GBS and three SBS, covering secondary and tertiary education and vocational / educational training</a:t>
            </a: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103c72"/>
              </a:buClr>
              <a:buFont typeface="Times New Roman"/>
              <a:buChar char="•"/>
              <a:tabLst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  <a:ea typeface="Lucida Sans Unicode"/>
              </a:rPr>
              <a:t>GBS: European Commission, World Bank, AfDB</a:t>
            </a: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103c72"/>
              </a:buClr>
              <a:buFont typeface="Times New Roman"/>
              <a:buChar char="•"/>
              <a:tabLst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  <a:ea typeface="Lucida Sans Unicode"/>
              </a:rPr>
              <a:t>SBS: European Commission</a:t>
            </a: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6840" y="1773000"/>
            <a:ext cx="77151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103c72"/>
              </a:buClr>
              <a:buFont typeface="Times New Roman"/>
              <a:buChar char="•"/>
              <a:tabLst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  <a:ea typeface="Lucida Sans Unicode"/>
              </a:rPr>
              <a:t>32 out of 33 operations financed by 11 donors over the period 2003-09,</a:t>
            </a: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103c72"/>
              </a:buClr>
              <a:buFont typeface="Times New Roman"/>
              <a:buChar char="•"/>
              <a:tabLst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  <a:ea typeface="Lucida Sans Unicode"/>
              </a:rPr>
              <a:t>GBS: AfDB, WB-IDA, Canada, Denmark, European Commission, France, Netherland, Sweden</a:t>
            </a: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103c72"/>
              </a:buClr>
              <a:buFont typeface="Times New Roman"/>
              <a:buChar char="•"/>
              <a:tabLst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  <a:ea typeface="Lucida Sans Unicode"/>
              </a:rPr>
              <a:t>SBS - PFM: Canada.</a:t>
            </a: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103c72"/>
              </a:buClr>
              <a:buFont typeface="Times New Roman"/>
              <a:buChar char="•"/>
              <a:tabLst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  <a:ea typeface="Lucida Sans Unicode"/>
              </a:rPr>
              <a:t>SBS – social sectors: Belgium, Canada, France, The Netherlands, Sweden-Norway, Spain</a:t>
            </a: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5494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103c72"/>
              </a:buClr>
              <a:buFont typeface="Times New Roman"/>
              <a:buChar char="•"/>
              <a:tabLst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103c72"/>
                </a:solidFill>
                <a:latin typeface="Verdana"/>
                <a:ea typeface="Lucida Sans Unicode"/>
              </a:rPr>
              <a:t>SBS – decentralisation: EC</a:t>
            </a:r>
            <a:endParaRPr b="1" lang="en-US" sz="26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45" name="Freeform 2"/>
          <p:cNvSpPr/>
          <p:nvPr/>
        </p:nvSpPr>
        <p:spPr>
          <a:xfrm>
            <a:off x="1187280" y="549360"/>
            <a:ext cx="4176720" cy="1312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0082c8"/>
                </a:solidFill>
                <a:latin typeface="Verdana"/>
                <a:ea typeface="Arial Unicode MS"/>
              </a:rPr>
              <a:t>    </a:t>
            </a:r>
            <a:r>
              <a:rPr b="1" lang="fr-BE" sz="4000" spc="-1" strike="noStrike">
                <a:solidFill>
                  <a:srgbClr val="0082c8"/>
                </a:solidFill>
                <a:latin typeface="Verdana"/>
                <a:ea typeface="Arial Unicode MS"/>
              </a:rPr>
              <a:t>Mali</a:t>
            </a:r>
            <a:endParaRPr b="0" lang="en-US" sz="4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698840"/>
            <a:ext cx="7642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f5494"/>
                </a:solidFill>
                <a:latin typeface="Garamond"/>
              </a:rPr>
              <a:t>Zambia</a:t>
            </a:r>
            <a:endParaRPr b="1" lang="en-US" sz="3200" spc="-1" strike="noStrike">
              <a:solidFill>
                <a:srgbClr val="0f5494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4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103c72"/>
              </a:buClr>
              <a:buFont typeface="Times New Roman"/>
              <a:buChar char="•"/>
              <a:tabLst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  <a:ea typeface="Lucida Sans Unicode"/>
              </a:rPr>
              <a:t>Poverty Reduction Strategy Budget Support and 3 Sector Budget Support (roads, public financial management, health) over the period 2002-2009</a:t>
            </a: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103c72"/>
              </a:buClr>
              <a:buFont typeface="Times New Roman"/>
              <a:buChar char="•"/>
              <a:tabLst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  <a:ea typeface="Lucida Sans Unicode"/>
              </a:rPr>
              <a:t>PRSBS: European Commission, Finland, Germany, The Netherlands, Norway, Sweden and United Kingdom</a:t>
            </a: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103c72"/>
              </a:buClr>
              <a:buFont typeface="Times New Roman"/>
              <a:buChar char="•"/>
              <a:tabLst>
                <a:tab algn="l" pos="3412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  <a:ea typeface="Lucida Sans Unicode"/>
              </a:rPr>
              <a:t>SBS: European Commission and United Kingdom</a:t>
            </a:r>
            <a:endParaRPr b="1" lang="en-US" sz="2400" spc="-1" strike="noStrike">
              <a:solidFill>
                <a:srgbClr val="0f5494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reeform 1"/>
          <p:cNvSpPr/>
          <p:nvPr/>
        </p:nvSpPr>
        <p:spPr>
          <a:xfrm>
            <a:off x="250920" y="765000"/>
            <a:ext cx="7921440" cy="1068840"/>
          </a:xfrm>
          <a:prstGeom prst="pie">
            <a:avLst/>
          </a:prstGeom>
          <a:solidFill>
            <a:srgbClr val="d6ec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Contribution of Budget Support to the aid framework and partner country policies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Freeform 2"/>
          <p:cNvSpPr/>
          <p:nvPr/>
        </p:nvSpPr>
        <p:spPr>
          <a:xfrm>
            <a:off x="324000" y="2276640"/>
            <a:ext cx="8281800" cy="4412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f5494"/>
                </a:solidFill>
                <a:latin typeface="Arial Black"/>
                <a:ea typeface="Arial Unicode MS"/>
              </a:rPr>
              <a:t>Contribution to the implementation of the Paris Declaration and AAA</a:t>
            </a: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f5494"/>
                </a:solidFill>
                <a:latin typeface="Arial Black"/>
                <a:ea typeface="Arial Unicode MS"/>
              </a:rPr>
              <a:t>Increased financial resources and strengthened budget management</a:t>
            </a: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f5494"/>
                </a:solidFill>
                <a:latin typeface="Arial Black"/>
                <a:ea typeface="Arial Unicode MS"/>
              </a:rPr>
              <a:t>Adapted design, positive dialogue frameworks and diversified use of TA</a:t>
            </a: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f5494"/>
                </a:solidFill>
                <a:latin typeface="Arial Black"/>
                <a:ea typeface="Arial Unicode MS"/>
              </a:rPr>
              <a:t> </a:t>
            </a: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75888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152" name="Freeform 5"/>
            <p:cNvSpPr/>
            <p:nvPr/>
          </p:nvSpPr>
          <p:spPr>
            <a:xfrm>
              <a:off x="8783640" y="0"/>
              <a:ext cx="360360" cy="6858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grpSp>
          <p:nvGrpSpPr>
            <p:cNvPr id="153" name="Group 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154" name="Freeform 7"/>
              <p:cNvSpPr/>
              <p:nvPr/>
            </p:nvSpPr>
            <p:spPr>
              <a:xfrm>
                <a:off x="8294760" y="161928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55" name="Freeform 8"/>
              <p:cNvSpPr/>
              <p:nvPr/>
            </p:nvSpPr>
            <p:spPr>
              <a:xfrm>
                <a:off x="8294760" y="115092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56" name="Freeform 9"/>
              <p:cNvSpPr/>
              <p:nvPr/>
            </p:nvSpPr>
            <p:spPr>
              <a:xfrm>
                <a:off x="8294760" y="68256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</p:grpSp>
      <p:sp>
        <p:nvSpPr>
          <p:cNvPr id="157" name="Freeform 10"/>
          <p:cNvSpPr/>
          <p:nvPr/>
        </p:nvSpPr>
        <p:spPr>
          <a:xfrm>
            <a:off x="2556000" y="101520"/>
            <a:ext cx="3109680" cy="581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Main findings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reeform 1"/>
          <p:cNvSpPr/>
          <p:nvPr/>
        </p:nvSpPr>
        <p:spPr>
          <a:xfrm>
            <a:off x="250920" y="1181160"/>
            <a:ext cx="7921440" cy="581400"/>
          </a:xfrm>
          <a:prstGeom prst="pie">
            <a:avLst/>
          </a:prstGeom>
          <a:solidFill>
            <a:srgbClr val="d6ec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But </a:t>
            </a:r>
            <a:r>
              <a:rPr b="0" lang="en-GB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...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Freeform 2"/>
          <p:cNvSpPr/>
          <p:nvPr/>
        </p:nvSpPr>
        <p:spPr>
          <a:xfrm>
            <a:off x="287280" y="2060640"/>
            <a:ext cx="8172360" cy="4443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Although harmonisation and alignment improved, they are far from completed</a:t>
            </a:r>
            <a:r>
              <a:rPr b="1" lang="en-GB" sz="40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 :</a:t>
            </a:r>
            <a:endParaRPr b="0" lang="en-US" sz="4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 </a:t>
            </a:r>
            <a:r>
              <a:rPr b="1" lang="fr-FR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ill coordinated sector interventions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 </a:t>
            </a:r>
            <a:r>
              <a:rPr b="1" lang="en-GB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unrealistic PAF conditions and targets     (donor driven indicators)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 </a:t>
            </a:r>
            <a:r>
              <a:rPr b="1" lang="en-GB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multiplication of coordination structures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7588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162" name="Freeform 5"/>
            <p:cNvSpPr/>
            <p:nvPr/>
          </p:nvSpPr>
          <p:spPr>
            <a:xfrm>
              <a:off x="8783640" y="0"/>
              <a:ext cx="360360" cy="6858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grpSp>
          <p:nvGrpSpPr>
            <p:cNvPr id="163" name="Group 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164" name="Freeform 7"/>
              <p:cNvSpPr/>
              <p:nvPr/>
            </p:nvSpPr>
            <p:spPr>
              <a:xfrm>
                <a:off x="8294760" y="161928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65" name="Freeform 8"/>
              <p:cNvSpPr/>
              <p:nvPr/>
            </p:nvSpPr>
            <p:spPr>
              <a:xfrm>
                <a:off x="8294760" y="115092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66" name="Freeform 9"/>
              <p:cNvSpPr/>
              <p:nvPr/>
            </p:nvSpPr>
            <p:spPr>
              <a:xfrm>
                <a:off x="8294760" y="68256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</p:grpSp>
      <p:sp>
        <p:nvSpPr>
          <p:cNvPr id="167" name="Freeform 10"/>
          <p:cNvSpPr/>
          <p:nvPr/>
        </p:nvSpPr>
        <p:spPr>
          <a:xfrm>
            <a:off x="2556000" y="101520"/>
            <a:ext cx="3109680" cy="581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Main findings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reeform 1"/>
          <p:cNvSpPr/>
          <p:nvPr/>
        </p:nvSpPr>
        <p:spPr>
          <a:xfrm>
            <a:off x="250920" y="1324080"/>
            <a:ext cx="7921440" cy="1068840"/>
          </a:xfrm>
          <a:prstGeom prst="pie">
            <a:avLst/>
          </a:prstGeom>
          <a:solidFill>
            <a:srgbClr val="d6ec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BS increased discretionary expenditure and allocation to targeted sectors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Freeform 2"/>
          <p:cNvSpPr/>
          <p:nvPr/>
        </p:nvSpPr>
        <p:spPr>
          <a:xfrm>
            <a:off x="324000" y="2637000"/>
            <a:ext cx="8135640" cy="3957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And</a:t>
            </a: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Effective support to implementation of Public Financial Management &amp; other reforms when government and society are committed:</a:t>
            </a: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Budget Support cannot buy reforms</a:t>
            </a: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7588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172" name="Freeform 5"/>
            <p:cNvSpPr/>
            <p:nvPr/>
          </p:nvSpPr>
          <p:spPr>
            <a:xfrm>
              <a:off x="8783640" y="0"/>
              <a:ext cx="360360" cy="6858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grpSp>
          <p:nvGrpSpPr>
            <p:cNvPr id="173" name="Group 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174" name="Freeform 7"/>
              <p:cNvSpPr/>
              <p:nvPr/>
            </p:nvSpPr>
            <p:spPr>
              <a:xfrm>
                <a:off x="8294760" y="161928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75" name="Freeform 8"/>
              <p:cNvSpPr/>
              <p:nvPr/>
            </p:nvSpPr>
            <p:spPr>
              <a:xfrm>
                <a:off x="8294760" y="115092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76" name="Freeform 9"/>
              <p:cNvSpPr/>
              <p:nvPr/>
            </p:nvSpPr>
            <p:spPr>
              <a:xfrm>
                <a:off x="8294760" y="68256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</p:grpSp>
      <p:sp>
        <p:nvSpPr>
          <p:cNvPr id="177" name="Freeform 10"/>
          <p:cNvSpPr/>
          <p:nvPr/>
        </p:nvSpPr>
        <p:spPr>
          <a:xfrm>
            <a:off x="2556000" y="101520"/>
            <a:ext cx="3109680" cy="581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Main findings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1"/>
          <p:cNvSpPr/>
          <p:nvPr/>
        </p:nvSpPr>
        <p:spPr>
          <a:xfrm>
            <a:off x="430200" y="1763640"/>
            <a:ext cx="7921800" cy="1556280"/>
          </a:xfrm>
          <a:prstGeom prst="pie">
            <a:avLst/>
          </a:prstGeom>
          <a:solidFill>
            <a:srgbClr val="d6ec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f5494"/>
                </a:solidFill>
                <a:latin typeface="Arial Narrow"/>
                <a:ea typeface="Arial Unicode MS"/>
              </a:rPr>
              <a:t>BS increased public investment and reform implementation that  produced significant outcomes in education and health</a:t>
            </a:r>
            <a:r>
              <a:rPr b="0" lang="fr-FR" sz="3200" spc="-1" strike="noStrike">
                <a:solidFill>
                  <a:srgbClr val="0f5494"/>
                </a:solidFill>
                <a:latin typeface="Arial Narrow"/>
                <a:ea typeface="Arial Unicode MS"/>
              </a:rPr>
              <a:t>.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Freeform 2"/>
          <p:cNvSpPr/>
          <p:nvPr/>
        </p:nvSpPr>
        <p:spPr>
          <a:xfrm>
            <a:off x="324000" y="3645000"/>
            <a:ext cx="8135640" cy="28364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f5494"/>
                </a:solidFill>
                <a:latin typeface="Arial Narrow"/>
                <a:ea typeface="Arial Unicode MS"/>
              </a:rPr>
              <a:t>In the three countries, the reforms and related investments supported by higher levels of public expenditure produced significant outcomes and some measurable impacts as well</a:t>
            </a: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758880"/>
          </a:xfrm>
          <a:prstGeom prst="rect">
            <a:avLst/>
          </a:prstGeom>
          <a:ln w="0">
            <a:noFill/>
          </a:ln>
        </p:spPr>
      </p:pic>
      <p:grpSp>
        <p:nvGrpSpPr>
          <p:cNvPr id="181" name="Group 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182" name="Freeform 5"/>
            <p:cNvSpPr/>
            <p:nvPr/>
          </p:nvSpPr>
          <p:spPr>
            <a:xfrm>
              <a:off x="8783640" y="0"/>
              <a:ext cx="360360" cy="6858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grpSp>
          <p:nvGrpSpPr>
            <p:cNvPr id="183" name="Group 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184" name="Freeform 7"/>
              <p:cNvSpPr/>
              <p:nvPr/>
            </p:nvSpPr>
            <p:spPr>
              <a:xfrm>
                <a:off x="8294760" y="161928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85" name="Freeform 8"/>
              <p:cNvSpPr/>
              <p:nvPr/>
            </p:nvSpPr>
            <p:spPr>
              <a:xfrm>
                <a:off x="8294760" y="115092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86" name="Freeform 9"/>
              <p:cNvSpPr/>
              <p:nvPr/>
            </p:nvSpPr>
            <p:spPr>
              <a:xfrm>
                <a:off x="8294760" y="68256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</p:grpSp>
      <p:sp>
        <p:nvSpPr>
          <p:cNvPr id="187" name="Freeform 10"/>
          <p:cNvSpPr/>
          <p:nvPr/>
        </p:nvSpPr>
        <p:spPr>
          <a:xfrm>
            <a:off x="2556000" y="101520"/>
            <a:ext cx="3109680" cy="581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Main findings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reeform 1"/>
          <p:cNvSpPr/>
          <p:nvPr/>
        </p:nvSpPr>
        <p:spPr>
          <a:xfrm>
            <a:off x="250920" y="1125360"/>
            <a:ext cx="7921440" cy="1556280"/>
          </a:xfrm>
          <a:prstGeom prst="pie">
            <a:avLst/>
          </a:prstGeom>
          <a:solidFill>
            <a:srgbClr val="d6ec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BS contributed partly to sound macro economic policies, growth and private sector development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Freeform 2"/>
          <p:cNvSpPr/>
          <p:nvPr/>
        </p:nvSpPr>
        <p:spPr>
          <a:xfrm>
            <a:off x="360360" y="2852640"/>
            <a:ext cx="8099280" cy="4115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Arial Narrow"/>
                <a:ea typeface="Arial Unicode MS"/>
              </a:rPr>
              <a:t>Tunisia: “Strong Opportunity Framework” including BS contributed to growth and private sector development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Arial Narrow"/>
                <a:ea typeface="Arial Unicode MS"/>
              </a:rPr>
              <a:t>Mali/Zambia: While BS funds contributed to sound macro economic policies, other important factors (regional integration, export prices, debt relief, etc) also played an important role</a:t>
            </a:r>
            <a:r>
              <a:rPr b="1" lang="en-GB" sz="3600" spc="-1" strike="noStrike">
                <a:solidFill>
                  <a:srgbClr val="0f5494"/>
                </a:solidFill>
                <a:latin typeface="Arial Narrow"/>
                <a:ea typeface="Arial Unicode MS"/>
              </a:rPr>
              <a:t>  </a:t>
            </a: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f5494"/>
                </a:solidFill>
                <a:latin typeface="Arial Narrow"/>
                <a:ea typeface="Arial Unicode MS"/>
              </a:rPr>
              <a:t> </a:t>
            </a: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758880"/>
          </a:xfrm>
          <a:prstGeom prst="rect">
            <a:avLst/>
          </a:prstGeom>
          <a:ln w="0">
            <a:noFill/>
          </a:ln>
        </p:spPr>
      </p:pic>
      <p:grpSp>
        <p:nvGrpSpPr>
          <p:cNvPr id="191" name="Group 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192" name="Freeform 5"/>
            <p:cNvSpPr/>
            <p:nvPr/>
          </p:nvSpPr>
          <p:spPr>
            <a:xfrm>
              <a:off x="8783640" y="0"/>
              <a:ext cx="360360" cy="6858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grpSp>
          <p:nvGrpSpPr>
            <p:cNvPr id="193" name="Group 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194" name="Freeform 7"/>
              <p:cNvSpPr/>
              <p:nvPr/>
            </p:nvSpPr>
            <p:spPr>
              <a:xfrm>
                <a:off x="8294760" y="161928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95" name="Freeform 8"/>
              <p:cNvSpPr/>
              <p:nvPr/>
            </p:nvSpPr>
            <p:spPr>
              <a:xfrm>
                <a:off x="8294760" y="115092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96" name="Freeform 9"/>
              <p:cNvSpPr/>
              <p:nvPr/>
            </p:nvSpPr>
            <p:spPr>
              <a:xfrm>
                <a:off x="8294760" y="682560"/>
                <a:ext cx="863640" cy="28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</p:grpSp>
      <p:sp>
        <p:nvSpPr>
          <p:cNvPr id="197" name="Freeform 10"/>
          <p:cNvSpPr/>
          <p:nvPr/>
        </p:nvSpPr>
        <p:spPr>
          <a:xfrm>
            <a:off x="2556000" y="101520"/>
            <a:ext cx="3109680" cy="581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f5494"/>
                </a:solidFill>
                <a:latin typeface="Times New Roman"/>
                <a:ea typeface="Arial Unicode MS"/>
              </a:rPr>
              <a:t>Main findings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LOVASZ Juergen (DEVCO)</cp:lastModifiedBy>
  <cp:lastPrinted>2013-05-13T15:53:28Z</cp:lastPrinted>
  <dcterms:modified xsi:type="dcterms:W3CDTF">2014-07-03T10:35:41Z</dcterms:modified>
  <cp:revision>277</cp:revision>
  <dc:subject/>
  <dc:title>Slide 1</dc:title>
</cp:coreProperties>
</file>