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54160" y="-36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move the slide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944208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54160" y="944208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957CCE-18D3-4308-B08A-D942B65C728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588400AC-5750-457E-BC5A-83DAC1DAB6B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10"/>
          <p:cNvSpPr/>
          <p:nvPr/>
        </p:nvSpPr>
        <p:spPr>
          <a:xfrm>
            <a:off x="3852720" y="943920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F0409DD-7D32-4F98-813F-73418A38E98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0"/>
          <p:cNvSpPr/>
          <p:nvPr/>
        </p:nvSpPr>
        <p:spPr>
          <a:xfrm>
            <a:off x="3852720" y="943920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A16F747-7C64-49AD-85A6-1BF0CBD2F18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6761FB29-FD54-4F54-89DC-8FA0A7E0EE6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4D46AD5B-31B3-4A21-8BD9-7E4762FD4C9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2560" y="4723920"/>
            <a:ext cx="5440320" cy="987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lgeria, Egypt, Jordan, Lebanon, Morocc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yria, Tunisia, WB&amp;GS) and Israel (eligi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regional cooperation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7DD9B376-538D-4A0A-8DE0-110C8519547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494E9652-A241-4A76-9CBC-96F2725136C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2560" y="4723920"/>
            <a:ext cx="544032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 application of the five principles of the Paris Declaration (ownership, harmonisation, alignment, mutual accountability and results based management) has benefited from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Despite in-country differences, Budget Support financial flows have increased throughout the evaluation period in both absolute and relativ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1FA11176-E2F7-48AE-9E07-740256BDB12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23C4FA23-750D-43AC-8D60-9597F06D350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BA0E2114-D9FD-4226-9C2A-BD3211F145E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Freeform 1"/>
          <p:cNvSpPr/>
          <p:nvPr/>
        </p:nvSpPr>
        <p:spPr>
          <a:xfrm>
            <a:off x="976320" y="723960"/>
            <a:ext cx="489600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D4D8417A-2324-4C7C-B69C-F821EA689DF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2560" y="4723920"/>
            <a:ext cx="544032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Tunesia: Strong Opportunity Framework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:  There was a very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strong government commitment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towards stabilisation and growth policy and support to the private sector, and a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framework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covering a wide EU/Tunesian Association Agreement including trade and economic integration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1BB-D7FF-4E77-9C7D-DE295CEC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E06-10B7-4524-825A-2E978999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2C0-B36C-4A61-9881-D372A83B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00B-15FA-46E3-8C96-D83E2A2E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173C-7744-443C-8A7E-84A63736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5901-3440-4155-A8CF-33EF6839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0DB4-5C4E-4218-8CB9-04FE4599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C12C-DAFE-411E-9324-22C0B7D3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1C8D-18A4-48E0-A6B4-AD4E34C5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89C5-B759-4C9D-BE07-E175649C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91D8-00F2-4B6C-8F1A-4C00EC68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760-7F9B-4638-AE46-73ACA2BF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ADAD-3BCF-41C8-B70E-E0CD4463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4042-11FC-447E-810E-24D5DD85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2EBC-1F6F-48D8-A6B2-F3F584EB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7F7A-64B7-4310-BA3D-7EF321A3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C7F0-E422-4B1D-8581-FCBACBB2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0088F-E6AC-4FE1-855B-E9DB6DBF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91C57-9476-4671-98C4-E44459EB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FBBF-1A39-4355-8278-4F3B394A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6DFB2-0137-4EBF-B483-3B84B793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594A-7837-4DD5-B229-4BD9D11F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E892-3B3F-45D7-AA04-7DDC65DB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01DA5-B142-4D6A-8B97-AABAB242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CBED-34BF-4920-B4D5-1FC1D3B4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F6F6C-3F95-4607-B495-AF005D75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3FDF-DA8B-4931-B4F7-187143C6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49AEF-C165-4B43-BE0F-FD4136BF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BFA9-CA8E-4ACA-BCA0-DED9A7CC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8B7A-0A90-47F3-AC62-7C778588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5E5-E6C6-486C-8743-F6C4B9AD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79A-4BDF-4B9B-8F93-12F3CD9E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6D2-E774-438F-89DA-971819F1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6EB-E6AC-4F34-A45F-E8BE17D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0F0-599A-4754-B295-247AB3D3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7BA-4B43-4DD9-B352-F918303B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002A-2AB2-45DD-B8DF-7AAB39B66D16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7D0B-CD3B-4AF9-A7DA-3A6D5F7792C0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09/27/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2571-B83E-41E4-B755-0D635BAF1365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3186000" y="2276640"/>
            <a:ext cx="5778720" cy="38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44760" y="2349000"/>
            <a:ext cx="5222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r">
              <a:lnSpc>
                <a:spcPct val="105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Garamond"/>
              </a:rPr>
              <a:t>Evaluation of Budget support:</a:t>
            </a:r>
            <a:br>
              <a:rPr sz="3000"/>
            </a:br>
            <a:r>
              <a:rPr b="1" i="1" lang="en-GB" sz="3000" spc="-1" strike="noStrike">
                <a:solidFill>
                  <a:srgbClr val="333399"/>
                </a:solidFill>
                <a:latin typeface="Garamond"/>
              </a:rPr>
              <a:t> Results of  Three Pilot Cases</a:t>
            </a:r>
            <a:endParaRPr b="1" lang="en-US" sz="30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419640" y="4076280"/>
            <a:ext cx="5148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 algn="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Garamond"/>
              </a:rPr>
              <a:t>Juergen Lovasz, DEVCO 08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 algn="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Garamond"/>
              </a:rPr>
              <a:t>July 2014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 algn="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"/>
          <p:cNvSpPr/>
          <p:nvPr/>
        </p:nvSpPr>
        <p:spPr>
          <a:xfrm>
            <a:off x="250920" y="1465200"/>
            <a:ext cx="7921440" cy="106884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BS contribution to growth and social policies improved income and non-income poverty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reeform 2"/>
          <p:cNvSpPr/>
          <p:nvPr/>
        </p:nvSpPr>
        <p:spPr>
          <a:xfrm>
            <a:off x="360360" y="3240000"/>
            <a:ext cx="8099280" cy="3385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ut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Rural poverty has not been tackled adequately by government (Zambia)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20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20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20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1"/>
          <p:cNvSpPr/>
          <p:nvPr/>
        </p:nvSpPr>
        <p:spPr>
          <a:xfrm>
            <a:off x="1284120" y="1689120"/>
            <a:ext cx="6050160" cy="58140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Key Lesson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Freeform 2"/>
          <p:cNvSpPr/>
          <p:nvPr/>
        </p:nvSpPr>
        <p:spPr>
          <a:xfrm>
            <a:off x="324000" y="2276640"/>
            <a:ext cx="7970760" cy="56192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is an effective tool in a country with robust polici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cannot determine major policy changes but can provide sound support for policy reforms, that is not possible with only project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is more beneficial with high degree of harmonisation and align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is strengthened and multiplied when it is linked to wider political and economic partnership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21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21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21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1"/>
          <p:cNvSpPr/>
          <p:nvPr/>
        </p:nvSpPr>
        <p:spPr>
          <a:xfrm>
            <a:off x="1440000" y="1293840"/>
            <a:ext cx="5976720" cy="58140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Cont.: Key Lesson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Freeform 2"/>
          <p:cNvSpPr/>
          <p:nvPr/>
        </p:nvSpPr>
        <p:spPr>
          <a:xfrm>
            <a:off x="324000" y="1884240"/>
            <a:ext cx="8208720" cy="47991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has been an instrument conducive to increasing transparency and accountability of budget processes and public expenditure management and may be used to support anti-corruption polici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benefits if it is complementary with other forms of aid, especially for capacity building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The choices between GBS and SBS should be flexible and based on the context.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Improved documented policy dialogue, data production and policy assessments of development results is required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221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223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4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5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ZoneTexte 2"/>
          <p:cNvSpPr/>
          <p:nvPr/>
        </p:nvSpPr>
        <p:spPr>
          <a:xfrm>
            <a:off x="1332000" y="263700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THANK YOU!</a:t>
            </a:r>
            <a:endParaRPr b="0" lang="en-US" sz="6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690120"/>
            <a:ext cx="785988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BE" sz="3600" spc="-1" strike="noStrike">
                <a:solidFill>
                  <a:srgbClr val="0f5494"/>
                </a:solidFill>
                <a:latin typeface="Garamond"/>
              </a:rPr>
              <a:t>Tunisia</a:t>
            </a:r>
            <a:endParaRPr b="1" lang="en-US" sz="36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218440" cy="37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7 out of 12 operations financed by the European Commission over the period 1996-2009.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Four GBS and three SBS, covering secondary and tertiary education and vocational / educational training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GBS: European Commission, World Bank, AfDB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: European Commission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1773000"/>
            <a:ext cx="77151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32 out of 33 operations financed by 11 donors over the period 2003-09,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GBS: AfDB, WB-IDA, Canada, Denmark, European Commission, France, Netherland, Sweden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 - PFM: Canada.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 – social sectors: Belgium, Canada, France, The Netherlands, Sweden-Norway, Spain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 – decentralisation: EC</a:t>
            </a:r>
            <a:endParaRPr b="1" lang="en-US" sz="26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1187280" y="549360"/>
            <a:ext cx="4176720" cy="1312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0082c8"/>
                </a:solidFill>
                <a:latin typeface="Verdana"/>
                <a:ea typeface="Arial Unicode MS"/>
              </a:rPr>
              <a:t>    </a:t>
            </a:r>
            <a:r>
              <a:rPr b="1" lang="fr-BE" sz="4000" spc="-1" strike="noStrike">
                <a:solidFill>
                  <a:srgbClr val="0082c8"/>
                </a:solidFill>
                <a:latin typeface="Verdana"/>
                <a:ea typeface="Arial Unicode MS"/>
              </a:rPr>
              <a:t>Mali</a:t>
            </a:r>
            <a:endParaRPr b="0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698840"/>
            <a:ext cx="76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f5494"/>
                </a:solidFill>
                <a:latin typeface="Garamond"/>
              </a:rPr>
              <a:t>Zambia</a:t>
            </a:r>
            <a:endParaRPr b="1" lang="en-US" sz="32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Poverty Reduction Strategy Budget Support and 3 Sector Budget Support (roads, public financial management, health) over the period 2002-2009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PRSBS: European Commission, Finland, Germany, The Netherlands, Norway, Sweden and United Kingdom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: European Commission and United Kingdom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1"/>
          <p:cNvSpPr/>
          <p:nvPr/>
        </p:nvSpPr>
        <p:spPr>
          <a:xfrm>
            <a:off x="250920" y="765000"/>
            <a:ext cx="7921440" cy="106884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Contribution of Budget Support to the aid framework and partner country policie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24000" y="2276640"/>
            <a:ext cx="8281800" cy="4412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f5494"/>
                </a:solidFill>
                <a:latin typeface="Arial Black"/>
                <a:ea typeface="Arial Unicode MS"/>
              </a:rPr>
              <a:t>Contribution to the implementation of the Paris Declaration and AAA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f5494"/>
                </a:solidFill>
                <a:latin typeface="Arial Black"/>
                <a:ea typeface="Arial Unicode MS"/>
              </a:rPr>
              <a:t>Increased financial resources and strengthened budget management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f5494"/>
                </a:solidFill>
                <a:latin typeface="Arial Black"/>
                <a:ea typeface="Arial Unicode MS"/>
              </a:rPr>
              <a:t>Adapted design, positive dialogue frameworks and diversified use of TA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Arial Black"/>
                <a:ea typeface="Arial Unicode MS"/>
              </a:rPr>
              <a:t>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5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5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5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5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reeform 1"/>
          <p:cNvSpPr/>
          <p:nvPr/>
        </p:nvSpPr>
        <p:spPr>
          <a:xfrm>
            <a:off x="250920" y="1181160"/>
            <a:ext cx="7921440" cy="58140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ut </a:t>
            </a:r>
            <a:r>
              <a:rPr b="0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...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Freeform 2"/>
          <p:cNvSpPr/>
          <p:nvPr/>
        </p:nvSpPr>
        <p:spPr>
          <a:xfrm>
            <a:off x="287280" y="2060640"/>
            <a:ext cx="8172360" cy="4443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Although harmonisation and alignment improved, they are far from completed</a:t>
            </a:r>
            <a:r>
              <a:rPr b="1" lang="en-GB" sz="40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 :</a:t>
            </a:r>
            <a:endParaRPr b="0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 </a:t>
            </a:r>
            <a:r>
              <a:rPr b="1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ill coordinated sector intervention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 </a:t>
            </a: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unrealistic PAF conditions and targets     (donor driven indicators)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 </a:t>
            </a: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ultiplication of coordination structure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6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6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6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6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6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6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1"/>
          <p:cNvSpPr/>
          <p:nvPr/>
        </p:nvSpPr>
        <p:spPr>
          <a:xfrm>
            <a:off x="250920" y="1324080"/>
            <a:ext cx="7921440" cy="106884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increased discretionary expenditure and allocation to targeted sector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24000" y="2637000"/>
            <a:ext cx="8135640" cy="3957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And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Effective support to implementation of Public Financial Management &amp; other reforms when government and society are committed: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udget Support cannot buy reforms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7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7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7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7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"/>
          <p:cNvSpPr/>
          <p:nvPr/>
        </p:nvSpPr>
        <p:spPr>
          <a:xfrm>
            <a:off x="430200" y="1763640"/>
            <a:ext cx="7921800" cy="155628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BS increased public investment and reform implementation that  produced significant outcomes in education and health</a:t>
            </a:r>
            <a:r>
              <a:rPr b="0" lang="fr-FR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.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Freeform 2"/>
          <p:cNvSpPr/>
          <p:nvPr/>
        </p:nvSpPr>
        <p:spPr>
          <a:xfrm>
            <a:off x="324000" y="3645000"/>
            <a:ext cx="8135640" cy="2836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In the three countries, the reforms and related investments supported by higher levels of public expenditure produced significant outcomes and some measurable impacts as well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8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8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8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8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"/>
          <p:cNvSpPr/>
          <p:nvPr/>
        </p:nvSpPr>
        <p:spPr>
          <a:xfrm>
            <a:off x="250920" y="1125360"/>
            <a:ext cx="7921440" cy="155628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contributed partly to sound macro economic policies, growth and private sector development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Freeform 2"/>
          <p:cNvSpPr/>
          <p:nvPr/>
        </p:nvSpPr>
        <p:spPr>
          <a:xfrm>
            <a:off x="360360" y="2852640"/>
            <a:ext cx="8099280" cy="4115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Tunisia: “Strong Opportunity Framework” including BS contributed to growth and private sector development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Mali/Zambia: While BS funds contributed to sound macro economic policies, other important factors (regional integration, export prices, debt relief, etc) also played an important role</a:t>
            </a:r>
            <a:r>
              <a:rPr b="1" lang="en-GB" sz="36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  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 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9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9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9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9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LOVASZ Juergen (DEVCO)</cp:lastModifiedBy>
  <cp:lastPrinted>2013-05-13T15:53:28Z</cp:lastPrinted>
  <dcterms:modified xsi:type="dcterms:W3CDTF">2014-07-03T10:35:41Z</dcterms:modified>
  <cp:revision>277</cp:revision>
  <dc:subject/>
  <dc:title>Slide 1</dc:title>
</cp:coreProperties>
</file>