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4DFC-430C-4572-BA5F-ADDF9007FFE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5A59-43DD-416E-AC20-A36F726965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41C4-3608-479A-B22E-B05D42F31A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739-15B7-4803-BE67-663EEFB23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91AA-C00C-4965-921B-BF093EC48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09EB-31F9-4032-A483-BC51D5C73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9D56-D4CF-4903-BCF4-A2488F7322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B57-09CD-4548-9E32-87889CD262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DFB4-F093-468B-90D2-3CF59DBB6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A91-D1CC-4D57-9820-EFE66A51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7B5-CAF4-4B46-BC08-003037A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283-7A26-4E62-BB80-1F8FD261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487-3066-4695-AB00-6403641E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8FE-8AA1-493C-B193-EB757E02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1896-6A5F-4021-A4E4-BE869826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5C53-0D09-45CB-BA13-76C6C86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C22D-37AF-4B92-8985-E7E7F768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8955-37BE-456E-BB7E-FA80083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F70C-2037-485A-B49A-97381C17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4FF6-2F88-45D7-9A4C-9F9B99F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460-BD13-47F6-AA85-0EE9138C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6895-3737-4504-9E37-AAC0840F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D460-895D-4874-81A8-CD5462B9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2E6F-5212-4100-8DF5-5D05651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B9D9-C9C2-4165-99FD-A2A4AC7A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1B28-0ACA-40BA-9B7D-93107D7E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6BB43-AF32-44BD-8F1E-3E499FFE29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7A362-66E6-4D69-8710-A59980837A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09B6C2-4A48-42D5-8EF1-CD08256EC2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7765B-4585-402F-833F-8B2771A196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4159C3-E281-49D3-BB55-9FD8037BC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0E9-27E0-4A8A-8A8C-114C81E7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3FEDB3-3ACE-4DED-86FC-AE4F7E57B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57713-89CF-45BA-8BB3-1DE7B6DB2F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905034-6CAF-43F6-9E6D-01323DE8BF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10F48-DA02-4446-B2A8-56C44E0753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1B67A-05C7-4010-A138-B409DD5465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8DB5F6-A653-4541-A1EA-30FEADB30F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CD906-B1C8-46BC-A7D8-AB03A92DD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DA7-BF4D-48E1-A6E0-ECC7DF6B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9CC-6A3D-4317-90E1-1E5C1461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861-FC68-4EE9-9823-7741FA2C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379-FB2A-434F-A589-958F505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51A-92AA-46A4-B550-1F01554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219-FAA1-412A-BC16-544ABBD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0A4-AF8F-4F4A-9F81-D4D3E96C0F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8B6D-D945-44E2-BAED-A97F48DFF44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E8F7-17E2-42D0-A2ED-37D11B7E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Macroeconomic Assessment and Risk Management Framewor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F208-EC61-46EA-897B-44D2B37ED519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CA" sz="2800" spc="-1" strike="noStrike">
                <a:solidFill>
                  <a:srgbClr val="0f5494"/>
                </a:solidFill>
                <a:latin typeface="Verdana"/>
              </a:rPr>
              <a:t>In addition, high fiscal deficit can lead t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High inflation (notably in case of fiscal dominance that forces the CB to “print money” to finance the budget defici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A reduction in private investment when government borrowing crowds out the private secto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Increased external vulnerability in case of foreign borrow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3CA3-BD0E-4098-9470-0DBE660BE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The global financial crisis showed that the health of a country’s financial sector has far-reaching implications for its economy as well as for other econom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soundness is crucial to shock absorption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gile banking system is likely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) to reduce the effectiveness of monetary policy because of weak transmission channels to the real secto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276-594D-453F-AFD3-C383A0102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) to propagate and amplify shocks, rather than facilitate their absorption by the econom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impeding recovery because of inability to lend to sectors important for the recover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putting public debt sustainability in case of recapitalization need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502A-39E0-4471-BE2E-F28B9DCFC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i) to complicate policy responses to shocks and imbalanc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BoP imbalances, devaluation might be delayed for fear of its impact on the banking sector (short in foreign currency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inflation, monetary policy tightening might be delayed for fear of an increase in non performing loans (NPL) that would undermine bank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5294-B1C2-4429-9341-6461EC35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Large gross private debt can challenge macroeconomic stabili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arge and growing private debt can be a sign of an unsustainable growth model (based on an excessive increase in borrowing by the private sector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6F2-F7AA-4B4C-BB3B-F4C8D0BA6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9743-AC62-470D-971F-31C09F4825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AB: Deficit or Surplus? Reason for deficit ? (high investment? Low saving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omposition of exports (product diversification of exports ; destination of export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vel and evolution of the real exchange rate (has the country lost competitiveness 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5203-9E8F-4FAD-AA5E-6D99A18E9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remittances: 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officials grants: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70F7-8AFC-41AB-942E-19802877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Capital and financial account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ize and composition of capital flows (short term / long term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ow volatile are they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they at risk? (for example in case of change in global interest rat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d portfolio flows in the last few quarters coincide with large stock market appreciation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ould banks be able to roll-over their short term debt in foreign currenc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9265-3A07-4F8F-8937-36E852146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xternal debt sustainability and stock of FX reserves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the external debt sustainable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what is the amount of FX reserves available in case of sudden stop in capital flows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7FFF-D090-4355-AAA2-99C61C5B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Identification of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89F-E307-4CFA-8220-A0712F9E0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The budge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ze of budget deficit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mary (before interest paymen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efore gra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enue (as % of GDP) (it is a problem when it is too low – e.g. below 15% in poor countri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ficit financ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ntral bank financ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ther domestic financing? (any risk of crowding out private sector borrowing and investment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xternal financing? (at concessional rat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256C-7A5F-4821-AE23-1E1915228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Public deb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high is i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 under a stress scenario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isks to the public debt (contingent liabilities)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conomic outlook for State owned enterprises (any need of recapitalization or large subsidies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y risks of recapitalization need of the banking sector? (see later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C266-E2B9-48C9-A2B6-3F0483CB1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onetary policy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Past inflation, expected future inflation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above 5%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Central bank independence and credibility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evel of private credit / GDP and recent evolution of this ratio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arge discrepancy between official and shadow (i.e. black market) nominal exchange rate (against the USD or the 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Any sign of “dollarization” (share of deposits in foreign currency above 15-20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43E1-B27A-4535-9000-4FE341BF0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Monetary policy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General FSAP assessment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ecent evolution of Financial Soundness Indicato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ore on financial sector in lecture 5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B7E5-9F67-4E51-B975-16587F15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Financial Sector Satbil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Source of information for identifying </a:t>
            </a:r>
            <a:r>
              <a:rPr b="1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Macroeconomic policies and financial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 (or IMF reviews for countries under IMF program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FSAP documents and Financial Soundness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bt sustain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Debt sustainability : IMF -  WB Debt sustainability assessment (for both public and external deb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Vulnerability and Exogenous Shoc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s (notably the Risk Assessment Matrix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Source of 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B79-E0FB-41C9-AAED-CBE5F76D0F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C021-1608-4696-AEC0-E7DBFA3189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MF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7240" y="1341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1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2 files: Questionnaire - Risk profi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mportant not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Excel spread sheet” doesn’t mean that’s it’s only about  numbers (or even mainly number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of filling up the spread sheet increases the probability that most potential risks are being scrutinized and understood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leads to a recommendation regarding EU budget support in the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886E-77B6-43B3-9ED9-FE525914D9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2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Questionnaire: concentrates on bas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44 questions in total,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7 of which for macroeconom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For each of them, one needs 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assess the level of risk (Low – Moderate – Substantial – High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give a justification for the level chosen and a description of the exact nature of the ris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ost of the answers </a:t>
            </a:r>
            <a:r>
              <a:rPr b="0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are not straightforw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For the numerical part, level of risk are averaged by dimensions (14 of them) with some room for ad-hoc adjustment (up or down by one notch) based on jud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744D-D7B1-4A79-8DDB-508A561C1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Risk profile 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Average level of risks for the 5 categories and overall average and trends (automati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Overall recommendation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: “What should the EU do regarding BS in this country?”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ajor risks and risk (or benefits) of non EU intervention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Key mitigating measures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5585-8C07-4D7C-A4A9-12F9AD5160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3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28440" y="2565360"/>
            <a:ext cx="9068040" cy="3888000"/>
          </a:xfrm>
          <a:prstGeom prst="rect">
            <a:avLst/>
          </a:prstGeom>
          <a:ln w="0">
            <a:noFill/>
          </a:ln>
        </p:spPr>
      </p:pic>
      <p:sp>
        <p:nvSpPr>
          <p:cNvPr id="234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f5494"/>
                </a:solidFill>
                <a:latin typeface="Verdana"/>
              </a:rPr>
              <a:t>Overall risk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508A-D816-483C-836F-6D61177CCB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Budget support is an aid modality. It involves the transfer of financial resources to the national Treasury of a partner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that leads to BS involves 4 assessments by the Commission of (the relevance and credibility of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ransparency and oversight of the budget proces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B90D-2F9E-4373-AB07-637DB69570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Assign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Using IMF information, please write a short country fiche for either Cambodia or Ghana and fill the RMF excel fil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n order to do so, it is convenient first to use the check-list above, and identify the relevant risks for the country. Then indicate whether the country authorities are aware of the risks and are taking measures to reduce/mitigate them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ay-3 class will be on Financial Soundness indicators. Your assessment will be adjusted in the afternoon of day 3 to include financial stabilit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B2CD-7A77-4E36-8B12-3EC8DF9404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14D0-B2FE-47EF-96AD-FD26535093AF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risk assessment framework helps anticipate, monitor and react to political or economic development in the economy. 5 risk categories are consider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olitical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evelop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Corruption and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materialization of any of these risks is likely to significantly reduce the effectiveness of budget support unless adequate mitigating measures are taken by the partner coun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D5F0-8847-4558-B725-A65D908963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What is macroeconomic stabilit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60BD-035A-47E4-9CBD-1A8C429FA5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3200" spc="-1" strike="noStrike">
                <a:solidFill>
                  <a:srgbClr val="0f5494"/>
                </a:solidFill>
                <a:latin typeface="Verdana"/>
              </a:rPr>
              <a:t>Key elements of macroeconomic stability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balance of Payments (external   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Low and stable inflation and low unemployment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Public debt sustainability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ound financial syste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private (corporate and household) deb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515-1FC5-4F6F-B36B-A163E59EE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wth is hard to achieve without a sustainable balance of pay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rnal crisis usually brings disruptions to imports and capital flows that can trigger a fall in GDP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180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56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hange in Real GDP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E1E9-2D19-4D04-BF1F-25F99412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IMF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orld Economic Outloo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eptember 2006, October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Growth is hard to achieve without price stability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High inflation discourages saving and foreign investment, distorts relative prices, promotes wasteful financial activities, and encourages speculation, dollarization, and capital flight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Deflation (negative inflation) discourages consumption, investment  (if real interest rates are positive) and delays relative price adjustments (because of nominal rigiditi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34AC-FBBD-430D-917C-8E57E403B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sustainable public debt can threaten macroeconomic stability and economic growt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high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May reduce the ability of the government to implement contra-cyclical fiscal policies as need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an panic investors and thus result in a self-fulfilling public debt crisis (high interest rates and inability to roll-over short term deb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6BF3-D792-47B3-95FC-BEA32A48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EPAULARD Anne (PRESTATAIRE)</cp:lastModifiedBy>
  <cp:lastPrinted>2015-06-02T09:44:00Z</cp:lastPrinted>
  <dcterms:modified xsi:type="dcterms:W3CDTF">2017-04-11T15:35:52Z</dcterms:modified>
  <cp:revision>235</cp:revision>
  <dc:subject/>
  <dc:title>Slide 1</dc:title>
</cp:coreProperties>
</file>