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FBB-177C-4CC1-BBCE-CE2CBABF2B0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3370-1A73-4BE7-82E2-45DF3FEC4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1513-99B1-41C4-B6C2-09A1F97CB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5646-1A2F-48E9-89D6-2B1DD6AE0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64C-889D-4831-9AD3-278578DD1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BBA3-1887-4D68-AA22-1A83C0235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8B9-8F56-466D-BCB7-D7A740F9C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1214-E201-4515-A0C6-AA6199C69E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505B-D57F-483C-B186-22ED2B1CC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476-7A06-44E8-9F7E-05100A5B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146-1AE0-4C99-BE29-0F5716B9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017-D9EB-4C53-A9F0-6D0342BA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E5C-0A25-4600-8229-9949A6A5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CEDE-A3B5-49D7-809C-9AEC5B4C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5B65-01A9-43AE-A6AB-8717EC95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570C-4942-4EE4-9401-8967A005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2103-250E-4D42-8748-90EC95C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91E2-DAD2-44A4-9D14-5E96816A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049D-7BF1-4050-B989-7BB2DDB9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1722-F752-44F7-A1C6-F740EC4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E44-AF4A-47D5-8F9C-810197AB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2994-8B36-4D57-9EA3-0A933126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5E2C-40A7-4238-9480-4F1685A7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D889-7005-4E1F-8590-8E3E305F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029-1D69-44C1-891A-19D478C7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A9A3-ED30-4584-817F-F70AEABA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79364-1AA7-4D91-A16A-D7E1450B6C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15F07-ED07-49DE-A526-DAB223BC0B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2A7758-0E15-4785-B462-D8BD34C45D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6FB96-3B52-43BC-9AD9-E09ECE3733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3549D-917A-4C2D-9E1C-48AD67A67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676-56EC-4B57-95FD-BABF72A4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3284B-BBCA-4AC0-B5C7-D979546C15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DD803-4B07-4DAF-8FF2-52D80B6A14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8D5A8-94F4-4682-92CD-2C048B908F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E890D-7628-45FD-ADC4-919FF5924A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D347C-C23F-4B25-945D-1AD7DE0754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8DFC1-4773-4932-A48D-B57ED3B4B2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F79F1-9284-4258-A5F9-E6AD2D453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B88-3331-4988-BB4E-7C809210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F12-562B-491B-9990-400C01CA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D14-07AC-4933-8583-607D6DB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314-F552-4AD2-8CBD-0757D29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59B-A99B-4B71-BE70-F335939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E41-82CC-413C-82E5-83682C5A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7FC2-1FBE-4EF3-8E40-0A2CCFDE4D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9FEB-5C39-4488-A4B0-4167674D9C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679A-1E92-42C6-9877-E6DC2C0B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Macroeconomic Assessment and Risk Management Framework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4AB-B31C-460A-BA67-742DDAC9C8D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CA" sz="2800" spc="-1" strike="noStrike">
                <a:solidFill>
                  <a:srgbClr val="0f5494"/>
                </a:solidFill>
                <a:latin typeface="Verdana"/>
              </a:rPr>
              <a:t>In addition, high fiscal deficit can lead t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High inflation (notably in case of fiscal dominance that forces the CB to “print money” to finance the budget deficit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A reduction in private investment when government borrowing crowds out the private secto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Increased external vulnerability in case of foreign borrow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A46-CC85-4833-BAD5-7AD8E3A8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The global financial crisis showed that the health of a country’s financial sector has far-reaching implications for its economy as well as for other econom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soundness is crucial to shock absorption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gile banking system is likely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) to reduce the effectiveness of monetary policy because of weak transmission channels to the real sector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DB66-2349-4EBA-AB8A-BBB04567A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) to propagate and amplify shocks, rather than facilitate their absorption by the econom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impeding recovery because of inability to lend to sectors important for the recover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putting public debt sustainability in case of recapitalization need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8C62-472E-4F38-BFE7-F3089D1A8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i) to complicate policy responses to shocks and imbalanc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BoP imbalances, devaluation might be delayed for fear of its impact on the banking sector (short in foreign currency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inflation, monetary policy tightening might be delayed for fear of an increase in non performing loans (NPL) that would undermine bank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E062-7C8A-43B0-9211-981E1598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Large gross private debt can challenge macroeconomic stabilit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arge and growing private debt can be a sign of an unsustainable growth model (based on an excessive increase in borrowing by the private sector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315A-99F1-4AD0-BE6C-402A59D98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AC5-08B0-404A-8571-77ACF29B21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AB: Deficit or Surplus? Reason for deficit ? (high investment? Low saving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omposition of exports (product diversification of exports ; destination of export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vel and evolution of the real exchange rate (has the country lost competitiveness 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72B-6CD2-41EE-A73D-879936AE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remittances: 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officials grants: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3E0-E72F-4A46-84A1-6A9F34B85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Capital and financial account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ize and composition of capital flows (short term / long term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ow volatile are they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they at risk? (for example in case of change in global interest rat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d portfolio flows in the last few quarters coincide with large stock market appreciation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ould banks be able to roll-over their short term debt in foreign currenc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3EE2-D9FE-4D7A-8036-FCAE5A6B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xternal debt sustainability and stock of FX reserves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the external debt sustainable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what is the amount of FX reserves available in case of sudden stop in capital flows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EEF5-6452-4A8C-90C3-3E82ACDDC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Identification of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0913-990B-427B-8D33-677D6F6DD8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The budge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ze of budget deficit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imary (before interest paymen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efore gra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venue (as % of GDP) (it is a problem when it is too low – e.g. below 15% in poor countri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ficit financing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entral bank financing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ther domestic financing? (any risk of crowding out private sector borrowing and investment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xternal financing? (at concessional rat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355-4ADD-4E86-9646-235A99200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Public deb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high is i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 under a stress scenario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isks to the public debt (contingent liabilities)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conomic outlook for State owned enterprises (any need of recapitalization or large subsidies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y risks of recapitalization need of the banking sector? (see later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3E52-7953-47C1-8268-59647A645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onetary policy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Past inflation, expected future inflation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above 5%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Central bank independence and credibility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evel of private credit / GDP and recent evolution of this ratio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arge discrepancy between official and shadow (i.e. black market) nominal exchange rate (against the USD or the 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Any sign of “dollarization” (share of deposits in foreign currency above 15-20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6D4-8A47-4F7A-B034-FD27B1FE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Monetary policy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General FSAP assessment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ecent evolution of Financial Soundness Indicato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ore on financial sector in lecture 5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360-4090-47EF-8249-2593A0542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Financial Sector Satbil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Source of information for identifying </a:t>
            </a:r>
            <a:r>
              <a:rPr b="1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Macroeconomic policies and financial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 (or IMF reviews for countries under IMF program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FSAP documents and Financial Soundness Indicat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bt sustain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Debt sustainability : IMF -  WB Debt sustainability assessment (for both public and external deb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Vulnerability and Exogenous Shoc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s (notably the Risk Assessment Matrix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Source of 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293-85BE-4ADC-B41F-EC11EEEA6E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C32-B98E-4821-A8D4-EE72B555D1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MF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7240" y="1341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1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2 files: Questionnaire - Risk profi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mportant not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Excel spread sheet” doesn’t mean that’s it’s only about  numbers (or even mainly number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of filling up the spread sheet increases the probability that most potential risks are being scrutinized and understood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leads to a recommendation regarding EU budget support in the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CFA9-4433-4353-BD18-E55448E871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2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Questionnaire: concentrates on bas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44 questions in total,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7 of which for macroeconom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For each of them, one needs 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assess the level of risk (Low – Moderate – Substantial – High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give a justification for the level chosen and a description of the exact nature of the ris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ost of the answers </a:t>
            </a:r>
            <a:r>
              <a:rPr b="0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are not straightforw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For the numerical part, level of risk are averaged by dimensions (14 of them) with some room for ad-hoc adjustment (up or down by one notch) based on jud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147-8102-4D4B-9410-48D6F6C393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Risk profile 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Average level of risks for the 5 categories and overall average and trends (automati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Overall recommendation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: “What should the EU do regarding BS in this country?”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ajor risks and risk (or benefits) of non EU intervention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Key mitigating measures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E623-8A86-46CC-928B-45807F410B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3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28440" y="2565360"/>
            <a:ext cx="9068040" cy="3888000"/>
          </a:xfrm>
          <a:prstGeom prst="rect">
            <a:avLst/>
          </a:prstGeom>
          <a:ln w="0">
            <a:noFill/>
          </a:ln>
        </p:spPr>
      </p:pic>
      <p:sp>
        <p:nvSpPr>
          <p:cNvPr id="234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f5494"/>
                </a:solidFill>
                <a:latin typeface="Verdana"/>
              </a:rPr>
              <a:t>Overall risk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D56-FD6A-4F90-850C-644E7DF4AE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Budget support is an aid modality. It involves the transfer of financial resources to the national Treasury of a partner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that leads to BS involves 4 assessments by the Commission of (the relevance and credibility of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ransparency and oversight of the budget proces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F02F-12B9-4002-826B-763B1443F1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Assign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Using IMF information, please write a short country fiche for either Cambodia or Ghana and fill the RMF excel fil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n order to do so, it is convenient first to use the check-list above, and identify the relevant risks for the country. Then indicate whether the country authorities are aware of the risks and are taking measures to reduce/mitigate them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ay-3 class will be on Financial Soundness indicators. Your assessment will be adjusted in the afternoon of day 3 to include financial stabilit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39B-368B-4CC3-A861-2E8030DC73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DEE2-841A-4830-811A-508AD35954EB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risk assessment framework helps anticipate, monitor and react to political or economic development in the economy. 5 risk categories are consider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olitical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evelop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Corruption and frau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materialization of any of these risks is likely to significantly reduce the effectiveness of budget support unless adequate mitigating measures are taken by the partner count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1E1-B8F4-4DCB-8721-5203D37C4B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What is macroeconomic stabilit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9F86-EFDF-4D9B-B583-A769509555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3200" spc="-1" strike="noStrike">
                <a:solidFill>
                  <a:srgbClr val="0f5494"/>
                </a:solidFill>
                <a:latin typeface="Verdana"/>
              </a:rPr>
              <a:t>Key elements of macroeconomic stability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balance of Payments (external   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Low and stable inflation and low unemployment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Public debt sustainability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ound financial syste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private (corporate and household) deb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5EB6-FB70-4A15-A28C-BE832A900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wth is hard to achieve without a sustainable balance of pay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rnal crisis usually brings disruptions to imports and capital flows that can trigger a fall in GDP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180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56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hange in Real GDP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ey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3E45-5EDC-4DDF-A8EA-E6728457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IMF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orld Economic Outloo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eptember 2006, October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Growth is hard to achieve without price stability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High inflation discourages saving and foreign investment, distorts relative prices, promotes wasteful financial activities, and encourages speculation, dollarization, and capital flight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Deflation (negative inflation) discourages consumption, investment  (if real interest rates are positive) and delays relative price adjustments (because of nominal rigiditi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81B-80DE-44FF-B25F-5F955DB07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Unsustainable public debt can threaten macroeconomic stability and economic growt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high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May reduce the ability of the government to implement contra-cyclical fiscal policies as need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an panic investors and thus result in a self-fulfilling public debt crisis (high interest rates and inability to roll-over short term deb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011E-B80D-48F4-ADAE-E06B5E618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EPAULARD Anne (PRESTATAIRE)</cp:lastModifiedBy>
  <cp:lastPrinted>2015-06-02T09:44:00Z</cp:lastPrinted>
  <dcterms:modified xsi:type="dcterms:W3CDTF">2017-04-11T15:35:52Z</dcterms:modified>
  <cp:revision>235</cp:revision>
  <dc:subject/>
  <dc:title>Slide 1</dc:title>
</cp:coreProperties>
</file>