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B662-5D6A-4486-8218-B3E77DAB387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1DD-4D00-4BBA-8491-A49983AD3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8DE-CC66-4EDA-ACBB-9FD539CD1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3FD0-6602-4A36-BB51-F0E7FB4A1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CD74-A0E8-4397-BDA2-C6245D480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15FB-939C-4290-BE40-E6F2C968F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BC3-1E8E-4733-8D1A-AE2F22C87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35FA-1FEF-4981-B93E-E9CC8C9C5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F61-F371-405E-B36F-EC6989ED8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EA33-2104-493C-BA9E-9203AA308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B276-C0AD-4751-A5A7-C20F93A15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C1A5-85F4-4DA5-AC81-64D1217F4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442-F2B8-4D84-B0C0-3ECD908C7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3AB-A439-400E-863E-6CC275D9B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ABB5-447A-4A09-BF8F-0AD49B293C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d* and reinterpret it as the stable debt ratio that can be sustained over time if a certain primary balance p* is maintained constant over time. The higher g is the higher the debt level that can be sustained and the opposite is true about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7A3-E3EF-490C-B062-D15DEEC52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31AA-5612-4E07-AFBA-BE62B2ACC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middle part of the table), an upper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32C0-220E-4546-BF43-E325B398B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upper part of the table), an middle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7C9-B1DC-4196-A0B4-A497559DD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ok at bottom part of table 2 for Fiji (the nice think for Fiji is that we have the 3 balance sheets : CN, commercial banks and consolidated), and Table 5 for Tuni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B83-10C7-406F-8893-7AF061C37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Changing the amount of M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Open marke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oreign exchange inter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inancing the government defic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Discount win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78B-6EDE-482A-A573-A5AB1CEBE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BD59-CFF1-4562-9F99-044819797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A2C-B134-4555-B845-24D63772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9C8-8B59-472F-A7D6-8744CA42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EA1-A191-4F47-9572-83162D66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C35-615A-49BB-BED6-CFAEF99B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A9FB-64CE-449D-8575-FCD3ACBD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FA4A-D1A8-4030-9AC3-64B5692E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CF64-E4D6-4451-AFED-9642E247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DC14-AAF4-446F-B44A-81F7A05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8F5-D467-48C4-9BC8-D13CF002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623E-96A3-4137-9C4C-4746B1E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BC3D-4BFC-41EF-9F29-FD6F205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9BD-6DF2-4E88-9A24-C1AEABA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7859-79EC-4D11-B4FE-DCFA5A1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066-9945-4CE7-A94F-DA7A647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0251-4C39-4D73-B981-5C33196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2C3-94AE-459C-8ECC-8F0A7D26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06A9-90D2-4F64-BC0F-E19AC730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94D-0505-4560-9234-6E98167A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5C1-FFD5-49F8-85CE-7B6B9AE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FAD-4B2A-4B75-BC96-9D200F07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D7E-AC89-4DDB-9EB8-ADE991C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7B6-7FBE-47C5-BD2E-FF36E97B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62D-5511-40BB-9868-5CAA057A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595-5E89-4739-83A6-8FA5DEA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AC9F-9A27-447A-9603-942C9EF69C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F049-9A92-46ED-B6BF-AF269F28189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Introduction to Financial Programm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Part 2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1CE7-249C-458F-8565-10165323224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C0CC-304C-474C-8A9E-26063FE63C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76520" y="1413000"/>
            <a:ext cx="5415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56D9-0943-41AA-8352-3A4A61EF15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195840" y="54936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0" y="1700280"/>
            <a:ext cx="89344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1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162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3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655D-AA45-409C-AF7F-5B88EE26EA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E96-8457-4EAB-AB67-7577955D9F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General govern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rises all government un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entral gover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tate governments (in federal countri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ocal govern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The public sector also include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corporations  and quasi-corporations controlled by the government units. These corporations are not part of the Government sector (but there can be public liabilities for the Government)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5C88-2D04-4451-9238-2A7D0D6127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BACC-84F2-414B-BF37-BD513EE798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5"/>
          <p:cNvSpPr/>
          <p:nvPr/>
        </p:nvSpPr>
        <p:spPr>
          <a:xfrm>
            <a:off x="23760" y="633096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: Government Finance Statistics (GFS). IMF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1D6D-4EEA-438E-BA23-9E75F4887A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77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78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60832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2"/>
          <p:cNvSpPr/>
          <p:nvPr/>
        </p:nvSpPr>
        <p:spPr>
          <a:xfrm>
            <a:off x="6012000" y="6237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</a:rPr>
              <a:t>Source: GFS Manual, IMF, 2001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5280" y="115920"/>
            <a:ext cx="414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Foreign Aid in the Gov.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26920" y="1773360"/>
            <a:ext cx="73454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Aid Grants are registered  “above the line”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Foreign Loans are registered as Foreign financ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B0B-A496-427E-803E-39F6EBE976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Expenditures have a direct impact on the production sector in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the short ru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consumption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Wages and Salaries, Consumption of Good and serv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 investment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transaction in non-financial asset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Y = C + GI + I + GI + (X – M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, Government consumption and investment can partially crowd out private consumption and invest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is is the fiscal “multiplier” debate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= 1; 1 euro of gov. expenditure translate (one the short run) into 1 euro of additional GD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below 1, the effect is smaller (crowding out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above 1, ….well, GDP increase by more than &amp; eur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long run impact of government expenditures depends on the nature of expendi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AE59-B1DC-460F-88C5-B68C57EF31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financing operations also have an impact on the economy in the short ru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axes (more or less the same discussion than that about fiscal multiplier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ficit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banking sector = increase in Net Domestic Assets …..so it has an impact on money supply, unless the banking sector reduces credit to the private sector (less private sector investment and consumption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private sector : total impact depends on the behavior of private sector (less consumption and more saving ? Less investment ?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external borrowing increase long term external vulnerability …but has less impact in the short ru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good financial programming framework must take these constraints and potential impacts into accou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B84-4A31-40E4-B187-99ED37B453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87B-ECB0-4CF2-A520-EFB78D0C08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n the longer ru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udget deficit and borrowing add to pubic deb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blic debt sustainability needs to be assessed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ED76-A446-4565-A9AF-4DDED89464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AA2D-9DDE-4909-9C63-82C8117BB3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5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96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itre 1"/>
          <p:cNvSpPr/>
          <p:nvPr/>
        </p:nvSpPr>
        <p:spPr>
          <a:xfrm>
            <a:off x="9360" y="260280"/>
            <a:ext cx="3383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Cambodia: Fiscal Bal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ZoneTexte 7"/>
          <p:cNvSpPr/>
          <p:nvPr/>
        </p:nvSpPr>
        <p:spPr>
          <a:xfrm>
            <a:off x="4932360" y="658188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2576520" y="1833480"/>
            <a:ext cx="5019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ABA4-4D9A-4D30-8AA1-6833701A47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320" y="1844640"/>
            <a:ext cx="8964360" cy="3754440"/>
          </a:xfrm>
          <a:prstGeom prst="rect">
            <a:avLst/>
          </a:prstGeom>
          <a:ln w="0">
            <a:noFill/>
          </a:ln>
        </p:spPr>
      </p:pic>
      <p:sp>
        <p:nvSpPr>
          <p:cNvPr id="20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0" y="1844640"/>
            <a:ext cx="8907480" cy="351792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8163-FC3A-4E1C-8585-A74E5AE944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9760" y="1989000"/>
            <a:ext cx="4174920" cy="3597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414680" y="1749600"/>
            <a:ext cx="4724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215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6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217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8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71F-0DDE-4515-B71C-883AD1E243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402-8DCC-445C-B8E8-35A50119AB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10B5-F09E-4E2D-A77E-75CD4DF67C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2205000"/>
            <a:ext cx="85852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ustainability of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ifferent types of deb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eed to be assess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External Debt (to assess Balance of Payment sustainability / “External sector”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Public Debt (to assess public finance sustainability / “Government sector”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09760" y="3279600"/>
            <a:ext cx="7735680" cy="360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2A7-574A-4571-B6CC-ED94DE44D8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079640"/>
            <a:ext cx="8586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IMF and the WB DSA (Debt Sustainability Analysis) for Low Income Countries usually focus on the sustainabilit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PG (public and publicly guaranteed debt) external debt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otal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2F47-2FA5-46F9-8602-1D930B441277}" type="slidenum">
              <a:rPr b="0" lang="es-B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682720" y="2128680"/>
                <a:ext cx="509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Rectangle 8"/>
          <p:cNvSpPr/>
          <p:nvPr/>
        </p:nvSpPr>
        <p:spPr>
          <a:xfrm>
            <a:off x="565200" y="371628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debt-to-GDP ratio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= real interest rate on domestic deb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real GDP growth rat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primary balance as a share of GD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320" y="12682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the simplest case, the dynamic of the ratio of pubic debt to GDP can be summarized by the following equ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ZoneTexte 15"/>
          <p:cNvSpPr/>
          <p:nvPr/>
        </p:nvSpPr>
        <p:spPr>
          <a:xfrm>
            <a:off x="2916360" y="0"/>
            <a:ext cx="61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Dynamic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BE3D-206B-4A26-859A-500CAFFD97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267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public debt sustainability is assessed by looking at the evolution of public debt at a 20-year horizon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ublic debt is sustainable when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does not explode (or breach a given level) over the forecast horizo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68000" indent="-18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248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5ec1"/>
                </a:solidFill>
                <a:latin typeface="Verdana"/>
              </a:rPr>
              <a:t>Structure of the Financial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2721-A975-463A-AB65-2EE44EAB5D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rocessus 3"/>
          <p:cNvSpPr/>
          <p:nvPr/>
        </p:nvSpPr>
        <p:spPr>
          <a:xfrm>
            <a:off x="2195640" y="2133720"/>
            <a:ext cx="5689440" cy="1655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rocessus 4"/>
          <p:cNvSpPr/>
          <p:nvPr/>
        </p:nvSpPr>
        <p:spPr>
          <a:xfrm>
            <a:off x="6588000" y="3213000"/>
            <a:ext cx="1440000" cy="72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2411280" y="2133720"/>
            <a:ext cx="4464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nancial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Financial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324000" y="3500280"/>
            <a:ext cx="3960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Banking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Monetary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ZoneTexte 12"/>
          <p:cNvSpPr/>
          <p:nvPr/>
        </p:nvSpPr>
        <p:spPr>
          <a:xfrm>
            <a:off x="4680000" y="3429000"/>
            <a:ext cx="4284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Other Financial Institut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 of OFI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179280" y="5229360"/>
            <a:ext cx="44640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Monetary Auth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Balance Sheet of the MA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ZoneTexte 14"/>
          <p:cNvSpPr/>
          <p:nvPr/>
        </p:nvSpPr>
        <p:spPr>
          <a:xfrm>
            <a:off x="4788000" y="5229360"/>
            <a:ext cx="406872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s of Commercial Bank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Connecteur droit 8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Connecteur droit 20"/>
          <p:cNvSpPr/>
          <p:nvPr/>
        </p:nvSpPr>
        <p:spPr>
          <a:xfrm flipV="1">
            <a:off x="3924360" y="3141720"/>
            <a:ext cx="1071360" cy="79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Connecteur droit 22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Connecteur droit 23"/>
          <p:cNvSpPr/>
          <p:nvPr/>
        </p:nvSpPr>
        <p:spPr>
          <a:xfrm>
            <a:off x="500364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Connecteur droit 24"/>
          <p:cNvSpPr/>
          <p:nvPr/>
        </p:nvSpPr>
        <p:spPr>
          <a:xfrm>
            <a:off x="3924360" y="4005360"/>
            <a:ext cx="0" cy="576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Connecteur droit 25"/>
          <p:cNvSpPr/>
          <p:nvPr/>
        </p:nvSpPr>
        <p:spPr>
          <a:xfrm flipV="1">
            <a:off x="3419640" y="4581000"/>
            <a:ext cx="1944360" cy="8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Connecteur droit 27"/>
          <p:cNvSpPr/>
          <p:nvPr/>
        </p:nvSpPr>
        <p:spPr>
          <a:xfrm>
            <a:off x="3419640" y="4581360"/>
            <a:ext cx="0" cy="719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Connecteur droit 29"/>
          <p:cNvSpPr/>
          <p:nvPr/>
        </p:nvSpPr>
        <p:spPr>
          <a:xfrm>
            <a:off x="5364000" y="4581360"/>
            <a:ext cx="0" cy="648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ECE-9134-41FD-BF2D-0DD199F51F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2491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……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on debt sustainability in Macro II cours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CB0E-66BA-47D9-A693-ECD5BEDEE66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Monetary Authoritie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13000"/>
            <a:ext cx="91440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Function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Issue currenc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Hold the country</a:t>
            </a:r>
            <a:r>
              <a:rPr b="0" i="1" lang="ja-JP" sz="1800" spc="-1" strike="noStrike">
                <a:solidFill>
                  <a:srgbClr val="072428"/>
                </a:solidFill>
                <a:latin typeface="Verdana"/>
              </a:rPr>
              <a:t>’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 foreign reserv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Oversee the monetary system, supervise banks and monitor financial stabilit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erve as lender of last resort to the syste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Balance Sheet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9902-2AE4-45D9-A04F-E85DF2C31F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6369120" cy="3544920"/>
          </a:xfrm>
          <a:prstGeom prst="rect">
            <a:avLst/>
          </a:prstGeom>
          <a:ln w="0">
            <a:noFill/>
          </a:ln>
        </p:spPr>
      </p:pic>
      <p:sp>
        <p:nvSpPr>
          <p:cNvPr id="12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6840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Commercial Ba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Fun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ovide financial intermediation to savers and investors/borrowers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Affect money supply and liquidity in the economy (through their deposit taking and lending behaviors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Help transmit monetary policy from the monetary authorities to the econom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Balance She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91BB-D1AA-442D-B89A-2ED79EDA28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7" name="Objet 1"/>
          <p:cNvGraphicFramePr/>
          <p:nvPr/>
        </p:nvGraphicFramePr>
        <p:xfrm>
          <a:off x="2556000" y="3933720"/>
          <a:ext cx="550836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933720"/>
                    <a:ext cx="550836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The Monetary Surve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676520"/>
            <a:ext cx="903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Monetary Survey is the consolidated balance sheet for the entire banking system (Commercial Banks and Monetary Authorities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esent, in a timely fashion, data on monetary and credit developments for the entire banking system. Data are available at quite high frequency (monthly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8456-D722-44F7-A5AC-0AA5342F52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3" name="Objet 1"/>
          <p:cNvGraphicFramePr/>
          <p:nvPr/>
        </p:nvGraphicFramePr>
        <p:xfrm>
          <a:off x="1547640" y="3573360"/>
          <a:ext cx="591516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573360"/>
                    <a:ext cx="5915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Verdana"/>
              </a:rPr>
              <a:t>Balance of payments and Money su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Verdana"/>
                <a:ea typeface="Times New Roman"/>
              </a:rPr>
              <a:t>In the Monetary Survey </a:t>
            </a:r>
            <a:r>
              <a:rPr b="0" i="1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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M2 =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FA -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D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change in money supply is equal to the change in the net foreign assets in the banking sector minus the change in net domestic credi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 the BoP : 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Change in FX reserves = CAB + CFAB = </a:t>
            </a:r>
            <a:r>
              <a:rPr b="0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 NF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external sector (through changes in foreign exchange reserves) has an impact on Money Supply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65A6-0EC9-423A-870B-7EF48B0206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èche droite 1"/>
          <p:cNvSpPr/>
          <p:nvPr/>
        </p:nvSpPr>
        <p:spPr>
          <a:xfrm>
            <a:off x="539640" y="5084640"/>
            <a:ext cx="1368360" cy="21600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èche droite 2"/>
          <p:cNvSpPr/>
          <p:nvPr/>
        </p:nvSpPr>
        <p:spPr>
          <a:xfrm>
            <a:off x="436680" y="44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560" y="1125360"/>
            <a:ext cx="881676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Monetary aggreg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o (Monetary base= currency in circulation + reserves of commercial banks at the CB );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1 (currency, checkable (or demand) deposit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2 (M1 + savings deposits, time deposits, money market fund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3 (M2 + special time deposi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The Monetary base is controlled by the Central Ban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1, M2, and M3 are not fully controlled by the CB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Multiplier = M2/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Velocity = GDP/M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D7C7-24AA-4CC6-B859-9DC9D0A476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057D-491B-4815-8777-CA35269B41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490840" y="1413000"/>
            <a:ext cx="55008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7-05-02T15:14:58Z</dcterms:modified>
  <cp:revision>223</cp:revision>
  <dc:subject/>
  <dc:title>Slide 1</dc:title>
</cp:coreProperties>
</file>