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CE80-A04C-407D-93B6-27626D5202B5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ample of Ghana is goo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plain Sterilisation operation (OMO : Open Market Oper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781A-CC43-4C32-B07F-18EC91BD09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ample of Ghana is goo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plain Sterilisation operation (OMO : Open Market Oper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E4DD-70BC-42E0-9984-B066266128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jouter « general gover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9C9B-56BD-41B6-9521-26CF500BEF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234E-3F99-4FEE-B00A-7CACAB4ED1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9F46-1A46-4093-832B-FFB84DF12A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scuss Tunisia case (table 4a and 4b), Fiji (Table 3)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F3AF-E474-4115-884E-7564B824A6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5DFD-4134-49A0-96CF-C8B469D6DF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28CC-88F1-4798-BE3F-B5EE609480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3E4F-3454-471F-9983-B8EE3E77B7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scuss Tunisia case (table 4a and 4b), Fiji (Table 3)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4E60-227D-47E3-A1D8-21F646C620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jouter « general gover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8ADA-9C27-466A-9B12-7ACE040491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EF61-8D3D-42CD-8E21-E8787EA6A8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D20C-0C87-4907-A81F-23ED2D256C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7F2C-AC9E-413E-8D30-8C6B4F45F7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rite d* and reinterpret it as the stable debt ratio that can be sustained over time if a certain primary balance p* is maintained constant over time. The higher g is the higher the debt level that can be sustained and the opposite is true about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214A-0F03-4D24-8EBD-7FA2181BF9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644C-712D-43BD-9062-9EC01D35EF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ave a look at the table 3 / Ghana (middle part of the table), an upper part of table 2 / Fij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F462-A33E-4C3C-8D7A-5864CD8678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ave a look at the table 3 / Ghana (upper part of the table), an middle part of table 2 / Fij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4249-A22E-4698-9ABC-94AED215A8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ok at bottom part of table 2 for Fiji (the nice think for Fiji is that we have the 3 balance sheets : CN, commercial banks and consolidated), and Table 5 for Tuni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CC46-A90D-418B-B9F6-747FC4517D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Changing the amount of M0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Open market oper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Foreign exchange interven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Financing the government defic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Discount wind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4E74-DF32-4873-8886-450ADE33E0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ample of Ghana is goo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plain Sterilisation operation (OMO : Open Market Oper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1CA6-060C-459E-883D-916A36D1FB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3FA4-B0BD-4774-BD48-1489CB1B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87E7-1663-4A53-8DA4-EADCE408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EE26-2E55-470D-995A-55D94E16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7454-EA2A-4A61-841A-A6FAA08D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09AA-1288-473E-BF08-4CB813E1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52E0-59F5-4AE4-A408-0E8D32DF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876D-BD23-4BBC-B976-7FFFFB6F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6A87-41DC-47C3-A159-25A259A8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9D03-F215-4211-B486-0287B365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D0E1-9696-442B-9D02-CA5C44F3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8868-53E3-4EEA-B7FF-C36A0F16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555-7867-4838-A903-157EB79B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8B09-2E80-457F-9CDE-BEC82CFC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5247-8BAB-4B91-9C41-13426065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8981-302B-4F40-9A6E-42B8A640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900D-2828-4C8F-95E7-979E65E5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78CF-699A-4013-B1C3-2F600A7A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11A-9F03-4199-953B-E794CB26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5E55-1CE7-49B5-B62B-54D8203A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374-5BA7-427D-8613-FE2488CA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1F7-0EBB-45E8-BC01-3AE38927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597-2AF9-484F-9F52-DC270BDA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C13A-FA63-4CBC-B6A7-D0292A6B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003-384B-4ED1-A7BA-A56DBF11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0540-6342-4844-BADE-C9BE0615E3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FFD5-C2CB-46E6-91AC-74767F2C0E2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600" spc="-1" strike="noStrike">
                <a:solidFill>
                  <a:srgbClr val="ffd624"/>
                </a:solidFill>
                <a:latin typeface="Verdana"/>
              </a:rPr>
              <a:t>Macro - I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Verdana"/>
              </a:rPr>
              <a:t>Introduction to Financial Programming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Verdana"/>
              </a:rPr>
              <a:t>Part 2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3889-F504-4704-B203-7CC393234933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F259-EF1E-4FD7-9616-1ABB4F509C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ZoneTexte 4"/>
          <p:cNvSpPr/>
          <p:nvPr/>
        </p:nvSpPr>
        <p:spPr>
          <a:xfrm>
            <a:off x="224280" y="549360"/>
            <a:ext cx="37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Cambodia, Monetary surve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ZoneTexte 5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Article IV report, Cambodi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576520" y="1413000"/>
            <a:ext cx="54151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AA21-F8A5-4912-984D-2C0AA4BA07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ZoneTexte 5"/>
          <p:cNvSpPr/>
          <p:nvPr/>
        </p:nvSpPr>
        <p:spPr>
          <a:xfrm>
            <a:off x="195840" y="549360"/>
            <a:ext cx="33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Ghana, Monetary surve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ZoneTexte 5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 Program Review, Ghan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0" y="1700280"/>
            <a:ext cx="893448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324000" y="1604880"/>
            <a:ext cx="8820000" cy="5253120"/>
          </a:xfrm>
          <a:prstGeom prst="rect">
            <a:avLst/>
          </a:prstGeom>
          <a:ln w="0">
            <a:noFill/>
          </a:ln>
        </p:spPr>
      </p:pic>
      <p:sp>
        <p:nvSpPr>
          <p:cNvPr id="160" name="ZoneTexte 5"/>
          <p:cNvSpPr/>
          <p:nvPr/>
        </p:nvSpPr>
        <p:spPr>
          <a:xfrm>
            <a:off x="0" y="98100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f5494"/>
                </a:solidFill>
                <a:latin typeface="Verdana"/>
              </a:rPr>
              <a:t>Main linkages between sector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f5494"/>
                </a:solidFill>
                <a:latin typeface="Verdana"/>
              </a:rPr>
              <a:t>(not exhaustive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61" name="Connecteur droit avec flèche 20"/>
          <p:cNvCxnSpPr/>
          <p:nvPr/>
        </p:nvCxnSpPr>
        <p:spPr>
          <a:xfrm>
            <a:off x="162000" y="5389200"/>
            <a:ext cx="738720" cy="1080"/>
          </a:xfrm>
          <a:prstGeom prst="straightConnector1">
            <a:avLst/>
          </a:prstGeom>
          <a:ln w="19080">
            <a:solidFill>
              <a:srgbClr val="5959ff"/>
            </a:solidFill>
            <a:miter/>
            <a:tailEnd len="med" type="arrow" w="med"/>
          </a:ln>
        </p:spPr>
      </p:cxnSp>
      <p:sp>
        <p:nvSpPr>
          <p:cNvPr id="162" name="Connecteur droit 25"/>
          <p:cNvSpPr/>
          <p:nvPr/>
        </p:nvSpPr>
        <p:spPr>
          <a:xfrm flipV="1">
            <a:off x="162000" y="2852280"/>
            <a:ext cx="0" cy="2536920"/>
          </a:xfrm>
          <a:prstGeom prst="line">
            <a:avLst/>
          </a:prstGeom>
          <a:ln w="1908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63" name="Connecteur droit avec flèche 27"/>
          <p:cNvCxnSpPr/>
          <p:nvPr/>
        </p:nvCxnSpPr>
        <p:spPr>
          <a:xfrm>
            <a:off x="162000" y="2852280"/>
            <a:ext cx="738720" cy="1080"/>
          </a:xfrm>
          <a:prstGeom prst="straightConnector1">
            <a:avLst/>
          </a:prstGeom>
          <a:ln w="19080">
            <a:solidFill>
              <a:srgbClr val="0000e5"/>
            </a:solidFill>
            <a:miter/>
            <a:tailEnd len="med" type="arrow" w="med"/>
          </a:ln>
        </p:spPr>
      </p:cxnSp>
      <p:sp>
        <p:nvSpPr>
          <p:cNvPr id="16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9028-EA46-49C8-BE75-79E17C28E2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FA9E-51D9-4ED2-B0D2-8D23F960813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70000" y="155700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General government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omprises all government uni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Central govern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State governments (in federal countrie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Local govern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The public sector also includes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 corporations  and quasi-corporations controlled by the government units. These corporations are not part of the Government sector (but there can be public liabilities for the Government).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ses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528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Monetary and Banking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Government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ew words on debt sustainability analysi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F9D9-23C9-41A2-84B4-1631A4F192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2157-3BC9-4306-81D8-EFCE4A858B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7440" cy="5118120"/>
          </a:xfrm>
          <a:prstGeom prst="rect">
            <a:avLst/>
          </a:prstGeom>
          <a:ln w="0">
            <a:noFill/>
          </a:ln>
        </p:spPr>
      </p:pic>
      <p:sp>
        <p:nvSpPr>
          <p:cNvPr id="173" name="ZoneTexte 5"/>
          <p:cNvSpPr/>
          <p:nvPr/>
        </p:nvSpPr>
        <p:spPr>
          <a:xfrm>
            <a:off x="23760" y="6330960"/>
            <a:ext cx="55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ource: Government Finance Statistics (GFS). IMF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D31F-C039-45FE-B521-1CED4BF6FFB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70000" y="155700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77" name="Connecteur droit avec flèche 2"/>
          <p:cNvCxnSpPr/>
          <p:nvPr/>
        </p:nvCxnSpPr>
        <p:spPr>
          <a:xfrm>
            <a:off x="8317080" y="62064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178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9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608328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ZoneTexte 2"/>
          <p:cNvSpPr/>
          <p:nvPr/>
        </p:nvSpPr>
        <p:spPr>
          <a:xfrm>
            <a:off x="6012000" y="6237360"/>
            <a:ext cx="23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f5494"/>
                </a:solidFill>
                <a:latin typeface="Verdana"/>
              </a:rPr>
              <a:t>Source: GFS Manual, IMF, 2001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5280" y="115920"/>
            <a:ext cx="4140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624"/>
                </a:solidFill>
                <a:latin typeface="Verdana"/>
              </a:rPr>
              <a:t>Foreign Aid in the Gov. Oper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26920" y="1773360"/>
            <a:ext cx="734544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d5ec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5494"/>
                </a:solidFill>
                <a:latin typeface="Verdana"/>
              </a:rPr>
              <a:t>Aid Grants are registered  “above the line”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d5ec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5494"/>
                </a:solidFill>
                <a:latin typeface="Verdana"/>
              </a:rPr>
              <a:t>Foreign Loans are registered as Foreign financ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EB2A-729E-4E30-911F-EC720AF379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Government Expenditures have a direct impact on the production sector in </a:t>
            </a:r>
            <a:r>
              <a:rPr b="0" i="1" lang="en-US" sz="2000" spc="-1" strike="noStrike" u="sng">
                <a:solidFill>
                  <a:srgbClr val="0f5494"/>
                </a:solidFill>
                <a:uFillTx/>
                <a:latin typeface="Verdana"/>
              </a:rPr>
              <a:t>the short run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Government consumption: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(Wages and Salaries, Consumption of Good and service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Government  investment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(transaction in non-financial asset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Y = C + GI + I + GI + (X – M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However, Government consumption and investment can partially crowd out private consumption and investmen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his is the fiscal “multiplier” debate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f multiplier = 1; 1 euro of gov. expenditure translate (one the short run) into 1 euro of additional GDP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f multiplier is below 1, the effect is smaller (crowding out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f multiplier is above 1, ….well, GDP increase by more than &amp; euro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he long run impact of government expenditures depends on the nature of expenditur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5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5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5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597D-177F-47FF-8F63-7AB6B1DB22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980640"/>
            <a:ext cx="914400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Government financing operations also have an impact on the economy in the short run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axes (more or less the same discussion than that about fiscal multiplier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Deficits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inanced by the domestic banking sector = increase in Net Domestic Assets …..so it has an impact on money supply, unless the banking sector reduces credit to the private sector (less private sector investment and consumption)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inanced by the domestic private sector : total impact depends on the behavior of private sector (less consumption and more saving ? Less investment ?)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inanced by external borrowing increase long term external vulnerability …but has less impact in the short run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A good financial programming framework must take these constraints and potential impacts into accoun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9BED-9111-4A79-BAB2-6666421ACE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ses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Monetary and Banking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Government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ew words on debt sustainability analysi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F53F-6804-4C43-8CB8-4A77E2B548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980640"/>
            <a:ext cx="914400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n the longer run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Budget deficit and borrowing add to pubic debt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Public debt sustainability needs to be assessed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E494-9694-4F16-BEF2-DA783ABE7E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B63A-8C25-4354-9046-FFB81DAE21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70000" y="155700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95" name="Connecteur droit avec flèche 2"/>
          <p:cNvCxnSpPr/>
          <p:nvPr/>
        </p:nvCxnSpPr>
        <p:spPr>
          <a:xfrm>
            <a:off x="8317080" y="62064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196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Titre 1"/>
          <p:cNvSpPr/>
          <p:nvPr/>
        </p:nvSpPr>
        <p:spPr>
          <a:xfrm>
            <a:off x="9360" y="260280"/>
            <a:ext cx="33832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Cambodia: Fiscal Balanc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ZoneTexte 7"/>
          <p:cNvSpPr/>
          <p:nvPr/>
        </p:nvSpPr>
        <p:spPr>
          <a:xfrm>
            <a:off x="4932360" y="6581880"/>
            <a:ext cx="42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 Article IV report, Cambodi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tretch/>
        </p:blipFill>
        <p:spPr>
          <a:xfrm>
            <a:off x="2576520" y="1833480"/>
            <a:ext cx="501984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43B7-5B2F-436A-B3A6-FF5DAD4F66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ZoneTexte 4"/>
          <p:cNvSpPr/>
          <p:nvPr/>
        </p:nvSpPr>
        <p:spPr>
          <a:xfrm>
            <a:off x="218160" y="549360"/>
            <a:ext cx="36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Ghana, Government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Rectangle 1"/>
          <p:cNvSpPr/>
          <p:nvPr/>
        </p:nvSpPr>
        <p:spPr>
          <a:xfrm>
            <a:off x="4537080" y="3906720"/>
            <a:ext cx="4357800" cy="282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22320" y="1844640"/>
            <a:ext cx="8964360" cy="3754440"/>
          </a:xfrm>
          <a:prstGeom prst="rect">
            <a:avLst/>
          </a:prstGeom>
          <a:ln w="0">
            <a:noFill/>
          </a:ln>
        </p:spPr>
      </p:pic>
      <p:sp>
        <p:nvSpPr>
          <p:cNvPr id="204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5" name="Picture 9" descr=""/>
          <p:cNvPicPr/>
          <p:nvPr/>
        </p:nvPicPr>
        <p:blipFill>
          <a:blip r:embed="rId2"/>
          <a:stretch/>
        </p:blipFill>
        <p:spPr>
          <a:xfrm>
            <a:off x="0" y="1844640"/>
            <a:ext cx="8907480" cy="3517920"/>
          </a:xfrm>
          <a:prstGeom prst="rect">
            <a:avLst/>
          </a:prstGeom>
          <a:ln w="0">
            <a:noFill/>
          </a:ln>
        </p:spPr>
      </p:pic>
      <p:sp>
        <p:nvSpPr>
          <p:cNvPr id="206" name="ZoneTexte 7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 Program Review, Ghan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EB43-4771-432E-975D-7409F6F7ED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ZoneTexte 4"/>
          <p:cNvSpPr/>
          <p:nvPr/>
        </p:nvSpPr>
        <p:spPr>
          <a:xfrm>
            <a:off x="218160" y="549360"/>
            <a:ext cx="36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Ghana, Government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Rectangle 1"/>
          <p:cNvSpPr/>
          <p:nvPr/>
        </p:nvSpPr>
        <p:spPr>
          <a:xfrm>
            <a:off x="4537080" y="3906720"/>
            <a:ext cx="4357800" cy="282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ZoneTexte 7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 Program Review, Ghan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239760" y="1989000"/>
            <a:ext cx="4174920" cy="3597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414680" y="1749600"/>
            <a:ext cx="4724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324000" y="1604880"/>
            <a:ext cx="8820000" cy="5253120"/>
          </a:xfrm>
          <a:prstGeom prst="rect">
            <a:avLst/>
          </a:prstGeom>
          <a:ln w="0">
            <a:noFill/>
          </a:ln>
        </p:spPr>
      </p:pic>
      <p:sp>
        <p:nvSpPr>
          <p:cNvPr id="215" name="ZoneTexte 5"/>
          <p:cNvSpPr/>
          <p:nvPr/>
        </p:nvSpPr>
        <p:spPr>
          <a:xfrm>
            <a:off x="0" y="98100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f5494"/>
                </a:solidFill>
                <a:latin typeface="Verdana"/>
              </a:rPr>
              <a:t>Main linkages between sector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f5494"/>
                </a:solidFill>
                <a:latin typeface="Verdana"/>
              </a:rPr>
              <a:t>(not exhaustive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6" name="Connecteur droit avec flèche 20"/>
          <p:cNvCxnSpPr/>
          <p:nvPr/>
        </p:nvCxnSpPr>
        <p:spPr>
          <a:xfrm>
            <a:off x="162000" y="5389200"/>
            <a:ext cx="738720" cy="1080"/>
          </a:xfrm>
          <a:prstGeom prst="straightConnector1">
            <a:avLst/>
          </a:prstGeom>
          <a:ln w="19080">
            <a:solidFill>
              <a:srgbClr val="5959ff"/>
            </a:solidFill>
            <a:miter/>
            <a:tailEnd len="med" type="arrow" w="med"/>
          </a:ln>
        </p:spPr>
      </p:cxnSp>
      <p:sp>
        <p:nvSpPr>
          <p:cNvPr id="217" name="Connecteur droit 25"/>
          <p:cNvSpPr/>
          <p:nvPr/>
        </p:nvSpPr>
        <p:spPr>
          <a:xfrm flipV="1">
            <a:off x="162000" y="2852280"/>
            <a:ext cx="0" cy="2536920"/>
          </a:xfrm>
          <a:prstGeom prst="line">
            <a:avLst/>
          </a:prstGeom>
          <a:ln w="1908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8" name="Connecteur droit avec flèche 27"/>
          <p:cNvCxnSpPr/>
          <p:nvPr/>
        </p:nvCxnSpPr>
        <p:spPr>
          <a:xfrm>
            <a:off x="162000" y="2852280"/>
            <a:ext cx="738720" cy="1080"/>
          </a:xfrm>
          <a:prstGeom prst="straightConnector1">
            <a:avLst/>
          </a:prstGeom>
          <a:ln w="19080">
            <a:solidFill>
              <a:srgbClr val="0000e5"/>
            </a:solidFill>
            <a:miter/>
            <a:tailEnd len="med" type="arrow" w="med"/>
          </a:ln>
        </p:spPr>
      </p:cxnSp>
      <p:sp>
        <p:nvSpPr>
          <p:cNvPr id="21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3819-1965-4268-8150-9113FC4557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ses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528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Monetary and Banking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Government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Few words on debt sustainability analysi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E7B1-B2A5-412E-BCC5-C410F31087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bt sustain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0C23-A0C1-4DE4-BF48-68110504D4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79280" y="2205000"/>
            <a:ext cx="8585280" cy="357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ustainability of 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different types of debt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need to be assess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- External Debt (to assess Balance of Payment sustainability / “External sector”)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- Public Debt (to assess public finance sustainability / “Government sector”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1409760" y="3279600"/>
            <a:ext cx="7735680" cy="36086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bt sustain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DD92-5AE9-4EE2-9D19-6E3A466E0F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0920" y="1079640"/>
            <a:ext cx="858672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e IMF and the WB DSA (Debt Sustainability Analysis) for Low Income Countries usually focus on the sustainability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PPG (public and publicly guaranteed debt) external debt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otal public deb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75F4-8638-4A5E-9A77-5DA29D89EFA1}" type="slidenum">
              <a:rPr b="0" lang="es-B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682720" y="2128680"/>
                <a:ext cx="5092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3" name="Rectangle 8"/>
          <p:cNvSpPr/>
          <p:nvPr/>
        </p:nvSpPr>
        <p:spPr>
          <a:xfrm>
            <a:off x="565200" y="3716280"/>
            <a:ext cx="77724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= debt-to-GDP ratio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r 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= real interest rate on domestic deb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= real GDP growth rate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= primary balance as a share of GDP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2320" y="126828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 the simplest case, the dynamic of the ratio of pubic debt to GDP can be summarized by the following equatio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ZoneTexte 15"/>
          <p:cNvSpPr/>
          <p:nvPr/>
        </p:nvSpPr>
        <p:spPr>
          <a:xfrm>
            <a:off x="2916360" y="0"/>
            <a:ext cx="61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Public Debt Dynamic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292360" y="0"/>
            <a:ext cx="38862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Public Debt sustain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894D-16DE-4FED-A38B-0B3C3B0A00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0920" y="1267920"/>
            <a:ext cx="858672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6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e public debt sustainability is assessed by looking at the evolution of public debt at a 20-year horizon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Public debt is sustainable when 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d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 does not explode (or breach a given level) over the forecast horizon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68000" indent="-18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835280" y="2997360"/>
            <a:ext cx="62481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5ec1"/>
                </a:solidFill>
                <a:latin typeface="Verdana"/>
              </a:rPr>
              <a:t>Structure of the Financial System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9AE6-68B5-4651-860F-9ABFA3003AD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rocessus 3"/>
          <p:cNvSpPr/>
          <p:nvPr/>
        </p:nvSpPr>
        <p:spPr>
          <a:xfrm>
            <a:off x="2195640" y="2133720"/>
            <a:ext cx="5689440" cy="1655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rocessus 4"/>
          <p:cNvSpPr/>
          <p:nvPr/>
        </p:nvSpPr>
        <p:spPr>
          <a:xfrm>
            <a:off x="6588000" y="3213000"/>
            <a:ext cx="1440000" cy="7207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ZoneTexte 6"/>
          <p:cNvSpPr/>
          <p:nvPr/>
        </p:nvSpPr>
        <p:spPr>
          <a:xfrm>
            <a:off x="2411280" y="2133720"/>
            <a:ext cx="446436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inancial Syste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(Financial Survey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ZoneTexte 11"/>
          <p:cNvSpPr/>
          <p:nvPr/>
        </p:nvSpPr>
        <p:spPr>
          <a:xfrm>
            <a:off x="324000" y="3500280"/>
            <a:ext cx="396072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Banking Syste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(Monetary Survey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ZoneTexte 12"/>
          <p:cNvSpPr/>
          <p:nvPr/>
        </p:nvSpPr>
        <p:spPr>
          <a:xfrm>
            <a:off x="4680000" y="3429000"/>
            <a:ext cx="428472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Other Financial Institut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(Consolidated Balance Sheet of OFI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ZoneTexte 13"/>
          <p:cNvSpPr/>
          <p:nvPr/>
        </p:nvSpPr>
        <p:spPr>
          <a:xfrm>
            <a:off x="179280" y="5229360"/>
            <a:ext cx="446400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Monetary Authorit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(Balance Sheet of the MA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ZoneTexte 14"/>
          <p:cNvSpPr/>
          <p:nvPr/>
        </p:nvSpPr>
        <p:spPr>
          <a:xfrm>
            <a:off x="4788000" y="5229360"/>
            <a:ext cx="406872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Commercial Bank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(Consolidated Balance Sheets of Commercial Banks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Connecteur droit 8"/>
          <p:cNvSpPr/>
          <p:nvPr/>
        </p:nvSpPr>
        <p:spPr>
          <a:xfrm>
            <a:off x="4500720" y="2708280"/>
            <a:ext cx="0" cy="43344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Connecteur droit 20"/>
          <p:cNvSpPr/>
          <p:nvPr/>
        </p:nvSpPr>
        <p:spPr>
          <a:xfrm flipV="1">
            <a:off x="3924360" y="3141720"/>
            <a:ext cx="1071360" cy="79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Connecteur droit 22"/>
          <p:cNvSpPr/>
          <p:nvPr/>
        </p:nvSpPr>
        <p:spPr>
          <a:xfrm>
            <a:off x="3924360" y="3141720"/>
            <a:ext cx="0" cy="43164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Connecteur droit 23"/>
          <p:cNvSpPr/>
          <p:nvPr/>
        </p:nvSpPr>
        <p:spPr>
          <a:xfrm>
            <a:off x="5003640" y="3141720"/>
            <a:ext cx="0" cy="43164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Connecteur droit 24"/>
          <p:cNvSpPr/>
          <p:nvPr/>
        </p:nvSpPr>
        <p:spPr>
          <a:xfrm>
            <a:off x="3924360" y="4005360"/>
            <a:ext cx="0" cy="5760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Connecteur droit 25"/>
          <p:cNvSpPr/>
          <p:nvPr/>
        </p:nvSpPr>
        <p:spPr>
          <a:xfrm flipV="1">
            <a:off x="3419640" y="4581000"/>
            <a:ext cx="1944360" cy="8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Connecteur droit 27"/>
          <p:cNvSpPr/>
          <p:nvPr/>
        </p:nvSpPr>
        <p:spPr>
          <a:xfrm>
            <a:off x="3419640" y="4581360"/>
            <a:ext cx="0" cy="719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Connecteur droit 29"/>
          <p:cNvSpPr/>
          <p:nvPr/>
        </p:nvSpPr>
        <p:spPr>
          <a:xfrm>
            <a:off x="5364000" y="4581360"/>
            <a:ext cx="0" cy="6480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292360" y="0"/>
            <a:ext cx="38862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bt sustain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AF0A-3F8C-4B16-8679-AFE5263320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2491920"/>
            <a:ext cx="858672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……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more on debt sustainability in Macro II course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600" spc="-1" strike="noStrike">
                <a:solidFill>
                  <a:srgbClr val="ffd624"/>
                </a:solidFill>
                <a:latin typeface="Verdana"/>
              </a:rPr>
              <a:t>Thank you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B0F9-87EB-46CA-8421-539B1695CC6C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4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5ec1"/>
                </a:solidFill>
                <a:latin typeface="Verdana"/>
              </a:rPr>
              <a:t>Monetary Authorities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413000"/>
            <a:ext cx="9144000" cy="24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Functions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• 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Issue currency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• 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Hold the country</a:t>
            </a:r>
            <a:r>
              <a:rPr b="0" i="1" lang="ja-JP" sz="1800" spc="-1" strike="noStrike">
                <a:solidFill>
                  <a:srgbClr val="072428"/>
                </a:solidFill>
                <a:latin typeface="Verdana"/>
              </a:rPr>
              <a:t>’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s foreign reserv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• 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Oversee the monetary system, supervise banks and monitor financial stability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• 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Serve as lender of last resort to the system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Balance Sheet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1635-F119-4558-81F2-C3F93101BE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124000" y="3860640"/>
            <a:ext cx="6369120" cy="3544920"/>
          </a:xfrm>
          <a:prstGeom prst="rect">
            <a:avLst/>
          </a:prstGeom>
          <a:ln w="0">
            <a:noFill/>
          </a:ln>
        </p:spPr>
      </p:pic>
      <p:sp>
        <p:nvSpPr>
          <p:cNvPr id="123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640" y="981000"/>
            <a:ext cx="68403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5ec1"/>
                </a:solidFill>
                <a:latin typeface="Verdana"/>
              </a:rPr>
              <a:t>Commercial Bank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5ec1"/>
                </a:solidFill>
                <a:latin typeface="Verdana"/>
              </a:rPr>
              <a:t>Func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e5"/>
              </a:buClr>
              <a:buSzPct val="131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Provide financial intermediation to savers and investors/borrowers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e5"/>
              </a:buClr>
              <a:buSzPct val="131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Affect money supply and liquidity in the economy (through their deposit taking and lending behaviors)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e5"/>
              </a:buClr>
              <a:buSzPct val="131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Help transmit monetary policy from the monetary authorities to the economy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5ec1"/>
                </a:solidFill>
                <a:latin typeface="Verdana"/>
              </a:rPr>
              <a:t>Balance Shee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1F2B-4360-4E56-9478-0700B6FD9B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27" name="Objet 1"/>
          <p:cNvGraphicFramePr/>
          <p:nvPr/>
        </p:nvGraphicFramePr>
        <p:xfrm>
          <a:off x="2556000" y="3933720"/>
          <a:ext cx="5508360" cy="33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3933720"/>
                    <a:ext cx="5508360" cy="33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2296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The Monetary Survey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1676520"/>
            <a:ext cx="903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The Monetary Survey is the consolidated balance sheet for the entire banking system (Commercial Banks and Monetary Authorities)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Present, in a timely fashion, data on monetary and credit developments for the entire banking system. Data are available at quite high frequency (monthly)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AEFC-9ECA-4FA5-90D0-20020F83EA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3" name="Objet 1"/>
          <p:cNvGraphicFramePr/>
          <p:nvPr/>
        </p:nvGraphicFramePr>
        <p:xfrm>
          <a:off x="1547640" y="3573360"/>
          <a:ext cx="591516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573360"/>
                    <a:ext cx="5915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0c0"/>
                </a:solidFill>
                <a:latin typeface="Verdana"/>
              </a:rPr>
              <a:t>Balance of payments and Money suppl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Verdana"/>
                <a:ea typeface="Times New Roman"/>
              </a:rPr>
              <a:t>In the Monetary Survey </a:t>
            </a:r>
            <a:r>
              <a:rPr b="0" i="1" lang="en-U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 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262626"/>
                </a:solidFill>
                <a:latin typeface="Symbol"/>
                <a:ea typeface="Symbol"/>
              </a:rPr>
              <a:t>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M2 = </a:t>
            </a:r>
            <a:r>
              <a:rPr b="0" i="1" lang="en-US" sz="2000" spc="-1" strike="noStrike">
                <a:solidFill>
                  <a:srgbClr val="262626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NFA - </a:t>
            </a:r>
            <a:r>
              <a:rPr b="0" i="1" lang="en-US" sz="2000" spc="-1" strike="noStrike">
                <a:solidFill>
                  <a:srgbClr val="262626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ND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The change in money supply is equal to the change in the net foreign assets in the banking sector minus the change in net domestic credit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In the BoP : </a:t>
            </a: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Change in FX reserves = CAB + CFAB = </a:t>
            </a:r>
            <a:r>
              <a:rPr b="0" lang="en-US" sz="2000" spc="-1" strike="noStrike">
                <a:solidFill>
                  <a:srgbClr val="26262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 NFA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          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           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The external sector (through changes in foreign exchange reserves) has an impact on Money Supply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     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5E61-262C-47CE-9813-398F332D5C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Flèche droite 1"/>
          <p:cNvSpPr/>
          <p:nvPr/>
        </p:nvSpPr>
        <p:spPr>
          <a:xfrm>
            <a:off x="539640" y="5084640"/>
            <a:ext cx="1368360" cy="216000"/>
          </a:xfrm>
          <a:prstGeom prst="rightArrow">
            <a:avLst>
              <a:gd name="adj1" fmla="val 50000"/>
              <a:gd name="adj2" fmla="val 5000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Flèche droite 2"/>
          <p:cNvSpPr/>
          <p:nvPr/>
        </p:nvSpPr>
        <p:spPr>
          <a:xfrm>
            <a:off x="436680" y="4437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50560" y="1125360"/>
            <a:ext cx="881676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Verdana"/>
              </a:rPr>
              <a:t>Monetary aggregat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o (Monetary base= currency in circulation + reserves of commercial banks at the CB );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1 (currency, checkable (or demand) deposits);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2 (M1 + savings deposits, time deposits, money market funds);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3 (M2 + special time deposit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The Monetary base is controlled by the Central Bank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M1, M2, and M3 are not fully controlled by the CB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Money Multiplier = M2/M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Money Velocity = GDP/M2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F3F7-F2BC-4083-B4AA-4C1BED0530D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1BEE-61B4-4C09-B965-8B588D7694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ZoneTexte 4"/>
          <p:cNvSpPr/>
          <p:nvPr/>
        </p:nvSpPr>
        <p:spPr>
          <a:xfrm>
            <a:off x="224280" y="549360"/>
            <a:ext cx="37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Cambodia, Monetary surve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ZoneTexte 5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Article IV report, Cambodi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2490840" y="1413000"/>
            <a:ext cx="55008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Anne Epaulard</cp:lastModifiedBy>
  <cp:lastPrinted>2015-06-02T09:44:00Z</cp:lastPrinted>
  <dcterms:modified xsi:type="dcterms:W3CDTF">2017-05-02T15:14:58Z</dcterms:modified>
  <cp:revision>223</cp:revision>
  <dc:subject/>
  <dc:title>Slide 1</dc:title>
</cp:coreProperties>
</file>