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DFE3-A0A2-45FF-AF34-54EB1AB8C62A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Example of Ghana is goo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Explain Sterilisation operation (OMO : Open Market Opera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9A6A-60F6-408D-A23D-57F10F7C67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Example of Ghana is goo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Explain Sterilisation operation (OMO : Open Market Opera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2545-9788-465B-A6BE-3A44E7B418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jouter « general gover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40EC-572A-460A-8CA6-FDBAE08795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97A1-83A2-4BDD-B69A-4A09A27586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DAFE-647C-45BA-8F0F-F2A2A887E5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scuss Tunisia case (table 4a and 4b), Fiji (Table 3)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4681-2CC2-4E0C-A1FB-E232EC36C1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9B7B-9377-4B66-9C37-492719FF80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92C8-954A-4B9C-BAAF-C970F60398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9C04-877D-4D0B-A8EB-D948618110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scuss Tunisia case (table 4a and 4b), Fiji (Table 3)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ABBC-7C76-494C-9379-CEA452B44F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jouter « general gover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0138-34EF-4AB5-91CF-84F900F226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470A-E875-4C9A-806D-7CBAC408CC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C909-F9E3-404C-8A3B-B95C13F446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9863-12F3-4106-BED1-CDC584184B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rite d* and reinterpret it as the stable debt ratio that can be sustained over time if a certain primary balance p* is maintained constant over time. The higher g is the higher the debt level that can be sustained and the opposite is true about 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FCEB-D86C-4DD2-A82B-5F957759D5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61F4-CFC0-4244-BCE7-167BA301E5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ave a look at the table 3 / Ghana (middle part of the table), an upper part of table 2 / Fij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7EC2-40AC-4D56-9276-65B08F0565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ave a look at the table 3 / Ghana (upper part of the table), an middle part of table 2 / Fij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48EF-1232-4563-9088-EABC22223C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ok at bottom part of table 2 for Fiji (the nice think for Fiji is that we have the 3 balance sheets : CN, commercial banks and consolidated), and Table 5 for Tuni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27F7-A279-4955-BE47-FE70270087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Changing the amount of M0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Open market oper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Foreign exchange interven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Financing the government defic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Discount wind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FB24-38F3-453D-B164-9D0C58DF33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Example of Ghana is goo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Explain Sterilisation operation (OMO : Open Market Opera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3628-223F-4C13-8CC7-7E5DD2559C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3BE6-2676-4470-B3AD-0FBA23E4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70E0-FC97-4F96-A270-E03EBB79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B8F4-8570-45AD-A0BD-6C3B05AB6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982F-7A9C-4494-9B27-218208AE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EBC0-625E-42C3-90E4-62AA8FB01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C0C0-F506-4E00-8695-8D37F16C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E169-14A3-4FE9-8903-A148764A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ACED-C2C9-4B43-8E86-19B0DEEB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9E52-E502-457E-B1F8-F14F2221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D094-6B81-4FD8-962B-A6DE176D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48F9-2A77-47FE-B7C6-B50AD6E5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753C-694E-4849-9679-503F37D1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37DB-7389-483F-8518-24B2A069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F099-5975-4831-86E5-263E749D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5156-2A55-408D-87B7-59692DA8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C693-FD5E-4B7F-9715-1B365EBF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1822-03A7-4EBE-BF6C-41AD4E545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734B-2686-4F88-832A-6A4B1413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6A5D-65AA-4905-96D9-7B6B4FA1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E138-8ADD-4C34-88E0-9FB13D5F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49F0-4871-41C4-8943-63BC3498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1729-DAED-47E7-A70A-4990CC1D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7533-CE04-421B-A961-D24105EB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988F-6FC9-449F-8464-B445CA5D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F020-4304-41FC-942D-01F80F6CB85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E6B4-E56A-4332-A2BB-D26D8F96ADC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2565360"/>
            <a:ext cx="7343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600" spc="-1" strike="noStrike">
                <a:solidFill>
                  <a:srgbClr val="ffd624"/>
                </a:solidFill>
                <a:latin typeface="Verdana"/>
              </a:rPr>
              <a:t>Macro - I</a:t>
            </a:r>
            <a:endParaRPr b="1" lang="en-US" sz="7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11280" y="371628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Verdana"/>
              </a:rPr>
              <a:t>Introduction to Financial Programming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Verdana"/>
              </a:rPr>
              <a:t>Part 2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8A59-4DB7-4983-8601-457F03C12AFE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D36A-B6C8-4D0C-B60D-58A02AF8063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ZoneTexte 4"/>
          <p:cNvSpPr/>
          <p:nvPr/>
        </p:nvSpPr>
        <p:spPr>
          <a:xfrm>
            <a:off x="224280" y="549360"/>
            <a:ext cx="37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624"/>
                </a:solidFill>
                <a:latin typeface="Verdana"/>
              </a:rPr>
              <a:t>Cambodia, Monetary survey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ZoneTexte 5"/>
          <p:cNvSpPr/>
          <p:nvPr/>
        </p:nvSpPr>
        <p:spPr>
          <a:xfrm>
            <a:off x="239760" y="6381720"/>
            <a:ext cx="37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f5494"/>
                </a:solidFill>
                <a:latin typeface="Verdana"/>
              </a:rPr>
              <a:t>Source: IMF, 2016,Article IV report, Cambodia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2576520" y="1413000"/>
            <a:ext cx="541512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3F31-885E-45E5-9649-58F50A9C6F7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ZoneTexte 5"/>
          <p:cNvSpPr/>
          <p:nvPr/>
        </p:nvSpPr>
        <p:spPr>
          <a:xfrm>
            <a:off x="195840" y="549360"/>
            <a:ext cx="33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624"/>
                </a:solidFill>
                <a:latin typeface="Verdana"/>
              </a:rPr>
              <a:t>Ghana, Monetary survey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ZoneTexte 5"/>
          <p:cNvSpPr/>
          <p:nvPr/>
        </p:nvSpPr>
        <p:spPr>
          <a:xfrm>
            <a:off x="239760" y="6381720"/>
            <a:ext cx="37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f5494"/>
                </a:solidFill>
                <a:latin typeface="Verdana"/>
              </a:rPr>
              <a:t>Source: IMF, 2016, Program Review, Ghana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0" y="1700280"/>
            <a:ext cx="893448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324000" y="1604880"/>
            <a:ext cx="8820000" cy="5253120"/>
          </a:xfrm>
          <a:prstGeom prst="rect">
            <a:avLst/>
          </a:prstGeom>
          <a:ln w="0">
            <a:noFill/>
          </a:ln>
        </p:spPr>
      </p:pic>
      <p:sp>
        <p:nvSpPr>
          <p:cNvPr id="160" name="ZoneTexte 5"/>
          <p:cNvSpPr/>
          <p:nvPr/>
        </p:nvSpPr>
        <p:spPr>
          <a:xfrm>
            <a:off x="0" y="98100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f5494"/>
                </a:solidFill>
                <a:latin typeface="Verdana"/>
              </a:rPr>
              <a:t>Main linkages between sectors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f5494"/>
                </a:solidFill>
                <a:latin typeface="Verdana"/>
              </a:rPr>
              <a:t>(not exhaustive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61" name="Connecteur droit avec flèche 20"/>
          <p:cNvCxnSpPr/>
          <p:nvPr/>
        </p:nvCxnSpPr>
        <p:spPr>
          <a:xfrm>
            <a:off x="162000" y="5389200"/>
            <a:ext cx="738720" cy="1080"/>
          </a:xfrm>
          <a:prstGeom prst="straightConnector1">
            <a:avLst/>
          </a:prstGeom>
          <a:ln w="19080">
            <a:solidFill>
              <a:srgbClr val="5959ff"/>
            </a:solidFill>
            <a:miter/>
            <a:tailEnd len="med" type="arrow" w="med"/>
          </a:ln>
        </p:spPr>
      </p:cxnSp>
      <p:sp>
        <p:nvSpPr>
          <p:cNvPr id="162" name="Connecteur droit 25"/>
          <p:cNvSpPr/>
          <p:nvPr/>
        </p:nvSpPr>
        <p:spPr>
          <a:xfrm flipV="1">
            <a:off x="162000" y="2852280"/>
            <a:ext cx="0" cy="2536920"/>
          </a:xfrm>
          <a:prstGeom prst="line">
            <a:avLst/>
          </a:prstGeom>
          <a:ln w="19080">
            <a:solidFill>
              <a:srgbClr val="000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63" name="Connecteur droit avec flèche 27"/>
          <p:cNvCxnSpPr/>
          <p:nvPr/>
        </p:nvCxnSpPr>
        <p:spPr>
          <a:xfrm>
            <a:off x="162000" y="2852280"/>
            <a:ext cx="738720" cy="1080"/>
          </a:xfrm>
          <a:prstGeom prst="straightConnector1">
            <a:avLst/>
          </a:prstGeom>
          <a:ln w="19080">
            <a:solidFill>
              <a:srgbClr val="0000e5"/>
            </a:solidFill>
            <a:miter/>
            <a:tailEnd len="med" type="arrow" w="med"/>
          </a:ln>
        </p:spPr>
      </p:cxnSp>
      <p:sp>
        <p:nvSpPr>
          <p:cNvPr id="164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B2B5-42A8-469D-8BAD-35D846FBB8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CB3F-10CA-4B92-9B98-31AB470DC96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70000" y="1557000"/>
            <a:ext cx="8858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General government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omprises all government uni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Central govern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State governments (in federal countries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Local govern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The public sector also includes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 corporations  and quasi-corporations controlled by the government units. These corporations are not part of the Government sector (but there can be public liabilities for the Government).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Titre 1"/>
          <p:cNvSpPr/>
          <p:nvPr/>
        </p:nvSpPr>
        <p:spPr>
          <a:xfrm>
            <a:off x="5796000" y="0"/>
            <a:ext cx="338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f5494"/>
                </a:solidFill>
                <a:latin typeface="Verdana"/>
              </a:rPr>
              <a:t>Outline of the sess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9528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Monetary and Banking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- Government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Few words on debt sustainability analysi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02A4-1FDD-4B0A-92C1-91C910F686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BFBA-6730-407C-94A9-5AC4F5809EF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137440" cy="5118120"/>
          </a:xfrm>
          <a:prstGeom prst="rect">
            <a:avLst/>
          </a:prstGeom>
          <a:ln w="0">
            <a:noFill/>
          </a:ln>
        </p:spPr>
      </p:pic>
      <p:sp>
        <p:nvSpPr>
          <p:cNvPr id="173" name="ZoneTexte 5"/>
          <p:cNvSpPr/>
          <p:nvPr/>
        </p:nvSpPr>
        <p:spPr>
          <a:xfrm>
            <a:off x="23760" y="6330960"/>
            <a:ext cx="55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ource: Government Finance Statistics (GFS). IMF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Titre 1"/>
          <p:cNvSpPr/>
          <p:nvPr/>
        </p:nvSpPr>
        <p:spPr>
          <a:xfrm>
            <a:off x="5796000" y="0"/>
            <a:ext cx="338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4FAA-154B-4896-871A-2110014466D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70000" y="1557000"/>
            <a:ext cx="8858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77" name="Connecteur droit avec flèche 2"/>
          <p:cNvCxnSpPr/>
          <p:nvPr/>
        </p:nvCxnSpPr>
        <p:spPr>
          <a:xfrm>
            <a:off x="8317080" y="620640"/>
            <a:ext cx="915120" cy="915120"/>
          </a:xfrm>
          <a:prstGeom prst="straightConnector1">
            <a:avLst/>
          </a:prstGeom>
          <a:ln w="0">
            <a:noFill/>
          </a:ln>
        </p:spPr>
      </p:cxnSp>
      <p:sp>
        <p:nvSpPr>
          <p:cNvPr id="178" name="Titre 1"/>
          <p:cNvSpPr/>
          <p:nvPr/>
        </p:nvSpPr>
        <p:spPr>
          <a:xfrm>
            <a:off x="5796000" y="0"/>
            <a:ext cx="338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79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608328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ZoneTexte 2"/>
          <p:cNvSpPr/>
          <p:nvPr/>
        </p:nvSpPr>
        <p:spPr>
          <a:xfrm>
            <a:off x="6012000" y="6237360"/>
            <a:ext cx="23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f5494"/>
                </a:solidFill>
                <a:latin typeface="Verdana"/>
              </a:rPr>
              <a:t>Source: GFS Manual, IMF, 2001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5280" y="115920"/>
            <a:ext cx="4140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624"/>
                </a:solidFill>
                <a:latin typeface="Verdana"/>
              </a:rPr>
              <a:t>Foreign Aid in the Gov. Operation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826920" y="1773360"/>
            <a:ext cx="734544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d5ec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5494"/>
                </a:solidFill>
                <a:latin typeface="Verdana"/>
              </a:rPr>
              <a:t>Aid Grants are registered  “above the line”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d5ec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5494"/>
                </a:solidFill>
                <a:latin typeface="Verdana"/>
              </a:rPr>
              <a:t>Foreign Loans are registered as Foreign financ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1E89-482C-427E-844A-5FAD67B2CF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27640" y="0"/>
            <a:ext cx="295128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Sector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Government Expenditures have a direct impact on the production sector in </a:t>
            </a:r>
            <a:r>
              <a:rPr b="0" i="1" lang="en-US" sz="2000" spc="-1" strike="noStrike" u="sng">
                <a:solidFill>
                  <a:srgbClr val="0f5494"/>
                </a:solidFill>
                <a:uFillTx/>
                <a:latin typeface="Verdana"/>
              </a:rPr>
              <a:t>the short run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Government consumption: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(Wages and Salaries, Consumption of Good and services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Government  investment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(transaction in non-financial assets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Y = C + GI + I + GI + (X – M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However, Government consumption and investment can partially crowd out private consumption and investment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This is the fiscal “multiplier” debate: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If multiplier = 1; 1 euro of gov. expenditure translate (one the short run) into 1 euro of additional GDP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If multiplier is below 1, the effect is smaller (crowding out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If multiplier is above 1, ….well, GDP increase by more than &amp; euro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201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The long run impact of government expenditures depends on the nature of expenditur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5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5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5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3CE6-60C3-4EC8-B974-AAFB9E58DE0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27640" y="0"/>
            <a:ext cx="295128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Sector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980640"/>
            <a:ext cx="9144000" cy="566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Government financing operations also have an impact on the economy in the short run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Taxes (more or less the same discussion than that about fiscal multiplier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201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Deficits: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Financed by the domestic banking sector = increase in Net Domestic Assets …..so it has an impact on money supply, unless the banking sector reduces credit to the private sector (less private sector investment and consumption)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Financed by the domestic private sector : total impact depends on the behavior of private sector (less consumption and more saving ? Less investment ?)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Financed by external borrowing increase long term external vulnerability …but has less impact in the short run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A good financial programming framework must take these constraints and potential impacts into account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946F-6169-4983-88A2-A22C2388A1B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f5494"/>
                </a:solidFill>
                <a:latin typeface="Verdana"/>
              </a:rPr>
              <a:t>Outline of the sess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Monetary and Banking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Government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Few words on debt sustainability analysi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4C0F-CA54-4AA2-9A6D-2947441557C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27640" y="0"/>
            <a:ext cx="295128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Sector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980640"/>
            <a:ext cx="9144000" cy="566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In the longer run: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Budget deficit and borrowing add to pubic debt.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Public debt sustainability needs to be assessed.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CAC8-94D1-449A-96C1-BD646502BD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D6D3-B4DA-44AB-B144-52FCC35D66A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70000" y="1557000"/>
            <a:ext cx="8858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95" name="Connecteur droit avec flèche 2"/>
          <p:cNvCxnSpPr/>
          <p:nvPr/>
        </p:nvCxnSpPr>
        <p:spPr>
          <a:xfrm>
            <a:off x="8317080" y="620640"/>
            <a:ext cx="915120" cy="915120"/>
          </a:xfrm>
          <a:prstGeom prst="straightConnector1">
            <a:avLst/>
          </a:prstGeom>
          <a:ln w="0">
            <a:noFill/>
          </a:ln>
        </p:spPr>
      </p:cxnSp>
      <p:sp>
        <p:nvSpPr>
          <p:cNvPr id="196" name="Titre 1"/>
          <p:cNvSpPr/>
          <p:nvPr/>
        </p:nvSpPr>
        <p:spPr>
          <a:xfrm>
            <a:off x="5796000" y="0"/>
            <a:ext cx="338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Titre 1"/>
          <p:cNvSpPr/>
          <p:nvPr/>
        </p:nvSpPr>
        <p:spPr>
          <a:xfrm>
            <a:off x="9360" y="260280"/>
            <a:ext cx="33832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Cambodia: Fiscal Balanc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ZoneTexte 7"/>
          <p:cNvSpPr/>
          <p:nvPr/>
        </p:nvSpPr>
        <p:spPr>
          <a:xfrm>
            <a:off x="4932360" y="6581880"/>
            <a:ext cx="42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f5494"/>
                </a:solidFill>
                <a:latin typeface="Verdana"/>
              </a:rPr>
              <a:t>Source: IMF, 2016, Article IV report, Cambodia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9" name="Picture 9" descr=""/>
          <p:cNvPicPr/>
          <p:nvPr/>
        </p:nvPicPr>
        <p:blipFill>
          <a:blip r:embed="rId1"/>
          <a:stretch/>
        </p:blipFill>
        <p:spPr>
          <a:xfrm>
            <a:off x="2576520" y="1833480"/>
            <a:ext cx="501984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E782-B470-4F40-BA2A-D285AC27CAE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ZoneTexte 4"/>
          <p:cNvSpPr/>
          <p:nvPr/>
        </p:nvSpPr>
        <p:spPr>
          <a:xfrm>
            <a:off x="218160" y="549360"/>
            <a:ext cx="36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624"/>
                </a:solidFill>
                <a:latin typeface="Verdana"/>
              </a:rPr>
              <a:t>Ghana, Government secto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Rectangle 1"/>
          <p:cNvSpPr/>
          <p:nvPr/>
        </p:nvSpPr>
        <p:spPr>
          <a:xfrm>
            <a:off x="4537080" y="3906720"/>
            <a:ext cx="4357800" cy="282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22320" y="1844640"/>
            <a:ext cx="8964360" cy="3754440"/>
          </a:xfrm>
          <a:prstGeom prst="rect">
            <a:avLst/>
          </a:prstGeom>
          <a:ln w="0">
            <a:noFill/>
          </a:ln>
        </p:spPr>
      </p:pic>
      <p:sp>
        <p:nvSpPr>
          <p:cNvPr id="204" name="Titre 1"/>
          <p:cNvSpPr/>
          <p:nvPr/>
        </p:nvSpPr>
        <p:spPr>
          <a:xfrm>
            <a:off x="5796000" y="0"/>
            <a:ext cx="338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05" name="Picture 9" descr=""/>
          <p:cNvPicPr/>
          <p:nvPr/>
        </p:nvPicPr>
        <p:blipFill>
          <a:blip r:embed="rId2"/>
          <a:stretch/>
        </p:blipFill>
        <p:spPr>
          <a:xfrm>
            <a:off x="0" y="1844640"/>
            <a:ext cx="8907480" cy="3517920"/>
          </a:xfrm>
          <a:prstGeom prst="rect">
            <a:avLst/>
          </a:prstGeom>
          <a:ln w="0">
            <a:noFill/>
          </a:ln>
        </p:spPr>
      </p:pic>
      <p:sp>
        <p:nvSpPr>
          <p:cNvPr id="206" name="ZoneTexte 7"/>
          <p:cNvSpPr/>
          <p:nvPr/>
        </p:nvSpPr>
        <p:spPr>
          <a:xfrm>
            <a:off x="239760" y="6381720"/>
            <a:ext cx="37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f5494"/>
                </a:solidFill>
                <a:latin typeface="Verdana"/>
              </a:rPr>
              <a:t>Source: IMF, 2016, Program Review, Ghana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2C82-0893-4B9B-ABD4-6DBA8BED3D9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ZoneTexte 4"/>
          <p:cNvSpPr/>
          <p:nvPr/>
        </p:nvSpPr>
        <p:spPr>
          <a:xfrm>
            <a:off x="218160" y="549360"/>
            <a:ext cx="36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624"/>
                </a:solidFill>
                <a:latin typeface="Verdana"/>
              </a:rPr>
              <a:t>Ghana, Government secto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Rectangle 1"/>
          <p:cNvSpPr/>
          <p:nvPr/>
        </p:nvSpPr>
        <p:spPr>
          <a:xfrm>
            <a:off x="4537080" y="3906720"/>
            <a:ext cx="4357800" cy="282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Titre 1"/>
          <p:cNvSpPr/>
          <p:nvPr/>
        </p:nvSpPr>
        <p:spPr>
          <a:xfrm>
            <a:off x="5796000" y="0"/>
            <a:ext cx="338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ZoneTexte 7"/>
          <p:cNvSpPr/>
          <p:nvPr/>
        </p:nvSpPr>
        <p:spPr>
          <a:xfrm>
            <a:off x="239760" y="6381720"/>
            <a:ext cx="37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f5494"/>
                </a:solidFill>
                <a:latin typeface="Verdana"/>
              </a:rPr>
              <a:t>Source: IMF, 2016, Program Review, Ghana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239760" y="1989000"/>
            <a:ext cx="4174920" cy="35974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4414680" y="1749600"/>
            <a:ext cx="47246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324000" y="1604880"/>
            <a:ext cx="8820000" cy="5253120"/>
          </a:xfrm>
          <a:prstGeom prst="rect">
            <a:avLst/>
          </a:prstGeom>
          <a:ln w="0">
            <a:noFill/>
          </a:ln>
        </p:spPr>
      </p:pic>
      <p:sp>
        <p:nvSpPr>
          <p:cNvPr id="215" name="ZoneTexte 5"/>
          <p:cNvSpPr/>
          <p:nvPr/>
        </p:nvSpPr>
        <p:spPr>
          <a:xfrm>
            <a:off x="0" y="98100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f5494"/>
                </a:solidFill>
                <a:latin typeface="Verdana"/>
              </a:rPr>
              <a:t>Main linkages between sectors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f5494"/>
                </a:solidFill>
                <a:latin typeface="Verdana"/>
              </a:rPr>
              <a:t>(not exhaustive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16" name="Connecteur droit avec flèche 20"/>
          <p:cNvCxnSpPr/>
          <p:nvPr/>
        </p:nvCxnSpPr>
        <p:spPr>
          <a:xfrm>
            <a:off x="162000" y="5389200"/>
            <a:ext cx="738720" cy="1080"/>
          </a:xfrm>
          <a:prstGeom prst="straightConnector1">
            <a:avLst/>
          </a:prstGeom>
          <a:ln w="19080">
            <a:solidFill>
              <a:srgbClr val="5959ff"/>
            </a:solidFill>
            <a:miter/>
            <a:tailEnd len="med" type="arrow" w="med"/>
          </a:ln>
        </p:spPr>
      </p:cxnSp>
      <p:sp>
        <p:nvSpPr>
          <p:cNvPr id="217" name="Connecteur droit 25"/>
          <p:cNvSpPr/>
          <p:nvPr/>
        </p:nvSpPr>
        <p:spPr>
          <a:xfrm flipV="1">
            <a:off x="162000" y="2852280"/>
            <a:ext cx="0" cy="2536920"/>
          </a:xfrm>
          <a:prstGeom prst="line">
            <a:avLst/>
          </a:prstGeom>
          <a:ln w="19080">
            <a:solidFill>
              <a:srgbClr val="000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18" name="Connecteur droit avec flèche 27"/>
          <p:cNvCxnSpPr/>
          <p:nvPr/>
        </p:nvCxnSpPr>
        <p:spPr>
          <a:xfrm>
            <a:off x="162000" y="2852280"/>
            <a:ext cx="738720" cy="1080"/>
          </a:xfrm>
          <a:prstGeom prst="straightConnector1">
            <a:avLst/>
          </a:prstGeom>
          <a:ln w="19080">
            <a:solidFill>
              <a:srgbClr val="0000e5"/>
            </a:solidFill>
            <a:miter/>
            <a:tailEnd len="med" type="arrow" w="med"/>
          </a:ln>
        </p:spPr>
      </p:cxnSp>
      <p:sp>
        <p:nvSpPr>
          <p:cNvPr id="219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B8D7-E456-4972-95AD-A28187F77D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f5494"/>
                </a:solidFill>
                <a:latin typeface="Verdana"/>
              </a:rPr>
              <a:t>Outline of the sess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9528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Monetary and Banking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Government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- Few words on debt sustainability analysi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5476-80A8-4B01-9241-F688C29742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27640" y="0"/>
            <a:ext cx="295128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bt sustain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CABA-A012-4B74-B91A-C3A737E311D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79280" y="2205000"/>
            <a:ext cx="8585280" cy="357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ustainability of 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different types of debt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need to be assesse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- External Debt (to assess Balance of Payment sustainability / “External sector”)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- Public Debt (to assess public finance sustainability / “Government sector”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1409760" y="3279600"/>
            <a:ext cx="7735680" cy="36086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27640" y="0"/>
            <a:ext cx="295128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bt sustain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A7B0-AEBF-414A-BCA0-FD67483C11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50920" y="1079640"/>
            <a:ext cx="858672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e IMF and the WB DSA (Debt Sustainability Analysis) for Low Income Countries usually focus on the sustainability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PPG (public and publicly guaranteed debt) external debt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otal public deb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A805-3F39-4984-82C1-94C56EE2A05D}" type="slidenum">
              <a:rPr b="0" lang="es-B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2682720" y="2128680"/>
                <a:ext cx="50929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3" name="Rectangle 8"/>
          <p:cNvSpPr/>
          <p:nvPr/>
        </p:nvSpPr>
        <p:spPr>
          <a:xfrm>
            <a:off x="565200" y="3716280"/>
            <a:ext cx="77724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= debt-to-GDP ratio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r 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= real interest rate on domestic debt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g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= real GDP growth rate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= primary balance as a share of GDP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2320" y="1268280"/>
            <a:ext cx="88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In the simplest case, the dynamic of the ratio of pubic debt to GDP can be summarized by the following equation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ZoneTexte 15"/>
          <p:cNvSpPr/>
          <p:nvPr/>
        </p:nvSpPr>
        <p:spPr>
          <a:xfrm>
            <a:off x="2916360" y="0"/>
            <a:ext cx="61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Public Debt Dynamic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292360" y="0"/>
            <a:ext cx="388620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Public Debt sustain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7013-D96F-4C96-87CC-390C18D5E1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50920" y="1267920"/>
            <a:ext cx="858672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6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e public debt sustainability is assessed by looking at the evolution of public debt at a 20-year horizon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Public debt is sustainable when 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d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 does not explode (or breach a given level) over the forecast horizon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68000" indent="-18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1835280" y="2997360"/>
            <a:ext cx="624816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5ec1"/>
                </a:solidFill>
                <a:latin typeface="Verdana"/>
              </a:rPr>
              <a:t>Structure of the Financial System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0720-714F-4137-8302-73C11F3F3E6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rocessus 3"/>
          <p:cNvSpPr/>
          <p:nvPr/>
        </p:nvSpPr>
        <p:spPr>
          <a:xfrm>
            <a:off x="2195640" y="2133720"/>
            <a:ext cx="5689440" cy="1655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rocessus 4"/>
          <p:cNvSpPr/>
          <p:nvPr/>
        </p:nvSpPr>
        <p:spPr>
          <a:xfrm>
            <a:off x="6588000" y="3213000"/>
            <a:ext cx="1440000" cy="7207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ZoneTexte 6"/>
          <p:cNvSpPr/>
          <p:nvPr/>
        </p:nvSpPr>
        <p:spPr>
          <a:xfrm>
            <a:off x="2411280" y="2133720"/>
            <a:ext cx="446436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Financial Syste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(Financial Survey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ZoneTexte 11"/>
          <p:cNvSpPr/>
          <p:nvPr/>
        </p:nvSpPr>
        <p:spPr>
          <a:xfrm>
            <a:off x="324000" y="3500280"/>
            <a:ext cx="396072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Banking Syste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(Monetary Survey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ZoneTexte 12"/>
          <p:cNvSpPr/>
          <p:nvPr/>
        </p:nvSpPr>
        <p:spPr>
          <a:xfrm>
            <a:off x="4680000" y="3429000"/>
            <a:ext cx="428472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Other Financial Institution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(Consolidated Balance Sheet of OFI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ZoneTexte 13"/>
          <p:cNvSpPr/>
          <p:nvPr/>
        </p:nvSpPr>
        <p:spPr>
          <a:xfrm>
            <a:off x="179280" y="5229360"/>
            <a:ext cx="446400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Monetary Authoriti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(Balance Sheet of the MA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ZoneTexte 14"/>
          <p:cNvSpPr/>
          <p:nvPr/>
        </p:nvSpPr>
        <p:spPr>
          <a:xfrm>
            <a:off x="4788000" y="5229360"/>
            <a:ext cx="4068720" cy="916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Commercial Bank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(Consolidated Balance Sheets of Commercial Banks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Connecteur droit 8"/>
          <p:cNvSpPr/>
          <p:nvPr/>
        </p:nvSpPr>
        <p:spPr>
          <a:xfrm>
            <a:off x="4500720" y="2708280"/>
            <a:ext cx="0" cy="43344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Connecteur droit 20"/>
          <p:cNvSpPr/>
          <p:nvPr/>
        </p:nvSpPr>
        <p:spPr>
          <a:xfrm flipV="1">
            <a:off x="3924360" y="3141720"/>
            <a:ext cx="1071360" cy="792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Connecteur droit 22"/>
          <p:cNvSpPr/>
          <p:nvPr/>
        </p:nvSpPr>
        <p:spPr>
          <a:xfrm>
            <a:off x="3924360" y="3141720"/>
            <a:ext cx="0" cy="43164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Connecteur droit 23"/>
          <p:cNvSpPr/>
          <p:nvPr/>
        </p:nvSpPr>
        <p:spPr>
          <a:xfrm>
            <a:off x="5003640" y="3141720"/>
            <a:ext cx="0" cy="43164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Connecteur droit 24"/>
          <p:cNvSpPr/>
          <p:nvPr/>
        </p:nvSpPr>
        <p:spPr>
          <a:xfrm>
            <a:off x="3924360" y="4005360"/>
            <a:ext cx="0" cy="5760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Connecteur droit 25"/>
          <p:cNvSpPr/>
          <p:nvPr/>
        </p:nvSpPr>
        <p:spPr>
          <a:xfrm flipV="1">
            <a:off x="3419640" y="4581000"/>
            <a:ext cx="1944360" cy="82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Connecteur droit 27"/>
          <p:cNvSpPr/>
          <p:nvPr/>
        </p:nvSpPr>
        <p:spPr>
          <a:xfrm>
            <a:off x="3419640" y="4581360"/>
            <a:ext cx="0" cy="7192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Connecteur droit 29"/>
          <p:cNvSpPr/>
          <p:nvPr/>
        </p:nvSpPr>
        <p:spPr>
          <a:xfrm>
            <a:off x="5364000" y="4581360"/>
            <a:ext cx="0" cy="6480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292360" y="0"/>
            <a:ext cx="388620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bt sustain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3EBE-2205-4C0D-ACCB-B426778E396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0" y="2491920"/>
            <a:ext cx="858672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……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more on debt sustainability in Macro II course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3520" y="2565360"/>
            <a:ext cx="7343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600" spc="-1" strike="noStrike">
                <a:solidFill>
                  <a:srgbClr val="ffd624"/>
                </a:solidFill>
                <a:latin typeface="Verdana"/>
              </a:rPr>
              <a:t>Thank you</a:t>
            </a:r>
            <a:endParaRPr b="1" lang="en-US" sz="7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80FF-E4EC-4611-9757-B6B6C0B7EF7B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47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5ec1"/>
                </a:solidFill>
                <a:latin typeface="Verdana"/>
              </a:rPr>
              <a:t>Monetary Authorities</a:t>
            </a: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1413000"/>
            <a:ext cx="9144000" cy="24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Functions: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• </a:t>
            </a:r>
            <a:r>
              <a:rPr b="0" i="1" lang="en-US" sz="1800" spc="-1" strike="noStrike">
                <a:solidFill>
                  <a:srgbClr val="072428"/>
                </a:solidFill>
                <a:latin typeface="Verdana"/>
              </a:rPr>
              <a:t>Issue currency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72428"/>
                </a:solidFill>
                <a:latin typeface="Verdana"/>
              </a:rPr>
              <a:t>• </a:t>
            </a:r>
            <a:r>
              <a:rPr b="0" i="1" lang="en-US" sz="1800" spc="-1" strike="noStrike">
                <a:solidFill>
                  <a:srgbClr val="072428"/>
                </a:solidFill>
                <a:latin typeface="Verdana"/>
              </a:rPr>
              <a:t>Hold the country</a:t>
            </a:r>
            <a:r>
              <a:rPr b="0" i="1" lang="ja-JP" sz="1800" spc="-1" strike="noStrike">
                <a:solidFill>
                  <a:srgbClr val="072428"/>
                </a:solidFill>
                <a:latin typeface="Verdana"/>
              </a:rPr>
              <a:t>’</a:t>
            </a:r>
            <a:r>
              <a:rPr b="0" i="1" lang="en-US" sz="1800" spc="-1" strike="noStrike">
                <a:solidFill>
                  <a:srgbClr val="072428"/>
                </a:solidFill>
                <a:latin typeface="Verdana"/>
              </a:rPr>
              <a:t>s foreign reserve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72428"/>
                </a:solidFill>
                <a:latin typeface="Verdana"/>
              </a:rPr>
              <a:t>• </a:t>
            </a:r>
            <a:r>
              <a:rPr b="0" i="1" lang="en-US" sz="1800" spc="-1" strike="noStrike">
                <a:solidFill>
                  <a:srgbClr val="072428"/>
                </a:solidFill>
                <a:latin typeface="Verdana"/>
              </a:rPr>
              <a:t>Oversee the monetary system, supervise banks and monitor financial stability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72428"/>
                </a:solidFill>
                <a:latin typeface="Verdana"/>
              </a:rPr>
              <a:t>• </a:t>
            </a:r>
            <a:r>
              <a:rPr b="0" i="1" lang="en-US" sz="1800" spc="-1" strike="noStrike">
                <a:solidFill>
                  <a:srgbClr val="072428"/>
                </a:solidFill>
                <a:latin typeface="Verdana"/>
              </a:rPr>
              <a:t>Serve as lender of last resort to the system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Balance Sheet: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77B0-2363-43BD-AB97-DAEF83C93C2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2124000" y="3860640"/>
            <a:ext cx="6369120" cy="3544920"/>
          </a:xfrm>
          <a:prstGeom prst="rect">
            <a:avLst/>
          </a:prstGeom>
          <a:ln w="0">
            <a:noFill/>
          </a:ln>
        </p:spPr>
      </p:pic>
      <p:sp>
        <p:nvSpPr>
          <p:cNvPr id="123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640" y="981000"/>
            <a:ext cx="684036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5ec1"/>
                </a:solidFill>
                <a:latin typeface="Verdana"/>
              </a:rPr>
              <a:t>Commercial Bank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28240" y="15235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d5ec1"/>
                </a:solidFill>
                <a:latin typeface="Verdana"/>
              </a:rPr>
              <a:t>Function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e5"/>
              </a:buClr>
              <a:buSzPct val="131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Provide financial intermediation to savers and investors/borrowers.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00e5"/>
              </a:buClr>
              <a:buSzPct val="131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Affect money supply and liquidity in the economy (through their deposit taking and lending behaviors).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00e5"/>
              </a:buClr>
              <a:buSzPct val="131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Help transmit monetary policy from the monetary authorities to the economy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d5ec1"/>
                </a:solidFill>
                <a:latin typeface="Verdana"/>
              </a:rPr>
              <a:t>Balance Sheet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7265-B757-49B2-A781-38D0237AD45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27" name="Objet 1"/>
          <p:cNvGraphicFramePr/>
          <p:nvPr/>
        </p:nvGraphicFramePr>
        <p:xfrm>
          <a:off x="2556000" y="3933720"/>
          <a:ext cx="5508360" cy="339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Obje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3933720"/>
                    <a:ext cx="5508360" cy="33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822960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The Monetary Survey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1676520"/>
            <a:ext cx="9036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The Monetary Survey is the consolidated balance sheet for the entire banking system (Commercial Banks and Monetary Authorities)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Present, in a timely fashion, data on monetary and credit developments for the entire banking system. Data are available at quite high frequency (monthly)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172E-C571-4FFC-8CF1-C2D58B0F6B7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33" name="Objet 1"/>
          <p:cNvGraphicFramePr/>
          <p:nvPr/>
        </p:nvGraphicFramePr>
        <p:xfrm>
          <a:off x="1547640" y="3573360"/>
          <a:ext cx="5915160" cy="365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Obje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3573360"/>
                    <a:ext cx="59151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80880" y="15235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0c0"/>
                </a:solidFill>
                <a:latin typeface="Verdana"/>
              </a:rPr>
              <a:t>Balance of payments and Money suppl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Verdana"/>
                <a:ea typeface="Times New Roman"/>
              </a:rPr>
              <a:t>In the Monetary Survey </a:t>
            </a:r>
            <a:r>
              <a:rPr b="0" i="1" lang="en-U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: </a:t>
            </a: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262626"/>
                </a:solidFill>
                <a:latin typeface="Symbol"/>
                <a:ea typeface="Symbol"/>
              </a:rPr>
              <a:t></a:t>
            </a: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M2 = </a:t>
            </a:r>
            <a:r>
              <a:rPr b="0" i="1" lang="en-US" sz="2000" spc="-1" strike="noStrike">
                <a:solidFill>
                  <a:srgbClr val="262626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 NFA - </a:t>
            </a:r>
            <a:r>
              <a:rPr b="0" i="1" lang="en-US" sz="2000" spc="-1" strike="noStrike">
                <a:solidFill>
                  <a:srgbClr val="262626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 NDA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The change in money supply is equal to the change in the net foreign assets in the banking sector minus the change in net domestic credit.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In the BoP : </a:t>
            </a:r>
            <a:r>
              <a:rPr b="0" lang="en-US" sz="2000" spc="-1" strike="noStrike">
                <a:solidFill>
                  <a:srgbClr val="262626"/>
                </a:solidFill>
                <a:latin typeface="Verdana"/>
              </a:rPr>
              <a:t>Change in FX reserves = CAB + CFAB = </a:t>
            </a:r>
            <a:r>
              <a:rPr b="0" lang="en-US" sz="2000" spc="-1" strike="noStrike">
                <a:solidFill>
                  <a:srgbClr val="262626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262626"/>
                </a:solidFill>
                <a:latin typeface="Verdana"/>
              </a:rPr>
              <a:t> NFA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           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            </a:t>
            </a: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The external sector (through changes in foreign exchange reserves) has an impact on Money Supply.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      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A58E-71A1-498B-8D47-F598CC2F513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Flèche droite 1"/>
          <p:cNvSpPr/>
          <p:nvPr/>
        </p:nvSpPr>
        <p:spPr>
          <a:xfrm>
            <a:off x="539640" y="5084640"/>
            <a:ext cx="1368360" cy="216000"/>
          </a:xfrm>
          <a:prstGeom prst="rightArrow">
            <a:avLst>
              <a:gd name="adj1" fmla="val 50000"/>
              <a:gd name="adj2" fmla="val 5000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Flèche droite 2"/>
          <p:cNvSpPr/>
          <p:nvPr/>
        </p:nvSpPr>
        <p:spPr>
          <a:xfrm>
            <a:off x="436680" y="4437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50560" y="1125360"/>
            <a:ext cx="8816760" cy="535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Verdana"/>
              </a:rPr>
              <a:t>Monetary aggregat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Mo (Monetary base= currency in circulation + reserves of commercial banks at the CB );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M1 (currency, checkable (or demand) deposits);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M2 (M1 + savings deposits, time deposits, money market funds);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M3 (M2 + special time deposits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Verdana"/>
              </a:rPr>
              <a:t>The Monetary base is controlled by the Central Bank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Verdana"/>
              </a:rPr>
              <a:t>M1, M2, and M3 are not fully controlled by the CB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Verdana"/>
              </a:rPr>
              <a:t>Money Multiplier = M2/M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Verdana"/>
              </a:rPr>
              <a:t>Money Velocity = GDP/M2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29AB-2CF9-45D3-A266-79406EDB095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B67D-52D3-4909-B336-1DF170FE834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ZoneTexte 4"/>
          <p:cNvSpPr/>
          <p:nvPr/>
        </p:nvSpPr>
        <p:spPr>
          <a:xfrm>
            <a:off x="224280" y="549360"/>
            <a:ext cx="37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624"/>
                </a:solidFill>
                <a:latin typeface="Verdana"/>
              </a:rPr>
              <a:t>Cambodia, Monetary survey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ZoneTexte 5"/>
          <p:cNvSpPr/>
          <p:nvPr/>
        </p:nvSpPr>
        <p:spPr>
          <a:xfrm>
            <a:off x="239760" y="6381720"/>
            <a:ext cx="37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f5494"/>
                </a:solidFill>
                <a:latin typeface="Verdana"/>
              </a:rPr>
              <a:t>Source: IMF, 2016,Article IV report, Cambodia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8" name="Picture 8" descr=""/>
          <p:cNvPicPr/>
          <p:nvPr/>
        </p:nvPicPr>
        <p:blipFill>
          <a:blip r:embed="rId1"/>
          <a:stretch/>
        </p:blipFill>
        <p:spPr>
          <a:xfrm>
            <a:off x="2490840" y="1413000"/>
            <a:ext cx="550080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Anne Epaulard</cp:lastModifiedBy>
  <cp:lastPrinted>2015-06-02T09:44:00Z</cp:lastPrinted>
  <dcterms:modified xsi:type="dcterms:W3CDTF">2017-05-02T15:14:58Z</dcterms:modified>
  <cp:revision>223</cp:revision>
  <dc:subject/>
  <dc:title>Slide 1</dc:title>
</cp:coreProperties>
</file>