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9AD77-8A19-4486-94BE-6F0CCFF3FDE8}"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4040" cy="3722760"/>
          </a:xfrm>
          <a:prstGeom prst="rect">
            <a:avLst/>
          </a:prstGeom>
          <a:ln w="0">
            <a:noFill/>
          </a:ln>
        </p:spPr>
      </p:sp>
      <p:sp>
        <p:nvSpPr>
          <p:cNvPr id="1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search and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im of this project is that the Centre functions as a “think tank”, operating as an incubator for academic international exchange and applied research in the field of heritage preservation, as well as an expert pool for consultancy activities. A physical and digital archive containing the result of the research and other documentation should have been available to the public since beginning of 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 documentation, expertise and lobbying is delayed due to the long negotiations with the city. However, if they can get it right, there will be a lobby and research organisation effectively embedded in the city – this will bring additional human capital and international links and could be extremely benefi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a:t>
            </a:r>
            <a:r>
              <a:rPr b="1" lang="en-GB" sz="1200" spc="-1" strike="noStrike">
                <a:solidFill>
                  <a:srgbClr val="000000"/>
                </a:solidFill>
                <a:latin typeface="Arial"/>
              </a:rPr>
              <a:t>World Bank has included DARCH in their consultation process with regard to the “Dar Metropolitan Programme” </a:t>
            </a:r>
            <a:r>
              <a:rPr b="0" lang="en-GB" sz="1200" spc="-1" strike="noStrike">
                <a:solidFill>
                  <a:srgbClr val="000000"/>
                </a:solidFill>
                <a:latin typeface="Arial"/>
              </a:rPr>
              <a:t>and the inclusion of sustainable heritage management strateg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allenge of the project is to use these advisory services as an </a:t>
            </a:r>
            <a:r>
              <a:rPr b="1" lang="en-GB" sz="1200" spc="-1" strike="noStrike">
                <a:solidFill>
                  <a:srgbClr val="000000"/>
                </a:solidFill>
                <a:latin typeface="Arial"/>
              </a:rPr>
              <a:t>income generation activity</a:t>
            </a:r>
            <a:r>
              <a:rPr b="0" lang="en-GB" sz="1200" spc="-1" strike="noStrike">
                <a:solidFill>
                  <a:srgbClr val="000000"/>
                </a:solidFill>
                <a:latin typeface="Arial"/>
              </a:rPr>
              <a:t>, as they still consider that they are not mature enough to ask for consultancy fees, and prioritise promotion so as to gain credibility an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project wants to have an immediate impact in </a:t>
            </a:r>
            <a:r>
              <a:rPr b="1" lang="en-GB" sz="1200" spc="-1" strike="noStrike">
                <a:solidFill>
                  <a:srgbClr val="000000"/>
                </a:solidFill>
                <a:latin typeface="Arial"/>
              </a:rPr>
              <a:t>advocacy and lobby </a:t>
            </a:r>
            <a:r>
              <a:rPr b="0" lang="en-GB" sz="1200" spc="-1" strike="noStrike">
                <a:solidFill>
                  <a:srgbClr val="000000"/>
                </a:solidFill>
                <a:latin typeface="Arial"/>
              </a:rPr>
              <a:t>and be influential in decision-making for conservation objectives, it is crucial now to concentrate efforts in these two components (research &amp; expertise), together with the organisation of seminars and worksh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94EC-8871-44B4-B875-E13B0E163C3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4040" cy="3722760"/>
          </a:xfrm>
          <a:prstGeom prst="rect">
            <a:avLst/>
          </a:prstGeom>
          <a:ln w="0">
            <a:noFill/>
          </a:ln>
        </p:spPr>
      </p:sp>
      <p:sp>
        <p:nvSpPr>
          <p:cNvPr id="14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ublic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hind schedule (as almost everything due to the negoti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rban narratives project with students from Dar e and Berlin has already generated public discussions and narratives on the city. DO look at the website and read the very interesting st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public discussions are an important governance question – how can we involve citizens in defining what heritage is, whose heritage matters, and how to preserve what is good. There is very little public engagement by the City currently, and this could open up new ways of working and bringing in citizen particip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Dar Heritage Days 2015” - Collaboration with artists and other cultural centres to curate site-specific pieces of art was a very successful idea creating a different holistic offer of heritage walking tour. </a:t>
            </a:r>
            <a:endParaRPr b="0" lang="en-US" sz="1200" spc="-1" strike="noStrike">
              <a:solidFill>
                <a:srgbClr val="000000"/>
              </a:solidFill>
              <a:latin typeface="Arial"/>
            </a:endParaRPr>
          </a:p>
        </p:txBody>
      </p:sp>
      <p:sp>
        <p:nvSpPr>
          <p:cNvPr id="1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4147-95D9-4F63-AE25-04B657C901D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7640" y="744480"/>
            <a:ext cx="4964040" cy="3722760"/>
          </a:xfrm>
          <a:prstGeom prst="rect">
            <a:avLst/>
          </a:prstGeom>
          <a:ln w="0">
            <a:noFill/>
          </a:ln>
        </p:spPr>
      </p:sp>
      <p:sp>
        <p:nvSpPr>
          <p:cNvPr id="1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ultural heritage touris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urrently a strong strategy of the city (if it has a strategy), offers new ideas on generating income for the city and capitalising on through traffic between the bush and bea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gether with the tourist offer inside the Centre (info-desk, shop, café, exhibitions), the main activities consist of developing heritage signage for Dar city centre, developing walking tours and related material (maps, guidebook), and commercialising these walking guided tours. Most of them have been reprogrammed to next year once the facilities will be opened to the public, which is going to be very challenging taking into account the concentration of different delayed tasks in a limited remain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however important to highlight the good quality of the DARCH marketing strategy already drafted with an external consultant, which identifies entrance and tour fees, as well as products and services to be offered. A number of tours, routes and topics through the historical city have been identified and “informally” tested with the participants (architects, students, researchers, tourists, expats). – hopefully can also raise the city’s awar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1ED0-1A08-4C99-86F0-67CC0A328FC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404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ing with CSOs on specific topics can have an impact on LA’s and indirectly resource and support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need a lot of patience and to be a bit more flexible with the CSO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ilding capacity of CSOs that support LA’s is good, we could have done better to think about this ahead and plan for it. Now TZ Del is looking at how to support DSM city as a continuation of this project – will look at many areas outside of heritage and will look to support CSOs in similar collaboration with LA’s </a:t>
            </a:r>
            <a:endParaRPr b="0" lang="en-US" sz="1200" spc="-1" strike="noStrike">
              <a:solidFill>
                <a:srgbClr val="000000"/>
              </a:solidFill>
              <a:latin typeface="Arial"/>
            </a:endParaRPr>
          </a:p>
        </p:txBody>
      </p:sp>
      <p:sp>
        <p:nvSpPr>
          <p:cNvPr id="1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A0DC-69C8-405C-9A99-4C3D5AAE937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4040" cy="3722760"/>
          </a:xfrm>
          <a:prstGeom prst="rect">
            <a:avLst/>
          </a:prstGeom>
          <a:ln w="0">
            <a:noFill/>
          </a:ln>
        </p:spPr>
      </p:sp>
      <p:sp>
        <p:nvSpPr>
          <p:cNvPr id="12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a need to focus on the arts and heritage to support people with a sense of place, pride, hope. Heritage gives a place a soul. Why do we generally go to Africa only for animals and beaches, why do we not have cities and heritage as tourism attractions? </a:t>
            </a:r>
            <a:endParaRPr b="0" lang="en-US" sz="1200" spc="-1" strike="noStrike">
              <a:solidFill>
                <a:srgbClr val="000000"/>
              </a:solidFill>
              <a:latin typeface="Arial"/>
            </a:endParaRPr>
          </a:p>
        </p:txBody>
      </p:sp>
      <p:sp>
        <p:nvSpPr>
          <p:cNvPr id="12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BF82-F878-4513-A9A5-446C4775B24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7640" y="744480"/>
            <a:ext cx="4964040" cy="3722760"/>
          </a:xfrm>
          <a:prstGeom prst="rect">
            <a:avLst/>
          </a:prstGeom>
          <a:ln w="0">
            <a:noFill/>
          </a:ln>
        </p:spPr>
      </p:sp>
      <p:sp>
        <p:nvSpPr>
          <p:cNvPr id="124"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llion Eur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0,000 – 11 grant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000,000 – 8 grants: focus of this presentation</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the development and capacity strengthening of the cultural heritage and creative industries sectors in Tanzania</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8 grants to CSOs and 1 grant to a government body; two universities given grant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and only programme like this in Tanzania - Many other organisations/ MS provide support to cultural activities, but these usually show case European culture or are very limited.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s the most support to culture out of DP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fically focused on Tanzanian Culture and Heritage rather than bringing EU heritage</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ements the ACP Cultures+ work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ements economic growth, tourism, diverse voices, preservation of history and cultur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5773-F9DC-4E6D-BB0C-73C21E693A0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17640" y="744480"/>
            <a:ext cx="4964040" cy="3722760"/>
          </a:xfrm>
          <a:prstGeom prst="rect">
            <a:avLst/>
          </a:prstGeom>
          <a:ln w="0">
            <a:noFill/>
          </a:ln>
        </p:spPr>
      </p:sp>
      <p:sp>
        <p:nvSpPr>
          <p:cNvPr id="127"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APs required that the entities working on cultural heritage had to have ‘the capacity, links, and cooperation to work with government to ensure sustainability’ in the long run</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ocused on fewer projects to have a deeper impact rather than many projects, as heritage is resource intensive (500,000 – 2 million EUR)</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artly decentralised management: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ong buy in and support by NAO, active monitoring</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ose cooperation with the Min Nat resources designed (project supervisor) esp dep of Antiquitie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s initially earmarked for the Min of Nat resources to manage the project, they never drafted the PE and much less resources were then channelled to them via the NAO. They came on board very late  - unclear why. Perhaps as the projects started bearing fruit they wanted to be attached, or their involvement was required further into implementation?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egation project management was quite fragmented (high staff turnover) which resulted in irregular and unsteady communication and some problems. Close EU involvement was quite important. Projects are great for visibility – easy to see, good photos and outputs, very tangible.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l gov engaged on a project by project basis</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68CD-70BF-4581-8863-EB15834E271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4040" cy="3722760"/>
          </a:xfrm>
          <a:prstGeom prst="rect">
            <a:avLst/>
          </a:prstGeom>
          <a:ln w="0">
            <a:noFill/>
          </a:ln>
        </p:spPr>
      </p:sp>
      <p:sp>
        <p:nvSpPr>
          <p:cNvPr id="130"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n-profit making and be specific types of organisations such as: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n-governmental organisation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ublic sector operator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l authoritie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ternational (inter-governmental) organisations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 established in Tanzania or work with a partner who is established in Tanzania</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8394-7CF9-4FF5-B1FE-2C488D2F829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7640" y="744480"/>
            <a:ext cx="4964040" cy="3722760"/>
          </a:xfrm>
          <a:prstGeom prst="rect">
            <a:avLst/>
          </a:prstGeom>
          <a:ln w="0">
            <a:noFill/>
          </a:ln>
        </p:spPr>
      </p:sp>
      <p:sp>
        <p:nvSpPr>
          <p:cNvPr id="133"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FP eligibility criteria shaped the partnerships: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ped the partnerships and interactions that formed – forced the CSOs and local government to work together and with national government. District councils and LA’s often a partner</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applicant must act with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two partner organisation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applicant is not established in Tanzania, at least one of these two partner organisations must be established in Tanzania.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rtnerships between non-state actors, administrative authorities and agencies at national, regional and local levels, and/or with local authorities and other decentralised public organisms are encouraged. Partnerships have to be operational and not purely formal</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23A2-D335-4F4A-92DF-5041EE06AA0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4040" cy="3722760"/>
          </a:xfrm>
          <a:prstGeom prst="rect">
            <a:avLst/>
          </a:prstGeom>
          <a:ln w="0">
            <a:noFill/>
          </a:ln>
        </p:spPr>
      </p:sp>
      <p:sp>
        <p:nvSpPr>
          <p:cNvPr id="136" name="PlaceHolder 2"/>
          <p:cNvSpPr>
            <a:spLocks noGrp="1"/>
          </p:cNvSpPr>
          <p:nvPr>
            <p:ph type="body"/>
          </p:nvPr>
        </p:nvSpPr>
        <p:spPr>
          <a:xfrm>
            <a:off x="679320" y="4714560"/>
            <a:ext cx="5438880" cy="4467240"/>
          </a:xfrm>
          <a:prstGeom prst="rect">
            <a:avLst/>
          </a:prstGeom>
          <a:noFill/>
          <a:ln w="0">
            <a:noFill/>
          </a:ln>
        </p:spPr>
        <p:txBody>
          <a:bodyPr anchor="t">
            <a:noAutofit/>
          </a:bodyPr>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lwa </a:t>
            </a:r>
            <a:endParaRPr b="0" lang="en-US" sz="12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inga</a:t>
            </a:r>
            <a:endParaRPr b="0" lang="en-US" sz="12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Zanzibar</a:t>
            </a:r>
            <a:endParaRPr b="0" lang="en-US" sz="12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a River</a:t>
            </a:r>
            <a:endParaRPr b="0" lang="en-US" sz="12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r es Salaam</a:t>
            </a:r>
            <a:endParaRPr b="0" lang="en-US" sz="12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gorogoro</a:t>
            </a:r>
            <a:endParaRPr b="0" lang="en-US" sz="12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ne Town </a:t>
            </a:r>
            <a:endParaRPr b="0" lang="en-US" sz="12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ESCO</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 projects (plus one DCI gran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erse goals – restoration, tourism, intangible heritage, digitalisation, remembering the past, preservation</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jects were most likely to work with LAs if they involved restoration of buildings (Iringa, DSM, Stone Town) or tourism &amp; local development (Kilwa). All worked with the national authorities in some way. </a:t>
            </a:r>
            <a:endParaRPr b="0" lang="en-US" sz="1200" spc="-1" strike="noStrike">
              <a:solidFill>
                <a:srgbClr val="000000"/>
              </a:solidFill>
              <a:latin typeface="Arial"/>
            </a:endParaRPr>
          </a:p>
        </p:txBody>
      </p:sp>
      <p:sp>
        <p:nvSpPr>
          <p:cNvPr id="1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BEC1-EA33-40EA-9EA1-F7637E2ABB4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4040" cy="3722760"/>
          </a:xfrm>
          <a:prstGeom prst="rect">
            <a:avLst/>
          </a:prstGeom>
          <a:ln w="0">
            <a:noFill/>
          </a:ln>
        </p:spPr>
      </p:sp>
      <p:sp>
        <p:nvSpPr>
          <p:cNvPr id="139"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this project? :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ose collaboration with the city council from the beginning. Allowed them to gain trust and get the oldest building in DSM.</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ng negotiation process, but set a firm foundation</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share the building with the city when it is done – physical closeness may allow additional ongoing collaboration</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ity needs support and advocacy for heritage buildings – great way to start working with them rather than against them</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cused on: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toration of the Old Boma</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 and documentation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acity building for professionals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warenes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heritage tourism</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0E7E4-5352-400C-992E-C2FD44C17AA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4040" cy="3722760"/>
          </a:xfrm>
          <a:prstGeom prst="rect">
            <a:avLst/>
          </a:prstGeom>
          <a:ln w="0">
            <a:noFill/>
          </a:ln>
        </p:spPr>
      </p:sp>
      <p:sp>
        <p:nvSpPr>
          <p:cNvPr id="1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r es Salaam is considered one of the fastest growing cities in the sub-Saharan Africa where there has been an explosion of vertical growth with little consideration to heritage and sustainability. </a:t>
            </a:r>
            <a:r>
              <a:rPr b="0" i="1" lang="en-GB" sz="1200" spc="-1" strike="noStrike">
                <a:solidFill>
                  <a:srgbClr val="000000"/>
                </a:solidFill>
                <a:latin typeface="Arial"/>
              </a:rPr>
              <a:t>Due to </a:t>
            </a:r>
            <a:r>
              <a:rPr b="0" i="1" lang="en-GB" sz="1200" spc="-1" strike="noStrike">
                <a:solidFill>
                  <a:srgbClr val="0070c0"/>
                </a:solidFill>
                <a:latin typeface="Arial"/>
              </a:rPr>
              <a:t>economic pressure and weak regulatory environment, the city’s urban heritage is heavily threatened</a:t>
            </a:r>
            <a:r>
              <a:rPr b="0" i="1" lang="en-GB" sz="1200" spc="-1" strike="noStrike">
                <a:solidFill>
                  <a:srgbClr val="000000"/>
                </a:solidFill>
                <a:latin typeface="Arial"/>
              </a:rPr>
              <a:t>, </a:t>
            </a:r>
            <a:r>
              <a:rPr b="0" lang="en-GB" sz="1200" spc="-1" strike="noStrike">
                <a:solidFill>
                  <a:srgbClr val="000000"/>
                </a:solidFill>
                <a:latin typeface="Arial"/>
              </a:rPr>
              <a:t>historical buildings are being demolished with little consideration to the cultural value of these buildings. Public awareness and government consciousness is still weak, hence the need and the relevance of this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public authorities approach to conservation of historical buildings is linked to economic viabilit</a:t>
            </a:r>
            <a:r>
              <a:rPr b="0" lang="en-GB" sz="1200" spc="-1" strike="noStrike">
                <a:solidFill>
                  <a:srgbClr val="000000"/>
                </a:solidFill>
                <a:latin typeface="Arial"/>
              </a:rPr>
              <a:t>y, which is quite opposed to current real estate investors’ interest. The need to </a:t>
            </a:r>
            <a:r>
              <a:rPr b="1" lang="en-GB" sz="1200" spc="-1" strike="noStrike">
                <a:solidFill>
                  <a:srgbClr val="000000"/>
                </a:solidFill>
                <a:latin typeface="Arial"/>
              </a:rPr>
              <a:t>create innovative models and examples proving the economic viability of historical buildings for the promotion of the historical urban heritage </a:t>
            </a:r>
            <a:r>
              <a:rPr b="0" lang="en-GB" sz="1200" spc="-1" strike="noStrike">
                <a:solidFill>
                  <a:srgbClr val="000000"/>
                </a:solidFill>
                <a:latin typeface="Arial"/>
              </a:rPr>
              <a:t>is therefore jus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stitutional set-up of DARCH (working with the city) as planned in the proposal, has been a </a:t>
            </a:r>
            <a:r>
              <a:rPr b="1" lang="en-GB" sz="1200" spc="-1" strike="noStrike">
                <a:solidFill>
                  <a:srgbClr val="000000"/>
                </a:solidFill>
                <a:latin typeface="Arial"/>
              </a:rPr>
              <a:t>major challenge </a:t>
            </a:r>
            <a:r>
              <a:rPr b="0" lang="en-GB" sz="1200" spc="-1" strike="noStrike">
                <a:solidFill>
                  <a:srgbClr val="000000"/>
                </a:solidFill>
                <a:latin typeface="Arial"/>
              </a:rPr>
              <a:t>for the project during the inception phase. The participatory approach promoted by the project in decision-making has resulted in </a:t>
            </a:r>
            <a:r>
              <a:rPr b="1" lang="en-GB" sz="1200" spc="-1" strike="noStrike">
                <a:solidFill>
                  <a:srgbClr val="000000"/>
                </a:solidFill>
                <a:latin typeface="Arial"/>
              </a:rPr>
              <a:t>more than a year of negotiations </a:t>
            </a:r>
            <a:r>
              <a:rPr b="0" lang="en-GB" sz="1200" spc="-1" strike="noStrike">
                <a:solidFill>
                  <a:srgbClr val="000000"/>
                </a:solidFill>
                <a:latin typeface="Arial"/>
              </a:rPr>
              <a:t>to define the organisation standards, internal guidelines and responsibilities. The exercise was surely necessary to establish a commonly agreed set-up for DARCH, respected and agreed by all beyond the EU project. It has however considerably slowed the operational implementation of th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 influential parties include the Architects Association Tanzania (AAT) and the technical publication ANZA as professional stakeholders, the University of Berlin and Tanzania as academic stakeholders, </a:t>
            </a:r>
            <a:r>
              <a:rPr b="1" lang="en-GB" sz="1200" spc="-1" strike="noStrike">
                <a:solidFill>
                  <a:srgbClr val="000000"/>
                </a:solidFill>
                <a:latin typeface="Arial"/>
              </a:rPr>
              <a:t>Antiquities Division of Ministry of Natural Resources and Tourism, and Dar es Salaam City Council </a:t>
            </a:r>
            <a:r>
              <a:rPr b="0" lang="en-GB" sz="1200" spc="-1" strike="noStrike">
                <a:solidFill>
                  <a:srgbClr val="000000"/>
                </a:solidFill>
                <a:latin typeface="Arial"/>
              </a:rPr>
              <a:t>representing the public bodies among others. They all form part of the organisational structure of the project and play a crucial role in decision making and piloting of the project. The committed participation of all these stakeholders in the decision-making has secured institutional sustainability but at the same time delayed operational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s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to realise that working with public bodies (especially LAs) is much slower than working with only CSOs. LA’s in particular are often poorly resourced and lack strong decision making power. They are not as politically powerful, capacitated or visible as national authorities. CFP need to allow for these challenges and be flexible in implement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RCH has been given the permission to also develop a public garden around the building now and the processes has been quicker as there was already an established base to work from</a:t>
            </a:r>
            <a:endParaRPr b="0" lang="en-US" sz="1200" spc="-1" strike="noStrike">
              <a:solidFill>
                <a:srgbClr val="000000"/>
              </a:solidFill>
              <a:latin typeface="Arial"/>
            </a:endParaRPr>
          </a:p>
        </p:txBody>
      </p:sp>
      <p:sp>
        <p:nvSpPr>
          <p:cNvPr id="1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A4A49-FE82-4DD4-97C5-BA3C22B6A2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0ABF0-2F0C-481C-AC22-E07458FEB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BA62A-B022-4A70-A895-70A35BDAD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9C71A-78FA-4A38-A924-6F5E49066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F534C-ECFF-4A30-B189-F2D220193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A26B57-D834-41F3-98F0-D7F5018740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3A28E-D995-403A-8BAB-1A842A3B2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04C66-C6E7-4973-904F-93AE0A17C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2CF55-0D08-4AF4-A21A-F85E0C1CB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3CEDB-99C0-43E2-A186-233E062BF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AC7FC-DD59-4C89-97BE-E37D27DB0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3BC64-1A66-44D9-8908-EBFF42446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E7832-2BF2-4395-B695-E0617AD0F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871C9-0C3C-4F56-8A2B-33C3F1961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78E40-CA90-46E6-9A1F-436CA32D0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AB009-C668-4091-A22D-002A1A4D4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32E33-C750-4774-BAA7-40942F0ADA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9B49D-0589-4344-AAA7-F23972A8B9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1E306-1DD2-4094-A1F7-0F6DF4E6A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E33EF-16B7-4410-8F80-4F31815D5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C82C7-0555-4552-AD42-8856F2DE5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3A791-6913-4EA4-A56A-64912A0FF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AE457-9083-4FAA-A51C-4AFC82F40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8968B-D082-4EED-8C24-434220A36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E3E8F-9B16-449C-AEE1-056E7B14D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3A02-E420-4702-B095-2DCA5846912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56E6-7ABF-46AF-8C70-4B136CB5047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954080"/>
            <a:ext cx="8964720" cy="79056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6000" spc="-1" strike="noStrike">
                <a:solidFill>
                  <a:srgbClr val="ffd624"/>
                </a:solidFill>
                <a:latin typeface="Verdana"/>
              </a:rPr>
              <a:t>TALD: </a:t>
            </a:r>
            <a:r>
              <a:rPr b="1" lang="fr-BE" sz="4800" spc="-1" strike="noStrike">
                <a:solidFill>
                  <a:srgbClr val="ffd624"/>
                </a:solidFill>
                <a:latin typeface="Verdana"/>
              </a:rPr>
              <a:t>10th EDF Support to Cultural </a:t>
            </a:r>
            <a:r>
              <a:rPr b="1" lang="en-GB" sz="4800" spc="-1" strike="noStrike">
                <a:solidFill>
                  <a:srgbClr val="ffd624"/>
                </a:solidFill>
                <a:latin typeface="Verdana"/>
              </a:rPr>
              <a:t>Heritage</a:t>
            </a:r>
            <a:endParaRPr b="1" lang="en-US" sz="4800" spc="-1" strike="noStrike">
              <a:solidFill>
                <a:srgbClr val="0f5494"/>
              </a:solidFill>
              <a:latin typeface="Verdana"/>
            </a:endParaRPr>
          </a:p>
        </p:txBody>
      </p:sp>
      <p:pic>
        <p:nvPicPr>
          <p:cNvPr id="96" name="Picture 5" descr=""/>
          <p:cNvPicPr/>
          <p:nvPr/>
        </p:nvPicPr>
        <p:blipFill>
          <a:blip r:embed="rId1"/>
          <a:stretch/>
        </p:blipFill>
        <p:spPr>
          <a:xfrm>
            <a:off x="2484360" y="3670200"/>
            <a:ext cx="3995640" cy="29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itle 1"/>
          <p:cNvSpPr/>
          <p:nvPr/>
        </p:nvSpPr>
        <p:spPr>
          <a:xfrm>
            <a:off x="395280" y="1339920"/>
            <a:ext cx="8229600" cy="936720"/>
          </a:xfrm>
          <a:prstGeom prst="rect">
            <a:avLst/>
          </a:prstGeom>
          <a:noFill/>
          <a:ln w="0">
            <a:noFill/>
          </a:ln>
        </p:spPr>
        <p:style>
          <a:lnRef idx="0"/>
          <a:fillRef idx="0"/>
          <a:effectRef idx="0"/>
          <a:fontRef idx="minor"/>
        </p:style>
        <p:txBody>
          <a:bodyPr lIns="90000" rIns="90000" tIns="46800" bIns="46800" anchor="t">
            <a:norm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RCH! – EXPERTISE AND INFLUENCE</a:t>
            </a:r>
            <a:endParaRPr b="0" lang="en-US" sz="3000" spc="-1" strike="noStrike">
              <a:solidFill>
                <a:srgbClr val="0f5494"/>
              </a:solidFill>
              <a:latin typeface="Verdana"/>
            </a:endParaRPr>
          </a:p>
        </p:txBody>
      </p:sp>
      <p:pic>
        <p:nvPicPr>
          <p:cNvPr id="113" name="Picture 5" descr="https://z-1-scontent.xx.fbcdn.net/hphotos-xat1/v/t1.0-9/12088547_1788338951392857_4569906741803080446_n.jpg?oh=89e603c9b54c882d23346fa28913651d&amp;oe=577B2B1C"/>
          <p:cNvPicPr/>
          <p:nvPr/>
        </p:nvPicPr>
        <p:blipFill>
          <a:blip r:embed="rId1"/>
          <a:stretch/>
        </p:blipFill>
        <p:spPr>
          <a:xfrm>
            <a:off x="1258920" y="2536920"/>
            <a:ext cx="5943600" cy="432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RCH! – PUBLIC AWARENESS </a:t>
            </a:r>
            <a:endParaRPr b="1" lang="en-US" sz="3000" spc="-1" strike="noStrike">
              <a:solidFill>
                <a:srgbClr val="0f5494"/>
              </a:solidFill>
              <a:latin typeface="Verdana"/>
            </a:endParaRPr>
          </a:p>
        </p:txBody>
      </p:sp>
      <p:pic>
        <p:nvPicPr>
          <p:cNvPr id="115" name="Picture 5" descr="https://z-1-scontent.xx.fbcdn.net/hphotos-xtp1/v/t1.0-9/12928361_1857816781111740_1505745420957212497_n.jpg?oh=37d52e266d5b630e455ed8faec757f08&amp;oe=57BF1BBD"/>
          <p:cNvPicPr/>
          <p:nvPr/>
        </p:nvPicPr>
        <p:blipFill>
          <a:blip r:embed="rId1"/>
          <a:stretch/>
        </p:blipFill>
        <p:spPr>
          <a:xfrm>
            <a:off x="1979640" y="2708280"/>
            <a:ext cx="5472000" cy="3882960"/>
          </a:xfrm>
          <a:prstGeom prst="rect">
            <a:avLst/>
          </a:prstGeom>
          <a:ln w="0">
            <a:noFill/>
          </a:ln>
        </p:spPr>
      </p:pic>
      <p:sp>
        <p:nvSpPr>
          <p:cNvPr id="116" name="TextBox 4"/>
          <p:cNvSpPr/>
          <p:nvPr/>
        </p:nvSpPr>
        <p:spPr>
          <a:xfrm>
            <a:off x="297000" y="2117880"/>
            <a:ext cx="8426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c8c93"/>
                </a:solidFill>
                <a:latin typeface="Verdana"/>
              </a:rPr>
              <a:t>www.urbannarratives.org</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RCH! CULTURAL HERITAGE TOURISM</a:t>
            </a:r>
            <a:endParaRPr b="1" lang="en-US" sz="3000" spc="-1" strike="noStrike">
              <a:solidFill>
                <a:srgbClr val="0f5494"/>
              </a:solidFill>
              <a:latin typeface="Verdana"/>
            </a:endParaRPr>
          </a:p>
        </p:txBody>
      </p:sp>
      <p:pic>
        <p:nvPicPr>
          <p:cNvPr id="118" name="Picture 7" descr="https://chronicaminora.files.wordpress.com/2013/07/heritage-trail-launch321102.jpg"/>
          <p:cNvPicPr/>
          <p:nvPr/>
        </p:nvPicPr>
        <p:blipFill>
          <a:blip r:embed="rId1"/>
          <a:stretch/>
        </p:blipFill>
        <p:spPr>
          <a:xfrm>
            <a:off x="1187280" y="2298600"/>
            <a:ext cx="6410520" cy="4273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https://t2.ftcdn.net/jpg/00/90/12/75/500_F_90127516_WoTKrr9rPeXapTeCbtNBW5dRmrdCzlpL.jpg"/>
          <p:cNvPicPr/>
          <p:nvPr/>
        </p:nvPicPr>
        <p:blipFill>
          <a:blip r:embed="rId1"/>
          <a:stretch/>
        </p:blipFill>
        <p:spPr>
          <a:xfrm>
            <a:off x="1403280" y="1773360"/>
            <a:ext cx="6408720" cy="41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The arts are essential to any complete national life. The State owes it to itself to sustain and encourage them….Ill fares the race which fails to salute the arts with the reverence and delight which are their due.'' – Winston Churchill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50560" y="1339920"/>
            <a:ext cx="878508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TEXT: 10</a:t>
            </a:r>
            <a:r>
              <a:rPr b="1" lang="en-US" sz="3000" spc="-1" strike="noStrike" baseline="30000">
                <a:solidFill>
                  <a:srgbClr val="0f5494"/>
                </a:solidFill>
                <a:latin typeface="Verdana"/>
              </a:rPr>
              <a:t>TH</a:t>
            </a:r>
            <a:r>
              <a:rPr b="1" lang="en-US" sz="3000" spc="-1" strike="noStrike">
                <a:solidFill>
                  <a:srgbClr val="0f5494"/>
                </a:solidFill>
                <a:latin typeface="Verdana"/>
              </a:rPr>
              <a:t> EDF SUPPORT TO CULTURE</a:t>
            </a:r>
            <a:endParaRPr b="1" lang="en-US" sz="3000" spc="-1" strike="noStrike">
              <a:solidFill>
                <a:srgbClr val="0f5494"/>
              </a:solidFill>
              <a:latin typeface="Verdana"/>
            </a:endParaRPr>
          </a:p>
        </p:txBody>
      </p:sp>
      <p:pic>
        <p:nvPicPr>
          <p:cNvPr id="99" name="Picture 5" descr="http://www.hornblend.com/wp-content/themes/hornblend_v2/images/beads-cropped.jpg"/>
          <p:cNvPicPr/>
          <p:nvPr/>
        </p:nvPicPr>
        <p:blipFill>
          <a:blip r:embed="rId1"/>
          <a:stretch/>
        </p:blipFill>
        <p:spPr>
          <a:xfrm>
            <a:off x="1101600" y="2492280"/>
            <a:ext cx="708372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ULTURAL HERITAGE UNDER THE ACTION</a:t>
            </a:r>
            <a:endParaRPr b="1" lang="en-US" sz="3000" spc="-1" strike="noStrike">
              <a:solidFill>
                <a:srgbClr val="0f5494"/>
              </a:solidFill>
              <a:latin typeface="Verdana"/>
            </a:endParaRPr>
          </a:p>
        </p:txBody>
      </p:sp>
      <p:pic>
        <p:nvPicPr>
          <p:cNvPr id="101" name="Picture 2" descr="http://previews.123rf.com/images/radiantskies/radiantskies1301/radiantskies130100679/17197024-Abstract-word-cloud-for-Cultural-heritage-with-related-tags-and-terms-Stock-Photo.jpg"/>
          <p:cNvPicPr/>
          <p:nvPr/>
        </p:nvPicPr>
        <p:blipFill>
          <a:blip r:embed="rId1"/>
          <a:stretch/>
        </p:blipFill>
        <p:spPr>
          <a:xfrm>
            <a:off x="1932120" y="2276640"/>
            <a:ext cx="5155920" cy="423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LIGIBILITY FOR THE CFP </a:t>
            </a:r>
            <a:endParaRPr b="1" lang="en-US" sz="3000" spc="-1" strike="noStrike">
              <a:solidFill>
                <a:srgbClr val="0f5494"/>
              </a:solidFill>
              <a:latin typeface="Verdana"/>
            </a:endParaRPr>
          </a:p>
        </p:txBody>
      </p:sp>
      <p:pic>
        <p:nvPicPr>
          <p:cNvPr id="103" name="Picture 2" descr="http://www.cpa.ednet.ns.ca/wp-content/uploads/2015/03/Am-I-eligible.jpg"/>
          <p:cNvPicPr/>
          <p:nvPr/>
        </p:nvPicPr>
        <p:blipFill>
          <a:blip r:embed="rId1"/>
          <a:stretch/>
        </p:blipFill>
        <p:spPr>
          <a:xfrm>
            <a:off x="1835280" y="2249640"/>
            <a:ext cx="4010040" cy="401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252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ARTNERSHIPS</a:t>
            </a:r>
            <a:endParaRPr b="1" lang="en-US" sz="3000" spc="-1" strike="noStrike">
              <a:solidFill>
                <a:srgbClr val="0f5494"/>
              </a:solidFill>
              <a:latin typeface="Verdana"/>
            </a:endParaRPr>
          </a:p>
        </p:txBody>
      </p:sp>
      <p:pic>
        <p:nvPicPr>
          <p:cNvPr id="105" name="Picture 2" descr="http://www.qtacny.org/wp-content/uploads/partnerships.jpg"/>
          <p:cNvPicPr/>
          <p:nvPr/>
        </p:nvPicPr>
        <p:blipFill>
          <a:blip r:embed="rId1"/>
          <a:stretch/>
        </p:blipFill>
        <p:spPr>
          <a:xfrm>
            <a:off x="1525680" y="2565360"/>
            <a:ext cx="6081480" cy="362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EMERGED? </a:t>
            </a:r>
            <a:endParaRPr b="1" lang="en-US" sz="3000" spc="-1" strike="noStrike">
              <a:solidFill>
                <a:srgbClr val="0f5494"/>
              </a:solidFill>
              <a:latin typeface="Verdana"/>
            </a:endParaRPr>
          </a:p>
        </p:txBody>
      </p:sp>
      <p:pic>
        <p:nvPicPr>
          <p:cNvPr id="107" name="Picture 2" descr="https://photos-4.dropbox.com/t/2/AAAbd3e7MnXGoPvtBZUp3YR0jJSXDanM3L3pg33hPA_v2Q/12/37915310/jpeg/32x32/1/_/1/2/SAM_1867.JPG/EKyV4foDGFogBygH/nDkK80EPoVtHVbhUaVoH9utXDD2RZ2DVdOxqhiDJZS4?size=1024x768&amp;size_mode=3"/>
          <p:cNvPicPr/>
          <p:nvPr/>
        </p:nvPicPr>
        <p:blipFill>
          <a:blip r:embed="rId1"/>
          <a:stretch/>
        </p:blipFill>
        <p:spPr>
          <a:xfrm>
            <a:off x="1476360" y="2276640"/>
            <a:ext cx="5543640" cy="415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1989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RCH! ‘THE ARCHITECTURAL ASSOCIATION OF TANZANIA SOCIETY’</a:t>
            </a:r>
            <a:br>
              <a:rPr sz="3000"/>
            </a:br>
            <a:endParaRPr b="1" lang="en-US" sz="3000" spc="-1" strike="noStrike">
              <a:solidFill>
                <a:srgbClr val="0f5494"/>
              </a:solidFill>
              <a:latin typeface="Verdana"/>
            </a:endParaRPr>
          </a:p>
        </p:txBody>
      </p:sp>
      <p:pic>
        <p:nvPicPr>
          <p:cNvPr id="109" name="Picture 2" descr=""/>
          <p:cNvPicPr/>
          <p:nvPr/>
        </p:nvPicPr>
        <p:blipFill>
          <a:blip r:embed="rId1"/>
          <a:stretch/>
        </p:blipFill>
        <p:spPr>
          <a:xfrm>
            <a:off x="1703520" y="2930400"/>
            <a:ext cx="5902200" cy="338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RCH! – PUBLIC PARTNERSHIPS </a:t>
            </a:r>
            <a:endParaRPr b="1" lang="en-US" sz="3000" spc="-1" strike="noStrike">
              <a:solidFill>
                <a:srgbClr val="0f5494"/>
              </a:solidFill>
              <a:latin typeface="Verdana"/>
            </a:endParaRPr>
          </a:p>
        </p:txBody>
      </p:sp>
      <p:pic>
        <p:nvPicPr>
          <p:cNvPr id="111" name="Picture 3" descr=""/>
          <p:cNvPicPr/>
          <p:nvPr/>
        </p:nvPicPr>
        <p:blipFill>
          <a:blip r:embed="rId1"/>
          <a:stretch/>
        </p:blipFill>
        <p:spPr>
          <a:xfrm>
            <a:off x="1432080" y="2276640"/>
            <a:ext cx="6156000" cy="430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29T06:01:23Z</dcterms:created>
  <dc:creator>DU PLESSIS Alexa (EEAS-DAR ES SALAAM)</dc:creator>
  <dc:description/>
  <dc:language>en-US</dc:language>
  <cp:lastModifiedBy>Alexa Haden</cp:lastModifiedBy>
  <dcterms:modified xsi:type="dcterms:W3CDTF">2016-04-03T19:22:00Z</dcterms:modified>
  <cp:revision>29</cp:revision>
  <dc:subject/>
  <dc:title>TALD</dc:title>
</cp:coreProperties>
</file>