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BF71-287B-4E16-A95A-2DFD2E819F7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75C3-59E7-4D2E-9F48-BA12A3AAD1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B1FE-8C5C-45FF-8B6E-0E78637F56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45B7-3FD5-4BF6-91D8-3449FF9A8E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general course of action or proposed overall direction (“road map”) that a government is pursuing or intends to pursue, and which guides all “downstream” decision making; it usually reflects a long-term vision, defines high-level objectives and sets a number of priorities and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urposeful, forward-looking strategy, setting more precise objectives and coordinated priorities, that elaborates a policy and provides a framework for its implementation; it should ideally link objectives and priorities with the identification of required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, organised agenda or schedule of commitments, investments, projects and/or activities that elaborate and implement a plan and/or policy; it is the operational translation of a strategy, and will usually include a more detailed allocation of resources, as well as specific objectives to be achieved during a given tim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 set of activities that together, based on a detailed design, are expected to lead to the achievement of a specific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DF33-6FEE-4E96-933C-8139717E63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217D-84D6-4EAD-96D8-EAAE3377F8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5F90-1CDC-4FFE-AB44-1AC174762D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8F18-34AE-4832-BEB8-8C0DD58025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nd the Socio-economic situation both affect performance of different sectors (e.g. eroded grazing lands affect agriculture [e.g. critical in Lesotho]; large out-migration affects agricultural productivity [e.g. critical in Moldova]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development (planned and unplanned) also have impacts on the state of the environment and on the socio-economic situation (e.g. increase in use of pesticides as a policy for agricultural development can lead to water pollution and health impacts; construction of roads can fragment habitats and biological corrido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lso affects the socio-economic situation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ice ver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.g. low agricultural productivity is an incentive for migration and can also be an incentive for deforestation; water pollution affects heal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ages between the biophysical and socio-economic impacts of climate change are such that any specific effect tends to have implications in multipl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response, to be effective, thus also requires intersectoral coordination and integrated approa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rce resources must be allocated across sectors in the most efficient possible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tegrate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ased on a more comprehensive understanding of linkages, opportunities, risks and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ective respon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better coordination across sectors and between various levels of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icien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more enlightened prioritisation and alloc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more sustainabl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AAF3-82E5-4397-8CA6-151B371536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streaming at strategic levels complements adaptation/mitigation projects and supports better integration than standalone climate action plans (although a climate action plan may be an outcome of the mainstreaming pro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provides the overall guiding policy framework within which “lower” levels (sectoral and sub-national) ope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policies and programmes directly contribute to the operationalisation and implementation of national policies/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key functions are best exercised at national level (e.g. collection and analysis of climate-related data, setting up of early warning systems, overall disaster risk reduction plann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absence of a national-level response to climate change, sector-level initiatives may start developing capacities and good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ional as well as sector-specific legislation/regulations: (i) affect vulnerability and adaptive capacity, and  (ii) create incentives and disincentives to engage in climate adaptation and mitig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manages international relations. This is important for shared resource management (e.g. cross-border river basins), for the implementation of international treaties including the UNFCCC, for aid coordination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-specific bodies are sometimes involved in transboundary cooperation on climate-relevant issues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e.g. river basin managemen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F782-5F1C-4610-B522-2AB62CF244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B16C-864F-4271-9669-30314CD5DB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62C7-AC29-448D-94E6-A209C7DCEB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D443-A3D8-4B72-87A1-FF2B5F807C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FC44-B50F-445D-ADC2-E456E7621F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01A-9077-4A80-BC32-8F3413F1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77C-CFB6-40B4-9092-7B095D49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D93-3895-4713-93F6-80D1AFCE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D43-D0D7-4B9D-9A54-6122E19E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7690-00D0-4F62-B05F-D263E5CD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B9AA-45D2-4B68-8038-5AA5E9D8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19C0-6798-4071-B842-71F8F4F9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7F8C-45BD-4811-8E8C-A3C9D888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3B9D-DC9D-4E66-8B39-2CF41E25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B482-3289-4620-8626-808B486D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ECD8-02B3-417E-844A-337BD260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0D4-BFAA-48E7-90BB-97166AF9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84D0-B77B-4574-A3C1-E07719E3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C7E3-97C2-4D19-8E78-341BFF9A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DE49-690B-4D51-8E21-E7658040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ED43-2A7E-4C2D-A8F2-550DDD42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6F9F-20DC-48CB-8EA5-6FBB76A6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A8C-13D9-4983-A5FF-5BF8A5B7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EE2-D957-44A4-BFF8-E31404DF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C9F-D70A-4A29-BF24-CEFDD2A6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F51-2258-4328-A97A-1A1E9EC4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B94-8034-41F9-AD7D-949ED8FA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BDC-B53F-4941-B45C-06E494B9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E0A-EFF9-4AED-BA41-988AE5A5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A68B-C017-43F7-B740-C4E1E0C44C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6962-0A92-49B8-BDAD-7CFEE6737C7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national, sector and sub-national policies, strategies and programm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ools for mainstreaming environment and climate change in 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13BA-BB89-4143-BC83-F8AC9FF0E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ools supporting awarenes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aising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E52D-E466-41E6-922A-ADE433A42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wareness rais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fluence on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Vulnerability and adaptation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cro and meso economic analysi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Demonstration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49568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... are also useful for influencing policies and informing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 flipH="1">
            <a:off x="6481440" y="4053960"/>
            <a:ext cx="2160" cy="3279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ntegrated ecosystem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Knowledge, communication and advocacy strateg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uropeAid’s Guidelines on integration of environment and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B617-5ECD-49EF-8D9A-D81A3C19CA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20080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eneral environmental issues in cooperation focal area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3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ance for integrating environmental and climate-related aspects in SPSP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elines for integrating environmental and climate related aspects in project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581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uropeAid’s climate chang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ctor scrip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B770-0DA5-4871-B5CB-0296BE023B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riculture and rural develop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cosystems and biodiversity manag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nergy suppl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frastructure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olid waste manage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 and invest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ater supply and sanitatio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8EC1-E485-4BDB-9C46-4B58FD03FEB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trategic environmental 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ment (SE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 iterative and participative proces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alysing potential environmental consequences of proposed policies/plans/programmes, as well as the main environmental opportunities, risks and constraints to be taken into acc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aking into consideration the expected effects of climate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r the purpose of promoting more sustainable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715000"/>
            <a:ext cx="6705360" cy="838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sures that environmental considerations are taken into account EARLY in the policy &amp; planning proces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pproaches to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ased on draft PPP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in parallel to PPP elaboration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fully integra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5C0C-5D15-49A2-A57F-63FA5141D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" descr="SEA process 1.png"/>
          <p:cNvPicPr/>
          <p:nvPr/>
        </p:nvPicPr>
        <p:blipFill>
          <a:blip r:embed="rId1"/>
          <a:stretch/>
        </p:blipFill>
        <p:spPr>
          <a:xfrm>
            <a:off x="395280" y="3213000"/>
            <a:ext cx="3960720" cy="2629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2" descr="SEA process 2.png"/>
          <p:cNvPicPr/>
          <p:nvPr/>
        </p:nvPicPr>
        <p:blipFill>
          <a:blip r:embed="rId2"/>
          <a:stretch/>
        </p:blipFill>
        <p:spPr>
          <a:xfrm>
            <a:off x="4716360" y="3146400"/>
            <a:ext cx="4222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Guidelines for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90B5-5762-481C-9CE0-D55A78AB1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xamples of SE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5533-A2B4-47E6-A7DC-DDB44EDF6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Rwanda’s Agricultural Polic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Zambia’s sugar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Sierra Leone’s mining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Example: supporting the development of a national SEA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Chile the EU supported the development of the national SEA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tting up of an SEA department within the environmental author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velopment of regulatory framework and guida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ilot SEAs to build capacities and test the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es potential risks for a programme or project by assessing, in its specific contex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standard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screening questionnair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an be developed to support this exerci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9AF4-67B2-4195-8E68-B31AC4762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1295280" y="281952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sure to the effects of C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1295280" y="3581280"/>
            <a:ext cx="2362320" cy="609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sitivity to such eff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1295280" y="4343400"/>
            <a:ext cx="236232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&amp; adaptation capacit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3619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ladaptation risk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361960" cy="1368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acts on clima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GHG emissions/ emission removal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 mainstream environment and climate change at the national, sector and sub-national leve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B1CF-8EF2-482C-9FB8-99012E049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arious tools available, e.g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World Ban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UK climate impacts programm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anida Climate change screening matri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ee, e.g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933E-FE74-4E37-A050-E5742C476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utcomes of 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45FE-A311-4CE6-83B5-F24515A1D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GHG emissions or emission removal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gnifica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1616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780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adaptation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7800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 for reduced vulnerability/enhanced adaptive capacity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532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 specific ac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84560"/>
            <a:ext cx="3780000" cy="79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for reduced maladaptation risk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81480"/>
            <a:ext cx="3780000" cy="43200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7800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 and enhancement of mitigation potenti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to the effects of CC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Risk of maladapt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ne or low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191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ediu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gh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Insignifica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73"/>
                </a:solidFill>
                <a:latin typeface="Calibri"/>
                <a:ea typeface="Calibri"/>
              </a:rPr>
              <a:t>(*) In proportion to the size/scope of the interven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468360" y="1413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s the assessment linked to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468360" y="215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strategy, programme or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Vulnerability and adaptation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33200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468360" y="3591000"/>
            <a:ext cx="287964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plan, programme, strategy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33200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46836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Strategic environmental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Environmental impact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508720" y="6232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  <a:ea typeface="Calibri"/>
              </a:rPr>
              <a:t>(*) With ToRs adapted to include climate-related consider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>
            <a:off x="3347640" y="2457000"/>
            <a:ext cx="648360" cy="252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 flipH="1">
            <a:off x="1907280" y="276336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>
            <a:off x="1906920" y="339228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</p:cNvCxnSpPr>
          <p:nvPr/>
        </p:nvCxnSpPr>
        <p:spPr>
          <a:xfrm flipH="1">
            <a:off x="1907280" y="420192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>
            <a:off x="1906920" y="483192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468360" y="627372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c8c93"/>
                </a:solidFill>
                <a:latin typeface="Calibri"/>
                <a:ea typeface="Calibri"/>
              </a:rPr>
              <a:t>(†) Climate risk screening can be applied before undertaking a more detailed assessment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54F4-A454-4A19-BA0E-A4EFF879E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Integrated ecosystem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in national and sector policies, strategies and program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844A-905E-4EDE-A4A0-87EE3D630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7b"/>
                </a:solidFill>
                <a:latin typeface="Verdana"/>
              </a:rPr>
              <a:t>What can be done and what are the institutional and capacity needs in your country/ 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26792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at strategic planning levels supports more integrated, effective, efficient and sustainable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16680" indent="-2372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top-down and bottom-up approaches are complementary and mainstreaming is also justified at loc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ultiple tools and approaches are available to support environmental and climate change mainstreaming in policies, strategies, programmes and proj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oth ad hoc studies and assessments, and integration of environmental and climate-related considerations in feasibility / formulation studies, support this mainstreaming proc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A577-2237-4AD5-AF22-208CADD30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‘Sector scripts’ series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b) Guidelines on the Integration of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vironment and Climate Change in Development Cooperation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ECD DAC (2006) Applying Strategic Environmental Assessment, good practice guidance for development co-operation. OECD: Pari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24BE-55DD-4C2F-A64E-09E64F245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 S. &amp; Hulme M. (2004) Does climate adaptation policy need probabilities? Climate Policy, vol. 4 (2) 107-128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owerpoint presentatio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(2009a) Integrating Climate Change Adaptation into Development Co-operation: Policy guidance. OECD Publishing, Paris. [Read-only, browse-it edition]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DAC (2010) Strategic Environmental Assessment and Adaptation to Climate Change. OECD: Pari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A stocktaking report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C191-1F31-4F5C-A3FD-6B527FABE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62320"/>
            <a:ext cx="160020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te of the Envir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600200" cy="82404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cio-economic situ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>
            <a:off x="6819480" y="2946240"/>
            <a:ext cx="1080" cy="291240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654280"/>
            <a:ext cx="932760" cy="39744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6357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Sector coordin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llocation of resources across secto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ore: -integrated -effective-efficient-sustainable respon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F185-B4F6-4B70-85E8-C597FC19D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21932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ma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91520" y="306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bio-physical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7010280" y="5029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ocio-economic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V="1">
            <a:off x="8153280" y="3789360"/>
            <a:ext cx="19080" cy="325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153280" y="4761000"/>
            <a:ext cx="0" cy="268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682760" y="2590200"/>
            <a:ext cx="40716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>
            <a:stCxn id="130" idx="2"/>
            <a:endCxn id="109" idx="3"/>
          </p:cNvCxnSpPr>
          <p:nvPr/>
        </p:nvCxnSpPr>
        <p:spPr>
          <a:xfrm rot="5400000">
            <a:off x="7556040" y="5676840"/>
            <a:ext cx="66060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2076480"/>
            <a:ext cx="37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verall guiding policy framework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076480"/>
            <a:ext cx="3959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perationalisation and implementation of national polici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Sector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5800" y="3456000"/>
            <a:ext cx="378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Exercise of some key func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Own initiatives, development of capacities &amp; good practi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Sector-specific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5800" y="277020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National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5800" y="414180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nagement of international rela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72000" y="4135320"/>
            <a:ext cx="4419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Transboundary cooperation on environment and climate-relevant issu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592360" y="51055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pool of resour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1752480" y="5940360"/>
            <a:ext cx="5639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re widespread capacity and institution build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592360" y="553068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ownership of respons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5D95-59E0-43F5-BEF5-A4B13BF24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lower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evels of governanc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1981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ub-national and local lev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523880"/>
            <a:ext cx="2210040" cy="20574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st levels for observing / understanding development, environmental and climate change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600200"/>
            <a:ext cx="2133720" cy="129528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ulnerability and adaptive capacity are context-specifi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st options to respond to environmental degradation and adapt to CC require local implement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tential for piloting / pioneering initia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E1B9-A7E0-43FD-A7CF-A455F758B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ey stakeholders and cross-level intera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1A9D-5AD2-4DE7-92B0-BC85816D1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878508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Approaches to respond to environmental degradation and adapt to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523880"/>
            <a:ext cx="2895480" cy="9907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level incl. sec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289548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Verdana"/>
              </a:rPr>
              <a:t>Subnational levels (local i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93760" y="354204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Top-dow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Bottom-u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723960" y="2590920"/>
            <a:ext cx="17524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Model- and scenario-drive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hysical impacts and ‘biophysic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19814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Stakeholder approa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revailing socio-economic &amp; environmental conditions and on ‘soci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ational policies &amp; 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Community-based response, pilot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A71A-8742-456E-A628-B38827F19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aptation to 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eely adapted from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to environmental degrad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in entry points for mainstreaming i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2658-869D-4E0B-AF9E-F52CEC7EA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Main entry points in th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ational and sector policy cyc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29732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cy cycle stag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onal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tor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formul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long-term vis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year development pla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al plan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alloc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-related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budget envelop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from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ming &amp; implement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-level development plans and budge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ogramm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lhoff &amp; Schaer (2010)  Fig. 1, p. 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28600" y="152280"/>
            <a:ext cx="2057400" cy="152424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cognise environment-development links and climate ris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04920" y="533412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lude environment- and climate-related programmes/ projects (sectoral and cross-sectoral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438280" y="1066680"/>
            <a:ext cx="243864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llocate funding for environmental and climate-specific ac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83808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locate funding to vulnerable or priority sectors/ reg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orporate environment and climate-related activ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380360" y="1600200"/>
            <a:ext cx="1763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de env’t and climate considera-tions in project selection criteri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C36F-09E0-47CB-B1A7-606CE8B26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7T23:33:50Z</dcterms:modified>
  <cp:revision>122</cp:revision>
  <dc:subject/>
  <dc:title>Slide 1</dc:title>
</cp:coreProperties>
</file>