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CA253-A0A1-4CDF-B590-C75B17036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4094F-39A5-4B6C-B463-E4139669B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C508E-2172-45AB-B384-F3264DE88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87597-771D-4153-A2ED-133CD55C2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039D6-D688-440D-8E7A-B034444AC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8E2FB-4FAE-4C1D-A077-67D41CD7C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92DB1-4424-4147-BC2F-7E3839BDA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48F20-5E7A-4866-BEB4-D717F2238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DB786-6D74-4C9C-80ED-ADA40E98D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E7B64-AB91-45E5-BD48-D84279166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DC4C3-F2A4-415D-A245-7D302E80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A4C31-B8BF-4695-ADB3-4FF0F10DC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8373B-B439-4787-BDBE-AB46A5B1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11FD6-5588-43E6-930D-6FAA6B56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59B13-7DBD-400F-9266-C4C4798C0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742F6-B2CA-4B07-80F1-02150E5C6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954DE-A51A-42E2-8E00-A4844132F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439B2-A57A-4CB4-BFB7-47F065733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87A8A-7E2A-4879-9DF6-2523FB70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4C987-8F74-462C-A404-7DC6E7860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9451A-7460-4445-82FA-E8CBC3E1F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9AF19-711F-4334-ABF4-5B8DAA62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189D0-6D6E-47D0-A9F7-CB85FF96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9E58C-6E3D-41D7-AEB7-14304082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98B18-31E5-4021-96E1-10201728B4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876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A6665-6038-4A42-B97C-7C87C83868A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hyperlink" Target="http://catalog.az/ru/15_/toplivo.php" TargetMode="External"/><Relationship Id="rId8" Type="http://schemas.openxmlformats.org/officeDocument/2006/relationships/hyperlink" Target="http://catalog.az/ru/15_/elektro.php" TargetMode="External"/><Relationship Id="rId9" Type="http://schemas.openxmlformats.org/officeDocument/2006/relationships/hyperlink" Target="http://catalog.az/ru/15_/gorndob.php" TargetMode="External"/><Relationship Id="rId10" Type="http://schemas.openxmlformats.org/officeDocument/2006/relationships/hyperlink" Target="http://catalog.az/ru/15_/chornayamet.php" TargetMode="External"/><Relationship Id="rId11" Type="http://schemas.openxmlformats.org/officeDocument/2006/relationships/image" Target="../media/image1.png"/><Relationship Id="rId12" Type="http://schemas.openxmlformats.org/officeDocument/2006/relationships/hyperlink" Target="http://catalog.az/ru/15_/svetnayamet.php" TargetMode="External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«Инвентаризации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нвентаризация выбросов о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ационарных и передвижных                                     источни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зербайджан  Рафиев Рамиз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b0f0"/>
                </a:solidFill>
                <a:latin typeface="Arial"/>
              </a:rPr>
              <a:t>Нынешнее состояние национального кадастра выбросо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настоящее время в АР  Кадастр Выбросов на стадии разрабо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2d050"/>
                </a:solidFill>
                <a:latin typeface="Arial"/>
              </a:rPr>
              <a:t>Анализ национальных норм и стандартов</a:t>
            </a:r>
            <a:r>
              <a:rPr b="1" lang="ru-RU" sz="2400" spc="-1" strike="noStrike">
                <a:solidFill>
                  <a:srgbClr val="92d05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Нормативы качества окружающей среды и рассчитанные на их основе нормативы воздействия на окружающую среду жестче мировых</a:t>
            </a:r>
            <a:r>
              <a:rPr b="0" lang="az-Latn-AZ" sz="20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 В 2014 г. планируется разрабатывать новые ПДК вредных веществ с учетом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Директива N 2008/50/ЕС Европейского парламента и Совета "О качестве атмосферного воздуха  и мерах его очистки" 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57200" y="1356840"/>
            <a:ext cx="8229600" cy="47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Когда Секретариату Конвенции были представлены отчеты в последний раз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2d050"/>
                </a:solidFill>
                <a:latin typeface="Arial"/>
              </a:rPr>
              <a:t>Секретариату Конвенции были представлены отчеты в 2011 –м год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одготавливаются ли отчеты ежегодн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Отчеты ежегодно не подготавливаются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Расчеты выбросов от каких  секторов проводятся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99ff"/>
                </a:solidFill>
                <a:uFillTx/>
                <a:latin typeface="Times New Roman"/>
                <a:ea typeface="Times New Roman"/>
                <a:hlinkClick r:id="rId7"/>
              </a:rPr>
              <a:t>Топливная промышленность</a:t>
            </a:r>
            <a:r>
              <a:rPr b="1" lang="ru-RU" sz="2000" spc="-1" strike="noStrike" u="sng">
                <a:solidFill>
                  <a:srgbClr val="92d050"/>
                </a:solidFill>
                <a:uFillTx/>
                <a:latin typeface="Times New Roman"/>
                <a:ea typeface="Times New Roman"/>
              </a:rPr>
              <a:t>, </a:t>
            </a:r>
            <a:r>
              <a:rPr b="0" lang="ru-RU" sz="2000" spc="-1" strike="noStrike" u="sng">
                <a:solidFill>
                  <a:srgbClr val="9999ff"/>
                </a:solidFill>
                <a:uFillTx/>
                <a:latin typeface="Times New Roman"/>
                <a:ea typeface="Times New Roman"/>
                <a:hlinkClick r:id="rId8"/>
              </a:rPr>
              <a:t>Электроэнергетика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ru-RU" sz="2000" spc="-1" strike="noStrike" u="sng">
                <a:solidFill>
                  <a:srgbClr val="9999ff"/>
                </a:solidFill>
                <a:uFillTx/>
                <a:latin typeface="Times New Roman"/>
                <a:ea typeface="Times New Roman"/>
                <a:hlinkClick r:id="rId9"/>
              </a:rPr>
              <a:t>Горнодобывающая промышленность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ru-RU" sz="2000" spc="-1" strike="noStrike" u="sng">
                <a:solidFill>
                  <a:srgbClr val="9999ff"/>
                </a:solidFill>
                <a:uFillTx/>
                <a:latin typeface="Times New Roman"/>
                <a:ea typeface="Times New Roman"/>
                <a:hlinkClick r:id="rId10"/>
              </a:rPr>
              <a:t>Черная металлургия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99ff"/>
                </a:solidFill>
                <a:uFillTx/>
                <a:latin typeface="Times New Roman"/>
                <a:ea typeface="Times New Roman"/>
                <a:hlinkClick r:id="rId12"/>
              </a:rPr>
              <a:t>Цветная металлургия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Химическая и нефтехимическая промышленность, Машиностроение и металлообработка, Промышленность строительных материалов, Легкая промышленност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О каких секторах  в данный момент информации нет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О </a:t>
            </a:r>
            <a:r>
              <a:rPr b="1" lang="en-GB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Сельско</a:t>
            </a:r>
            <a:r>
              <a:rPr b="1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м</a:t>
            </a:r>
            <a:r>
              <a:rPr b="1" lang="en-GB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и домашнем </a:t>
            </a:r>
            <a:r>
              <a:rPr b="1" lang="en-GB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хозяйств</a:t>
            </a:r>
            <a:r>
              <a:rPr b="1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е в данный момент информации не имеет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Выбросы каких веществ расчитываются в данным  момент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 данный  момент можно сказать что расчитывают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ыбросы  традиционно принятых вещест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247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Roman AzLat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Roman AzLat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Rectangle 1024"/>
          <p:cNvSpPr/>
          <p:nvPr/>
        </p:nvSpPr>
        <p:spPr>
          <a:xfrm>
            <a:off x="395280" y="1492560"/>
            <a:ext cx="80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5. Формы отчётности для выбросов от стационарных источни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Таблица № 2 - Источники выделения загрязняющих веществ (ИВ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7" name=""/>
          <p:cNvGraphicFramePr/>
          <p:nvPr/>
        </p:nvGraphicFramePr>
        <p:xfrm>
          <a:off x="250920" y="2565360"/>
          <a:ext cx="8713800" cy="3319560"/>
        </p:xfrm>
        <a:graphic>
          <a:graphicData uri="http://schemas.openxmlformats.org/drawingml/2006/table">
            <a:tbl>
              <a:tblPr/>
              <a:tblGrid>
                <a:gridCol w="936360"/>
                <a:gridCol w="936720"/>
                <a:gridCol w="739800"/>
                <a:gridCol w="987480"/>
                <a:gridCol w="720720"/>
                <a:gridCol w="863640"/>
                <a:gridCol w="720720"/>
                <a:gridCol w="936720"/>
                <a:gridCol w="934920"/>
                <a:gridCol w="936720"/>
              </a:tblGrid>
              <a:tr h="146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а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цех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ание участ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омер источника выд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л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ИВ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ание выдел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и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ИВ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ре мя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бот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ы-сота источ-ника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иаметр устья источ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ика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араметдушной на вы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сточ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ос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азовоз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мес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оде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а выб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сут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ъем,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3/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емпера-тура, гра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Roman AzLat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Roman AzLat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539640" y="2637000"/>
          <a:ext cx="8353440" cy="3498840"/>
        </p:xfrm>
        <a:graphic>
          <a:graphicData uri="http://schemas.openxmlformats.org/drawingml/2006/table">
            <a:tbl>
              <a:tblPr/>
              <a:tblGrid>
                <a:gridCol w="792360"/>
                <a:gridCol w="620640"/>
                <a:gridCol w="1211400"/>
                <a:gridCol w="904680"/>
                <a:gridCol w="927000"/>
                <a:gridCol w="1033560"/>
                <a:gridCol w="1103400"/>
                <a:gridCol w="1044360"/>
                <a:gridCol w="716040"/>
              </a:tblGrid>
              <a:tr h="6426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-во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дное вещество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 ЗВ, отходящих от И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азоочистного оборудо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омер ИЗА  в который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ступают вредные веществ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 ИВ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ме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ани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каждом режим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онн в год)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6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/се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/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0" name="Rectangle 226"/>
          <p:cNvSpPr/>
          <p:nvPr/>
        </p:nvSpPr>
        <p:spPr>
          <a:xfrm>
            <a:off x="0" y="441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Rectangle 231"/>
          <p:cNvSpPr/>
          <p:nvPr/>
        </p:nvSpPr>
        <p:spPr>
          <a:xfrm>
            <a:off x="1831320" y="2204280"/>
            <a:ext cx="30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одолжение таблицы № 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3" name="Line 131"/>
          <p:cNvSpPr/>
          <p:nvPr/>
        </p:nvSpPr>
        <p:spPr>
          <a:xfrm>
            <a:off x="3040200" y="2381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Rectangle 355"/>
          <p:cNvSpPr/>
          <p:nvPr/>
        </p:nvSpPr>
        <p:spPr>
          <a:xfrm>
            <a:off x="395280" y="1310400"/>
            <a:ext cx="846144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Arial"/>
              </a:rPr>
              <a:t>6.  Периодичность подготовки этих отчётов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Срок действия проекта по инвентаризации составляет пять лет. Досрочная  инвентаризация осуществляется в случаях: изменения технологии   производства, качества и вида применяемого топлива,  сырья  или  материалов и после проведения реконструкции технологического   оборудования.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ffc000"/>
              </a:buClr>
              <a:buFont typeface="Times New Roman"/>
              <a:buAutoNum type="arabicPeriod" startAt="7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Arial"/>
              </a:rPr>
              <a:t>Доступность данны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   </a:t>
            </a:r>
            <a:r>
              <a:rPr b="0" lang="ru-RU" sz="2000" spc="-1" strike="noStrike">
                <a:solidFill>
                  <a:srgbClr val="ffc000"/>
                </a:solidFill>
                <a:latin typeface="Times New Roman"/>
                <a:ea typeface="Arial"/>
              </a:rPr>
              <a:t>Открытые публикации 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Times New Roman"/>
                <a:ea typeface="Arial"/>
              </a:rPr>
              <a:t>     </a:t>
            </a:r>
            <a:r>
              <a:rPr b="0" lang="ru-RU" sz="2000" spc="-1" strike="noStrike">
                <a:solidFill>
                  <a:srgbClr val="ffc000"/>
                </a:solidFill>
                <a:latin typeface="Times New Roman"/>
                <a:ea typeface="Arial"/>
              </a:rPr>
              <a:t>Для специалистов +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Times New Roman"/>
                <a:ea typeface="Arial"/>
              </a:rPr>
              <a:t>     </a:t>
            </a:r>
            <a:r>
              <a:rPr b="0" lang="ru-RU" sz="2000" spc="-1" strike="noStrike">
                <a:solidFill>
                  <a:srgbClr val="ffc000"/>
                </a:solidFill>
                <a:latin typeface="Times New Roman"/>
                <a:ea typeface="Arial"/>
              </a:rPr>
              <a:t>Данные в сети Интернета для специалистов отсутствую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циональное  законодательство  не  адаптировано  к  требованиям  Директив  Евросоюза:  Отсутствует  перечень  основных  промышленных   производств  и  их оценка по отраслям в соответствии с приложением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ирективы  о  промышленном  загрязнении  2010/75/EU и Руководство  ЕМЕП/ЕАОС по инвентаризации - выбросов 200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 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6" name="Picture 4" descr="0130_subst0301"/>
          <p:cNvPicPr/>
          <p:nvPr/>
        </p:nvPicPr>
        <p:blipFill>
          <a:blip r:embed="rId1"/>
          <a:stretch/>
        </p:blipFill>
        <p:spPr>
          <a:xfrm>
            <a:off x="2627280" y="1339920"/>
            <a:ext cx="5004000" cy="5003640"/>
          </a:xfrm>
          <a:prstGeom prst="rect">
            <a:avLst/>
          </a:prstGeom>
          <a:ln w="0">
            <a:noFill/>
          </a:ln>
        </p:spPr>
      </p:pic>
      <p:sp>
        <p:nvSpPr>
          <p:cNvPr id="557" name="Rectangle 5"/>
          <p:cNvSpPr/>
          <p:nvPr/>
        </p:nvSpPr>
        <p:spPr>
          <a:xfrm>
            <a:off x="755640" y="836640"/>
            <a:ext cx="799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ле рассеивания окислов азота от выбросов НПЗ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fdef6"/>
                </a:solidFill>
                <a:latin typeface="Arial"/>
              </a:rPr>
              <a:t>2.</a:t>
            </a:r>
            <a:r>
              <a:rPr b="1" lang="ru-RU" sz="44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dfdef6"/>
                </a:solidFill>
                <a:latin typeface="Arial"/>
              </a:rPr>
              <a:t>Инвентаризация выбросов от </a:t>
            </a:r>
            <a:br>
              <a:rPr sz="2000"/>
            </a:br>
            <a:r>
              <a:rPr b="1" lang="ru-RU" sz="2000" spc="-1" strike="noStrike">
                <a:solidFill>
                  <a:srgbClr val="dfdef6"/>
                </a:solidFill>
                <a:latin typeface="Arial"/>
              </a:rPr>
              <a:t>  передвижных источников.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141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</a:rPr>
              <a:t>Государственные органы/ведомства, которые участвуют в инвентаризации выбросов от передвижных источни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114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2d050"/>
                </a:solidFill>
                <a:latin typeface="Times New Roman"/>
              </a:rPr>
              <a:t>В инвентаризации выбросов из Государственных органов участвуют Эко</a:t>
            </a:r>
            <a:r>
              <a:rPr b="0" lang="en-US" sz="2000" spc="-1" strike="noStrike">
                <a:solidFill>
                  <a:srgbClr val="92d05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92d050"/>
                </a:solidFill>
                <a:latin typeface="Times New Roman"/>
              </a:rPr>
              <a:t>центр Республики и Департамент мониторинга окружающей среды, а также экологические службы отдельных компаний</a:t>
            </a:r>
            <a:r>
              <a:rPr b="0" lang="ru-RU" sz="3200" spc="-1" strike="noStrike">
                <a:solidFill>
                  <a:srgbClr val="92d050"/>
                </a:solidFill>
                <a:latin typeface="Times New Roman"/>
              </a:rPr>
              <a:t>.</a:t>
            </a:r>
            <a:r>
              <a:rPr b="1" lang="en-US" sz="3200" spc="-1" strike="noStrike">
                <a:solidFill>
                  <a:srgbClr val="92d05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Используемые методики, удельные выбросы и характеристика источников выбросов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11412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Инвентаризация выбросов от передвижных источников</a:t>
            </a:r>
            <a:r>
              <a:rPr b="1" lang="en-US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проводится по </a:t>
            </a:r>
            <a:r>
              <a:rPr b="0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"Методика определения выбросов вредны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114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еществ в атмосферный воздух от автотранспортных потоков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114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движущихся по автомагистралям</a:t>
            </a:r>
            <a:r>
              <a:rPr b="0" lang="en-US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 Санкт-Петербурга“</a:t>
            </a:r>
            <a:r>
              <a:rPr b="0" lang="en-US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2005 г. </a:t>
            </a:r>
            <a:r>
              <a:rPr b="0" lang="en-US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N309                        </a:t>
            </a:r>
            <a:r>
              <a:rPr b="0" lang="ru-RU" sz="2000" spc="-1" strike="noStrike" u="sng">
                <a:solidFill>
                  <a:srgbClr val="92d050"/>
                </a:solidFill>
                <a:uFillTx/>
                <a:latin typeface="Times New Roman"/>
                <a:ea typeface="Times New Roman"/>
              </a:rPr>
              <a:t> и методика </a:t>
            </a:r>
            <a:r>
              <a:rPr b="0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"Правил инвентаризации вредных выбросов в атмосферный воздух и источников, оказывающих на него физическое воздействие"  Аз.Р. 2002 г. № 63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11412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3" marL="799560" indent="1659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акие источники учитываются при инвентаризации выбросов от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ередвижных источников. </a:t>
            </a:r>
            <a:r>
              <a:rPr b="1" lang="ru-RU" sz="2000" spc="-1" strike="noStrike">
                <a:solidFill>
                  <a:srgbClr val="92d050"/>
                </a:solidFill>
                <a:latin typeface="Arial"/>
              </a:rPr>
              <a:t>Инвентаризация выбросов от </a:t>
            </a:r>
            <a:r>
              <a:rPr b="1" lang="en-US" sz="2000" spc="-1" strike="noStrike">
                <a:solidFill>
                  <a:srgbClr val="92d05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2d050"/>
                </a:solidFill>
                <a:latin typeface="Arial"/>
              </a:rPr>
              <a:t>передвижных источников проводится в автомагистралях и регулируемых перекрестках.</a:t>
            </a:r>
            <a:r>
              <a:rPr b="0" lang="ru-RU" sz="2000" spc="-1" strike="noStrike">
                <a:solidFill>
                  <a:srgbClr val="92d05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799560" indent="1659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инвентаризации выбросов автотранспорта на городских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втомагистралях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роводится изучение особенностей распределения автотранспортных потоков (их состава и интенсивности) по городу и их изменений во времени (в течение суток, недели и года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335520" algn="just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ходе проведения натурных обследований дополнительно определяется ряд параметров, необходимых как для расчета выбросов, так и проведения расчетов загрязнения атмосфер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335520" algn="just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42720" algn="just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каждой автомагистрали (или ее участке) фиксируются следующие параметр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342720" algn="just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ширина проезжей части (в метрах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342720" algn="just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личество полос движения в каждом направлени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342720" algn="just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тяженность выбранного участка автомагистрали (в км) с указанием названий улиц, ограничивающих данную автомагистраль (или ее участок);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3427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редняя скорость автотранспортного потока с подразделением на три основные категории: легковые, грузовые и автобусы (в км/час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34272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екущее состояние инвентаризации выбросов и соответствующей отчетности в странах-партнера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.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нвентаризации выбросов от стационарных источни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200" spc="-1" strike="noStrike">
                <a:solidFill>
                  <a:srgbClr val="92d050"/>
                </a:solidFill>
                <a:latin typeface="Arial"/>
              </a:rPr>
              <a:t>. </a:t>
            </a:r>
            <a:r>
              <a:rPr b="1" lang="ru-RU" sz="22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Предоставляет ли страна отчёт об инвентаризации выбросов в рамках Конвенции о трансграничном загрязнении воздуха на большие расстояния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    </a:t>
            </a:r>
            <a:r>
              <a:rPr b="1" lang="ru-RU" sz="22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«Конвенция о трансграничном загрязнении воздуха на большие  расстояния   вступила в силу в Азербайджане в 09.04.2002 года.  Отчёт об инвентаризации выбросов в рамках Конвенции о трансграничном загрязнении воздуха на большие расстояния не предоставляетс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457200" y="1285560"/>
            <a:ext cx="822960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3" marL="478800" indent="6840" algn="just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ормы отчётности для выбросов от передвижных источников и периодичность подготовки отчёт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478800" indent="6840" algn="just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АР используется стандартные формы отчётности, которые  приведены  в методике "Правил инвентаризации вредных выбросов в атмосферный воздух и источников, оказывающих на него физическое воздействие"  Аз.Р. 2002 г. № 6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just">
              <a:spcBef>
                <a:spcPts val="4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евой журнал обследования характеристик движущего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just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втотранспортного потока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just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Наименование улицы;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just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Направление движе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just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Этажность прилегающих здан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just"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Ширина проезжей части (м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just"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Количество полос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just"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ти и другие информации заполняются в журнале формы отчет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dfdef6"/>
                </a:solidFill>
                <a:latin typeface="Arial"/>
              </a:rPr>
              <a:t>Поле рассеивания окислов азота от выбросов автотранспортного потока</a:t>
            </a:r>
            <a:br>
              <a:rPr sz="2000"/>
            </a:b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67" name="Picture 5" descr="F:\img002.jpg"/>
          <p:cNvPicPr/>
          <p:nvPr/>
        </p:nvPicPr>
        <p:blipFill>
          <a:blip r:embed="rId1"/>
          <a:stretch/>
        </p:blipFill>
        <p:spPr>
          <a:xfrm>
            <a:off x="1017720" y="1071720"/>
            <a:ext cx="763740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28400" y="5571720"/>
            <a:ext cx="8358120" cy="6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ле рассеивания окиси  углерода от выбросов автотранспортного поток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0" name="Picture 2" descr="F:\img001.jpg"/>
          <p:cNvPicPr/>
          <p:nvPr/>
        </p:nvPicPr>
        <p:blipFill>
          <a:blip r:embed="rId1"/>
          <a:srcRect l="3109" t="0" r="3109" b="0"/>
          <a:stretch/>
        </p:blipFill>
        <p:spPr>
          <a:xfrm>
            <a:off x="1792440" y="612720"/>
            <a:ext cx="649440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 программе Copert 4, проводили расчет для определения количества выбросов, создаваемых дорожным транспортом.  При этом  ведется учет расхода транспортного топлив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основании методологи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PERT IV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был проведен расчет для  углерода оксид, азота диоксид, серы диоксид, углеводороды, твердые частиц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равниваем полученные данные с данными, полученными в  отчете по национальной методолог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Таблица  Суммарный выброс от бензинзиновых и дизельных </a:t>
            </a:r>
            <a:br>
              <a:rPr sz="2000"/>
            </a:br>
            <a:r>
              <a:rPr b="0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автомлей </a:t>
            </a:r>
            <a:br>
              <a:rPr sz="2000"/>
            </a:b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457200" y="1428840"/>
          <a:ext cx="8229600" cy="4605120"/>
        </p:xfrm>
        <a:graphic>
          <a:graphicData uri="http://schemas.openxmlformats.org/drawingml/2006/table">
            <a:tbl>
              <a:tblPr/>
              <a:tblGrid>
                <a:gridCol w="1074600"/>
                <a:gridCol w="662040"/>
                <a:gridCol w="1135080"/>
                <a:gridCol w="576360"/>
                <a:gridCol w="1220760"/>
                <a:gridCol w="650880"/>
                <a:gridCol w="1052640"/>
                <a:gridCol w="460080"/>
                <a:gridCol w="662040"/>
                <a:gridCol w="735120"/>
              </a:tblGrid>
              <a:tr h="1508040"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CO от бензин-ых автом-лей, 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05904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NО</a:t>
                      </a:r>
                      <a:r>
                        <a:rPr b="0" lang="ru-RU" sz="1600" spc="-1" strike="noStrike" baseline="-25000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от бензин-х автомо-лей, 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9345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ЛОС от бензин-х автом-илей, 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16393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РМ от бензин-ых автом-лей, 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726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Бензин, 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26416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8880"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CO от дизельных автом-лей, 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3148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NО</a:t>
                      </a:r>
                      <a:r>
                        <a:rPr b="0" lang="ru-RU" sz="1600" spc="-1" strike="noStrike" baseline="-25000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от дизельных автомо-лей, 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5380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ЛОС от дизельных автомо-лей, 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9370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РМ от дизельных автомо-ей, 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7472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Дизель, 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316287.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8200"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CO всего, 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19053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NО</a:t>
                      </a:r>
                      <a:r>
                        <a:rPr b="0" lang="ru-RU" sz="1600" spc="-1" strike="noStrike" baseline="-25000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всего, 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4725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ЛОС всего, 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25763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РМ всего, 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8198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Arial"/>
              </a:rPr>
              <a:t>Сравниваем полученные данные с данными, полученными в отчете по национальной методологии.</a:t>
            </a:r>
            <a:br>
              <a:rPr sz="2000"/>
            </a:b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76" name=""/>
          <p:cNvGraphicFramePr/>
          <p:nvPr/>
        </p:nvGraphicFramePr>
        <p:xfrm>
          <a:off x="357120" y="785880"/>
          <a:ext cx="8429760" cy="5395680"/>
        </p:xfrm>
        <a:graphic>
          <a:graphicData uri="http://schemas.openxmlformats.org/drawingml/2006/table">
            <a:tbl>
              <a:tblPr/>
              <a:tblGrid>
                <a:gridCol w="1381320"/>
                <a:gridCol w="1025280"/>
                <a:gridCol w="901800"/>
                <a:gridCol w="898560"/>
                <a:gridCol w="866880"/>
                <a:gridCol w="852480"/>
                <a:gridCol w="882360"/>
                <a:gridCol w="722520"/>
                <a:gridCol w="898560"/>
              </a:tblGrid>
              <a:tr h="298440">
                <a:tc row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Потребл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Углерода окси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Азота диокси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Серы диокси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Углеводород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Сажа,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P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Всего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96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Топливо, тыс. тонн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тыс. тон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Методология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COPERT IV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бензи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26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19.05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4.7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.24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25.76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8.19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08.98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Д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316.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7000">
                <a:tc rowSpan="4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ациональная методолог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бензи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59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68.35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9.34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.79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26.6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2.7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668.88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Д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436.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8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сжиж.газ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1.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8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сжат.газ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7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84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Перерасчет по нац. мет.  при расходе топлива, соответ-щем полученному по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COPERT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бензи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26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47.13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5.5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.7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19.5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1.7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635.6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Д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316.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95320"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Разница между двумя методологиями при одинаковом расходе топлива,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8.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6.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5.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0.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9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Arial"/>
              </a:rPr>
              <a:t>Сравниваем полученные данные с данными, полученными в отчете по национальной методологии.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ход топлива по методологии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PERT IV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меньше, чем по национальной методологии для бензина на 33,5 тыс.тонн (3%), для дизельного топлива на 120 тыс.тонн (8%).  Так как национальная статистика дает точную цифру потребления топлива, то, вероятно, данная разница обусловлена тем, что "разница топлива" потребляется не автомобилями, находящимися в эксплуатации в Республике а автомобилями приграничных районов  из-за низкой цены на топливо в Республике Иран, а также транзитными автомобилями, осуществляющими перевозки из стран  Российскую Федерацию и Тур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Arial"/>
              </a:rPr>
              <a:t>Сравниваем полученные данные с данными, полученными в отчете по национальной методологии.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57200" y="1356840"/>
            <a:ext cx="8229600" cy="47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ли национальную методологию пересчитать на количество топлива, потребленное только транспортными средствами, эксплуатируемыми в Аз.Республике, то получаться достаточно близкие цифры по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+1.4%) и ЛОС (-5.2%), что вкладывается в погрешность принятия различных допущений в настоящем отчете в отношении того или иного автомобиля к законодательству Е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 оксиду углерода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 и твердым частицам (РМ) показатели по методологи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PERT IV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значительно ниже, чем по национальной методологии: СО – на 28,6%, РМ – на 30,0%, что говорит о том, что если сделать очень серьезный анализ всех типов транспортных средств и правильно их распределить на соответствие законодательству ЕС, то получается, что удельные показатели по СО и по РМ завышены в национальной методолог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Прямоугольник 1"/>
          <p:cNvSpPr/>
          <p:nvPr/>
        </p:nvSpPr>
        <p:spPr>
          <a:xfrm>
            <a:off x="2500200" y="2643120"/>
            <a:ext cx="46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лагодарю за внимани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Государственные органы / ведомства, которые участвуют в инвентаризации выброс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инвентаризации выбросов из Государственных органов участвуют Эко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нтр Республики и Департамент мониторинга окружающей среды, а также экологические службы отдельных компа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Предоставляются ли также информационные сообщения о результатах инвентаризаци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 результатом инвентаризации разрабатывается проект ПДВ, составляется статистический отчет предприятия, который предоставляются Статистическому Комитету Аз.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Roman AzLat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Roman AzLat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Line 139"/>
          <p:cNvSpPr/>
          <p:nvPr/>
        </p:nvSpPr>
        <p:spPr>
          <a:xfrm>
            <a:off x="5705640" y="2141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2" name=""/>
          <p:cNvGraphicFramePr/>
          <p:nvPr/>
        </p:nvGraphicFramePr>
        <p:xfrm>
          <a:off x="324000" y="2060640"/>
          <a:ext cx="8567640" cy="3936960"/>
        </p:xfrm>
        <a:graphic>
          <a:graphicData uri="http://schemas.openxmlformats.org/drawingml/2006/table">
            <a:tbl>
              <a:tblPr/>
              <a:tblGrid>
                <a:gridCol w="647640"/>
                <a:gridCol w="936360"/>
                <a:gridCol w="1224000"/>
                <a:gridCol w="1190880"/>
                <a:gridCol w="753840"/>
                <a:gridCol w="1008000"/>
                <a:gridCol w="1067040"/>
                <a:gridCol w="950760"/>
                <a:gridCol w="789120"/>
              </a:tblGrid>
              <a:tr h="337320">
                <a:tc rowSpan="3">
                  <a:txBody>
                    <a:bodyPr lIns="36000" rIns="36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az-Latn-AZ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ва промыш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az-Latn-AZ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енных объектов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az-Latn-AZ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ества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сточ-ников выброс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а вредных веществ, выбра-сываемых в атмосферу,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о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36000" rIns="36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вердые частиц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36000" rIns="36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том числе: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 них:  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7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ернис-тый ангид-ри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кись углерода                                                                                                                                      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кислы азота                                                                                                                                                       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гле-водо-роды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36000" rIns="36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з.Р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650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87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4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49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65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к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03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65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6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77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5842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72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42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671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77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232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53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6259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87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36000" rIns="36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мгаи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4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1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56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6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3" name="Rectangle 298"/>
          <p:cNvSpPr/>
          <p:nvPr/>
        </p:nvSpPr>
        <p:spPr>
          <a:xfrm>
            <a:off x="468360" y="79992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материалам проектов ПДВ составляются статистические характеристики выбросов вредных веществ. (20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да по Аз.Р.) </a:t>
            </a:r>
            <a:r>
              <a:rPr b="0" lang="az-Latn-AZ" sz="1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az-Latn-AZ" sz="1800" spc="-1" strike="noStrike">
                <a:solidFill>
                  <a:srgbClr val="ffffff"/>
                </a:solidFill>
                <a:latin typeface="Arial"/>
              </a:rPr>
              <a:t> %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тационарных источников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z-Latn-AZ" sz="1800" spc="-1" strike="noStrike">
                <a:solidFill>
                  <a:srgbClr val="ffffff"/>
                </a:solidFill>
                <a:latin typeface="Arial"/>
              </a:rPr>
              <a:t>в Республике сосредоточены в г Баку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 выбросы углеводородов составляет 87%, выбросы других веществ 53-77%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Rectangle 303"/>
          <p:cNvSpPr/>
          <p:nvPr/>
        </p:nvSpPr>
        <p:spPr>
          <a:xfrm>
            <a:off x="468360" y="5761080"/>
            <a:ext cx="8459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-360" y="1214280"/>
            <a:ext cx="864396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285840" y="1857240"/>
          <a:ext cx="8229600" cy="2216160"/>
        </p:xfrm>
        <a:graphic>
          <a:graphicData uri="http://schemas.openxmlformats.org/drawingml/2006/table">
            <a:tbl>
              <a:tblPr/>
              <a:tblGrid>
                <a:gridCol w="936360"/>
                <a:gridCol w="706680"/>
                <a:gridCol w="733320"/>
                <a:gridCol w="800280"/>
                <a:gridCol w="938160"/>
                <a:gridCol w="822240"/>
                <a:gridCol w="895320"/>
                <a:gridCol w="750960"/>
                <a:gridCol w="906480"/>
                <a:gridCol w="739800"/>
              </a:tblGrid>
              <a:tr h="537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Сумм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арный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тыс.т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выброс,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таци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рны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тыс.то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сточни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6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Авто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транспор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тыс.то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9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9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19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Аз.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53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75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84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7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26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49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8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Бак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590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853</a:t>
                      </a: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711</a:t>
                      </a: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90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6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197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3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55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2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Сумгаи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12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12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,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16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ru-RU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0" lang="ru-RU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8" name="Rectangle 75"/>
          <p:cNvSpPr/>
          <p:nvPr/>
        </p:nvSpPr>
        <p:spPr>
          <a:xfrm>
            <a:off x="250920" y="494172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АКУ: По сравнению с 1990-м годом выбросы в атмосферу, от стационарны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очников уменьшился в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раз, а выбросы от автотранспорта увеличилис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,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раза. Вклад автотранспорта в общем выбросе составляет 7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%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129"/>
          <p:cNvSpPr/>
          <p:nvPr/>
        </p:nvSpPr>
        <p:spPr>
          <a:xfrm>
            <a:off x="1403280" y="1072080"/>
            <a:ext cx="574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03788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намика  выбросов по городам  Баку  и  Сумгаи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Rectangle 1329"/>
          <p:cNvSpPr/>
          <p:nvPr/>
        </p:nvSpPr>
        <p:spPr>
          <a:xfrm>
            <a:off x="1361520" y="4493880"/>
            <a:ext cx="3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1657"/>
          <p:cNvSpPr/>
          <p:nvPr/>
        </p:nvSpPr>
        <p:spPr>
          <a:xfrm>
            <a:off x="324000" y="2421000"/>
            <a:ext cx="860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   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2. Если используется не Руководство по инвентаризации EMEP/EAООС, просьба пояснить конкретные подходы и методологию инвентаризации выброс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  настоящее  время  в  Республике  Азербайджан  не  реализованы  и  не  </a:t>
            </a:r>
            <a:r>
              <a:rPr b="1" lang="en-US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применены принципы  Директивы  о  промышленном  загрязнении  </a:t>
            </a:r>
            <a:r>
              <a:rPr b="1" lang="en-US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2010/75/EU и Руководство  ЕМЕП/ЕАОС по инвентаризации - выбросов 200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Rectangle 4"/>
          <p:cNvSpPr/>
          <p:nvPr/>
        </p:nvSpPr>
        <p:spPr>
          <a:xfrm>
            <a:off x="250920" y="1261440"/>
            <a:ext cx="8713800" cy="50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0" anchor="ctr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ционарные источни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вентаризация выбросов загрязняющих  веществ  в атмосферный воздух стационарными источниками в Азербайджане осуществляется  по методики  "Правил инвентаризации вредных выбросов в атмосферный воздух и источников, оказывающих на него физическое воздействие" утвержденный постановлением  Кабинета  Министров Азербайджанской Республики от 15 апреля 2002 года № 63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проведении инвентаризации используются инструментальные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струментально-расчетные и   расчетные   методы определения выбросов загрязняющих веществ.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 Республике  Азербайджан  нет  единой  базы  данных  по  удельным  выбросам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от источников  выбросов  промышленных  предприятий.  Методические  указания применяемые  для  расчета  выбросов загрязняющих  веществ  от  стационарных источников разработаны отраслевыми институтами Российской Федерации.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этому для  расчета  выбросов  загрязняющих  веществ  от  стационарных источников используется разные программы РФ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Rectangle 6"/>
          <p:cNvSpPr/>
          <p:nvPr/>
        </p:nvSpPr>
        <p:spPr>
          <a:xfrm>
            <a:off x="324000" y="1021320"/>
            <a:ext cx="8569080" cy="60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2d050"/>
                </a:solidFill>
                <a:latin typeface="Times New Roman"/>
                <a:ea typeface="Arial"/>
              </a:rPr>
              <a:t>     </a:t>
            </a:r>
            <a:r>
              <a:rPr b="1" lang="ru-RU" sz="2000" spc="-1" strike="noStrike">
                <a:solidFill>
                  <a:srgbClr val="92d050"/>
                </a:solidFill>
                <a:latin typeface="Times New Roman"/>
                <a:ea typeface="Arial"/>
              </a:rPr>
              <a:t>В нефтеперерабатывающих и цементных заводах инвентаризация крупных точечных источников (высота 140- 170 м, диаметр 4-6 м ) проводится инструментально – расчетными метод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путный газ (ПГ). Одной из самых актуальных проблем нефтедобычи является утилизация попутного газа. Сжигание попутного газа производится на факельных установках.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целом по стране на факелах сгорает около 20 миллиардов кубических метров попутного газа. За 2006-2011 гг. выбросы попутного газа в атмосферу сократились почти в 2 раза – с 578,6 млн. кубометров до 298,3 млн. кубометров в год». «За несколько лет в результате целого ряда организационно-технических мероприятий объем выбросов попутных газов в атмосферу сократился в 2-3 раза. Проекты по снижению выбросов попутного газа реализуются как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OCAR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так и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P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 В 2012 году компания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OCAR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планирует довести объем сбора попутных газов на собственных месторождениях до 100 процен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 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ельское хозяй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настоящее время в АР инвентаризация источников выброса в Сельском хозяйство не проводит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Имеется ли программное обеспечение для сбора и обработки данных инвентаризации выбросов?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-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В  Комитете статистики имеет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2T05:14:29Z</dcterms:created>
  <dc:creator>User</dc:creator>
  <dc:description/>
  <dc:language>en-US</dc:language>
  <cp:lastModifiedBy>pc</cp:lastModifiedBy>
  <dcterms:modified xsi:type="dcterms:W3CDTF">2013-12-09T11:35:26Z</dcterms:modified>
  <cp:revision>160</cp:revision>
  <dc:subject/>
  <dc:title>Слайд 1</dc:title>
</cp:coreProperties>
</file>