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8A82-90DA-483E-8250-183C18B8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2F9E-62A7-4406-9410-C4152556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DC7B-C77E-4175-A9F7-E5CD30D00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12FF-5942-4BBC-BBEA-60465B67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5168-AB73-4E18-9221-85BD9390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89D7-3BA4-43D4-81EB-6DEC445D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82F7-44F0-4022-AFB3-2415AFCD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C3AD-5D80-4186-BB9B-B8730158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EA5-7689-416C-8ED3-0465ABC3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75F-79B2-4C36-B866-5F490403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070C-93D9-42E2-B875-0BA2EE0F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9017-2CC2-42AA-944F-B99AB38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7FF-5562-4FD7-A090-999C493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E834-3C0D-4380-BA7A-59D6CE84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5659-E9BF-4FD5-9322-A9D37FB9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9E6E-5474-435D-9F76-42BF3B38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FF43-08FB-43D7-B19B-08E64FC4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7960-1086-41A4-95ED-F0070FD4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721F-4D71-4043-95FF-F03EF993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DB8E-C040-44EF-BE61-CDEBBB3F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DA74-F935-4FAA-9108-B1D0ED55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4CAC-004C-4A50-BD0D-7D2A1A3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C65E-C7BD-4F8E-9404-914685B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6228-3983-4D33-9F7F-3E159CCB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0F09-B5BC-4C6B-83C4-34A77AB3C3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970-1FE2-48B0-ABBD-E72A5206FF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catalog.az/ru/15_/toplivo.php" TargetMode="External"/><Relationship Id="rId8" Type="http://schemas.openxmlformats.org/officeDocument/2006/relationships/hyperlink" Target="http://catalog.az/ru/15_/elektro.php" TargetMode="External"/><Relationship Id="rId9" Type="http://schemas.openxmlformats.org/officeDocument/2006/relationships/hyperlink" Target="http://catalog.az/ru/15_/gorndob.php" TargetMode="External"/><Relationship Id="rId10" Type="http://schemas.openxmlformats.org/officeDocument/2006/relationships/hyperlink" Target="http://catalog.az/ru/15_/chornayamet.php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atalog.az/ru/15_/svetnayamet.php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и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нтаризация выбросов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ционарных и передвижных                                    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йджан  Рафиев Рамиз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Нынешнее состояние национального кадастра выбро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астоящее время в АР  Кадастр Выбросов на стадии разраб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2d050"/>
                </a:solidFill>
                <a:latin typeface="Arial"/>
              </a:rPr>
              <a:t>Анализ национальных норм и стандартов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рмативы качества окружающей среды и рассчитанные на их основе нормативы воздействия на окружающую среду жестче мировых</a:t>
            </a:r>
            <a:r>
              <a:rPr b="0" lang="az-Latn-AZ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В 2014 г. планируется разрабатывать новые ПДК вредных веществ с учетом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Директива N 2008/50/ЕС Европейского парламента и Совета "О качестве атмосферного воздуха  и мерах его очистки"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огда Секретариату Конвенции были представлены отчеты в последн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Секретариату Конвенции были представлены отчеты в 2011 –м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авливаются ли отчеты ежегод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четы ежегодно не подготавливаютс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четы выбросов от каких  секторов проводят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7"/>
              </a:rPr>
              <a:t>Топливная промышленность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8"/>
              </a:rPr>
              <a:t>Электроэнергети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9"/>
              </a:rPr>
              <a:t>Горнодобывающая промышлен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0"/>
              </a:rPr>
              <a:t>Чер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2"/>
              </a:rPr>
              <a:t>Цвет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Химическая и нефтехимическая промышленность, Машиностроение и металлообработка, Промышленность строительных материалов, Легкая промышл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 каких секторах  в данный момент информации н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ельско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 домашнем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хозяйств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 в данный момент информации не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бросы каких веществ расчитываются в данным  момен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данный  момент можно сказать что расчиты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бросы  традиционно принятых вещ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Rectangle 1024"/>
          <p:cNvSpPr/>
          <p:nvPr/>
        </p:nvSpPr>
        <p:spPr>
          <a:xfrm>
            <a:off x="395280" y="14925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5. Формы отчётности для выбросов от стационарных ист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№ 2 - Источники выделения загрязняющих веществ (И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2565360"/>
          <a:ext cx="8713800" cy="331956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39800"/>
                <a:gridCol w="987480"/>
                <a:gridCol w="720720"/>
                <a:gridCol w="863640"/>
                <a:gridCol w="720720"/>
                <a:gridCol w="936720"/>
                <a:gridCol w="934920"/>
                <a:gridCol w="93672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учас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источника вы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выде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 м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-сота источ-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устья источ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метдушной на вы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воз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е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 выб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3/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-тура, 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9640" y="2637000"/>
          <a:ext cx="8353440" cy="3498840"/>
        </p:xfrm>
        <a:graphic>
          <a:graphicData uri="http://schemas.openxmlformats.org/drawingml/2006/table">
            <a:tbl>
              <a:tblPr/>
              <a:tblGrid>
                <a:gridCol w="792360"/>
                <a:gridCol w="620640"/>
                <a:gridCol w="1211400"/>
                <a:gridCol w="904680"/>
                <a:gridCol w="927000"/>
                <a:gridCol w="1033560"/>
                <a:gridCol w="1103400"/>
                <a:gridCol w="1044360"/>
                <a:gridCol w="716040"/>
              </a:tblGrid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ное веще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ЗВ, отходящих от 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зоочистного оборуд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ИЗА  в котор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вредные вещ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аждом режим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онн в год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/с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6"/>
          <p:cNvSpPr/>
          <p:nvPr/>
        </p:nvSpPr>
        <p:spPr>
          <a:xfrm>
            <a:off x="0" y="44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31"/>
          <p:cNvSpPr/>
          <p:nvPr/>
        </p:nvSpPr>
        <p:spPr>
          <a:xfrm>
            <a:off x="1831320" y="2204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должение таблицы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Line 131"/>
          <p:cNvSpPr/>
          <p:nvPr/>
        </p:nvSpPr>
        <p:spPr>
          <a:xfrm>
            <a:off x="3040200" y="23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55"/>
          <p:cNvSpPr/>
          <p:nvPr/>
        </p:nvSpPr>
        <p:spPr>
          <a:xfrm>
            <a:off x="395280" y="1310400"/>
            <a:ext cx="8461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6.  Периодичность подготовки этих отчёт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действия проекта по инвентаризации составляет пять лет. Досрочная  инвентаризация осуществляется в случаях: изменения технологии   производства, качества и вида применяемого топлива,  сырья  или  материалов и после проведения реконструкции технологического   обору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 startAt="7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оступност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Открытые публикаци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ля специалистов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анные в сети Интернета для специалистов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е  законодательство  не  адаптировано  к  требованиям  Директив  Евросоюза:  Отсутствует  перечень  основных  промышленных   производств  и  их оценка по отраслям в соответствии с приложением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ивы  о  промышленном  загрязнении  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4" descr="0130_subst0301"/>
          <p:cNvPicPr/>
          <p:nvPr/>
        </p:nvPicPr>
        <p:blipFill>
          <a:blip r:embed="rId1"/>
          <a:stretch/>
        </p:blipFill>
        <p:spPr>
          <a:xfrm>
            <a:off x="2627280" y="1339920"/>
            <a:ext cx="5004000" cy="5003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755640" y="8366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 рассеивания окислов азота от выбросов НПЗ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Инвентаризация выбросов от </a:t>
            </a:r>
            <a:br>
              <a:rPr sz="2000"/>
            </a:b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  передвижных источников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1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Государственные органы/ведомства, которые участвуют в инвентаризации выбросов от передвиж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центр Республики и Департамент мониторинга окружающей среды, а также экологические службы отдельных компаний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ые методики, удельные выбросы и характеристика источников выбросо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вентаризация выбросов от передвижных источников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оводится по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Методика определения выбросов вред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еществ в атмосферный воздух от автотранспортных пото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вижущихся по автомагистралям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Санкт-Петербурга“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05 г. 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N309                        </a:t>
            </a:r>
            <a:r>
              <a:rPr b="0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 и методика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Правил инвентаризации вредных выбросов в атмосферный воздух и источников, оказывающих на него физическое воздействие"  Аз.Р. 2002 г. № 6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ие источники учитываются при инвентаризации выбросов от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едвижных источников.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Инвентаризация выбросов от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передвижных источников проводится в автомагистралях и регулируемых перекрестках.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нвентаризации выбросов автотранспорта на городски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магистра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изучение особенностей распределения автотранспортных потоков (их состава и интенсивности) по городу и их изменений во времени (в течение суток, недели и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е проведения натурных обследований дополнительно определяется ряд параметров, необходимых как для расчета выбросов, так и проведения расчетов загрязнения атм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ой автомагистрали (или ее участке) фиксируются следующие парамет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ина проезжей части (в метрах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полос движения в каждом направл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женность выбранного участка автомагистрали (в км) с указанием названий улиц, ограничивающих данную автомагистраль (или ее участок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автотранспортного потока с подразделением на три основные категории: легковые, грузовые и автобусы (в км/час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ущее состояние инвентаризации выбросов и соответствующей отчетности в странах-партне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нтаризации выбросов от стационар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ет ли страна отчёт об инвентаризации выбросов в рамках Конвенции о трансграничном загрязнении воздуха на большие расстоя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Конвенция о трансграничном загрязнении воздуха на большие  расстояния   вступила в силу в Азербайджане в 09.04.2002 года.  Отчёт об инвентаризации выбросов в рамках Конвенции о трансграничном загрязнении воздуха на большие расстояния не предоставля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855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отчётности для выбросов от передвижных источников и периодичность подготовки отчё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Р используется стандартные формы отчётности, которые  приведены  в методике "Правил инвентаризации вредных выбросов в атмосферный воздух и источников, оказывающих на него физическое воздействие"  Аз.Р. 2002 г. № 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вой журнал обследования характеристик движущего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транспортного поток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именование улицы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правление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ажность прилегающих з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Ширина проезжей части (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пол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и другие информации заполняются в журнале формы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Поле рассеивания окислов азота от выбросов автотранспортного потока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Picture 5" descr="F:\img002.jpg"/>
          <p:cNvPicPr/>
          <p:nvPr/>
        </p:nvPicPr>
        <p:blipFill>
          <a:blip r:embed="rId1"/>
          <a:stretch/>
        </p:blipFill>
        <p:spPr>
          <a:xfrm>
            <a:off x="1017720" y="1071720"/>
            <a:ext cx="7637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5571720"/>
            <a:ext cx="83581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е рассеивания окиси  углерода от выбросов автотранспортного по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F:\img001.jpg"/>
          <p:cNvPicPr/>
          <p:nvPr/>
        </p:nvPicPr>
        <p:blipFill>
          <a:blip r:embed="rId1"/>
          <a:srcRect l="3109" t="0" r="3109" b="0"/>
          <a:stretch/>
        </p:blipFill>
        <p:spPr>
          <a:xfrm>
            <a:off x="1792440" y="612720"/>
            <a:ext cx="6494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грамме Copert 4, проводили расчет для определения количества выбросов, создаваемых дорожным транспортом.  При этом  ведется учет расхода транспортного топли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ании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роведен расчет для  углерода оксид, азота диоксид, серы диоксид, углеводороды, твердые част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ваем полученные данные с данными, полученными в  отчете по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аблица  Суммарный выброс от бензинзиновых и дизельных </a:t>
            </a:r>
            <a:br>
              <a:rPr sz="2000"/>
            </a:b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автомлей 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428840"/>
          <a:ext cx="8229600" cy="4605120"/>
        </p:xfrm>
        <a:graphic>
          <a:graphicData uri="http://schemas.openxmlformats.org/drawingml/2006/table">
            <a:tbl>
              <a:tblPr/>
              <a:tblGrid>
                <a:gridCol w="1074600"/>
                <a:gridCol w="662040"/>
                <a:gridCol w="1135080"/>
                <a:gridCol w="576360"/>
                <a:gridCol w="1220760"/>
                <a:gridCol w="650880"/>
                <a:gridCol w="1052640"/>
                <a:gridCol w="460080"/>
                <a:gridCol w="662040"/>
                <a:gridCol w="735120"/>
              </a:tblGrid>
              <a:tr h="15080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590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бензин-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34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от бензин-х автом-и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63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4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дизельн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4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38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 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3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дизельных автомо-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7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зель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2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05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72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76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9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7120" y="785880"/>
          <a:ext cx="8429760" cy="5395680"/>
        </p:xfrm>
        <a:graphic>
          <a:graphicData uri="http://schemas.openxmlformats.org/drawingml/2006/table">
            <a:tbl>
              <a:tblPr/>
              <a:tblGrid>
                <a:gridCol w="1381320"/>
                <a:gridCol w="1025280"/>
                <a:gridCol w="901800"/>
                <a:gridCol w="898560"/>
                <a:gridCol w="866880"/>
                <a:gridCol w="852480"/>
                <a:gridCol w="882360"/>
                <a:gridCol w="722520"/>
                <a:gridCol w="898560"/>
              </a:tblGrid>
              <a:tr h="298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рода 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ота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ры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жа,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ливо, тыс. тонн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ология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.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.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.7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8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метод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8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6.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68.8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иж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ат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ерерасчет по нац. мет.  при расходе топлива, соответ-щем полученному по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7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.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.5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5.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ница между двумя методологиями при одинаковом расходе топлива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 топлива по методолог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ERT 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ньше, чем по национальной методологии для бензина на 33,5 тыс.тонн (3%), для дизельного топлива на 120 тыс.тонн (8%).  Так как национальная статистика дает точную цифру потребления топлива, то, вероятно, данная разница обусловлена тем, что "разница топлива" потребляется не автомобилями, находящимися в эксплуатации в Республике а автомобилями приграничных районов  из-за низкой цены на топливо в Республике Иран, а также транзитными автомобилями, осуществляющими перевозки из стран  Российскую Федерацию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ациональную методологию пересчитать на количество топлива, потребленное только транспортными средствами, эксплуатируемыми в Аз.Республике, то получаться достаточно близкие цифры п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+1.4%) и ЛОС (-5.2%), что вкладывается в погрешность принятия различных допущений в настоящем отчете в отношении того или иного автомобиля к законодательству 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сиду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твердым частицам (РМ) показатели по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чительно ниже, чем по национальной методологии: СО – на 28,6%, РМ – на 30,0%, что говорит о том, что если сделать очень серьезный анализ всех типов транспортных средств и правильно их распределить на соответствие законодательству ЕС, то получается, что удельные показатели по СО и по РМ завышены в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2500200" y="2643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ю за вним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осударственные органы / ведомства, которые участвуют в инвентаризации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еспублики и Департамент мониторинга окружающей среды, а также экологические службы отдельных ком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ются ли также информационные сообщения о результатах инвентариз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ом инвентаризации разрабатывается проект ПДВ, составляется статистический отчет предприятия, который предоставляются Статистическому Комитету Аз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Line 139"/>
          <p:cNvSpPr/>
          <p:nvPr/>
        </p:nvSpPr>
        <p:spPr>
          <a:xfrm>
            <a:off x="5705640" y="214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2060640"/>
          <a:ext cx="8567640" cy="3936960"/>
        </p:xfrm>
        <a:graphic>
          <a:graphicData uri="http://schemas.openxmlformats.org/drawingml/2006/table">
            <a:tbl>
              <a:tblPr/>
              <a:tblGrid>
                <a:gridCol w="647640"/>
                <a:gridCol w="936360"/>
                <a:gridCol w="1224000"/>
                <a:gridCol w="1190880"/>
                <a:gridCol w="753840"/>
                <a:gridCol w="1008000"/>
                <a:gridCol w="1067040"/>
                <a:gridCol w="950760"/>
                <a:gridCol w="789120"/>
              </a:tblGrid>
              <a:tr h="33732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 промыш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ных объек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тва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-ников выбр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а вредных веществ, выбра-сываемых в атмосферу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час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-тый ангид-р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ы азота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-водо-р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.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9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84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7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3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259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га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6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298"/>
          <p:cNvSpPr/>
          <p:nvPr/>
        </p:nvSpPr>
        <p:spPr>
          <a:xfrm>
            <a:off x="468360" y="799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проектов ПДВ составляются статистические характеристики выбросов вредных веществ. (2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по Аз.Р.)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 %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ционарных источн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в Республике сосредоточены в г Бак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ыбросы углеводородов составляет 87%, выбросы других веществ 53-7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3"/>
          <p:cNvSpPr/>
          <p:nvPr/>
        </p:nvSpPr>
        <p:spPr>
          <a:xfrm>
            <a:off x="468360" y="5761080"/>
            <a:ext cx="845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8643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85840" y="1857240"/>
          <a:ext cx="8229600" cy="2216160"/>
        </p:xfrm>
        <a:graphic>
          <a:graphicData uri="http://schemas.openxmlformats.org/drawingml/2006/table">
            <a:tbl>
              <a:tblPr/>
              <a:tblGrid>
                <a:gridCol w="936360"/>
                <a:gridCol w="706680"/>
                <a:gridCol w="733320"/>
                <a:gridCol w="800280"/>
                <a:gridCol w="938160"/>
                <a:gridCol w="822240"/>
                <a:gridCol w="895320"/>
                <a:gridCol w="750960"/>
                <a:gridCol w="906480"/>
                <a:gridCol w="739800"/>
              </a:tblGrid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р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брос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ци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оч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вт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.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га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75"/>
          <p:cNvSpPr/>
          <p:nvPr/>
        </p:nvSpPr>
        <p:spPr>
          <a:xfrm>
            <a:off x="250920" y="4941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У: По сравнению с 1990-м годом выбросы в атмосферу, от стационар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ов уменьшился в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, а выбросы от автотранспорта увели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а. Вклад автотранспорта в общем выбросе составляет 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29"/>
          <p:cNvSpPr/>
          <p:nvPr/>
        </p:nvSpPr>
        <p:spPr>
          <a:xfrm>
            <a:off x="1403280" y="107208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3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выбросов по городам  Баку  и  Сумга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1329"/>
          <p:cNvSpPr/>
          <p:nvPr/>
        </p:nvSpPr>
        <p:spPr>
          <a:xfrm>
            <a:off x="1361520" y="4493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657"/>
          <p:cNvSpPr/>
          <p:nvPr/>
        </p:nvSpPr>
        <p:spPr>
          <a:xfrm>
            <a:off x="324000" y="2421000"/>
            <a:ext cx="86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2. Если используется не Руководство по инвентаризации EMEP/EAООС, просьба пояснить конкретные подходы и методологию инвентаризации выбро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 настоящее  время  в  Республике  Азербайджан  не  реализованы  и  не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именены принципы  Директивы  о  промышленном  загрязнении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1261440"/>
            <a:ext cx="871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ционарные источ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нтаризация выбросов загрязняющих  веществ  в атмосферный воздух стационарными источниками в Азербайджане осуществляется  по методики  "Правил инвентаризации вредных выбросов в атмосферный воздух и источников, оказывающих на него физическое воздействие" утвержденный постановлением  Кабинета  Министров Азербайджанской Республики от 15 апреля 2002 года № 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ведении инвентаризации используются инструменталь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о-расчетные и   расчетные   методы определения выбросов загрязняющих вещест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Республике  Азербайджан  нет  единой  базы  данных  по  удельным  выброса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источников  выбросов  промышленных  предприятий.  Методические  указания применяемые  для  расчета  выбросов загрязняющих  веществ  от  стационарных источников разработаны отраслевыми институтами Российской Федерации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для  расчета  выбросов  загрязняющих  веществ  от  стационарных источников используется разные программы Р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24000" y="1021320"/>
            <a:ext cx="85690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В нефтеперерабатывающих и цементных заводах инвентаризация крупных точечных источников (высота 140- 170 м, диаметр 4-6 м ) проводится инструментально – расчетными мето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тный газ (ПГ). Одной из самых актуальных проблем нефтедобычи является утилизация попутного газа. Сжигание попутного газа производится на факельных установках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ом по стране на факелах сгорает около 20 миллиардов кубических метров попутного газа. За 2006-2011 гг. выбросы попутного газа в атмосферу сократились почти в 2 раза – с 578,6 млн. кубометров до 298,3 млн. кубометров в год». «За несколько лет в результате целого ряда организационно-технических мероприятий объем выбросов попутных газов в атмосферу сократился в 2-3 раза. Проекты по снижению выбросов попутного газа реализуются ка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P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2012 году компа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ирует довести объем сбора попутных газов на собственных месторождениях д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стоящее время в АР инвентаризация источников выброса в Сельском хозяйство не пров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меется ли программное обеспечение для сбора и обработки данных инвентаризации выбросов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 Комитете статистики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5:14:29Z</dcterms:created>
  <dc:creator>User</dc:creator>
  <dc:description/>
  <dc:language>en-US</dc:language>
  <cp:lastModifiedBy>pc</cp:lastModifiedBy>
  <dcterms:modified xsi:type="dcterms:W3CDTF">2013-12-09T11:35:26Z</dcterms:modified>
  <cp:revision>160</cp:revision>
  <dc:subject/>
  <dc:title>Слайд 1</dc:title>
</cp:coreProperties>
</file>