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32040" y="739440"/>
            <a:ext cx="493704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2944-A18A-4E4E-970A-B4298DE735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2E57-849F-42C6-B8F1-948865EACC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81D2-DB67-42AB-A23F-86D5A39A6D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8929-FBED-4715-9516-36960CAD01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E6FB67-56B5-4CD3-8B16-99F9117A2AF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0760" y="46890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6D28B3F-2F64-46A1-B1A2-FA9F912FD2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A70D-4ECF-4C2E-B353-963C5CE984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8D1A7C-A451-4BBA-B254-B859BF6CD39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0760" y="46890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0E02D9E-9799-43FC-A4C6-B2B608086E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9971-8B90-49BF-BE16-548EA3126E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87E4A7-38EF-4946-A2B4-8957366231F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A277-157C-4F0B-BB9C-2199793550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59006D-D288-4D78-840B-F560F1A57F8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D95D-1E54-4876-A4CA-36AEEB9C08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0817B5-9C44-4C08-BBEF-9D283C5A771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B888-7B2B-41BD-B614-75DBB72787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3B306C-5351-4E95-B398-BD8607752D2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3AF0-5441-422D-A9E3-072BDF3712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18771D-58B0-4C6E-A05E-D85A51A16BF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333000"/>
            <a:ext cx="73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77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477720">
              <a:spcBef>
                <a:spcPts val="799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9280" y="6381360"/>
            <a:ext cx="43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55680" y="2048040"/>
            <a:ext cx="6400800" cy="33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ENGAGING STRATEGICALLY </a:t>
            </a:r>
            <a:br>
              <a:rPr sz="2900"/>
            </a:b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WITH </a:t>
            </a:r>
            <a:br>
              <a:rPr sz="2900"/>
            </a:b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NON-STATE ACTORS IN NEW AID MODALITI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7th July 201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VCO-Europeaid – D2 civil Soci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 obstacles in partner countries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Oval 3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"/>
          <p:cNvSpPr/>
          <p:nvPr/>
        </p:nvSpPr>
        <p:spPr>
          <a:xfrm>
            <a:off x="3492360" y="285120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132000" y="1143000"/>
            <a:ext cx="3024360" cy="1219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tical commitment  behind pro-poor policie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3933720"/>
            <a:ext cx="2978280" cy="1552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 civil society have the capacities/interest to engage with the st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124000" y="558972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enabling environment for Non-State Actors to particip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300720" y="2349360"/>
            <a:ext cx="2592360" cy="1536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 budget transparent? Does it reflect priorities? Is it credib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1"/>
          <p:cNvSpPr/>
          <p:nvPr/>
        </p:nvSpPr>
        <p:spPr>
          <a:xfrm rot="10800000">
            <a:off x="4475160" y="227628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2"/>
          <p:cNvSpPr/>
          <p:nvPr/>
        </p:nvSpPr>
        <p:spPr>
          <a:xfrm rot="5400000">
            <a:off x="2937960" y="4125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300720" y="4114800"/>
            <a:ext cx="252108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open and transparent dialogue with NSA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0" y="2276640"/>
            <a:ext cx="2916360" cy="124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there incentives to involve NSA in BS and SPSP ?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 rot="6651000">
            <a:off x="2937960" y="2901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hallenges for DEL/NSA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Oval 3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4"/>
          <p:cNvSpPr/>
          <p:nvPr/>
        </p:nvSpPr>
        <p:spPr>
          <a:xfrm>
            <a:off x="3492360" y="285120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132000" y="1143000"/>
            <a:ext cx="3024360" cy="1219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ong political commitment  behind declar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54080" y="3886200"/>
            <a:ext cx="2977920" cy="1552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 civil society enabled to engage with the state through the PCM 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46120" y="566100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enabling environment for Non-State Actors to particip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300720" y="2349360"/>
            <a:ext cx="2592360" cy="1536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ordination and Harmonisation amongst dono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0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1"/>
          <p:cNvSpPr/>
          <p:nvPr/>
        </p:nvSpPr>
        <p:spPr>
          <a:xfrm rot="10800000">
            <a:off x="4475160" y="227628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2"/>
          <p:cNvSpPr/>
          <p:nvPr/>
        </p:nvSpPr>
        <p:spPr>
          <a:xfrm rot="5400000">
            <a:off x="2937960" y="4125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300720" y="4114800"/>
            <a:ext cx="252108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eper and objective knowledge of NSA/CSO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0" y="2276640"/>
            <a:ext cx="2916360" cy="124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d to play a facilitation ro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6"/>
          <p:cNvSpPr/>
          <p:nvPr/>
        </p:nvSpPr>
        <p:spPr>
          <a:xfrm rot="6651000">
            <a:off x="2937960" y="2901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undamentals of this “new” approach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64960" y="1028880"/>
            <a:ext cx="887904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Down Arrow 6"/>
          <p:cNvSpPr/>
          <p:nvPr/>
        </p:nvSpPr>
        <p:spPr>
          <a:xfrm>
            <a:off x="3057480" y="2108160"/>
            <a:ext cx="731880" cy="1166760"/>
          </a:xfrm>
          <a:prstGeom prst="downArrow">
            <a:avLst>
              <a:gd name="adj1" fmla="val 50000"/>
              <a:gd name="adj2" fmla="val 5252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Down Arrow 8"/>
          <p:cNvSpPr/>
          <p:nvPr/>
        </p:nvSpPr>
        <p:spPr>
          <a:xfrm>
            <a:off x="5319720" y="2108160"/>
            <a:ext cx="804960" cy="1301760"/>
          </a:xfrm>
          <a:prstGeom prst="downArrow">
            <a:avLst>
              <a:gd name="adj1" fmla="val 50000"/>
              <a:gd name="adj2" fmla="val 43319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0" y="3646440"/>
            <a:ext cx="227484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SAs are full fledge 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10"/>
          <p:cNvSpPr/>
          <p:nvPr/>
        </p:nvSpPr>
        <p:spPr>
          <a:xfrm>
            <a:off x="2146320" y="3605040"/>
            <a:ext cx="2435040" cy="146052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alyze state-society relations systemati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11"/>
          <p:cNvSpPr/>
          <p:nvPr/>
        </p:nvSpPr>
        <p:spPr>
          <a:xfrm>
            <a:off x="4710240" y="3646440"/>
            <a:ext cx="224316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plore full potential within and beyond N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Down Arrow 12"/>
          <p:cNvSpPr/>
          <p:nvPr/>
        </p:nvSpPr>
        <p:spPr>
          <a:xfrm>
            <a:off x="7488360" y="2108160"/>
            <a:ext cx="804600" cy="1166760"/>
          </a:xfrm>
          <a:prstGeom prst="downArrow">
            <a:avLst>
              <a:gd name="adj1" fmla="val 50000"/>
              <a:gd name="adj2" fmla="val 38844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13"/>
          <p:cNvSpPr/>
          <p:nvPr/>
        </p:nvSpPr>
        <p:spPr>
          <a:xfrm>
            <a:off x="6900840" y="3646440"/>
            <a:ext cx="224316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C Prepared to play new 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Down Arrow 14"/>
          <p:cNvSpPr/>
          <p:nvPr/>
        </p:nvSpPr>
        <p:spPr>
          <a:xfrm>
            <a:off x="641520" y="1925640"/>
            <a:ext cx="731520" cy="1166760"/>
          </a:xfrm>
          <a:prstGeom prst="downArrow">
            <a:avLst>
              <a:gd name="adj1" fmla="val 50000"/>
              <a:gd name="adj2" fmla="val 52553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lternate Process 3"/>
          <p:cNvSpPr/>
          <p:nvPr/>
        </p:nvSpPr>
        <p:spPr>
          <a:xfrm>
            <a:off x="1604880" y="3411360"/>
            <a:ext cx="4830840" cy="152892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Introduce systematically “political economy” and “governance” 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lternate Process 5"/>
          <p:cNvSpPr/>
          <p:nvPr/>
        </p:nvSpPr>
        <p:spPr>
          <a:xfrm>
            <a:off x="1604880" y="1050840"/>
            <a:ext cx="4830840" cy="95580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Use several analytical tools to know the CSOs (mapping, sectoral studi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ounded Rectangle 8"/>
          <p:cNvSpPr/>
          <p:nvPr/>
        </p:nvSpPr>
        <p:spPr>
          <a:xfrm>
            <a:off x="957240" y="1274760"/>
            <a:ext cx="432000" cy="731880"/>
          </a:xfrm>
          <a:custGeom>
            <a:avLst/>
            <a:gdLst>
              <a:gd name="textAreaLeft" fmla="*/ 12600 w 432000"/>
              <a:gd name="textAreaRight" fmla="*/ 419400 w 432000"/>
              <a:gd name="textAreaTop" fmla="*/ 12600 h 731880"/>
              <a:gd name="textAreaBottom" fmla="*/ 719280 h 731880"/>
            </a:gdLst>
            <a:ahLst/>
            <a:rect l="textAreaLeft" t="textAreaTop" r="textAreaRight" b="textAreaBottom"/>
            <a:pathLst>
              <a:path w="21600" h="36582">
                <a:moveTo>
                  <a:pt x="2160" y="0"/>
                </a:moveTo>
                <a:arcTo wR="2160" hR="2160" stAng="16200000" swAng="-5400000"/>
                <a:lnTo>
                  <a:pt x="0" y="34422"/>
                </a:lnTo>
                <a:arcTo wR="2160" hR="2160" stAng="10800000" swAng="-5400000"/>
                <a:lnTo>
                  <a:pt x="19440" y="3658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ounded Rectangle 9"/>
          <p:cNvSpPr/>
          <p:nvPr/>
        </p:nvSpPr>
        <p:spPr>
          <a:xfrm>
            <a:off x="957240" y="4041720"/>
            <a:ext cx="432000" cy="490680"/>
          </a:xfrm>
          <a:custGeom>
            <a:avLst/>
            <a:gdLst>
              <a:gd name="textAreaLeft" fmla="*/ 12600 w 432000"/>
              <a:gd name="textAreaRight" fmla="*/ 419400 w 432000"/>
              <a:gd name="textAreaTop" fmla="*/ 12600 h 490680"/>
              <a:gd name="textAreaBottom" fmla="*/ 478080 h 490680"/>
            </a:gdLst>
            <a:ahLst/>
            <a:rect l="textAreaLeft" t="textAreaTop" r="textAreaRight" b="textAreaBottom"/>
            <a:pathLst>
              <a:path w="21600" h="24532">
                <a:moveTo>
                  <a:pt x="2160" y="0"/>
                </a:moveTo>
                <a:arcTo wR="2160" hR="2160" stAng="16200000" swAng="-5400000"/>
                <a:lnTo>
                  <a:pt x="0" y="22372"/>
                </a:lnTo>
                <a:arcTo wR="2160" hR="2160" stAng="10800000" swAng="-5400000"/>
                <a:lnTo>
                  <a:pt x="19440" y="2453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6858000" y="1299600"/>
            <a:ext cx="204624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</a:rPr>
              <a:t>Analyze state-society relations systema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1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ossible entry points for analysis of   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ate-society relations</a:t>
            </a:r>
            <a:r>
              <a:rPr b="1" lang="en-US" sz="3600" spc="-1" strike="noStrike">
                <a:solidFill>
                  <a:srgbClr val="33cc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1523880"/>
            <a:ext cx="8785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ffects the opportunities for NSAs to participa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the relations between state and societ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o holds power over who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o exerts pressure on whom? Who influences whom? With what me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the resources, and how are these distribut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incentives? Why is it difficult for citizens to work collectively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is the history? The history of struggle? The history of social or other movements? The history of repress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000" spc="-1" strike="noStrike">
                <a:solidFill>
                  <a:srgbClr val="00a6c8"/>
                </a:solidFill>
                <a:latin typeface="Verdana"/>
                <a:ea typeface="ＭＳ Ｐゴシック"/>
              </a:rPr>
              <a:t>Page </a:t>
            </a:r>
            <a:fld id="{573A2A13-D68F-4F4F-BD44-599BE14E339B}" type="slidenum">
              <a:rPr b="0" lang="nl-BE" sz="1000" spc="-1" strike="noStrike">
                <a:solidFill>
                  <a:srgbClr val="00a6c8"/>
                </a:solidFill>
                <a:latin typeface="Verdana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lternate Process 2"/>
          <p:cNvSpPr/>
          <p:nvPr/>
        </p:nvSpPr>
        <p:spPr>
          <a:xfrm>
            <a:off x="1547640" y="3933720"/>
            <a:ext cx="4830840" cy="93528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Prepared  for playing new roles and being creative within the existing proced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lternate Process 3"/>
          <p:cNvSpPr/>
          <p:nvPr/>
        </p:nvSpPr>
        <p:spPr>
          <a:xfrm>
            <a:off x="1547640" y="2565360"/>
            <a:ext cx="4830840" cy="69372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Systematically apply a ‘political economy’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lternate Process 5"/>
          <p:cNvSpPr/>
          <p:nvPr/>
        </p:nvSpPr>
        <p:spPr>
          <a:xfrm>
            <a:off x="1547640" y="1052640"/>
            <a:ext cx="4830840" cy="95544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Avoid a ‘technocratic’ approach to aid effectivenes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ounded Rectangle 15"/>
          <p:cNvSpPr/>
          <p:nvPr/>
        </p:nvSpPr>
        <p:spPr>
          <a:xfrm>
            <a:off x="900000" y="1413000"/>
            <a:ext cx="446040" cy="29988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ounded Rectangle 16"/>
          <p:cNvSpPr/>
          <p:nvPr/>
        </p:nvSpPr>
        <p:spPr>
          <a:xfrm>
            <a:off x="900000" y="2852640"/>
            <a:ext cx="432000" cy="31284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ounded Rectangle 17"/>
          <p:cNvSpPr/>
          <p:nvPr/>
        </p:nvSpPr>
        <p:spPr>
          <a:xfrm>
            <a:off x="900000" y="4292640"/>
            <a:ext cx="432000" cy="27468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20"/>
          <p:cNvSpPr/>
          <p:nvPr/>
        </p:nvSpPr>
        <p:spPr>
          <a:xfrm>
            <a:off x="6858000" y="1851120"/>
            <a:ext cx="186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</a:rPr>
              <a:t>New roles for EC/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3333cc"/>
                </a:solidFill>
                <a:uFillTx/>
                <a:latin typeface="Times New Roman"/>
              </a:rPr>
              <a:t>Questions for the discussion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o DEL welcome the idea of NSAs playing an active role in BS and SPSP ? Relevance and added value ? Risks ? Problems (time and resource consuming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o the DEL consider that this approach should be pushed forward in the follow up of the structured dialogue with civil society and in the forthcoming communication on NSA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t is required from the NSAs AND from the Commission to push such process (enabling environment, capacity development, specific role of “Northern” NSAs) ?  Is it feasible  ? Do we have the means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Thank you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for your attention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opic of the session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5092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ow can the E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ngage strategically and operation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both the state and non-state 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n various development related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amely when it provides “budget suppor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r engages in “sector policy support programm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So called “New Aid Modalitie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ountries engaged with NSA in BS and SPSP</a:t>
            </a:r>
            <a:br>
              <a:rPr sz="2400"/>
            </a:b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480" y="1752480"/>
          <a:ext cx="7772400" cy="4114800"/>
        </p:xfrm>
        <a:graphic>
          <a:graphicData uri="http://schemas.openxmlformats.org/drawingml/2006/table">
            <a:tbl>
              <a:tblPr/>
              <a:tblGrid>
                <a:gridCol w="3492720"/>
                <a:gridCol w="427968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-literacy Poli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occo/Ecu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ce deliv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iop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l Budget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th Af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ural resources and enviro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hana (1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eneral Budget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mechanism:  multi donor fu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 national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a of accounting for public expendi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ed and agreed with the 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seen in Country Strategic Pap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oles for NSA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icy dialogue, advoc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uador (1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toral Budget Support to Ecuadorian national Education pl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ding: E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 the short ter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inforce Country M&amp;E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inforce Constitution implementation: Citizens participation in national polic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d in the long ru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tablish relationship between public and private sector based on tr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mote result oriented and domestic accoun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uador (2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pping of actors and roles </a:t>
            </a:r>
            <a:r>
              <a:rPr b="1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Added-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C negotiated with the State the involvement of NSAs at early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ted indicators to performance of both Govt &amp; 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gotiated to put aside part of SBS to support 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 for proposals (restricted/targeted) managed by DEL but transparent with Gov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250920" y="762480"/>
            <a:ext cx="770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  <a:ea typeface="Times New Roman"/>
              </a:rPr>
              <a:t>Overview of functions and roles of NSAs in the c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06280" y="1052640"/>
          <a:ext cx="8732880" cy="4311360"/>
        </p:xfrm>
        <a:graphic>
          <a:graphicData uri="http://schemas.openxmlformats.org/drawingml/2006/table">
            <a:tbl>
              <a:tblPr/>
              <a:tblGrid>
                <a:gridCol w="1603440"/>
                <a:gridCol w="828720"/>
                <a:gridCol w="955800"/>
                <a:gridCol w="1025280"/>
                <a:gridCol w="757440"/>
                <a:gridCol w="890640"/>
                <a:gridCol w="961920"/>
                <a:gridCol w="819000"/>
                <a:gridCol w="8906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ountabil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ces provis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 Capi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 developm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novation/ pilo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raging effor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: Moroc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 – literacy poli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Ethiop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asic Servic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3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h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4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hana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Natural resources and environme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5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dia (Education and Health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6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outh Africa (Justic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7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cuador (Educa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208080" y="53712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/EU policies/agendas concerned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6" name="Content Placeholder 5" descr=""/>
          <p:cNvPicPr/>
          <p:nvPr/>
        </p:nvPicPr>
        <p:blipFill>
          <a:blip r:embed="rId2"/>
          <a:stretch/>
        </p:blipFill>
        <p:spPr>
          <a:xfrm>
            <a:off x="1163520" y="1752480"/>
            <a:ext cx="6662880" cy="4114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3"/>
          <p:cNvSpPr/>
          <p:nvPr/>
        </p:nvSpPr>
        <p:spPr>
          <a:xfrm>
            <a:off x="3165480" y="3017880"/>
            <a:ext cx="2835360" cy="1325520"/>
          </a:xfrm>
          <a:prstGeom prst="ellipse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ticip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08080" y="2023920"/>
            <a:ext cx="255276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558ed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 assistance includes support to and through N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6276960" y="2023920"/>
            <a:ext cx="255420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olving NSA contributes to  strengthen domestic accoun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2971800" y="1371600"/>
            <a:ext cx="3029040" cy="114300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 is a multi-stakeholder/multi actor process where the central state is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of the 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04920" y="4495680"/>
            <a:ext cx="2552760" cy="145440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SAs are not only implementing agencies but also promoters of democracy, justice and human r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3165480" y="4932360"/>
            <a:ext cx="2835360" cy="1704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U is committed to support NSAs to fully participate in political, economic and social dialogue processes (mainstreaming of NSA particip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6276960" y="4711680"/>
            <a:ext cx="255420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ivil Society is recognized in all its diversity (concept of non state acto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Down Arrow 14"/>
          <p:cNvSpPr/>
          <p:nvPr/>
        </p:nvSpPr>
        <p:spPr>
          <a:xfrm>
            <a:off x="4381560" y="2392200"/>
            <a:ext cx="404640" cy="368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76092"/>
          </a:solidFill>
          <a:ln w="9360">
            <a:solidFill>
              <a:srgbClr val="00cc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Down Arrow 15" descr=""/>
          <p:cNvPicPr/>
          <p:nvPr/>
        </p:nvPicPr>
        <p:blipFill>
          <a:blip r:embed="rId2"/>
          <a:stretch/>
        </p:blipFill>
        <p:spPr>
          <a:xfrm>
            <a:off x="4316400" y="4443480"/>
            <a:ext cx="523800" cy="488880"/>
          </a:xfrm>
          <a:prstGeom prst="rect">
            <a:avLst/>
          </a:prstGeom>
          <a:ln w="0">
            <a:noFill/>
          </a:ln>
        </p:spPr>
      </p:pic>
      <p:pic>
        <p:nvPicPr>
          <p:cNvPr id="76" name="Down Arrow 16" descr=""/>
          <p:cNvPicPr/>
          <p:nvPr/>
        </p:nvPicPr>
        <p:blipFill>
          <a:blip r:embed="rId3"/>
          <a:stretch/>
        </p:blipFill>
        <p:spPr>
          <a:xfrm>
            <a:off x="2627280" y="2865600"/>
            <a:ext cx="701640" cy="699840"/>
          </a:xfrm>
          <a:prstGeom prst="rect">
            <a:avLst/>
          </a:prstGeom>
          <a:ln w="0">
            <a:noFill/>
          </a:ln>
        </p:spPr>
      </p:pic>
      <p:pic>
        <p:nvPicPr>
          <p:cNvPr id="77" name="Down Arrow 17" descr=""/>
          <p:cNvPicPr/>
          <p:nvPr/>
        </p:nvPicPr>
        <p:blipFill>
          <a:blip r:embed="rId4"/>
          <a:stretch/>
        </p:blipFill>
        <p:spPr>
          <a:xfrm>
            <a:off x="2627280" y="3975120"/>
            <a:ext cx="701640" cy="700200"/>
          </a:xfrm>
          <a:prstGeom prst="rect">
            <a:avLst/>
          </a:prstGeom>
          <a:ln w="0">
            <a:noFill/>
          </a:ln>
        </p:spPr>
      </p:pic>
      <p:pic>
        <p:nvPicPr>
          <p:cNvPr id="78" name="Down Arrow 18" descr=""/>
          <p:cNvPicPr/>
          <p:nvPr/>
        </p:nvPicPr>
        <p:blipFill>
          <a:blip r:embed="rId5"/>
          <a:stretch/>
        </p:blipFill>
        <p:spPr>
          <a:xfrm>
            <a:off x="5632560" y="4164120"/>
            <a:ext cx="689040" cy="693720"/>
          </a:xfrm>
          <a:prstGeom prst="rect">
            <a:avLst/>
          </a:prstGeom>
          <a:ln w="0">
            <a:noFill/>
          </a:ln>
        </p:spPr>
      </p:pic>
      <p:pic>
        <p:nvPicPr>
          <p:cNvPr id="79" name="Down Arrow 19" descr=""/>
          <p:cNvPicPr/>
          <p:nvPr/>
        </p:nvPicPr>
        <p:blipFill>
          <a:blip r:embed="rId6"/>
          <a:stretch/>
        </p:blipFill>
        <p:spPr>
          <a:xfrm>
            <a:off x="5711760" y="2871720"/>
            <a:ext cx="695520" cy="6890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7080" y="-36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rticipatory development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16:42:01Z</dcterms:created>
  <dc:creator>JON</dc:creator>
  <dc:description/>
  <dc:language>en-US</dc:language>
  <cp:lastModifiedBy>catherine de borchgrave</cp:lastModifiedBy>
  <dcterms:modified xsi:type="dcterms:W3CDTF">2011-07-04T09:35:16Z</dcterms:modified>
  <cp:revision>4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