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2040" y="739440"/>
            <a:ext cx="493704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C3F7-DB18-4EBE-BEA0-3FBEAA4318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4B28-36F9-40C3-8AE8-6388B7AA09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7C04-6687-4969-8CF8-C12D2F1F20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CA03-1930-4696-AE93-0A496B7C57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41FAC-174D-456F-A167-ABEB5789437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A645E6A-9944-4EDB-81E0-B30AD1101D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18C1-3687-4D49-8E9F-5C569E8AE5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55DA9-07EB-4E96-836B-2A496CA92A5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B70FECE-A39D-4571-89FD-ED1ADBD84E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AFEA-CF2C-4E47-9468-1756962157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DBD81-6EF2-4908-A67D-1D11BDC283C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FCA4-CEAB-4A52-A6E4-15F705F08D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E3287-CEED-47FC-A463-6FB36E73C0F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04B5-4457-444D-A399-6EBF677136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72DF8-F52E-4DBC-88AD-E7B6E4DB610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2F2C-73DC-45DC-ADA8-16448CFC6A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8BFB3A-FF24-4472-A002-BE370F27185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A6C3-D7BF-4373-BF09-DD0DE627F8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78924-0AEB-48EA-B21F-18D3D711A52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5680" y="2048040"/>
            <a:ext cx="64008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ENGAGING STRATEGICALLY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WITH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NON-STATE ACTORS IN NEW AID MODALITI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7th July 201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VCO-Europeaid – D2 civil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 obstacles in partner countrie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al commitment  behind pro-poor policie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3933720"/>
            <a:ext cx="297828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civil society have the capacities/interest to engage with the st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budget transparent? Does it reflect priorities? Is it cred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open and transparent dialogue with NSA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there incentives to involve NSA in BS and SPSP 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allenges for DEL/NSA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 political commitment  behind decla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54080" y="3886200"/>
            <a:ext cx="297792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civil society enabled to engage with the state through the PCM 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46120" y="566100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ion and Harmonisation amongst don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eper and objective knowledge of NSA/CSO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d to play a facilitation ro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damentals of this “new” approach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64960" y="1028880"/>
            <a:ext cx="88790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Down Arrow 6"/>
          <p:cNvSpPr/>
          <p:nvPr/>
        </p:nvSpPr>
        <p:spPr>
          <a:xfrm>
            <a:off x="3057480" y="2108160"/>
            <a:ext cx="731880" cy="1166760"/>
          </a:xfrm>
          <a:prstGeom prst="downArrow">
            <a:avLst>
              <a:gd name="adj1" fmla="val 50000"/>
              <a:gd name="adj2" fmla="val 525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own Arrow 8"/>
          <p:cNvSpPr/>
          <p:nvPr/>
        </p:nvSpPr>
        <p:spPr>
          <a:xfrm>
            <a:off x="5319720" y="2108160"/>
            <a:ext cx="804960" cy="1301760"/>
          </a:xfrm>
          <a:prstGeom prst="downArrow">
            <a:avLst>
              <a:gd name="adj1" fmla="val 50000"/>
              <a:gd name="adj2" fmla="val 43319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0" y="3646440"/>
            <a:ext cx="227484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SAs are full fledg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2146320" y="3605040"/>
            <a:ext cx="2435040" cy="146052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alyze state-society relations syste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47102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lore full potential within and beyond 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Down Arrow 12"/>
          <p:cNvSpPr/>
          <p:nvPr/>
        </p:nvSpPr>
        <p:spPr>
          <a:xfrm>
            <a:off x="7488360" y="2108160"/>
            <a:ext cx="804600" cy="1166760"/>
          </a:xfrm>
          <a:prstGeom prst="downArrow">
            <a:avLst>
              <a:gd name="adj1" fmla="val 50000"/>
              <a:gd name="adj2" fmla="val 38844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3"/>
          <p:cNvSpPr/>
          <p:nvPr/>
        </p:nvSpPr>
        <p:spPr>
          <a:xfrm>
            <a:off x="69008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 Prepared to play new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Down Arrow 14"/>
          <p:cNvSpPr/>
          <p:nvPr/>
        </p:nvSpPr>
        <p:spPr>
          <a:xfrm>
            <a:off x="641520" y="1925640"/>
            <a:ext cx="731520" cy="1166760"/>
          </a:xfrm>
          <a:prstGeom prst="downArrow">
            <a:avLst>
              <a:gd name="adj1" fmla="val 50000"/>
              <a:gd name="adj2" fmla="val 52553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lternate Process 3"/>
          <p:cNvSpPr/>
          <p:nvPr/>
        </p:nvSpPr>
        <p:spPr>
          <a:xfrm>
            <a:off x="1604880" y="3411360"/>
            <a:ext cx="4830840" cy="15289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Introduce systematically “political economy” and “governance”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lternate Process 5"/>
          <p:cNvSpPr/>
          <p:nvPr/>
        </p:nvSpPr>
        <p:spPr>
          <a:xfrm>
            <a:off x="1604880" y="105084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Use several analytical tools to know the CSOs (mapping, sectoral stud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ounded Rectangle 8"/>
          <p:cNvSpPr/>
          <p:nvPr/>
        </p:nvSpPr>
        <p:spPr>
          <a:xfrm>
            <a:off x="957240" y="1274760"/>
            <a:ext cx="432000" cy="7318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731880"/>
              <a:gd name="textAreaBottom" fmla="*/ 719280 h 731880"/>
            </a:gdLst>
            <a:ahLst/>
            <a:rect l="textAreaLeft" t="textAreaTop" r="textAreaRight" b="textAreaBottom"/>
            <a:pathLst>
              <a:path w="21600" h="36582">
                <a:moveTo>
                  <a:pt x="2160" y="0"/>
                </a:moveTo>
                <a:arcTo wR="2160" hR="2160" stAng="16200000" swAng="-5400000"/>
                <a:lnTo>
                  <a:pt x="0" y="34422"/>
                </a:lnTo>
                <a:arcTo wR="2160" hR="2160" stAng="10800000" swAng="-5400000"/>
                <a:lnTo>
                  <a:pt x="19440" y="3658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ounded Rectangle 9"/>
          <p:cNvSpPr/>
          <p:nvPr/>
        </p:nvSpPr>
        <p:spPr>
          <a:xfrm>
            <a:off x="957240" y="4041720"/>
            <a:ext cx="432000" cy="4906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32">
                <a:moveTo>
                  <a:pt x="2160" y="0"/>
                </a:moveTo>
                <a:arcTo wR="2160" hR="2160" stAng="16200000" swAng="-5400000"/>
                <a:lnTo>
                  <a:pt x="0" y="22372"/>
                </a:lnTo>
                <a:arcTo wR="2160" hR="2160" stAng="10800000" swAng="-5400000"/>
                <a:lnTo>
                  <a:pt x="19440" y="2453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6858000" y="1299600"/>
            <a:ext cx="20462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Analyze state-society relations syste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ssible entry points for analysis of   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te-society relations</a:t>
            </a: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523880"/>
            <a:ext cx="8785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ffects the opportunities for NSAs to particip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lations between state and socie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holds power over wh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exerts pressure on whom? Who influences whom? With what me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sources, and how are these distribu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incentives? Why is it difficult for citizens to work collectivel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is the history? The history of struggle? The history of social or other movements? The history of repre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Page </a:t>
            </a:r>
            <a:fld id="{483C4955-F994-4339-AC40-555C7422CC6B}" type="slidenum"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lternate Process 2"/>
          <p:cNvSpPr/>
          <p:nvPr/>
        </p:nvSpPr>
        <p:spPr>
          <a:xfrm>
            <a:off x="1547640" y="3933720"/>
            <a:ext cx="4830840" cy="93528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Prepared  for playing new roles and being creative within the existing 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lternate Process 3"/>
          <p:cNvSpPr/>
          <p:nvPr/>
        </p:nvSpPr>
        <p:spPr>
          <a:xfrm>
            <a:off x="1547640" y="2565360"/>
            <a:ext cx="4830840" cy="6937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Systematically apply a ‘political economy’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lternate Process 5"/>
          <p:cNvSpPr/>
          <p:nvPr/>
        </p:nvSpPr>
        <p:spPr>
          <a:xfrm>
            <a:off x="1547640" y="1052640"/>
            <a:ext cx="4830840" cy="95544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Avoid a ‘technocratic’ approach to aid effectiven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ounded Rectangle 15"/>
          <p:cNvSpPr/>
          <p:nvPr/>
        </p:nvSpPr>
        <p:spPr>
          <a:xfrm>
            <a:off x="900000" y="1413000"/>
            <a:ext cx="446040" cy="2998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ounded Rectangle 16"/>
          <p:cNvSpPr/>
          <p:nvPr/>
        </p:nvSpPr>
        <p:spPr>
          <a:xfrm>
            <a:off x="900000" y="2852640"/>
            <a:ext cx="432000" cy="3128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ounded Rectangle 17"/>
          <p:cNvSpPr/>
          <p:nvPr/>
        </p:nvSpPr>
        <p:spPr>
          <a:xfrm>
            <a:off x="900000" y="4292640"/>
            <a:ext cx="432000" cy="2746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6858000" y="1851120"/>
            <a:ext cx="186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New roles for EC/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3333cc"/>
                </a:solidFill>
                <a:uFillTx/>
                <a:latin typeface="Times New Roman"/>
              </a:rPr>
              <a:t>Questions for the discuss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DEL welcome the idea of NSAs playing an active role in BS and SPSP ? Relevance and added value ? Risks ? Problems (time and resource consumin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the DEL consider that this approach should be pushed forward in the follow up of the structured dialogue with civil society and in the forthcoming communication on NSA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is required from the NSAs AND from the Commission to push such process (enabling environment, capacity development, specific role of “Northern” NSAs) ?  Is it feasible  ? Do we have the mean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pic of the session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50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ow can the 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gage strategically and operatio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oth the state and non-stat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n various development relate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ly when it provides “budget suppor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r engages in “sector policy support programm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o called “New Aid Modaliti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untries engaged with NSA in BS and SPSP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1752480"/>
          <a:ext cx="7772400" cy="4114800"/>
        </p:xfrm>
        <a:graphic>
          <a:graphicData uri="http://schemas.openxmlformats.org/drawingml/2006/table">
            <a:tbl>
              <a:tblPr/>
              <a:tblGrid>
                <a:gridCol w="3492720"/>
                <a:gridCol w="42796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-literacy 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occo/Ecu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Budget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th 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 resources and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hana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 Budge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mechanism:  multi dono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nationa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of accounting for public expend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and agreed with the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seen in Country Strategic Pa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les for NS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y dialogue, advoc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toral Budget Support to Ecuadorian national Education pl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ding: 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the short ter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untry M&amp;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nstitution implementation: Citizens participation in national polic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d in the long ru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ablish relationship between public and private sector based on 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e result oriented and domestic accoun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2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pping of actors and roles </a:t>
            </a:r>
            <a:r>
              <a:rPr b="1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Added-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 negotiated with the State the involvement of NSAs at early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ed indicators to performance of both Govt &amp;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gotiated to put aside part of SBS to support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 for proposals (restricted/targeted) managed by DEL but transparent with Gov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250920" y="762480"/>
            <a:ext cx="770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Overview of functions and roles of NSAs in th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06280" y="1052640"/>
          <a:ext cx="8732880" cy="4311360"/>
        </p:xfrm>
        <a:graphic>
          <a:graphicData uri="http://schemas.openxmlformats.org/drawingml/2006/table">
            <a:tbl>
              <a:tblPr/>
              <a:tblGrid>
                <a:gridCol w="1603440"/>
                <a:gridCol w="828720"/>
                <a:gridCol w="955800"/>
                <a:gridCol w="1025280"/>
                <a:gridCol w="757440"/>
                <a:gridCol w="890640"/>
                <a:gridCol w="961920"/>
                <a:gridCol w="819000"/>
                <a:gridCol w="890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abi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provi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Capi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 develop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novation/ pilo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raging eff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 Moroc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– literacy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asic Servic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3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4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atural resources and environ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5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dia (Education and Healt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6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outh Africa (Justi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7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cuador (Educ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08080" y="53712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/EU policies/agendas concerned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6" name="Content Placeholder 5" descr=""/>
          <p:cNvPicPr/>
          <p:nvPr/>
        </p:nvPicPr>
        <p:blipFill>
          <a:blip r:embed="rId2"/>
          <a:stretch/>
        </p:blipFill>
        <p:spPr>
          <a:xfrm>
            <a:off x="1163520" y="1752480"/>
            <a:ext cx="666288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3"/>
          <p:cNvSpPr/>
          <p:nvPr/>
        </p:nvSpPr>
        <p:spPr>
          <a:xfrm>
            <a:off x="3165480" y="3017880"/>
            <a:ext cx="2835360" cy="1325520"/>
          </a:xfrm>
          <a:prstGeom prst="ellips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08080" y="2023920"/>
            <a:ext cx="255276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558ed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assistance includes support to and through N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276960" y="202392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olving NSA contributes to  strengthen domestic accoun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971800" y="1371600"/>
            <a:ext cx="302904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is a multi-stakeholder/multi actor process where the central state i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of the 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04920" y="4495680"/>
            <a:ext cx="2552760" cy="14544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SAs are not only implementing agencies but also promoters of democracy, justice and human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3165480" y="4932360"/>
            <a:ext cx="2835360" cy="1704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U is committed to support NSAs to fully participate in political, economic and social dialogue processes (mainstreaming of NSA particip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6276960" y="471168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ivil Society is recognized in all its diversity (concept of non state a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Down Arrow 14"/>
          <p:cNvSpPr/>
          <p:nvPr/>
        </p:nvSpPr>
        <p:spPr>
          <a:xfrm>
            <a:off x="4381560" y="2392200"/>
            <a:ext cx="404640" cy="368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76092"/>
          </a:solidFill>
          <a:ln w="9360">
            <a:solidFill>
              <a:srgbClr val="00cc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own Arrow 15" descr=""/>
          <p:cNvPicPr/>
          <p:nvPr/>
        </p:nvPicPr>
        <p:blipFill>
          <a:blip r:embed="rId2"/>
          <a:stretch/>
        </p:blipFill>
        <p:spPr>
          <a:xfrm>
            <a:off x="4316400" y="4443480"/>
            <a:ext cx="52380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Down Arrow 16" descr=""/>
          <p:cNvPicPr/>
          <p:nvPr/>
        </p:nvPicPr>
        <p:blipFill>
          <a:blip r:embed="rId3"/>
          <a:stretch/>
        </p:blipFill>
        <p:spPr>
          <a:xfrm>
            <a:off x="2627280" y="2865600"/>
            <a:ext cx="701640" cy="699840"/>
          </a:xfrm>
          <a:prstGeom prst="rect">
            <a:avLst/>
          </a:prstGeom>
          <a:ln w="0">
            <a:noFill/>
          </a:ln>
        </p:spPr>
      </p:pic>
      <p:pic>
        <p:nvPicPr>
          <p:cNvPr id="77" name="Down Arrow 17" descr=""/>
          <p:cNvPicPr/>
          <p:nvPr/>
        </p:nvPicPr>
        <p:blipFill>
          <a:blip r:embed="rId4"/>
          <a:stretch/>
        </p:blipFill>
        <p:spPr>
          <a:xfrm>
            <a:off x="2627280" y="3975120"/>
            <a:ext cx="701640" cy="700200"/>
          </a:xfrm>
          <a:prstGeom prst="rect">
            <a:avLst/>
          </a:prstGeom>
          <a:ln w="0">
            <a:noFill/>
          </a:ln>
        </p:spPr>
      </p:pic>
      <p:pic>
        <p:nvPicPr>
          <p:cNvPr id="78" name="Down Arrow 18" descr=""/>
          <p:cNvPicPr/>
          <p:nvPr/>
        </p:nvPicPr>
        <p:blipFill>
          <a:blip r:embed="rId5"/>
          <a:stretch/>
        </p:blipFill>
        <p:spPr>
          <a:xfrm>
            <a:off x="5632560" y="4164120"/>
            <a:ext cx="689040" cy="693720"/>
          </a:xfrm>
          <a:prstGeom prst="rect">
            <a:avLst/>
          </a:prstGeom>
          <a:ln w="0">
            <a:noFill/>
          </a:ln>
        </p:spPr>
      </p:pic>
      <p:pic>
        <p:nvPicPr>
          <p:cNvPr id="79" name="Down Arrow 19" descr=""/>
          <p:cNvPicPr/>
          <p:nvPr/>
        </p:nvPicPr>
        <p:blipFill>
          <a:blip r:embed="rId6"/>
          <a:stretch/>
        </p:blipFill>
        <p:spPr>
          <a:xfrm>
            <a:off x="5711760" y="2871720"/>
            <a:ext cx="695520" cy="689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7080" y="-36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ticipatory development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catherine de borchgrave</cp:lastModifiedBy>
  <dcterms:modified xsi:type="dcterms:W3CDTF">2011-07-04T09:35:16Z</dcterms:modified>
  <cp:revision>4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