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249E-A4BA-4663-970A-0C4BF2C5ECF1}" type="slidenum">
              <a:rPr b="0" lang="ar-JO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2881-20FE-4195-945E-DF9F5E60E449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96E-41EF-4F0A-9474-A526D182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C53-006D-41E9-B168-48F67961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29D-A53B-4891-8828-786B25F3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1FA-A1B6-408C-AE0B-3FA5E9EF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FC93-9CC1-4E34-8EEE-FC97802E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7DBA-1F21-4B90-94A7-F16097AD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9E37-710D-473D-A951-60814B51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E892-800D-407C-8D05-765A69C7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F065-D750-4E55-99E1-E97858E4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6955-D6DF-44F7-BB50-6BCBF110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82F1-1832-4CBF-B426-9004B74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5BC-BB72-44E8-8519-8D267472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9A65-4932-414C-A0CE-3A7BB0DB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B7A7-092D-463E-B600-A1A0124B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7348-1AD0-4E47-AF06-83A936E2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8758-0CFC-4AE9-AA63-25CAA827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BF8D-8463-4F09-9296-CDCE9A83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426-D046-44C1-B879-77FA6F50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D33-80B2-4615-83DD-B476E373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FEE-D9D7-4477-98D7-F1325290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1BC-7968-4693-A231-76DAA33A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730-A9A4-4D81-BD0D-0FF02A7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99C-2954-4615-B267-0904ADF4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7DB-1CE7-4EBF-B5DB-299374E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1" marL="690840" indent="-265680">
              <a:spcBef>
                <a:spcPts val="799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2" marL="1062720" indent="-212400">
              <a:spcBef>
                <a:spcPts val="799"/>
              </a:spcBef>
              <a:buClr>
                <a:srgbClr val="ffdd4f"/>
              </a:buClr>
              <a:buSzPct val="125000"/>
              <a:buFont typeface="Futura MdC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3" marL="1487880" indent="-212400">
              <a:spcBef>
                <a:spcPts val="799"/>
              </a:spcBef>
              <a:buClr>
                <a:srgbClr val="ffdd4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ffdd4f"/>
                </a:solidFill>
                <a:latin typeface="Futura XBlkCn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95BF-D82D-4C58-92E3-04D856FDB4AC}" type="slidenum">
              <a:rPr b="0" lang="ar-JO" sz="1400" spc="-1" strike="noStrike">
                <a:solidFill>
                  <a:srgbClr val="ffdd4f"/>
                </a:solidFill>
                <a:latin typeface="Futura XBlkCn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0" y="6480"/>
            <a:ext cx="9099720" cy="825480"/>
          </a:xfrm>
          <a:prstGeom prst="rect">
            <a:avLst/>
          </a:prstGeom>
          <a:solidFill>
            <a:srgbClr val="e8e1f7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rformance Management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Arial"/>
                <a:cs typeface="Arial"/>
              </a:rPr>
              <a:t>وحدة التخطيط والادار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inistry of Water and Irr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AlMey"/>
          <p:cNvPicPr/>
          <p:nvPr/>
        </p:nvPicPr>
        <p:blipFill>
          <a:blip r:embed="rId2"/>
          <a:stretch/>
        </p:blipFill>
        <p:spPr>
          <a:xfrm>
            <a:off x="0" y="0"/>
            <a:ext cx="1149480" cy="831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"/>
          <p:cNvPicPr/>
          <p:nvPr/>
        </p:nvPicPr>
        <p:blipFill>
          <a:blip r:embed="rId3"/>
          <a:srcRect l="85391" t="3159" r="2167" b="86363"/>
          <a:stretch/>
        </p:blipFill>
        <p:spPr>
          <a:xfrm>
            <a:off x="7861320" y="6480"/>
            <a:ext cx="123840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0" y="6480"/>
            <a:ext cx="9099720" cy="825480"/>
          </a:xfrm>
          <a:prstGeom prst="rect">
            <a:avLst/>
          </a:prstGeom>
          <a:solidFill>
            <a:srgbClr val="e8e1f7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rformance Management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Arial"/>
                <a:cs typeface="Arial"/>
              </a:rPr>
              <a:t>وحدة التخطيط والادار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inistry of Water and Irr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AlMey"/>
          <p:cNvPicPr/>
          <p:nvPr/>
        </p:nvPicPr>
        <p:blipFill>
          <a:blip r:embed="rId2"/>
          <a:stretch/>
        </p:blipFill>
        <p:spPr>
          <a:xfrm>
            <a:off x="0" y="0"/>
            <a:ext cx="1149480" cy="831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rcRect l="85391" t="3159" r="2167" b="86363"/>
          <a:stretch/>
        </p:blipFill>
        <p:spPr>
          <a:xfrm>
            <a:off x="7861320" y="6480"/>
            <a:ext cx="1238400" cy="82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lMey"/>
          <p:cNvPicPr/>
          <p:nvPr/>
        </p:nvPicPr>
        <p:blipFill>
          <a:blip r:embed="rId4"/>
          <a:stretch/>
        </p:blipFill>
        <p:spPr>
          <a:xfrm>
            <a:off x="0" y="0"/>
            <a:ext cx="1149480" cy="831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1" marL="690840" indent="-265680">
              <a:spcBef>
                <a:spcPts val="799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2" marL="1062720" indent="-212400">
              <a:spcBef>
                <a:spcPts val="799"/>
              </a:spcBef>
              <a:buClr>
                <a:srgbClr val="ffdd4f"/>
              </a:buClr>
              <a:buSzPct val="125000"/>
              <a:buFont typeface="Futura MdC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3" marL="1487880" indent="-212400">
              <a:spcBef>
                <a:spcPts val="799"/>
              </a:spcBef>
              <a:buClr>
                <a:srgbClr val="ffdd4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ffdd4f"/>
                </a:solidFill>
                <a:latin typeface="Futura XBlkCn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E333-4F13-45C5-A53E-0D5765CC5A8A}" type="slidenum">
              <a:rPr b="0" lang="ar-JO" sz="1400" spc="-1" strike="noStrike">
                <a:solidFill>
                  <a:srgbClr val="ffdd4f"/>
                </a:solidFill>
                <a:latin typeface="Futura XBlkCn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utura XBlk BT"/>
              </a:rPr>
              <a:t>Al-Meyyah Programme</a:t>
            </a:r>
            <a:endParaRPr b="0" lang="en-US" sz="4000" spc="-1" strike="noStrike">
              <a:solidFill>
                <a:srgbClr val="000000"/>
              </a:solidFill>
              <a:latin typeface="Futura XBlkCn BT"/>
            </a:endParaRPr>
          </a:p>
        </p:txBody>
      </p:sp>
      <p:pic>
        <p:nvPicPr>
          <p:cNvPr id="97" name="Picture 6" descr="AlMey"/>
          <p:cNvPicPr/>
          <p:nvPr/>
        </p:nvPicPr>
        <p:blipFill>
          <a:blip r:embed="rId1"/>
          <a:stretch/>
        </p:blipFill>
        <p:spPr>
          <a:xfrm>
            <a:off x="3124080" y="3017880"/>
            <a:ext cx="2819520" cy="2041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304920" y="21337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upporting Management of Water Services in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ectangle 8"/>
          <p:cNvGrpSpPr/>
          <p:nvPr/>
        </p:nvGrpSpPr>
        <p:grpSpPr>
          <a:xfrm>
            <a:off x="1652760" y="4913280"/>
            <a:ext cx="6364080" cy="944640"/>
            <a:chOff x="1652760" y="4913280"/>
            <a:chExt cx="6364080" cy="944640"/>
          </a:xfrm>
        </p:grpSpPr>
        <p:pic>
          <p:nvPicPr>
            <p:cNvPr id="100" name="Rectangle 8" descr=""/>
            <p:cNvPicPr/>
            <p:nvPr/>
          </p:nvPicPr>
          <p:blipFill>
            <a:blip r:embed="rId2"/>
            <a:stretch/>
          </p:blipFill>
          <p:spPr>
            <a:xfrm>
              <a:off x="1652760" y="4913280"/>
              <a:ext cx="636408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27280" y="5051520"/>
              <a:ext cx="6222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MU Director: Basem Telfa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ch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XBlkCn BT"/>
              </a:rPr>
              <a:t>Water Reallocation Regul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utura XBlkCn BT"/>
            </a:endParaRPr>
          </a:p>
        </p:txBody>
      </p:sp>
      <p:pic>
        <p:nvPicPr>
          <p:cNvPr id="133" name="Table 3" descr=""/>
          <p:cNvPicPr/>
          <p:nvPr/>
        </p:nvPicPr>
        <p:blipFill>
          <a:blip r:embed="rId1"/>
          <a:stretch/>
        </p:blipFill>
        <p:spPr>
          <a:xfrm>
            <a:off x="615960" y="3048120"/>
            <a:ext cx="7839000" cy="3316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1981080" y="167652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rategy aims to reallocate the available domestic water resources between governorates to economically meet the subscribers'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XBlkCn BT"/>
              </a:rPr>
              <a:t>Constraints and Risks Associated with Project Design</a:t>
            </a:r>
            <a:endParaRPr b="0" lang="en-US" sz="32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hort Time frame for PM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cceptance of global change needs time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uditing acceptance is not common in the  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ector traditions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Dependence of results on projects financed from different donors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uditing and monitoring the utilities while under development is questioned in terms of effectiveness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XBlkCn BT"/>
              </a:rPr>
              <a:t>Performance Monitoring Objectives / </a:t>
            </a:r>
            <a:r>
              <a:rPr b="1" lang="en-GB" sz="2800" spc="-1" strike="noStrike">
                <a:solidFill>
                  <a:srgbClr val="0000cc"/>
                </a:solidFill>
                <a:latin typeface="Futura XBlkCn BT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Futura BdCn BT"/>
              </a:rPr>
              <a:t>Monitoring of performance using established PI’s and BM 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develop PI’s and IMS </a:t>
            </a:r>
            <a:r>
              <a:rPr b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 improved planning and decision making.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utura MdCn B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Futura BdCn BT"/>
              </a:rPr>
              <a:t>Audit and Monitor performance against statutory and contracted obligations and report the results to the appropriate contracting authorities 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performance reporting </a:t>
            </a:r>
            <a:r>
              <a:rPr b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 encouraging improved operational and investment efficiency.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monitoring, auditing and evaluating performance relative to contracted obligations </a:t>
            </a:r>
            <a:r>
              <a:rPr b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 support operating contract administration functions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Bk BT"/>
              </a:rPr>
              <a:t>evaluate water and wastewater services development policy and strategy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Futura Bk BT"/>
              </a:rPr>
              <a:t> provide an information service to the MoWI and WAJ.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39480" indent="-339480">
              <a:spcBef>
                <a:spcPts val="45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Futura BdCn BT"/>
              </a:rPr>
              <a:t>Providing advice to the Minister on other issues, </a:t>
            </a:r>
            <a:endParaRPr b="0" lang="en-US" sz="1800" spc="-1" strike="noStrike">
              <a:solidFill>
                <a:srgbClr val="000000"/>
              </a:solidFill>
              <a:latin typeface="Futura B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Pricing/ tariff adjustment (advisory to the Minister)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Capital investment planning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XBlkCn BT"/>
              </a:rPr>
              <a:t>Performance Monitoring Objectives/ </a:t>
            </a:r>
            <a:br>
              <a:rPr sz="2400"/>
            </a:br>
            <a:r>
              <a:rPr b="1" lang="en-GB" sz="2400" spc="-1" strike="noStrike">
                <a:solidFill>
                  <a:srgbClr val="0000cc"/>
                </a:solidFill>
                <a:latin typeface="Futura XBlkCn BT"/>
              </a:rPr>
              <a:t>Medium to Longer term</a:t>
            </a:r>
            <a:endParaRPr b="0" lang="en-US" sz="2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environment conducive for private sector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economic efficiency through financial viability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improve the operating and financial efficiency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ensure compliance with statutory service obligations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protect scarce water resources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protect customers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insulate the sector from inappropriate political influence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Futura XBlkCn BT"/>
              </a:rPr>
              <a:t>Strands of Commercialisation in Jordan </a:t>
            </a:r>
            <a:endParaRPr b="0" lang="en-US" sz="30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0360" y="1752120"/>
            <a:ext cx="8555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Modernisation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Modern computerised MIS’s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Consolidation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(to create </a:t>
            </a: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economies of scope and scale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Decentralisation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Futura BdC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Private Sector Participation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wider use of partnerships with the private sector (PSP)</a:t>
            </a:r>
            <a:endParaRPr b="1" lang="en-US" sz="2800" spc="-1" strike="noStrike">
              <a:solidFill>
                <a:srgbClr val="000000"/>
              </a:solidFill>
              <a:latin typeface="Futura M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dCn BT"/>
              </a:rPr>
              <a:t>Competencies for being FULL FLEGED WSAU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Futura BdCn BT"/>
              </a:rPr>
              <a:t>PI’s System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52 Water PI’s: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Water Resources (3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ersonnel (10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hysical (3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Operations (19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Quality of Services (12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Financial (5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WW PI’s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BOT PI’s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286000" y="1905120"/>
          <a:ext cx="72388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7238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5"/>
          <p:cNvSpPr/>
          <p:nvPr/>
        </p:nvSpPr>
        <p:spPr>
          <a:xfrm>
            <a:off x="5334120" y="3657600"/>
            <a:ext cx="12189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AWC reports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Miyahuna AA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MP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BP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1.79 M TA with IPA 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STE’s</a:t>
            </a:r>
            <a:endParaRPr b="1" lang="en-US" sz="2800" spc="-1" strike="noStrike">
              <a:solidFill>
                <a:srgbClr val="000000"/>
              </a:solidFill>
              <a:latin typeface="Futura MdCn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dCn BT"/>
              </a:rPr>
              <a:t>Competencies for being FULL FLEGED WSAU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rcRect l="27343" t="7294" r="26564" b="9376"/>
          <a:stretch/>
        </p:blipFill>
        <p:spPr>
          <a:xfrm>
            <a:off x="6164280" y="2133720"/>
            <a:ext cx="2979720" cy="4038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rcRect l="27343" t="23987" r="26564" b="8810"/>
          <a:stretch/>
        </p:blipFill>
        <p:spPr>
          <a:xfrm>
            <a:off x="5715000" y="2133720"/>
            <a:ext cx="3429000" cy="4039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3"/>
          <a:srcRect l="9376" t="15627" r="8594" b="7294"/>
          <a:stretch/>
        </p:blipFill>
        <p:spPr>
          <a:xfrm>
            <a:off x="4876920" y="2971800"/>
            <a:ext cx="4267080" cy="316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4"/>
          <a:srcRect l="11721" t="18604" r="10971" b="8846"/>
          <a:stretch/>
        </p:blipFill>
        <p:spPr>
          <a:xfrm>
            <a:off x="4800600" y="3008160"/>
            <a:ext cx="4343400" cy="3041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533520" y="1905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Monitoring Sys.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38224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dCn BT"/>
              </a:rPr>
              <a:t>Competencies for being FULL FLEGED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2514600"/>
            <a:ext cx="853416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MB of PMU and  repor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pabilit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RW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SP &amp; PPP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nstitutional Development and S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hab., CIP and PM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ch &amp; Financial Audit and Monitoring, Managemen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I’s &amp; BM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Achiev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Financial sustainability of the sector support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Customers benefiting from improved quality of service 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Commercialization principles effectively promoted and reflected in the Water Strategy and actions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Decentralization of water retail service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Capacities for management of PPP developed and sustain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Service auditing capacities develop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Water Tariffs Model developed and tariffs revision approv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Draft law enabling establishment of a regulatory commission developed and awaiting the government’s decision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hart 5" descr=""/>
          <p:cNvPicPr/>
          <p:nvPr/>
        </p:nvPicPr>
        <p:blipFill>
          <a:blip r:embed="rId1"/>
          <a:stretch/>
        </p:blipFill>
        <p:spPr>
          <a:xfrm>
            <a:off x="122400" y="974880"/>
            <a:ext cx="8856360" cy="5707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527040" y="1460520"/>
            <a:ext cx="4444920" cy="622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1- Financial sustainability of the sector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dCn B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794120" y="4851360"/>
            <a:ext cx="4044960" cy="666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Miyah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utura BdCn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Red =Cost recovery current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utura BdCn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Blue =Cost Recovery using 2000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utura BdCn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Title 1" descr=""/>
          <p:cNvPicPr/>
          <p:nvPr/>
        </p:nvPicPr>
        <p:blipFill>
          <a:blip r:embed="rId2"/>
          <a:stretch/>
        </p:blipFill>
        <p:spPr>
          <a:xfrm>
            <a:off x="407880" y="311040"/>
            <a:ext cx="82486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31640" y="1004760"/>
            <a:ext cx="7463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Futura XBlkCn BT"/>
              </a:rPr>
              <a:t>Historical Background-</a:t>
            </a:r>
            <a:r>
              <a:rPr b="1" lang="en-US" sz="3600" spc="-1" strike="noStrike">
                <a:solidFill>
                  <a:srgbClr val="333399"/>
                </a:solidFill>
                <a:latin typeface="Futura XBlkCn BT"/>
              </a:rPr>
              <a:t> PMU EU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638360" y="2809800"/>
            <a:ext cx="2000160" cy="2441520"/>
          </a:xfrm>
          <a:prstGeom prst="rect">
            <a:avLst/>
          </a:prstGeom>
          <a:solidFill>
            <a:srgbClr val="ffcc00">
              <a:alpha val="20000"/>
            </a:srgbClr>
          </a:solidFill>
          <a:ln cap="rnd" w="32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 indent="-87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Futura XBlkCn BT"/>
              </a:rPr>
              <a:t>1st</a:t>
            </a:r>
            <a:r>
              <a:rPr b="1" lang="en-US" sz="2000" spc="-1" strike="noStrike">
                <a:solidFill>
                  <a:srgbClr val="333399"/>
                </a:solidFill>
                <a:latin typeface="Futura XBlkCn BT"/>
              </a:rPr>
              <a:t> F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Futura XBlkCn BT"/>
              </a:rPr>
              <a:t>5 M Euro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utura XBlkCn BT"/>
                <a:ea typeface="Arial"/>
              </a:rPr>
              <a:t>2000 –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utura XBlkCn BT"/>
                <a:ea typeface="Arial"/>
              </a:rPr>
              <a:t>PM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3638520" y="2809800"/>
            <a:ext cx="1419120" cy="2441520"/>
          </a:xfrm>
          <a:prstGeom prst="rect">
            <a:avLst/>
          </a:prstGeom>
          <a:solidFill>
            <a:srgbClr val="ffcc00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Adden #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Futura XBlkCn BT"/>
              </a:rPr>
              <a:t>2 M Euro G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Futura XBlkCn BT"/>
              </a:rPr>
              <a:t>2004 - 4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utura XBlkCn BT"/>
              </a:rPr>
              <a:t>PMU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258840" y="2806560"/>
            <a:ext cx="1379520" cy="2444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GAWS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1999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057640" y="2806560"/>
            <a:ext cx="1735200" cy="2444760"/>
          </a:xfrm>
          <a:prstGeom prst="rect">
            <a:avLst/>
          </a:prstGeom>
          <a:solidFill>
            <a:srgbClr val="222268"/>
          </a:solidFill>
          <a:ln cap="rnd" w="22320">
            <a:solidFill>
              <a:srgbClr val="ffff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-Meyyah  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M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J 1.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06-12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9" descr="AlMey"/>
          <p:cNvPicPr/>
          <p:nvPr/>
        </p:nvPicPr>
        <p:blipFill>
          <a:blip r:embed="rId1"/>
          <a:stretch/>
        </p:blipFill>
        <p:spPr>
          <a:xfrm>
            <a:off x="1924200" y="1995480"/>
            <a:ext cx="377640" cy="27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AlMey"/>
          <p:cNvPicPr/>
          <p:nvPr/>
        </p:nvPicPr>
        <p:blipFill>
          <a:blip r:embed="rId2"/>
          <a:stretch/>
        </p:blipFill>
        <p:spPr>
          <a:xfrm>
            <a:off x="4481640" y="2013120"/>
            <a:ext cx="377640" cy="27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1" descr="AlMey"/>
          <p:cNvPicPr/>
          <p:nvPr/>
        </p:nvPicPr>
        <p:blipFill>
          <a:blip r:embed="rId3"/>
          <a:stretch/>
        </p:blipFill>
        <p:spPr>
          <a:xfrm>
            <a:off x="5589720" y="2013120"/>
            <a:ext cx="377640" cy="27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4" descr="AlMey"/>
          <p:cNvPicPr/>
          <p:nvPr/>
        </p:nvPicPr>
        <p:blipFill>
          <a:blip r:embed="rId4"/>
          <a:stretch/>
        </p:blipFill>
        <p:spPr>
          <a:xfrm>
            <a:off x="7480440" y="1989000"/>
            <a:ext cx="377640" cy="273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7"/>
          <p:cNvSpPr/>
          <p:nvPr/>
        </p:nvSpPr>
        <p:spPr>
          <a:xfrm>
            <a:off x="6792840" y="2806560"/>
            <a:ext cx="1690920" cy="2444760"/>
          </a:xfrm>
          <a:prstGeom prst="rect">
            <a:avLst/>
          </a:prstGeom>
          <a:solidFill>
            <a:srgbClr val="222268"/>
          </a:solidFill>
          <a:ln cap="rnd" w="22320">
            <a:solidFill>
              <a:srgbClr val="ffff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der N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-Meyyah  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M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J 1.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1/2010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6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hart 3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260280" y="1073160"/>
            <a:ext cx="78678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hart 1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838080" y="1251000"/>
            <a:ext cx="68900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hart 4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438120" y="1073160"/>
            <a:ext cx="7334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hart 2" descr=""/>
          <p:cNvPicPr/>
          <p:nvPr/>
        </p:nvPicPr>
        <p:blipFill>
          <a:blip r:embed="rId1"/>
          <a:srcRect l="0" t="0" r="-31" b="-224"/>
          <a:stretch/>
        </p:blipFill>
        <p:spPr>
          <a:xfrm>
            <a:off x="1327320" y="1295280"/>
            <a:ext cx="6800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hart 9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1015920" y="1473120"/>
            <a:ext cx="71154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hart 10" descr=""/>
          <p:cNvPicPr/>
          <p:nvPr/>
        </p:nvPicPr>
        <p:blipFill>
          <a:blip r:embed="rId1"/>
          <a:srcRect l="0" t="0" r="-7" b="-224"/>
          <a:stretch/>
        </p:blipFill>
        <p:spPr>
          <a:xfrm>
            <a:off x="793800" y="1562040"/>
            <a:ext cx="7378560" cy="4286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16000" y="955800"/>
            <a:ext cx="8712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ievements: Customers benefiting from improved quality of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XBlkCn BT"/>
              </a:rPr>
              <a:t>Principles of new Tariff Structu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XBlkCn BT"/>
              </a:rPr>
              <a:t>and Cost Recovery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Protecting the Poor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Affordability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Regulating Demand-Conservation of water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Increasing Tariff slices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Easing the ability to pay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Towards cost recovery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ommercialization Coverage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89000"/>
          <a:ext cx="8229600" cy="4651560"/>
        </p:xfrm>
        <a:graphic>
          <a:graphicData uri="http://schemas.openxmlformats.org/drawingml/2006/table">
            <a:tbl>
              <a:tblPr/>
              <a:tblGrid>
                <a:gridCol w="4024440"/>
                <a:gridCol w="1384200"/>
                <a:gridCol w="1361880"/>
                <a:gridCol w="1459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verage 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before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ture Target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served by companies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.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served by commercialization models other than company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6 % *</a:t>
                      </a:r>
                      <a:br>
                        <a:rPr sz="18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mman 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.8 % 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served under commercial principles (%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. Water suppl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ater Connections served by commercial princi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astewater Conn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ng Revenues Co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graphical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XBlkCn BT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Basem Telfah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PMU Director    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basem_telfah@pmu.gov.jo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XBlkCn BT"/>
              </a:rPr>
              <a:t>PMU(I)  Components and Achievements </a:t>
            </a:r>
            <a:endParaRPr b="0" lang="en-US" sz="32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Capital Investment (CI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Management Contract (MC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BOT As-Samra WWTP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Governorate Support (GS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Non-Revenue Water (NRW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Supervisory Control And Data Acquisition (SCADA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Geographical Information Systems (GIS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XBlkCn BT"/>
              </a:rPr>
              <a:t>Current Jordan Water and Wastewater Situation 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98% of Jordan's population is served through networks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utura BdCn BT"/>
              </a:rPr>
              <a:t>MWI aims to maintain this ratio.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63% of Jordan Population is served with wastewater network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utura BdCn BT"/>
              </a:rPr>
              <a:t>MWI aims to increase this percentage to 85% during the next ten years.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The average per capita share of supplied water in Jordan is 145 liters /day (</a:t>
            </a:r>
            <a:r>
              <a:rPr b="0" lang="en-US" sz="1600" spc="-1" strike="noStrike">
                <a:solidFill>
                  <a:srgbClr val="000000"/>
                </a:solidFill>
                <a:latin typeface="Futura BdCn BT"/>
              </a:rPr>
              <a:t>ranging between 71liter/Capita/day in Jarash to 230 liter/capita/day in Ma’an) </a:t>
            </a: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The average per capita share of billed water in Jordan is 81 liters /day</a:t>
            </a:r>
            <a:r>
              <a:rPr b="0" lang="en-US" sz="1600" spc="-1" strike="noStrike">
                <a:solidFill>
                  <a:srgbClr val="000000"/>
                </a:solidFill>
                <a:latin typeface="Futura BdCn BT"/>
              </a:rPr>
              <a:t>.( ranging from 49 liters/capita/day in Jarash to 101 liters /capita/day in Amman) </a:t>
            </a: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Futura XBlkCn BT"/>
              </a:rPr>
              <a:t>Limited water resources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609480" y="2368800"/>
            <a:ext cx="2743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Jordan, the per capita consumption is 85 liters out of supplied 145 liters /capita/day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pite the limited water resour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5476680" cy="26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6172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hart 12" descr=""/>
          <p:cNvPicPr/>
          <p:nvPr/>
        </p:nvPicPr>
        <p:blipFill>
          <a:blip r:embed="rId1"/>
          <a:stretch/>
        </p:blipFill>
        <p:spPr>
          <a:xfrm>
            <a:off x="-6480" y="725400"/>
            <a:ext cx="9156960" cy="5754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609480" y="6400800"/>
            <a:ext cx="8229600" cy="457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Futura BdCn BT"/>
              </a:rPr>
              <a:t>   </a:t>
            </a:r>
            <a:r>
              <a:rPr b="0" lang="ar-JO" sz="1400" spc="-1" strike="noStrike">
                <a:solidFill>
                  <a:srgbClr val="000000"/>
                </a:solidFill>
                <a:latin typeface="Futura BdCn BT"/>
              </a:rPr>
              <a:t>كامل المصادر                                                 الطلب الكامل باستثناء الزراعة</a:t>
            </a:r>
            <a:r>
              <a:rPr b="0" lang="ar-JO" sz="1400" spc="-1" strike="noStrike">
                <a:solidFill>
                  <a:srgbClr val="000000"/>
                </a:solidFill>
                <a:latin typeface="Futura BdCn BT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Callout 4"/>
          <p:cNvSpPr/>
          <p:nvPr/>
        </p:nvSpPr>
        <p:spPr>
          <a:xfrm>
            <a:off x="1371600" y="4495680"/>
            <a:ext cx="2438280" cy="762120"/>
          </a:xfrm>
          <a:prstGeom prst="wedgeEllipseCallout">
            <a:avLst>
              <a:gd name="adj1" fmla="val 44717"/>
              <a:gd name="adj2" fmla="val -110347"/>
            </a:avLst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100 MCM Disi Conveyor replaces 40 MCM of Agricultur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3505320" y="3657600"/>
            <a:ext cx="685800" cy="685800"/>
          </a:xfrm>
          <a:prstGeom prst="ellipse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ular Callout 10"/>
          <p:cNvSpPr/>
          <p:nvPr/>
        </p:nvSpPr>
        <p:spPr>
          <a:xfrm>
            <a:off x="2286000" y="609480"/>
            <a:ext cx="3886200" cy="381240"/>
          </a:xfrm>
          <a:prstGeom prst="wedgeRoundRectCallout">
            <a:avLst>
              <a:gd name="adj1" fmla="val 70907"/>
              <a:gd name="adj2" fmla="val 68889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600" spc="-1" strike="noStrike">
                <a:solidFill>
                  <a:srgbClr val="000000"/>
                </a:solidFill>
                <a:latin typeface="Futura BdCn BT"/>
              </a:rPr>
              <a:t>مجموع الطلب بدون الزراعة والطاقة الاضاف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ular Callout 13"/>
          <p:cNvSpPr/>
          <p:nvPr/>
        </p:nvSpPr>
        <p:spPr>
          <a:xfrm>
            <a:off x="914400" y="1600200"/>
            <a:ext cx="2514600" cy="380880"/>
          </a:xfrm>
          <a:prstGeom prst="wedgeRoundRectCallout">
            <a:avLst>
              <a:gd name="adj1" fmla="val 129472"/>
              <a:gd name="adj2" fmla="val 45889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600" spc="-1" strike="noStrike">
                <a:solidFill>
                  <a:srgbClr val="000000"/>
                </a:solidFill>
                <a:latin typeface="Futura BdCn BT"/>
              </a:rPr>
              <a:t>مجموع الطلب بدون الزراعة</a:t>
            </a:r>
            <a:r>
              <a:rPr b="1" lang="ar-JO" sz="1600" spc="-1" strike="noStrike">
                <a:solidFill>
                  <a:srgbClr val="000000"/>
                </a:solidFill>
                <a:latin typeface="Futura BdCn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-Meyyah Objective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668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J/MWI efforts to change the WS from a plainly technically driven, rather static public administration into a more business oriented and technically improved structure.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-Meyyah- enhance and accelerate the development through a systematic, sector oriented approach in support of Jordan's adopted Water Strategies and Policies.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275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transform the current structure into a service industry to provide services in a cost-efficient and socially responsive manner. 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d Sector (roles Separated)</a:t>
            </a:r>
            <a:endParaRPr b="1" lang="en-US" sz="1800" spc="-1" strike="noStrike">
              <a:solidFill>
                <a:srgbClr val="000000"/>
              </a:solidFill>
              <a:latin typeface="Futura MdCn BT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rcial Principles and PSP</a:t>
            </a:r>
            <a:endParaRPr b="1" lang="en-US" sz="1800" spc="-1" strike="noStrike">
              <a:solidFill>
                <a:srgbClr val="000000"/>
              </a:solidFill>
              <a:latin typeface="Futura M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360" y="8377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utura XBlkCn BT"/>
              </a:rPr>
              <a:t>PMU mandate in the Second Stage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0360" y="1714680"/>
            <a:ext cx="8555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Operate Utilities under commercial Principles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Prepare the sector for Audit and regulation Environment 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BdCn BT"/>
              </a:rPr>
              <a:t>Wider utilization of (PSP)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28600" y="1676520"/>
            <a:ext cx="8915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Reduce burden on public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Advance sustainabl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Work with private sector to help Leverage Water Sector’s limite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Create a model that the Government can us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Encourage development of infrastructures for basic human needs, promoting sound resource management, focusing on Water and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Expand opportunities for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371600" y="1058760"/>
            <a:ext cx="66294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chieving AL-Meyyah wil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21T07:18:02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