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4AB5-974A-44F7-8E2D-591AEAF26301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2F71-36AE-439A-9FAE-F5D083EE1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F22C-6ABF-4056-8E8E-7087C8F5B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C867-D473-417E-BECE-A38F39D698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A97D-702E-4008-BC69-482F3AA0FB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5813-FE18-4397-8C35-A6851F360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8434-3FFF-4B7F-9DF8-8E4A4CF459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E173-51C7-4883-B06A-83582EB2F2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C26A-53F7-4338-877F-628292B1B5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58B-26D2-4C38-BC80-779BEB38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C85-FB27-49EA-AA44-84005DC9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B3F-C116-4D11-8887-8FFF9088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5FA-2609-4FC1-A783-EAB5A1F2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6EB2-606C-4D9B-8954-485286B5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DD67-4CDC-423A-8DB7-EE7D55DA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CC33-11E5-4F88-AE46-28679795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A78C-5297-4873-85E2-20701F65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F8B9-1F52-45AB-A32F-33CEA45D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17E8-065D-46C6-8680-28EC27B2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8282-C299-4866-A79B-1FD2F75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C61-A430-449B-94AC-C4705EE8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D9B7-5ADD-4A4C-A0C2-3BF8F5C9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4364-FD2B-4C95-BAEB-690C574B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490E-83D4-4035-AB4F-AAC91A5A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7408-9B7A-4979-A72D-D3A8D319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E5F5-0EF1-4743-9F79-8AE77309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5A98E7-7597-4FC9-886B-9C2D8AA677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D2FDF8-FF2E-4F04-A44A-860144E892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28249-F8E7-438B-9197-89B670A5CE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8271E-AF50-422D-9E8B-5C1361A2C2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7FCCA-3B69-412D-AE2D-E3F5D11828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370-72E4-4435-A1BC-5C1F5891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1F4E1-7FAD-45DD-9611-01B37E06E5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D9D3C-9D25-41FE-970A-A519951103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09F534-0343-49E8-B08F-9172FE72F0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C70503-EF9D-4B04-BE87-71BF06EEEF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C72900-4F28-417F-AC71-8D3D7723C6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1382F6-FE21-4A74-A30D-A7F3A93ADE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663326-1D76-4DE1-B886-33AC254A9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62E-7390-43F0-B41D-1D78ED8D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5E8-6F5E-4B13-BB5B-CE727B5C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50B-D726-4F51-B7C9-492C2CE7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C0C-20F1-4D00-BA0F-1A224FEE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15A-F7C4-487E-B568-DC778B2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245C-B5DC-4D3A-BFB9-A0D02848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92C7-3173-40E9-AEC6-E564749DD7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2933-CB2A-44A5-8627-13BBDF7207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7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EE1B-15DF-4A4B-A2A5-6B5B02127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Macro - I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ffffff"/>
                </a:solidFill>
                <a:latin typeface="Verdana"/>
              </a:rPr>
              <a:t>Macroeconomic Assessment and Risk Management Framework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EE84-30F0-4389-89AB-9A35916FB552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CA" sz="2800" spc="-1" strike="noStrike">
                <a:solidFill>
                  <a:srgbClr val="0f5494"/>
                </a:solidFill>
                <a:latin typeface="Verdana"/>
              </a:rPr>
              <a:t>In addition, high fiscal deficit can lead to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High inflation (notably in case of fiscal dominance that forces the CB to “print money” to finance the budget deficit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A reduction in private investment when government borrowing crowds out the private sector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SzPct val="120000"/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Increased external vulnerability in case of foreign borrowing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8111-684E-494A-B9C3-34C04DB0C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96472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CA" sz="2800" spc="-1" strike="noStrike">
                <a:solidFill>
                  <a:srgbClr val="0f5494"/>
                </a:solidFill>
                <a:latin typeface="Verdana"/>
              </a:rPr>
              <a:t>The global financial crisis showed that the health of a country’s financial sector has far-reaching implications for its economy as well as for other economi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soundness is crucial to shock absorption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.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 fragile banking system is likely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) to reduce the effectiveness of monetary policy because of weak transmission channels to the real sector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1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AE09-006F-4924-A54E-3DA706F07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) to propagate and amplify shocks, rather than facilitate their absorption by the econom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impeding recovery because of inability to lend to sectors important for the recover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by putting public debt sustainability in case of recapitalization needs.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8066-C8EE-4A39-A243-3BDA15984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(iii) to complicate policy responses to shocks and imbalance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BoP imbalances, devaluation might be delayed for fear of its impact on the banking sector (short in foreign currency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e5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.g. in case of inflation, monetary policy tightening might be delayed for fear of an increase in non performing loans (NPL) that would undermine bank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A8D8-9121-4C80-AF25-425A204D0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Large gross private debt can challenge macroeconomic stability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arge and growing private debt can be a sign of an unsustainable growth model (based on an excessive increase in borrowing by the private sector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207F-175D-49F7-AD34-9F2F21090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603E-6109-4F60-BE3D-89D9D49985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1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AB: Deficit or Surplus? Reason for deficit ? (high investment? Low saving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Composition of exports (product diversification of exports ; destination of exports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Level and evolution of the real exchange rate (has the country lost competitiveness ?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4A10-BB48-4279-A16F-64CD3605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Current Account Balance check list (2/2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remittances: 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inflows of officials grants: are these flows at risk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C6F6-291F-4280-810E-980FAE93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Capital and financial account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Size and composition of capital flows (short term / long term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ow volatile are they?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re they at risk? (for example in case of change in global interest rate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id portfolio flows in the last few quarters coincide with large stock market appreciation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buClr>
                <a:srgbClr val="009fba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Would banks be able to roll-over their short term debt in foreign currency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C3AB-1483-4035-9EE7-1CB98076D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External debt sustainability and stock of FX reserves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the external debt sustainable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n case of large short term capital flows: what is the amount of FX reserves available in case of sudden stop in capital flows?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CFFF-0530-48ED-AF79-63272FBAE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External Sector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Identification of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9C5B-6E47-43ED-A644-1941E0F196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The budge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Size of budget deficit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Tot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Primary (before interest payment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Before gran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Revenue (as % of GDP) (it is a problem when it is too low – e.g. below 15% in poor countrie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Deficit financing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entral bank financing?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Other domestic financing? (any risk of crowding out private sector borrowing and investment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-31716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External financing? (at concessional rate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05B8-8076-4FD2-A4F8-8E569ADEA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Public debt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How high is it?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Is it sustainable under a stress scenario?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isks to the public debt (contingent liabilities):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Economic outlook for State owned enterprises (any need of recapitalization or large subsidies?)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Any risks of recapitalization need of the banking sector? (see later)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33B7-F15A-45AF-B7C3-C628B66A7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Public finance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Monetary policy check list (1/1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19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Past inflation, expected future inflation </a:t>
            </a: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(above 5%?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Central bank independence and credibility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evel of private credit / GDP and recent evolution of this ratio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Large discrepancy between official and shadow (i.e. black market) nominal exchange rate (against the USD or the euro)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Any sign of “dollarization” (share of deposits in foreign currency above 15-20%)  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3B09-EE36-4E1D-A6A0-0CF65B2D0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ZoneTexte 2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Monetary policy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Financial check list (1/1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General FSAP assessment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Recent evolution of Financial Soundness Indicator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…… </a:t>
            </a: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more on financial sector in lecture 5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1"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109C-3D0F-40ED-893F-7FF9D2FBA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ZoneTexte 2"/>
          <p:cNvSpPr/>
          <p:nvPr/>
        </p:nvSpPr>
        <p:spPr>
          <a:xfrm>
            <a:off x="0" y="549360"/>
            <a:ext cx="39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Financial Sector Satbility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69560" y="1052640"/>
            <a:ext cx="896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Source of information for identifying </a:t>
            </a:r>
            <a:r>
              <a:rPr b="1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Macroeconomic policies and financial secto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 (or IMF reviews for countries under IMF program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FSAP documents and Financial Soundness Indicators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bt sustain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Debt sustainability : IMF -  WB Debt sustainability assessment (for both public and external debts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Vulnerability and Exogenous Shoc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IMF article IV reports (notably the Risk Assessment Matrix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371520" indent="-14292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606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Detecting macroeconomic risk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ZoneTexte 4"/>
          <p:cNvSpPr/>
          <p:nvPr/>
        </p:nvSpPr>
        <p:spPr>
          <a:xfrm>
            <a:off x="0" y="549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d624"/>
                </a:solidFill>
                <a:latin typeface="Verdana"/>
              </a:rPr>
              <a:t>Source of information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1CA2-D062-41AE-B163-C0EC72F271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Macroeconomic stabilit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2AC1-D2F0-43B0-9C95-BC4C927661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6360" y="43920"/>
            <a:ext cx="41022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MF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7240" y="1341360"/>
            <a:ext cx="8962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1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2 files: Questionnaire - Risk profil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mportant note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Excel spread sheet” doesn’t mean that’s it’s only about  numbers (or even mainly numbers)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of filling up the spread sheet increases the probability that most potential risks are being scrutinized and understood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leads to a recommendation regarding EU budget support in the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B733-49F4-429E-8BD6-6075581AB3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2/3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Questionnaire: concentrates on bas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44 questions in total,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7 of which for macroeconomic risk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For each of them, one needs to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assess the level of risk (Low – Moderate – Substantial – High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give a justification for the level chosen and a description of the exact nature of the risk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ost of the answers </a:t>
            </a:r>
            <a:r>
              <a:rPr b="0" lang="en-CA" sz="2400" spc="-1" strike="noStrike" u="sng">
                <a:solidFill>
                  <a:srgbClr val="0f5494"/>
                </a:solidFill>
                <a:uFillTx/>
                <a:latin typeface="Verdana"/>
              </a:rPr>
              <a:t>are not straightforwar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f5494"/>
                </a:solidFill>
                <a:latin typeface="Verdana"/>
              </a:rPr>
              <a:t>For the numerical part, level of risk are averaged by dimensions (14 of them) with some room for ad-hoc adjustment (up or down by one notch) based on judgement.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79240" indent="-2228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5AFF-2629-456C-A5C1-5477F4C53E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8400" y="1483920"/>
            <a:ext cx="89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The Excel spread sheet (4/4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Risk profile 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Average level of risks for the 5 categories and overall average and trends (automatic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Overall recommendation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: “What should the EU do regarding BS in this country?”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Major risks and risk (or benefits) of non EU intervention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Key mitigating measures (written statemen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05080" indent="-1940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EE89-5E80-42BF-A487-32464857ED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re 1"/>
          <p:cNvSpPr/>
          <p:nvPr/>
        </p:nvSpPr>
        <p:spPr>
          <a:xfrm>
            <a:off x="5508720" y="0"/>
            <a:ext cx="3635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624"/>
                </a:solidFill>
                <a:latin typeface="Verdana"/>
              </a:rPr>
              <a:t>RF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33" name="Espace réservé du contenu 4" descr=""/>
          <p:cNvPicPr/>
          <p:nvPr/>
        </p:nvPicPr>
        <p:blipFill>
          <a:blip r:embed="rId1"/>
          <a:srcRect l="0" t="6006" r="0" b="6006"/>
          <a:stretch/>
        </p:blipFill>
        <p:spPr>
          <a:xfrm>
            <a:off x="28440" y="2565360"/>
            <a:ext cx="9068040" cy="3888000"/>
          </a:xfrm>
          <a:prstGeom prst="rect">
            <a:avLst/>
          </a:prstGeom>
          <a:ln w="0">
            <a:noFill/>
          </a:ln>
        </p:spPr>
      </p:pic>
      <p:sp>
        <p:nvSpPr>
          <p:cNvPr id="234" name="ZoneTexte 1"/>
          <p:cNvSpPr/>
          <p:nvPr/>
        </p:nvSpPr>
        <p:spPr>
          <a:xfrm>
            <a:off x="395280" y="1628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f5494"/>
                </a:solidFill>
                <a:latin typeface="Verdana"/>
              </a:rPr>
              <a:t>Overall risk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0549-6E8C-4A94-B82B-946AC985D8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8400" y="1267920"/>
            <a:ext cx="89629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Budget support is an aid modality. It involves the transfer of financial resources to the national Treasury of a partner country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process that leads to BS involves 4 assessments by the Commission of (the relevance and credibility of):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polic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framewor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ransparency and oversight of the budget proces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631440" indent="-24264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0E28-B613-4D2B-B9FE-FFB8404B04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6360" y="0"/>
            <a:ext cx="41022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Assignment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63080" y="1052640"/>
            <a:ext cx="89629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Using IMF information, please write a short country fiche for either Cambodia or Ghana and fill the RMF excel file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In order to do so, it is convenient first to use the check-list above, and identify the relevant risks for the country. Then indicate whether the country authorities are aware of the risks and are taking measures to reduce/mitigate them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ay-3 class will be on Financial Soundness indicators. Your assessment will be adjusted in the afternoon of day 3 to include financial stability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94360" indent="-22860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5456-408F-426B-B79A-ADAC085B90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2565360"/>
            <a:ext cx="734364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600" spc="-1" strike="noStrike">
                <a:solidFill>
                  <a:srgbClr val="ffd624"/>
                </a:solidFill>
                <a:latin typeface="Verdana"/>
              </a:rPr>
              <a:t>Thank you </a:t>
            </a:r>
            <a:endParaRPr b="1" lang="en-US" sz="7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DBB3-DC26-4B2D-8940-7C2E022FFBCB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43640" y="0"/>
            <a:ext cx="2735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Overview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4000" y="1125000"/>
            <a:ext cx="88200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risk assessment framework helps anticipate, monitor and react to political or economic development in the economy. 5 risk categories are consider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olitical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f5494"/>
                </a:solidFill>
                <a:latin typeface="Verdana"/>
              </a:rPr>
              <a:t>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Develop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Public Financial Management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Corruption and frau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66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f5494"/>
                </a:solidFill>
                <a:latin typeface="Verdana"/>
              </a:rPr>
              <a:t>The materialization of any of these risks is likely to significantly reduce the effectiveness of budget support unless adequate mitigating measures are taken by the partner countr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buClr>
                <a:srgbClr val="009f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957E-1FCD-4353-8BF8-C5EF7A1CE4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f5494"/>
                </a:solidFill>
                <a:latin typeface="Verdana"/>
              </a:rPr>
              <a:t>Outline of the lectur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Introduction / Overview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What is macroeconomic stability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Detecting macroeconomic risk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f5494"/>
                </a:solidFill>
                <a:latin typeface="Verdana"/>
              </a:rPr>
              <a:t>- Filling up the RMF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A2B2-2735-4F6C-AAF9-F5EA1D54CDD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928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3200" spc="-1" strike="noStrike">
                <a:solidFill>
                  <a:srgbClr val="0f5494"/>
                </a:solidFill>
                <a:latin typeface="Verdana"/>
              </a:rPr>
              <a:t>Key elements of macroeconomic stability: 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balance of Payments (external   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Low and stable inflation and low unemployment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Public debt sustainability (internal balance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ound financial system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140000"/>
              <a:buFont typeface="Wingdings" charset="2"/>
              <a:buChar char="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2800" spc="-1" strike="noStrike">
                <a:solidFill>
                  <a:srgbClr val="0f5494"/>
                </a:solidFill>
                <a:latin typeface="Verdana"/>
              </a:rPr>
              <a:t>Sustainable private (corporate and household) debt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-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FC2A-C64D-4D32-AE00-092D46963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wth is hard to achieve without a sustainable balance of payment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rnal crisis usually brings disruptions to imports and capital flows that can trigger a fall in GDP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3284640"/>
          <a:ext cx="8388360" cy="2971800"/>
        </p:xfrm>
        <a:graphic>
          <a:graphicData uri="http://schemas.openxmlformats.org/drawingml/2006/table">
            <a:tbl>
              <a:tblPr/>
              <a:tblGrid>
                <a:gridCol w="3744720"/>
                <a:gridCol w="2021040"/>
                <a:gridCol w="2622600"/>
              </a:tblGrid>
              <a:tr h="9356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Change in Real GDP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: 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.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: 1998 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.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key: 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5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: 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.9</a:t>
                      </a:r>
                      <a:endParaRPr b="0" lang="en-US" sz="28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479D-B3BC-461B-8F46-49F948FB7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Text Box 24"/>
          <p:cNvSpPr/>
          <p:nvPr/>
        </p:nvSpPr>
        <p:spPr>
          <a:xfrm>
            <a:off x="484200" y="6324480"/>
            <a:ext cx="7745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IMF.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orld Economic Outloo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September 2006, October 2007.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0f5494"/>
                </a:solidFill>
                <a:latin typeface="Verdana"/>
              </a:rPr>
              <a:t>Growth is hard to achieve without price stability 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High inflation discourages saving and foreign investment, distorts relative prices, promotes wasteful financial activities, and encourages speculation, dollarization, and capital flight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f5494"/>
                </a:solidFill>
                <a:latin typeface="Verdana"/>
              </a:rPr>
              <a:t>Deflation (negative inflation) discourages consumption, investment  (if real interest rates are positive) and delays relative price adjustments (because of nominal rigidities)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826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E5EC-949F-4E3C-8263-5668E9164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8604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Unsustainable public debt can threaten macroeconomic stability and economic growth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A high public deb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May reduce the ability of the government to implement contra-cyclical fiscal policies as neede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2d5ec1"/>
              </a:buClr>
              <a:buFont typeface="Courier New"/>
              <a:buChar char="o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Can panic investors and thus result in a self-fulfilling public debt crisis (high interest rates and inability to roll-over short term debt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269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Espace réservé du numéro de diapositive 4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C93A-5200-4553-B202-A27D3773A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890960" y="15840"/>
            <a:ext cx="4253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d624"/>
                </a:solidFill>
                <a:latin typeface="Verdana"/>
              </a:rPr>
              <a:t>Macroeconomic Stability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EPAULARD Anne (PRESTATAIRE)</cp:lastModifiedBy>
  <cp:lastPrinted>2015-06-02T09:44:00Z</cp:lastPrinted>
  <dcterms:modified xsi:type="dcterms:W3CDTF">2017-04-11T15:35:52Z</dcterms:modified>
  <cp:revision>235</cp:revision>
  <dc:subject/>
  <dc:title>Slide 1</dc:title>
</cp:coreProperties>
</file>