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dt" idx="8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ftr" idx="9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 type="sldNum" idx="10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5D7CD-821B-410E-9C16-40F20875CE3A}" type="slidenum">
              <a:rPr b="0" lang="en-GB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B17C1-5A34-4A9D-A5D9-9B483D7C418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4D995-B1D2-41EC-B07A-ED5A122A84B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1B7C2-4E0B-455B-98F4-D398FEAEE14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87C96-53AD-4153-A2F2-E92A05541F4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F8F6E-1290-4082-A79F-707584762C8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7AB12-2DFD-4AB0-B921-3C5E9AA46F8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6585F-EE69-4084-99BC-BF9366DEC35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F511C-F602-4C40-883E-6A536E9AA98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0D865-7CA4-46EF-8914-85DF79192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47B6E-2156-4642-8C66-456DE3B81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CFCA4-2BBC-4F83-8E68-8DEB4A47E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0FE35-C015-4908-9370-8EBB5FEE7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49D68-E02E-479F-B4F1-BEB7EA570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27957-68F3-473B-9B32-AE0ECBA55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311AE-8D43-40D2-8DE1-AFF386753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513CF-9988-4240-B305-0D16C60F8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AE875-C691-4665-8AA6-ECE335A0A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DD13C-EE4B-4F5D-9114-539517DC2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EAC07-2931-4EE9-8929-E526C7AE0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E3493-12B6-4F77-AA73-842D4FFFD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5B449-BC76-4B13-846A-7CC840D86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3103C-0917-4129-AF0F-0B8401303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94192-6FEA-4033-AB4B-DA0F1082B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82EDC-3B2E-4E41-9F08-87597D110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EF3B2-4A90-468D-A7D9-D18A0FB28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68ABE94-C6E0-474A-9A61-6FAE97A0321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A78391B-54A8-4306-B239-BD744830929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FC8A24B-4AB6-41D4-B10A-6B783CE0E66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DFB2F56-03F5-4450-BC12-47DED233DAE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DE312EA-F67E-4336-A9CF-BC9FE2DB4FC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7C388-4783-476D-AFE6-DBDDF73D3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1D3A11B-78B0-4AE9-87EE-9E917DD7EB6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978FDEA-C43D-4DFB-BF8B-6C51A92CB9A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FE39D5F-3552-4238-A2A3-6D8F3A0339E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F8B6B07-C979-4999-98C0-878DA96B0CC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4573B03-7E7A-4397-AA68-18B675EA122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83E7936-6DEB-4366-99D7-09AF4E95BE6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8AD95A6-A22C-4276-A71A-904D06CA50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F5C47-8648-4126-A0E8-5BDD49840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77D57-6BB1-48F0-96B5-B47AE392C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E730A-43B5-4D89-959F-E33FFECD9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700A2-F89D-46FD-BA31-0F88FF06B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CF93D-E587-41BB-B0EE-9546160DA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32C40-7CF8-4F3B-B4D5-F0FE3EBBA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BC8AE-0BDF-447E-9BCE-CCD7A04B955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4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Rectangle 6"/>
          <p:cNvSpPr/>
          <p:nvPr/>
        </p:nvSpPr>
        <p:spPr>
          <a:xfrm>
            <a:off x="4262400" y="6659640"/>
            <a:ext cx="611280" cy="19836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7" name="Picture 17" descr="LOGO CE_Vertical_EN_NEG_quadri_HR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1004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981000"/>
            <a:ext cx="9180360" cy="5877000"/>
          </a:xfrm>
          <a:prstGeom prst="rect">
            <a:avLst/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45" name="Picture 6" descr="LOGO CE-EN-quadri.eps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99864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1"/>
          <p:cNvSpPr/>
          <p:nvPr/>
        </p:nvSpPr>
        <p:spPr>
          <a:xfrm>
            <a:off x="4267080" y="6659640"/>
            <a:ext cx="611280" cy="21600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2CDE8-159A-410F-B14B-F16F81ACF2EE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14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9" name="Rectangle 6"/>
          <p:cNvSpPr/>
          <p:nvPr/>
        </p:nvSpPr>
        <p:spPr>
          <a:xfrm>
            <a:off x="4262400" y="6659640"/>
            <a:ext cx="611280" cy="19836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90" name="Picture 17" descr="LOGO CE_Vertical_EN_NEG_quadri_HR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100476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Num" idx="7"/>
          </p:nvPr>
        </p:nvSpPr>
        <p:spPr>
          <a:xfrm>
            <a:off x="700992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C6F9B-D4E9-4B05-8D46-6B9F43E898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793520" y="2565360"/>
            <a:ext cx="734364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7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600" spc="-1" strike="noStrike">
                <a:solidFill>
                  <a:srgbClr val="ffd624"/>
                </a:solidFill>
                <a:latin typeface="Verdana"/>
              </a:rPr>
              <a:t>Macro - I</a:t>
            </a:r>
            <a:endParaRPr b="1" lang="en-US" sz="7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611280" y="3716280"/>
            <a:ext cx="853272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000" spc="-1" strike="noStrike">
                <a:solidFill>
                  <a:srgbClr val="ffffff"/>
                </a:solidFill>
                <a:latin typeface="Verdana"/>
              </a:rPr>
              <a:t>Macroeconomic Assessment and Risk Management Framework</a:t>
            </a:r>
            <a:endParaRPr b="0" i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9" name="Espace réservé du numéro de diapositive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208C5-C3C1-4FC0-B96A-38ED082C5D7F}" type="slidenum">
              <a:rPr b="0" lang="en-GB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179280" y="980640"/>
            <a:ext cx="8964720" cy="525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CA" sz="2800" spc="-1" strike="noStrike">
                <a:solidFill>
                  <a:srgbClr val="0f5494"/>
                </a:solidFill>
                <a:latin typeface="Verdana"/>
              </a:rPr>
              <a:t>In addition, high fiscal deficit can lead to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SzPct val="120000"/>
              <a:buFont typeface="Courier New"/>
              <a:buChar char="o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CA" sz="2800" spc="-1" strike="noStrike">
                <a:solidFill>
                  <a:srgbClr val="0f5494"/>
                </a:solidFill>
                <a:latin typeface="Verdana"/>
              </a:rPr>
              <a:t>High inflation (notably in case of fiscal dominance that forces the CB to “print money” to finance the budget deficit)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SzPct val="120000"/>
              <a:buFont typeface="Courier New"/>
              <a:buChar char="o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CA" sz="28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CA" sz="2800" spc="-1" strike="noStrike">
                <a:solidFill>
                  <a:srgbClr val="0f5494"/>
                </a:solidFill>
                <a:latin typeface="Verdana"/>
              </a:rPr>
              <a:t>A reduction in private investment when government borrowing crowds out the private sector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SzPct val="120000"/>
              <a:buFont typeface="Courier New"/>
              <a:buChar char="o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CA" sz="28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CA" sz="2800" spc="-1" strike="noStrike">
                <a:solidFill>
                  <a:srgbClr val="0f5494"/>
                </a:solidFill>
                <a:latin typeface="Verdana"/>
              </a:rPr>
              <a:t>Increased external vulnerability in case of foreign borrowing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lvl="1" marL="8269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7" name="Espace réservé du numéro de diapositive 4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93FEF-79C1-45E9-8A61-51910A354F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4890960" y="15840"/>
            <a:ext cx="425304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712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ffd624"/>
                </a:solidFill>
                <a:latin typeface="Verdana"/>
              </a:rPr>
              <a:t>Macroeconomic Stability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p:transition spd="med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179280" y="981000"/>
            <a:ext cx="8964720" cy="540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CA" sz="2800" spc="-1" strike="noStrike">
                <a:solidFill>
                  <a:srgbClr val="0f5494"/>
                </a:solidFill>
                <a:latin typeface="Verdana"/>
              </a:rPr>
              <a:t>The global financial crisis showed that the health of a country’s financial sector has far-reaching implications for its economy as well as for other economies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i="1" lang="en-US" sz="10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0f5494"/>
                </a:solidFill>
                <a:latin typeface="Verdana"/>
              </a:rPr>
              <a:t>Financial soundness is crucial to shock absorption</a:t>
            </a: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. 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i="1" lang="en-US" sz="10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A fragile banking system is likely 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i="1" lang="en-US" sz="10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(i) to reduce the effectiveness of monetary policy because of weak transmission channels to the real sector 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 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lvl="1" marL="810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0" name="Espace réservé du numéro de diapositive 4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7283F-428E-43CF-93D6-D4B2798E52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4890960" y="15840"/>
            <a:ext cx="425304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712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ffd624"/>
                </a:solidFill>
                <a:latin typeface="Verdana"/>
              </a:rPr>
              <a:t>Macroeconomic Stability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p:transition spd="med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179280" y="1413000"/>
            <a:ext cx="8964720" cy="475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(ii) to propagate and amplify shocks, rather than facilitate their absorption by the economy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003366"/>
              </a:buClr>
              <a:buFont typeface="Courier New"/>
              <a:buChar char="o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e.g. by impeding recovery because of inability to lend to sectors important for the recovery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003366"/>
              </a:buClr>
              <a:buFont typeface="Courier New"/>
              <a:buChar char="o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e.g. by putting public debt sustainability in case of recapitalization needs.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lvl="1" marL="8269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3" name="Espace réservé du numéro de diapositive 4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BC057-6996-400E-9704-0FB9EF2A53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title"/>
          </p:nvPr>
        </p:nvSpPr>
        <p:spPr>
          <a:xfrm>
            <a:off x="4890960" y="15840"/>
            <a:ext cx="425304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712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ffd624"/>
                </a:solidFill>
                <a:latin typeface="Verdana"/>
              </a:rPr>
              <a:t>Macroeconomic Stability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p:transition spd="med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179280" y="1413000"/>
            <a:ext cx="8785440" cy="475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(iii) to complicate policy responses to shocks and imbalances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0000e5"/>
              </a:buClr>
              <a:buFont typeface="Courier New"/>
              <a:buChar char="o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e.g. in case of BoP imbalances, devaluation might be delayed for fear of its impact on the banking sector (short in foreign currency)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0000e5"/>
              </a:buClr>
              <a:buFont typeface="Courier New"/>
              <a:buChar char="o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e.g. in case of inflation, monetary policy tightening might be delayed for fear of an increase in non performing loans (NPL) that would undermine banks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lvl="1" marL="8269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6" name="Espace réservé du numéro de diapositive 4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647FF-1B23-4696-B80C-29B3EE6B9F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title"/>
          </p:nvPr>
        </p:nvSpPr>
        <p:spPr>
          <a:xfrm>
            <a:off x="4890960" y="15840"/>
            <a:ext cx="425304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712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ffd624"/>
                </a:solidFill>
                <a:latin typeface="Verdana"/>
              </a:rPr>
              <a:t>Macroeconomic Stability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p:transition spd="med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179280" y="1412640"/>
            <a:ext cx="8785440" cy="532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0f5494"/>
                </a:solidFill>
                <a:latin typeface="Verdana"/>
              </a:rPr>
              <a:t>Large gross private debt can challenge macroeconomic stability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-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Large and growing private debt can be a sign of an unsustainable growth model (based on an excessive increase in borrowing by the private sector)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lvl="1" marL="8269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9" name="Espace réservé du numéro de diapositive 4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4CFCC-05EB-4CA1-9D5B-C39F449F21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title"/>
          </p:nvPr>
        </p:nvSpPr>
        <p:spPr>
          <a:xfrm>
            <a:off x="4890960" y="15840"/>
            <a:ext cx="425304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712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ffd624"/>
                </a:solidFill>
                <a:latin typeface="Verdana"/>
              </a:rPr>
              <a:t>Macroeconomic Stability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p:transition spd="med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000" spc="-1" strike="noStrike">
                <a:solidFill>
                  <a:srgbClr val="0f5494"/>
                </a:solidFill>
                <a:latin typeface="Verdana"/>
              </a:rPr>
              <a:t>Outline of the lecture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2400" spc="-1" strike="noStrike">
                <a:solidFill>
                  <a:srgbClr val="0f5494"/>
                </a:solidFill>
                <a:latin typeface="Verdana"/>
              </a:rPr>
              <a:t>- </a:t>
            </a:r>
            <a:r>
              <a:rPr b="0" i="1" lang="en-CA" sz="2400" spc="-1" strike="noStrike">
                <a:solidFill>
                  <a:srgbClr val="0f5494"/>
                </a:solidFill>
                <a:latin typeface="Verdana"/>
              </a:rPr>
              <a:t>Introduction / Overview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400" spc="-1" strike="noStrike">
                <a:solidFill>
                  <a:srgbClr val="0f5494"/>
                </a:solidFill>
                <a:latin typeface="Verdana"/>
              </a:rPr>
              <a:t>- Macroeconomic stability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2400" spc="-1" strike="noStrike">
                <a:solidFill>
                  <a:srgbClr val="0f5494"/>
                </a:solidFill>
                <a:latin typeface="Verdana"/>
              </a:rPr>
              <a:t>- Detecting macroeconomic risk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400" spc="-1" strike="noStrike">
                <a:solidFill>
                  <a:srgbClr val="0f5494"/>
                </a:solidFill>
                <a:latin typeface="Verdana"/>
              </a:rPr>
              <a:t>- Filling up the RMF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3" name="Espace réservé du numéro de diapositive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DBFB3-3263-44DA-A314-F73669F9422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179280" y="1125000"/>
            <a:ext cx="8964720" cy="525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0f5494"/>
                </a:solidFill>
                <a:latin typeface="Verdana"/>
              </a:rPr>
              <a:t>Current Account Balance check list (1/2)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110000"/>
              </a:lnSpc>
              <a:buClr>
                <a:srgbClr val="ffffff"/>
              </a:buClr>
              <a:buFont typeface="Verdana"/>
              <a:buChar char="-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CAB: Deficit or Surplus? Reason for deficit ? (high investment? Low saving?)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110000"/>
              </a:lnSpc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110000"/>
              </a:lnSpc>
              <a:buClr>
                <a:srgbClr val="ffffff"/>
              </a:buClr>
              <a:buFont typeface="Verdana"/>
              <a:buChar char="-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Composition of exports (product diversification of exports ; destination of exports)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110000"/>
              </a:lnSpc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110000"/>
              </a:lnSpc>
              <a:buClr>
                <a:srgbClr val="ffffff"/>
              </a:buClr>
              <a:buFont typeface="Verdana"/>
              <a:buChar char="-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Level and evolution of the real exchange rate (has the country lost competitiveness ?)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lvl="1" marL="8269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5" name="Espace réservé du numéro de diapositive 4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7234F-C737-4B19-8DEB-896B3C3BE7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title"/>
          </p:nvPr>
        </p:nvSpPr>
        <p:spPr>
          <a:xfrm>
            <a:off x="4890960" y="15840"/>
            <a:ext cx="425304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712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ffd624"/>
                </a:solidFill>
                <a:latin typeface="Verdana"/>
              </a:rPr>
              <a:t>Detecting macroeconomic risks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7" name="ZoneTexte 2"/>
          <p:cNvSpPr/>
          <p:nvPr/>
        </p:nvSpPr>
        <p:spPr>
          <a:xfrm>
            <a:off x="0" y="549360"/>
            <a:ext cx="36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d624"/>
                </a:solidFill>
                <a:latin typeface="Verdana"/>
              </a:rPr>
              <a:t>External Sector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p:transition spd="med"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179280" y="1125000"/>
            <a:ext cx="8964720" cy="525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0f5494"/>
                </a:solidFill>
                <a:latin typeface="Verdana"/>
              </a:rPr>
              <a:t>Current Account Balance check list (2/2)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110000"/>
              </a:lnSpc>
              <a:buClr>
                <a:srgbClr val="ffffff"/>
              </a:buClr>
              <a:buFont typeface="Verdana"/>
              <a:buChar char="-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In case of large inflows of remittances:  are these flows at risk? 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110000"/>
              </a:lnSpc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110000"/>
              </a:lnSpc>
              <a:buClr>
                <a:srgbClr val="ffffff"/>
              </a:buClr>
              <a:buFont typeface="Verdana"/>
              <a:buChar char="-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In case of large inflows of officials grants: are these flows at risk? 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110000"/>
              </a:lnSpc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lvl="1" marL="8269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9" name="Espace réservé du numéro de diapositive 4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16561-D4AF-487F-ACF1-8C98D78AB1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title"/>
          </p:nvPr>
        </p:nvSpPr>
        <p:spPr>
          <a:xfrm>
            <a:off x="4890960" y="15840"/>
            <a:ext cx="425304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712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ffd624"/>
                </a:solidFill>
                <a:latin typeface="Verdana"/>
              </a:rPr>
              <a:t>Detecting macroeconomic risks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1" name="ZoneTexte 2"/>
          <p:cNvSpPr/>
          <p:nvPr/>
        </p:nvSpPr>
        <p:spPr>
          <a:xfrm>
            <a:off x="0" y="549360"/>
            <a:ext cx="36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d624"/>
                </a:solidFill>
                <a:latin typeface="Verdana"/>
              </a:rPr>
              <a:t>External Sector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p:transition spd="med"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179280" y="1125360"/>
            <a:ext cx="8964720" cy="573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0f5494"/>
                </a:solidFill>
                <a:latin typeface="Verdana"/>
              </a:rPr>
              <a:t>Capital and financial account check list (1/1)</a:t>
            </a:r>
            <a:endParaRPr b="0" i="1" lang="en-US" sz="26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110000"/>
              </a:lnSpc>
              <a:buClr>
                <a:srgbClr val="ffffff"/>
              </a:buClr>
              <a:buFont typeface="Verdana"/>
              <a:buChar char="-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Size and composition of capital flows (short term / long term)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110000"/>
              </a:lnSpc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110000"/>
              </a:lnSpc>
              <a:buClr>
                <a:srgbClr val="ffffff"/>
              </a:buClr>
              <a:buFont typeface="Verdana"/>
              <a:buChar char="-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In case of large short term capital flows: 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buClr>
                <a:srgbClr val="009fba"/>
              </a:buClr>
              <a:buFont typeface="Verdana"/>
              <a:buChar char="-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How volatile are they? 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buClr>
                <a:srgbClr val="009fba"/>
              </a:buClr>
              <a:buFont typeface="Verdana"/>
              <a:buChar char="-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Are they at risk? (for example in case of change in global interest rate)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buClr>
                <a:srgbClr val="009fba"/>
              </a:buClr>
              <a:buFont typeface="Verdana"/>
              <a:buChar char="-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Did portfolio flows in the last few quarters coincide with large stock market appreciation?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buClr>
                <a:srgbClr val="009fba"/>
              </a:buClr>
              <a:buFont typeface="Verdana"/>
              <a:buChar char="-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Would banks be able to roll-over their short term debt in foreign currency?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3" name="Espace réservé du numéro de diapositive 4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86610-BC4F-4B50-B84B-9AF0E3AF2C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title"/>
          </p:nvPr>
        </p:nvSpPr>
        <p:spPr>
          <a:xfrm>
            <a:off x="4890960" y="15840"/>
            <a:ext cx="425304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712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ffd624"/>
                </a:solidFill>
                <a:latin typeface="Verdana"/>
              </a:rPr>
              <a:t>Detecting macroeconomic risks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5" name="ZoneTexte 2"/>
          <p:cNvSpPr/>
          <p:nvPr/>
        </p:nvSpPr>
        <p:spPr>
          <a:xfrm>
            <a:off x="0" y="549360"/>
            <a:ext cx="36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d624"/>
                </a:solidFill>
                <a:latin typeface="Verdana"/>
              </a:rPr>
              <a:t>External Sector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p:transition spd="med"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179280" y="1125000"/>
            <a:ext cx="8964720" cy="525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0f5494"/>
                </a:solidFill>
                <a:latin typeface="Verdana"/>
              </a:rPr>
              <a:t>External debt sustainability and stock of FX reserves check list (1/1)</a:t>
            </a:r>
            <a:endParaRPr b="0" i="1" lang="en-US" sz="26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110000"/>
              </a:lnSpc>
              <a:buClr>
                <a:srgbClr val="ffffff"/>
              </a:buClr>
              <a:buFont typeface="Verdana"/>
              <a:buChar char="-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Is the external debt sustainable? 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110000"/>
              </a:lnSpc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110000"/>
              </a:lnSpc>
              <a:buClr>
                <a:srgbClr val="ffffff"/>
              </a:buClr>
              <a:buFont typeface="Verdana"/>
              <a:buChar char="-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In case of large short term capital flows: what is the amount of FX reserves available in case of sudden stop in capital flows? 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lvl="1" marL="8269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7" name="Espace réservé du numéro de diapositive 4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4A743-E6A0-4F60-AAD7-11556E7A7B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title"/>
          </p:nvPr>
        </p:nvSpPr>
        <p:spPr>
          <a:xfrm>
            <a:off x="4890960" y="15840"/>
            <a:ext cx="425304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712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ffd624"/>
                </a:solidFill>
                <a:latin typeface="Verdana"/>
              </a:rPr>
              <a:t>Detecting macroeconomic risks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9" name="ZoneTexte 2"/>
          <p:cNvSpPr/>
          <p:nvPr/>
        </p:nvSpPr>
        <p:spPr>
          <a:xfrm>
            <a:off x="0" y="549360"/>
            <a:ext cx="36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ffd624"/>
                </a:solidFill>
                <a:latin typeface="Verdana"/>
              </a:rPr>
              <a:t>External Sector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000" spc="-1" strike="noStrike">
                <a:solidFill>
                  <a:srgbClr val="0f5494"/>
                </a:solidFill>
                <a:latin typeface="Verdana"/>
              </a:rPr>
              <a:t>Outline of the lecture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2400" spc="-1" strike="noStrike">
                <a:solidFill>
                  <a:srgbClr val="0f5494"/>
                </a:solidFill>
                <a:latin typeface="Verdana"/>
              </a:rPr>
              <a:t>- Introduction / Overview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400" spc="-1" strike="noStrike">
                <a:solidFill>
                  <a:srgbClr val="0f5494"/>
                </a:solidFill>
                <a:latin typeface="Verdana"/>
              </a:rPr>
              <a:t>- Identification of macroeconomic risk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400" spc="-1" strike="noStrike">
                <a:solidFill>
                  <a:srgbClr val="0f5494"/>
                </a:solidFill>
                <a:latin typeface="Verdana"/>
              </a:rPr>
              <a:t>- Filling up the RMF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2" name="Espace réservé du numéro de diapositive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55610-DACA-40E2-A419-5F57600431A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0" y="980640"/>
            <a:ext cx="9144000" cy="587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0f5494"/>
                </a:solidFill>
                <a:latin typeface="Verdana"/>
              </a:rPr>
              <a:t>The budget check list (1/1)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826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Size of budget deficit 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826920" indent="-317160">
              <a:lnSpc>
                <a:spcPct val="80000"/>
              </a:lnSpc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Total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826920" indent="-317160">
              <a:lnSpc>
                <a:spcPct val="80000"/>
              </a:lnSpc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Primary (before interest payments)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826920" indent="-317160">
              <a:lnSpc>
                <a:spcPct val="80000"/>
              </a:lnSpc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Before grants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826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826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Revenue (as % of GDP) (it is a problem when it is too low – e.g. below 15% in poor countries)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826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826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Deficit financing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826920" indent="-317160">
              <a:lnSpc>
                <a:spcPct val="80000"/>
              </a:lnSpc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Central bank financing?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826920" indent="-317160">
              <a:lnSpc>
                <a:spcPct val="80000"/>
              </a:lnSpc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Other domestic financing? (any risk of crowding out private sector borrowing and investment?)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826920" indent="-317160">
              <a:lnSpc>
                <a:spcPct val="80000"/>
              </a:lnSpc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External financing? (at concessional rate?)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8269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  <a:p>
            <a:pPr lvl="1" marL="8269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  <a:p>
            <a:pPr lvl="1" marL="8269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  <a:p>
            <a:pPr lvl="1" marL="8269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1" name="Espace réservé du numéro de diapositive 4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F522A-71CA-4CAF-8D1E-8E5E2BCAAF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title"/>
          </p:nvPr>
        </p:nvSpPr>
        <p:spPr>
          <a:xfrm>
            <a:off x="4890960" y="15840"/>
            <a:ext cx="425304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712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ffd624"/>
                </a:solidFill>
                <a:latin typeface="Verdana"/>
              </a:rPr>
              <a:t>Detecting macroeconomic risks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3" name="ZoneTexte 2"/>
          <p:cNvSpPr/>
          <p:nvPr/>
        </p:nvSpPr>
        <p:spPr>
          <a:xfrm>
            <a:off x="0" y="549360"/>
            <a:ext cx="36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ffd624"/>
                </a:solidFill>
                <a:latin typeface="Verdana"/>
              </a:rPr>
              <a:t>Public finance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p:transition spd="med"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0" y="980640"/>
            <a:ext cx="9144000" cy="587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0f5494"/>
                </a:solidFill>
                <a:latin typeface="Verdana"/>
              </a:rPr>
              <a:t>Public debt check list (1/1)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8269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How high is it?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  <a:p>
            <a:pPr lvl="1" marL="8269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Is it sustainable? 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  <a:p>
            <a:pPr lvl="1" marL="8269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Is it sustainable under a stress scenario? 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  <a:p>
            <a:pPr lvl="1" marL="8269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  <a:p>
            <a:pPr lvl="1" marL="8269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  <a:p>
            <a:pPr lvl="1" marL="8269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Risks to the public debt (contingent liabilities):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  <a:p>
            <a:pPr lvl="1" marL="8269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Economic outlook for State owned enterprises (any need of recapitalization or large subsidies?) 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  <a:p>
            <a:pPr lvl="1" marL="8269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Any risks of recapitalization need of the banking sector? (see later)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  <a:p>
            <a:pPr lvl="1" marL="8269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	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  <a:p>
            <a:pPr lvl="1" marL="8269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  <a:p>
            <a:pPr lvl="1" marL="8269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  <a:p>
            <a:pPr lvl="1" marL="8269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  <a:p>
            <a:pPr lvl="1" marL="8269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  <a:p>
            <a:pPr lvl="1" marL="8269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5" name="Espace réservé du numéro de diapositive 4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548CA-16C9-4661-B539-4C0D47293E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title"/>
          </p:nvPr>
        </p:nvSpPr>
        <p:spPr>
          <a:xfrm>
            <a:off x="4890960" y="15840"/>
            <a:ext cx="425304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712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ffd624"/>
                </a:solidFill>
                <a:latin typeface="Verdana"/>
              </a:rPr>
              <a:t>Detecting macroeconomic risks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7" name="ZoneTexte 2"/>
          <p:cNvSpPr/>
          <p:nvPr/>
        </p:nvSpPr>
        <p:spPr>
          <a:xfrm>
            <a:off x="0" y="549360"/>
            <a:ext cx="36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ffd624"/>
                </a:solidFill>
                <a:latin typeface="Verdana"/>
              </a:rPr>
              <a:t>Public finance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p:transition spd="med"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0" y="980640"/>
            <a:ext cx="9144000" cy="587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0f5494"/>
                </a:solidFill>
                <a:latin typeface="Verdana"/>
              </a:rPr>
              <a:t>Monetary policy check list (1/1)</a:t>
            </a:r>
            <a:endParaRPr b="0" i="1" lang="en-US" sz="26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i="1" lang="en-US" sz="1900" spc="-1" strike="noStrike">
              <a:solidFill>
                <a:srgbClr val="0f5494"/>
              </a:solidFill>
              <a:latin typeface="Verdana"/>
            </a:endParaRPr>
          </a:p>
          <a:p>
            <a:pPr lvl="1" marL="5396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600" spc="-1" strike="noStrike">
                <a:solidFill>
                  <a:srgbClr val="0f5494"/>
                </a:solidFill>
                <a:latin typeface="Verdana"/>
              </a:rPr>
              <a:t>Past inflation, expected future inflation </a:t>
            </a: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(above 5%?)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53964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0f5494"/>
              </a:solidFill>
              <a:latin typeface="Verdana"/>
            </a:endParaRPr>
          </a:p>
          <a:p>
            <a:pPr lvl="1" marL="53964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600" spc="-1" strike="noStrike">
                <a:solidFill>
                  <a:srgbClr val="0f5494"/>
                </a:solidFill>
                <a:latin typeface="Verdana"/>
              </a:rPr>
              <a:t>Central bank independence and credibility</a:t>
            </a:r>
            <a:endParaRPr b="1" lang="en-US" sz="2600" spc="-1" strike="noStrike">
              <a:solidFill>
                <a:srgbClr val="0f5494"/>
              </a:solidFill>
              <a:latin typeface="Verdana"/>
            </a:endParaRPr>
          </a:p>
          <a:p>
            <a:pPr lvl="1" marL="53964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0f5494"/>
              </a:solidFill>
              <a:latin typeface="Verdana"/>
            </a:endParaRPr>
          </a:p>
          <a:p>
            <a:pPr lvl="1" marL="53964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600" spc="-1" strike="noStrike">
                <a:solidFill>
                  <a:srgbClr val="0f5494"/>
                </a:solidFill>
                <a:latin typeface="Verdana"/>
              </a:rPr>
              <a:t>Level of private credit / GDP and recent evolution of this ratio</a:t>
            </a:r>
            <a:endParaRPr b="1" lang="en-US" sz="2600" spc="-1" strike="noStrike">
              <a:solidFill>
                <a:srgbClr val="0f5494"/>
              </a:solidFill>
              <a:latin typeface="Verdana"/>
            </a:endParaRPr>
          </a:p>
          <a:p>
            <a:pPr lvl="1" marL="53964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0f5494"/>
              </a:solidFill>
              <a:latin typeface="Verdana"/>
            </a:endParaRPr>
          </a:p>
          <a:p>
            <a:pPr lvl="1" marL="53964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600" spc="-1" strike="noStrike">
                <a:solidFill>
                  <a:srgbClr val="0f5494"/>
                </a:solidFill>
                <a:latin typeface="Verdana"/>
              </a:rPr>
              <a:t>Large discrepancy between official and shadow (i.e. black market) nominal exchange rate (against the USD or the euro) </a:t>
            </a:r>
            <a:endParaRPr b="1" lang="en-US" sz="2600" spc="-1" strike="noStrike">
              <a:solidFill>
                <a:srgbClr val="0f5494"/>
              </a:solidFill>
              <a:latin typeface="Verdana"/>
            </a:endParaRPr>
          </a:p>
          <a:p>
            <a:pPr lvl="1" marL="53964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0f5494"/>
              </a:solidFill>
              <a:latin typeface="Verdana"/>
            </a:endParaRPr>
          </a:p>
          <a:p>
            <a:pPr lvl="1" marL="53964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600" spc="-1" strike="noStrike">
                <a:solidFill>
                  <a:srgbClr val="0f5494"/>
                </a:solidFill>
                <a:latin typeface="Verdana"/>
              </a:rPr>
              <a:t>Any sign of “dollarization” (share of deposits in foreign currency above 15-20%)  </a:t>
            </a:r>
            <a:endParaRPr b="1" lang="en-US" sz="2600" spc="-1" strike="noStrike">
              <a:solidFill>
                <a:srgbClr val="0f5494"/>
              </a:solidFill>
              <a:latin typeface="Verdana"/>
            </a:endParaRPr>
          </a:p>
          <a:p>
            <a:pPr lvl="1" marL="53964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600" spc="-1" strike="noStrike">
                <a:solidFill>
                  <a:srgbClr val="0f5494"/>
                </a:solidFill>
                <a:latin typeface="Verdana"/>
              </a:rPr>
              <a:t>	</a:t>
            </a:r>
            <a:endParaRPr b="1" lang="en-US" sz="2600" spc="-1" strike="noStrike">
              <a:solidFill>
                <a:srgbClr val="0f5494"/>
              </a:solidFill>
              <a:latin typeface="Verdana"/>
            </a:endParaRPr>
          </a:p>
          <a:p>
            <a:pPr lvl="1" marL="53964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0f5494"/>
              </a:solidFill>
              <a:latin typeface="Verdana"/>
            </a:endParaRPr>
          </a:p>
          <a:p>
            <a:pPr lvl="1" marL="53964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0f5494"/>
              </a:solidFill>
              <a:latin typeface="Verdana"/>
            </a:endParaRPr>
          </a:p>
          <a:p>
            <a:pPr lvl="1" marL="53964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0f5494"/>
              </a:solidFill>
              <a:latin typeface="Verdana"/>
            </a:endParaRPr>
          </a:p>
          <a:p>
            <a:pPr lvl="1" marL="53964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0f5494"/>
              </a:solidFill>
              <a:latin typeface="Verdana"/>
            </a:endParaRPr>
          </a:p>
          <a:p>
            <a:pPr lvl="1" marL="53964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9" name="Espace réservé du numéro de diapositive 4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A0BFF-9EDB-425E-9504-908E8C942F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title"/>
          </p:nvPr>
        </p:nvSpPr>
        <p:spPr>
          <a:xfrm>
            <a:off x="4890960" y="15840"/>
            <a:ext cx="425304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712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ffd624"/>
                </a:solidFill>
                <a:latin typeface="Verdana"/>
              </a:rPr>
              <a:t>Detecting macroeconomic risks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1" name="ZoneTexte 2"/>
          <p:cNvSpPr/>
          <p:nvPr/>
        </p:nvSpPr>
        <p:spPr>
          <a:xfrm>
            <a:off x="0" y="549360"/>
            <a:ext cx="36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ffd624"/>
                </a:solidFill>
                <a:latin typeface="Verdana"/>
              </a:rPr>
              <a:t>Monetary policy 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p:transition spd="med"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0" y="980640"/>
            <a:ext cx="9144000" cy="587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0f5494"/>
                </a:solidFill>
                <a:latin typeface="Verdana"/>
              </a:rPr>
              <a:t>Financial check list (1/1)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539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General FSAP assessment 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  <a:p>
            <a:pPr lvl="1" marL="539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  <a:p>
            <a:pPr lvl="1" marL="539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Recent evolution of Financial Soundness Indicators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  <a:p>
            <a:pPr lvl="1" marL="539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  <a:p>
            <a:pPr lvl="1" marL="53964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…… </a:t>
            </a: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more on financial sector in lecture 5 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  <a:p>
            <a:pPr lvl="1" marL="539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	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  <a:p>
            <a:pPr lvl="1" marL="539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  <a:p>
            <a:pPr lvl="1" marL="539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  <a:p>
            <a:pPr lvl="1" marL="539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  <a:p>
            <a:pPr lvl="1" marL="539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  <a:p>
            <a:pPr lvl="1" marL="539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3" name="Espace réservé du numéro de diapositive 4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1CBCB-96C8-4819-A861-50B44F1A1E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title"/>
          </p:nvPr>
        </p:nvSpPr>
        <p:spPr>
          <a:xfrm>
            <a:off x="4890960" y="15840"/>
            <a:ext cx="425304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712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ffd624"/>
                </a:solidFill>
                <a:latin typeface="Verdana"/>
              </a:rPr>
              <a:t>Detecting macroeconomic risks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5" name="ZoneTexte 2"/>
          <p:cNvSpPr/>
          <p:nvPr/>
        </p:nvSpPr>
        <p:spPr>
          <a:xfrm>
            <a:off x="0" y="549360"/>
            <a:ext cx="392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ffd624"/>
                </a:solidFill>
                <a:latin typeface="Verdana"/>
              </a:rPr>
              <a:t>Financial Sector Satbility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p:transition spd="med"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169560" y="1052640"/>
            <a:ext cx="896292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0000"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f5494"/>
                </a:solidFill>
                <a:latin typeface="Verdana"/>
              </a:rPr>
              <a:t>Source of information for identifying </a:t>
            </a:r>
            <a:r>
              <a:rPr b="1" lang="en-CA" sz="2400" spc="-1" strike="noStrike" u="sng">
                <a:solidFill>
                  <a:srgbClr val="0f5494"/>
                </a:solidFill>
                <a:uFillTx/>
                <a:latin typeface="Verdana"/>
              </a:rPr>
              <a:t>macroeconomic risk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066cc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400" spc="-1" strike="noStrike">
                <a:solidFill>
                  <a:srgbClr val="0f5494"/>
                </a:solidFill>
                <a:latin typeface="Verdana"/>
              </a:rPr>
              <a:t>Macroeconomic policies and financial sector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371520" indent="-142920">
              <a:spcBef>
                <a:spcPts val="1199"/>
              </a:spcBef>
              <a:buClr>
                <a:srgbClr val="0066cc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f5494"/>
                </a:solidFill>
                <a:latin typeface="Verdana"/>
              </a:rPr>
              <a:t>IMF article IV report (or IMF reviews for countries under IMF programs)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371520" indent="-142920">
              <a:spcBef>
                <a:spcPts val="1199"/>
              </a:spcBef>
              <a:buClr>
                <a:srgbClr val="0066cc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f5494"/>
                </a:solidFill>
                <a:latin typeface="Verdana"/>
              </a:rPr>
              <a:t>IMF FSAP documents and Financial Soundness Indicator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066cc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400" spc="-1" strike="noStrike">
                <a:solidFill>
                  <a:srgbClr val="0f5494"/>
                </a:solidFill>
                <a:latin typeface="Verdana"/>
              </a:rPr>
              <a:t>Debt sustainability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371520" indent="-142920">
              <a:spcBef>
                <a:spcPts val="1199"/>
              </a:spcBef>
              <a:buClr>
                <a:srgbClr val="0066cc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f5494"/>
                </a:solidFill>
                <a:latin typeface="Verdana"/>
              </a:rPr>
              <a:t>Debt sustainability : IMF -  WB Debt sustainability assessment (for both public and external debts)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066cc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400" spc="-1" strike="noStrike">
                <a:solidFill>
                  <a:srgbClr val="0f5494"/>
                </a:solidFill>
                <a:latin typeface="Verdana"/>
              </a:rPr>
              <a:t>Vulnerability and Exogenous Shock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371520" indent="-142920">
              <a:spcBef>
                <a:spcPts val="1199"/>
              </a:spcBef>
              <a:buClr>
                <a:srgbClr val="0066cc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f5494"/>
                </a:solidFill>
                <a:latin typeface="Verdana"/>
              </a:rPr>
              <a:t>IMF article IV reports (notably the Risk Assessment Matrix)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371520" indent="-142920">
              <a:spcBef>
                <a:spcPts val="1199"/>
              </a:spcBef>
              <a:buClr>
                <a:srgbClr val="0066cc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f5494"/>
                </a:solidFill>
                <a:latin typeface="Verdana"/>
              </a:rPr>
              <a:t>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4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0" i="1" lang="en-CA" sz="2400" spc="-1" strike="noStrike">
                <a:solidFill>
                  <a:srgbClr val="0f5494"/>
                </a:solidFill>
                <a:latin typeface="Verdana"/>
              </a:rPr>
              <a:t> 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371520" indent="-1429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371520" indent="-1429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f5494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371520" indent="-142920">
              <a:spcBef>
                <a:spcPts val="499"/>
              </a:spcBef>
              <a:buClr>
                <a:srgbClr val="009f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1640" y="0"/>
            <a:ext cx="460692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712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ffd624"/>
                </a:solidFill>
                <a:latin typeface="Verdana"/>
              </a:rPr>
              <a:t>Detecting macroeconomic risks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8" name="ZoneTexte 4"/>
          <p:cNvSpPr/>
          <p:nvPr/>
        </p:nvSpPr>
        <p:spPr>
          <a:xfrm>
            <a:off x="0" y="549360"/>
            <a:ext cx="36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ffd624"/>
                </a:solidFill>
                <a:latin typeface="Verdana"/>
              </a:rPr>
              <a:t>Source of information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9" name="Espace réservé du numéro de diapositive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2E2B9-AAD6-4841-A321-6A25FB49DB1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000" spc="-1" strike="noStrike">
                <a:solidFill>
                  <a:srgbClr val="0f5494"/>
                </a:solidFill>
                <a:latin typeface="Verdana"/>
              </a:rPr>
              <a:t>Outline of the lecture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2400" spc="-1" strike="noStrike">
                <a:solidFill>
                  <a:srgbClr val="0f5494"/>
                </a:solidFill>
                <a:latin typeface="Verdana"/>
              </a:rPr>
              <a:t>- </a:t>
            </a:r>
            <a:r>
              <a:rPr b="0" i="1" lang="en-CA" sz="2400" spc="-1" strike="noStrike">
                <a:solidFill>
                  <a:srgbClr val="0f5494"/>
                </a:solidFill>
                <a:latin typeface="Verdana"/>
              </a:rPr>
              <a:t>Introduction / Overview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400" spc="-1" strike="noStrike">
                <a:solidFill>
                  <a:srgbClr val="0f5494"/>
                </a:solidFill>
                <a:latin typeface="Verdana"/>
              </a:rPr>
              <a:t>- Macroeconomic stability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400" spc="-1" strike="noStrike">
                <a:solidFill>
                  <a:srgbClr val="0f5494"/>
                </a:solidFill>
                <a:latin typeface="Verdana"/>
              </a:rPr>
              <a:t>- Detecting macroeconomic risk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400" spc="-1" strike="noStrike">
                <a:solidFill>
                  <a:srgbClr val="0f5494"/>
                </a:solidFill>
                <a:latin typeface="Verdana"/>
              </a:rPr>
              <a:t>- </a:t>
            </a:r>
            <a:r>
              <a:rPr b="1" i="1" lang="en-CA" sz="2400" spc="-1" strike="noStrike">
                <a:solidFill>
                  <a:srgbClr val="0f5494"/>
                </a:solidFill>
                <a:latin typeface="Verdana"/>
              </a:rPr>
              <a:t>Filling up the RMF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2" name="Espace réservé du numéro de diapositive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F1B80-3A40-4A96-935B-CEA885045CA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076360" y="43920"/>
            <a:ext cx="4102200" cy="5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ffd624"/>
                </a:solidFill>
                <a:latin typeface="Verdana"/>
              </a:rPr>
              <a:t>RMF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47240" y="1341360"/>
            <a:ext cx="896292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f5494"/>
                </a:solidFill>
                <a:latin typeface="Verdana"/>
              </a:rPr>
              <a:t>The Excel spread sheet (1/3)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f5494"/>
                </a:solidFill>
                <a:latin typeface="Verdana"/>
              </a:rPr>
              <a:t>2 files: Questionnaire - Risk profile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f5494"/>
                </a:solidFill>
                <a:latin typeface="Verdana"/>
              </a:rPr>
              <a:t>Important note: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f5494"/>
                </a:solidFill>
                <a:latin typeface="Verdana"/>
              </a:rPr>
              <a:t>“</a:t>
            </a:r>
            <a:r>
              <a:rPr b="0" lang="en-CA" sz="2400" spc="-1" strike="noStrike">
                <a:solidFill>
                  <a:srgbClr val="0f5494"/>
                </a:solidFill>
                <a:latin typeface="Verdana"/>
              </a:rPr>
              <a:t>Excel spread sheet” doesn’t mean that’s it’s only about  numbers (or even mainly numbers).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f5494"/>
                </a:solidFill>
                <a:latin typeface="Verdana"/>
              </a:rPr>
              <a:t>The process of filling up the spread sheet increases the probability that most potential risks are being scrutinized and understood.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f5494"/>
                </a:solidFill>
                <a:latin typeface="Verdana"/>
              </a:rPr>
              <a:t>The process leads to a recommendation regarding EU budget support in the country.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5" name="Espace réservé du numéro de diapositive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35B23-07C1-46DC-8864-9D188A5BC5B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76360" y="0"/>
            <a:ext cx="41022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ffd624"/>
                </a:solidFill>
                <a:latin typeface="Verdana"/>
              </a:rPr>
              <a:t>RFM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163080" y="1052640"/>
            <a:ext cx="896292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f5494"/>
                </a:solidFill>
                <a:latin typeface="Verdana"/>
              </a:rPr>
              <a:t>The Excel spread sheet (2/3)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9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066cc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f5494"/>
                </a:solidFill>
                <a:latin typeface="Verdana"/>
              </a:rPr>
              <a:t>Questionnaire: concentrates on basic risks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066cc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f5494"/>
                </a:solidFill>
                <a:latin typeface="Verdana"/>
              </a:rPr>
              <a:t>44 questions in total, </a:t>
            </a:r>
            <a:r>
              <a:rPr b="1" lang="en-CA" sz="2400" spc="-1" strike="noStrike">
                <a:solidFill>
                  <a:srgbClr val="0f5494"/>
                </a:solidFill>
                <a:latin typeface="Verdana"/>
              </a:rPr>
              <a:t>7 of which for macroeconomic risks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066cc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f5494"/>
                </a:solidFill>
                <a:latin typeface="Verdana"/>
              </a:rPr>
              <a:t>For each of them, one needs to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579240" indent="-222840">
              <a:spcBef>
                <a:spcPts val="1199"/>
              </a:spcBef>
              <a:buClr>
                <a:srgbClr val="0066cc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f5494"/>
                </a:solidFill>
                <a:latin typeface="Verdana"/>
              </a:rPr>
              <a:t>assess the level of risk (Low – Moderate – Substantial – High)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579240" indent="-222840">
              <a:spcBef>
                <a:spcPts val="1199"/>
              </a:spcBef>
              <a:buClr>
                <a:srgbClr val="0066cc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f5494"/>
                </a:solidFill>
                <a:latin typeface="Verdana"/>
              </a:rPr>
              <a:t>give a justification for the level chosen and a description of the exact nature of the risk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066cc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f5494"/>
                </a:solidFill>
                <a:latin typeface="Verdana"/>
              </a:rPr>
              <a:t>Most of the answers </a:t>
            </a:r>
            <a:r>
              <a:rPr b="0" lang="en-CA" sz="2400" spc="-1" strike="noStrike" u="sng">
                <a:solidFill>
                  <a:srgbClr val="0f5494"/>
                </a:solidFill>
                <a:uFillTx/>
                <a:latin typeface="Verdana"/>
              </a:rPr>
              <a:t>are not straightforward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066cc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f5494"/>
                </a:solidFill>
                <a:latin typeface="Verdana"/>
              </a:rPr>
              <a:t>For the numerical part, level of risk are averaged by dimensions (14 of them) with some room for ad-hoc adjustment (up or down by one notch) based on judgement.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4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0" i="1" lang="en-CA" sz="2400" spc="-1" strike="noStrike">
                <a:solidFill>
                  <a:srgbClr val="0f5494"/>
                </a:solidFill>
                <a:latin typeface="Verdana"/>
              </a:rPr>
              <a:t> 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579240" indent="-222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579240" indent="-222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f5494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579240" indent="-222840">
              <a:spcBef>
                <a:spcPts val="499"/>
              </a:spcBef>
              <a:buClr>
                <a:srgbClr val="009f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8" name="Espace réservé du numéro de diapositive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4CE89-9FE7-46CC-BD87-7EE012C4249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76360" y="0"/>
            <a:ext cx="41022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ffd624"/>
                </a:solidFill>
                <a:latin typeface="Verdana"/>
              </a:rPr>
              <a:t>RFM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158400" y="1483920"/>
            <a:ext cx="896292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f5494"/>
                </a:solidFill>
                <a:latin typeface="Verdana"/>
              </a:rPr>
              <a:t>The Excel spread sheet (4/4)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f5494"/>
                </a:solidFill>
                <a:latin typeface="Verdana"/>
              </a:rPr>
              <a:t>Risk profile :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066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CA" sz="2400" spc="-1" strike="noStrike">
                <a:solidFill>
                  <a:srgbClr val="0f5494"/>
                </a:solidFill>
                <a:latin typeface="Verdana"/>
              </a:rPr>
              <a:t>Average level of risks for the 5 categories and overall average and trends (automatic)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066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1" lang="en-CA" sz="2400" spc="-1" strike="noStrike">
                <a:solidFill>
                  <a:srgbClr val="0f5494"/>
                </a:solidFill>
                <a:latin typeface="Verdana"/>
              </a:rPr>
              <a:t>Overall recommendation</a:t>
            </a:r>
            <a:r>
              <a:rPr b="0" lang="en-CA" sz="2400" spc="-1" strike="noStrike">
                <a:solidFill>
                  <a:srgbClr val="0f5494"/>
                </a:solidFill>
                <a:latin typeface="Verdana"/>
              </a:rPr>
              <a:t>: “What should the EU do regarding BS in this country?” (written statement)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066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CA" sz="2400" spc="-1" strike="noStrike">
                <a:solidFill>
                  <a:srgbClr val="0f5494"/>
                </a:solidFill>
                <a:latin typeface="Verdana"/>
              </a:rPr>
              <a:t>Major risks and risk (or benefits) of non EU intervention (written statement)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066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CA" sz="2400" spc="-1" strike="noStrike">
                <a:solidFill>
                  <a:srgbClr val="0f5494"/>
                </a:solidFill>
                <a:latin typeface="Verdana"/>
              </a:rPr>
              <a:t>Key mitigating measures (written statement)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066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4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0" i="1" lang="en-CA" sz="2400" spc="-1" strike="noStrike">
                <a:solidFill>
                  <a:srgbClr val="0f5494"/>
                </a:solidFill>
                <a:latin typeface="Verdana"/>
              </a:rPr>
              <a:t> 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505080" indent="-194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505080" indent="-194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f5494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505080" indent="-194040">
              <a:spcBef>
                <a:spcPts val="499"/>
              </a:spcBef>
              <a:buClr>
                <a:srgbClr val="009f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1" name="Espace réservé du numéro de diapositive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282AE-900A-4A72-B2E1-6078928B397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Titre 1"/>
          <p:cNvSpPr/>
          <p:nvPr/>
        </p:nvSpPr>
        <p:spPr>
          <a:xfrm>
            <a:off x="5508720" y="0"/>
            <a:ext cx="36352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d624"/>
                </a:solidFill>
                <a:latin typeface="Verdana"/>
              </a:rPr>
              <a:t>RFM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233" name="Espace réservé du contenu 4" descr=""/>
          <p:cNvPicPr/>
          <p:nvPr/>
        </p:nvPicPr>
        <p:blipFill>
          <a:blip r:embed="rId1"/>
          <a:srcRect l="0" t="6006" r="0" b="6006"/>
          <a:stretch/>
        </p:blipFill>
        <p:spPr>
          <a:xfrm>
            <a:off x="28440" y="2565360"/>
            <a:ext cx="9068040" cy="3888000"/>
          </a:xfrm>
          <a:prstGeom prst="rect">
            <a:avLst/>
          </a:prstGeom>
          <a:ln w="0">
            <a:noFill/>
          </a:ln>
        </p:spPr>
      </p:pic>
      <p:sp>
        <p:nvSpPr>
          <p:cNvPr id="234" name="ZoneTexte 1"/>
          <p:cNvSpPr/>
          <p:nvPr/>
        </p:nvSpPr>
        <p:spPr>
          <a:xfrm>
            <a:off x="395280" y="162864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f5494"/>
                </a:solidFill>
                <a:latin typeface="Verdana"/>
              </a:rPr>
              <a:t>Overall risk 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5" name="Espace réservé du numéro de diapositive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3992C-6228-40E6-9CA9-2B973679769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58400" y="1267920"/>
            <a:ext cx="896292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f5494"/>
                </a:solidFill>
                <a:latin typeface="Verdana"/>
              </a:rPr>
              <a:t>Budget support is an aid modality. It involves the transfer of financial resources to the national Treasury of a partner country.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4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0" i="1" lang="en-CA" sz="2400" spc="-1" strike="noStrike">
                <a:solidFill>
                  <a:srgbClr val="0f5494"/>
                </a:solidFill>
                <a:latin typeface="Verdana"/>
              </a:rPr>
              <a:t> 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f5494"/>
                </a:solidFill>
                <a:latin typeface="Verdana"/>
              </a:rPr>
              <a:t>The process that leads to BS involves 4 assessments by the Commission of (the relevance and credibility of):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f5494"/>
                </a:solidFill>
                <a:latin typeface="Verdana"/>
              </a:rPr>
              <a:t>Public policie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f5494"/>
                </a:solidFill>
                <a:latin typeface="Verdana"/>
              </a:rPr>
              <a:t>Macroeconomic framework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f5494"/>
                </a:solidFill>
                <a:latin typeface="Verdana"/>
              </a:rPr>
              <a:t>Public financial managemen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f5494"/>
                </a:solidFill>
                <a:latin typeface="Verdana"/>
              </a:rPr>
              <a:t>Transparency and oversight of the budget process.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631440" indent="-24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631440" indent="-24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f5494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631440" indent="-242640">
              <a:spcBef>
                <a:spcPts val="499"/>
              </a:spcBef>
              <a:buClr>
                <a:srgbClr val="009f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443640" y="0"/>
            <a:ext cx="273528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ffd624"/>
                </a:solidFill>
                <a:latin typeface="Verdana"/>
              </a:rPr>
              <a:t>Overview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5" name="Espace réservé du numéro de diapositive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8D37C-2CD4-429A-AE0C-94D1A9A9DBF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76360" y="0"/>
            <a:ext cx="41022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ffd624"/>
                </a:solidFill>
                <a:latin typeface="Verdana"/>
              </a:rPr>
              <a:t>Assignment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163080" y="1052640"/>
            <a:ext cx="896292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ffffff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f5494"/>
                </a:solidFill>
                <a:latin typeface="Verdana"/>
              </a:rPr>
              <a:t>Using IMF information, please write a short country fiche for either Cambodia or Ghana and fill the RMF excel file.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ffffff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f5494"/>
                </a:solidFill>
                <a:latin typeface="Verdana"/>
              </a:rPr>
              <a:t>In order to do so, it is convenient first to use the check-list above, and identify the relevant risks for the country. Then indicate whether the country authorities are aware of the risks and are taking measures to reduce/mitigate them.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ffffff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f5494"/>
                </a:solidFill>
                <a:latin typeface="Verdana"/>
              </a:rPr>
              <a:t>Day-3 class will be on Financial Soundness indicators. Your assessment will be adjusted in the afternoon of day 3 to include financial stability.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ffffff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ffffff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4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0" i="1" lang="en-CA" sz="2400" spc="-1" strike="noStrike">
                <a:solidFill>
                  <a:srgbClr val="0f5494"/>
                </a:solidFill>
                <a:latin typeface="Verdana"/>
              </a:rPr>
              <a:t> 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594360" indent="-228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594360" indent="-228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f5494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594360" indent="-228600">
              <a:spcBef>
                <a:spcPts val="499"/>
              </a:spcBef>
              <a:buClr>
                <a:srgbClr val="009f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8" name="Espace réservé du numéro de diapositive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EEE8C-643C-44C0-B0FB-293CCF1AC2C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793520" y="2565360"/>
            <a:ext cx="734364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7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600" spc="-1" strike="noStrike">
                <a:solidFill>
                  <a:srgbClr val="ffd624"/>
                </a:solidFill>
                <a:latin typeface="Verdana"/>
              </a:rPr>
              <a:t>Thank you </a:t>
            </a:r>
            <a:endParaRPr b="1" lang="en-US" sz="7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0" name="Espace réservé du numéro de diapositive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EE0DE-C4E0-4A04-B303-1402D674A5AD}" type="slidenum">
              <a:rPr b="0" lang="en-GB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443640" y="0"/>
            <a:ext cx="273528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ffd624"/>
                </a:solidFill>
                <a:latin typeface="Verdana"/>
              </a:rPr>
              <a:t>Overview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24000" y="1125000"/>
            <a:ext cx="8820000" cy="558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f5494"/>
                </a:solidFill>
                <a:latin typeface="Verdana"/>
              </a:rPr>
              <a:t>The risk assessment framework helps anticipate, monitor and react to political or economic development in the economy. 5 risk categories are considered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066cc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f5494"/>
                </a:solidFill>
                <a:latin typeface="Verdana"/>
              </a:rPr>
              <a:t>Political risk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066cc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f5494"/>
                </a:solidFill>
                <a:latin typeface="Verdana"/>
              </a:rPr>
              <a:t>Macroeconomic risk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066cc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f5494"/>
                </a:solidFill>
                <a:latin typeface="Verdana"/>
              </a:rPr>
              <a:t>Development risk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066cc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f5494"/>
                </a:solidFill>
                <a:latin typeface="Verdana"/>
              </a:rPr>
              <a:t>Public Financial Management risk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066cc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f5494"/>
                </a:solidFill>
                <a:latin typeface="Verdana"/>
              </a:rPr>
              <a:t>Corruption and fraud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066cc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f5494"/>
                </a:solidFill>
                <a:latin typeface="Verdana"/>
              </a:rPr>
              <a:t>The materialization of any of these risks is likely to significantly reduce the effectiveness of budget support unless adequate mitigating measures are taken by the partner country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564480" indent="-217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564480" indent="-217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f5494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564480" indent="-217080">
              <a:spcBef>
                <a:spcPts val="499"/>
              </a:spcBef>
              <a:buClr>
                <a:srgbClr val="009f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8" name="Espace réservé du numéro de diapositive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A936E-C686-489C-BA88-D96DE6593F2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000" spc="-1" strike="noStrike">
                <a:solidFill>
                  <a:srgbClr val="0f5494"/>
                </a:solidFill>
                <a:latin typeface="Verdana"/>
              </a:rPr>
              <a:t>Outline of the lecture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2400" spc="-1" strike="noStrike">
                <a:solidFill>
                  <a:srgbClr val="0f5494"/>
                </a:solidFill>
                <a:latin typeface="Verdana"/>
              </a:rPr>
              <a:t>- </a:t>
            </a:r>
            <a:r>
              <a:rPr b="0" i="1" lang="en-CA" sz="2400" spc="-1" strike="noStrike">
                <a:solidFill>
                  <a:srgbClr val="0f5494"/>
                </a:solidFill>
                <a:latin typeface="Verdana"/>
              </a:rPr>
              <a:t>Introduction / Overview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400" spc="-1" strike="noStrike">
                <a:solidFill>
                  <a:srgbClr val="0f5494"/>
                </a:solidFill>
                <a:latin typeface="Verdana"/>
              </a:rPr>
              <a:t>- </a:t>
            </a:r>
            <a:r>
              <a:rPr b="1" i="1" lang="en-CA" sz="2400" spc="-1" strike="noStrike">
                <a:solidFill>
                  <a:srgbClr val="0f5494"/>
                </a:solidFill>
                <a:latin typeface="Verdana"/>
              </a:rPr>
              <a:t>What is macroeconomic stability?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2400" spc="-1" strike="noStrike">
                <a:solidFill>
                  <a:srgbClr val="0f5494"/>
                </a:solidFill>
                <a:latin typeface="Verdana"/>
              </a:rPr>
              <a:t>- </a:t>
            </a:r>
            <a:r>
              <a:rPr b="0" i="1" lang="en-CA" sz="2400" spc="-1" strike="noStrike">
                <a:solidFill>
                  <a:srgbClr val="0f5494"/>
                </a:solidFill>
                <a:latin typeface="Verdana"/>
              </a:rPr>
              <a:t>Detecting macroeconomic risk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400" spc="-1" strike="noStrike">
                <a:solidFill>
                  <a:srgbClr val="0f5494"/>
                </a:solidFill>
                <a:latin typeface="Verdana"/>
              </a:rPr>
              <a:t>- Filling up the RMF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1" name="Espace réservé du numéro de diapositive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3C972-E190-4248-8EAB-AEDF41D3DAD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179280" y="1341360"/>
            <a:ext cx="885672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3200" spc="-1" strike="noStrike">
                <a:solidFill>
                  <a:srgbClr val="0f5494"/>
                </a:solidFill>
                <a:latin typeface="Verdana"/>
              </a:rPr>
              <a:t>Key elements of macroeconomic stability: </a:t>
            </a:r>
            <a:endParaRPr b="0" i="1" lang="en-US" sz="32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i="1" lang="en-US" sz="32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SzPct val="140000"/>
              <a:buFont typeface="Wingdings" charset="2"/>
              <a:buChar char="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2800" spc="-1" strike="noStrike">
                <a:solidFill>
                  <a:srgbClr val="0f5494"/>
                </a:solidFill>
                <a:latin typeface="Verdana"/>
              </a:rPr>
              <a:t>Sustainable balance of Payments (external    balance)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SzPct val="140000"/>
              <a:buFont typeface="Wingdings" charset="2"/>
              <a:buChar char="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2800" spc="-1" strike="noStrike">
                <a:solidFill>
                  <a:srgbClr val="0f5494"/>
                </a:solidFill>
                <a:latin typeface="Verdana"/>
              </a:rPr>
              <a:t>Low and stable inflation and low unemployment (internal balance)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SzPct val="140000"/>
              <a:buFont typeface="Wingdings" charset="2"/>
              <a:buChar char="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2800" spc="-1" strike="noStrike">
                <a:solidFill>
                  <a:srgbClr val="0f5494"/>
                </a:solidFill>
                <a:latin typeface="Verdana"/>
              </a:rPr>
              <a:t>Public debt sustainability (internal balance)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SzPct val="140000"/>
              <a:buFont typeface="Wingdings" charset="2"/>
              <a:buChar char="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2800" spc="-1" strike="noStrike">
                <a:solidFill>
                  <a:srgbClr val="0f5494"/>
                </a:solidFill>
                <a:latin typeface="Verdana"/>
              </a:rPr>
              <a:t>Sound financial system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SzPct val="140000"/>
              <a:buFont typeface="Wingdings" charset="2"/>
              <a:buChar char="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2800" spc="-1" strike="noStrike">
                <a:solidFill>
                  <a:srgbClr val="0f5494"/>
                </a:solidFill>
                <a:latin typeface="Verdana"/>
              </a:rPr>
              <a:t>Sustainable private (corporate and household) debt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-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3" name="Espace réservé du numéro de diapositive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788A7-EE1A-432B-95C5-1EFEAEB9B5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890960" y="15840"/>
            <a:ext cx="425304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712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ffd624"/>
                </a:solidFill>
                <a:latin typeface="Verdana"/>
              </a:rPr>
              <a:t>Macroeconomic Stability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179280" y="1125360"/>
            <a:ext cx="8964720" cy="194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Growth is hard to achieve without a sustainable balance of payments</a:t>
            </a:r>
            <a:endParaRPr b="0" i="1" lang="en-US" sz="26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i="1" lang="en-US" sz="26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xternal crisis usually brings disruptions to imports and capital flows that can trigger a fall in GDP</a:t>
            </a:r>
            <a:endParaRPr b="0" i="1" lang="en-US" sz="26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60000"/>
              </a:lnSpc>
              <a:spcBef>
                <a:spcPts val="649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i="1" lang="en-US" sz="26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60000"/>
              </a:lnSpc>
              <a:spcBef>
                <a:spcPts val="649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i="1" lang="en-US" sz="2600" spc="-1" strike="noStrike">
              <a:solidFill>
                <a:srgbClr val="0f5494"/>
              </a:solidFill>
              <a:latin typeface="Verdana"/>
            </a:endParaRPr>
          </a:p>
          <a:p>
            <a:pPr lvl="1" marL="826920" indent="0">
              <a:lnSpc>
                <a:spcPct val="60000"/>
              </a:lnSpc>
              <a:spcBef>
                <a:spcPts val="649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0f5494"/>
              </a:solidFill>
              <a:latin typeface="Verdana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250920" y="3284640"/>
          <a:ext cx="8388360" cy="2971800"/>
        </p:xfrm>
        <a:graphic>
          <a:graphicData uri="http://schemas.openxmlformats.org/drawingml/2006/table">
            <a:tbl>
              <a:tblPr/>
              <a:tblGrid>
                <a:gridCol w="3744720"/>
                <a:gridCol w="2021040"/>
                <a:gridCol w="2622600"/>
              </a:tblGrid>
              <a:tr h="935640">
                <a:tc>
                  <a:txBody>
                    <a:bodyPr lIns="82080" rIns="82080" tIns="41040" bIns="410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untry</a:t>
                      </a:r>
                      <a:endParaRPr b="0" lang="en-US" sz="2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82080" marR="82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82080" rIns="82080" tIns="41040" bIns="410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ar</a:t>
                      </a:r>
                      <a:endParaRPr b="0" lang="en-US" sz="2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82080" rIns="82080" tIns="41040" bIns="410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Change in Real GDP</a:t>
                      </a:r>
                      <a:endParaRPr b="0" lang="en-US" sz="2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82080" marR="82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509040">
                <a:tc>
                  <a:txBody>
                    <a:bodyPr lIns="82080" rIns="82080" tIns="41040" bIns="410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xico: 1995</a:t>
                      </a:r>
                      <a:endParaRPr b="0" lang="en-US" sz="2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82080" marR="82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080" rIns="82080" tIns="41040" bIns="410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080" rIns="82080" tIns="41040" bIns="410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6.2</a:t>
                      </a:r>
                      <a:endParaRPr b="0" lang="en-US" sz="2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82080" marR="82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9040">
                <a:tc>
                  <a:txBody>
                    <a:bodyPr lIns="82080" rIns="82080" tIns="41040" bIns="410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onesia: 1998 </a:t>
                      </a:r>
                      <a:endParaRPr b="0" lang="en-US" sz="2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82080" marR="82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080" rIns="82080" tIns="41040" bIns="410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080" rIns="82080" tIns="41040" bIns="410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3.1</a:t>
                      </a:r>
                      <a:endParaRPr b="0" lang="en-US" sz="2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82080" marR="82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9040">
                <a:tc>
                  <a:txBody>
                    <a:bodyPr lIns="82080" rIns="82080" tIns="41040" bIns="410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urkey: 2001</a:t>
                      </a:r>
                      <a:endParaRPr b="0" lang="en-US" sz="2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82080" marR="82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080" rIns="82080" tIns="41040" bIns="410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1</a:t>
                      </a:r>
                      <a:endParaRPr b="0" lang="en-US" sz="2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080" rIns="82080" tIns="41040" bIns="410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7.5</a:t>
                      </a:r>
                      <a:endParaRPr b="0" lang="en-US" sz="2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82080" marR="82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9040">
                <a:tc>
                  <a:txBody>
                    <a:bodyPr lIns="82080" rIns="82080" tIns="41040" bIns="410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gentina: 2002</a:t>
                      </a:r>
                      <a:endParaRPr b="0" lang="en-US" sz="2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82080" marR="82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080" rIns="82080" tIns="41040" bIns="410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2</a:t>
                      </a:r>
                      <a:endParaRPr b="0" lang="en-US" sz="2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080" rIns="82080" tIns="41040" bIns="410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0.9</a:t>
                      </a:r>
                      <a:endParaRPr b="0" lang="en-US" sz="2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82080" marR="82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7" name="Espace réservé du numéro de diapositive 4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45752-283B-47EB-ACD5-F7BFFC82E2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8" name="Text Box 24"/>
          <p:cNvSpPr/>
          <p:nvPr/>
        </p:nvSpPr>
        <p:spPr>
          <a:xfrm>
            <a:off x="484200" y="6324480"/>
            <a:ext cx="774540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ource: IMF.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World Economic Outlook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, September 2006, October 2007.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title"/>
          </p:nvPr>
        </p:nvSpPr>
        <p:spPr>
          <a:xfrm>
            <a:off x="4890960" y="15840"/>
            <a:ext cx="425304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712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ffd624"/>
                </a:solidFill>
                <a:latin typeface="Verdana"/>
              </a:rPr>
              <a:t>Macroeconomic Stability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p:transition spd="med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178920" y="1267920"/>
            <a:ext cx="8604360" cy="504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82680" indent="-3826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Verdana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0f5494"/>
                </a:solidFill>
                <a:latin typeface="Verdana"/>
              </a:rPr>
              <a:t>Growth is hard to achieve without price stability  </a:t>
            </a:r>
            <a:endParaRPr b="0" i="1" lang="en-US" sz="2600" spc="-1" strike="noStrike">
              <a:solidFill>
                <a:srgbClr val="0f5494"/>
              </a:solidFill>
              <a:latin typeface="Verdana"/>
            </a:endParaRPr>
          </a:p>
          <a:p>
            <a:pPr marL="3826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i="1" lang="en-US" sz="2600" spc="-1" strike="noStrike">
              <a:solidFill>
                <a:srgbClr val="0f5494"/>
              </a:solidFill>
              <a:latin typeface="Verdana"/>
            </a:endParaRPr>
          </a:p>
          <a:p>
            <a:pPr marL="382680" indent="-3826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Verdana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600" spc="-1" strike="noStrike">
                <a:solidFill>
                  <a:srgbClr val="0f5494"/>
                </a:solidFill>
                <a:latin typeface="Verdana"/>
              </a:rPr>
              <a:t>High inflation discourages saving and foreign investment, distorts relative prices, promotes wasteful financial activities, and encourages speculation, dollarization, and capital flight</a:t>
            </a:r>
            <a:endParaRPr b="0" i="1" lang="en-US" sz="2600" spc="-1" strike="noStrike">
              <a:solidFill>
                <a:srgbClr val="0f5494"/>
              </a:solidFill>
              <a:latin typeface="Verdana"/>
            </a:endParaRPr>
          </a:p>
          <a:p>
            <a:pPr marL="3826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i="1" lang="en-US" sz="2600" spc="-1" strike="noStrike">
              <a:solidFill>
                <a:srgbClr val="0f5494"/>
              </a:solidFill>
              <a:latin typeface="Verdana"/>
            </a:endParaRPr>
          </a:p>
          <a:p>
            <a:pPr marL="382680" indent="-3826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Verdana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600" spc="-1" strike="noStrike">
                <a:solidFill>
                  <a:srgbClr val="0f5494"/>
                </a:solidFill>
                <a:latin typeface="Verdana"/>
              </a:rPr>
              <a:t>Deflation (negative inflation) discourages consumption, investment  (if real interest rates are positive) and delays relative price adjustments (because of nominal rigidities) </a:t>
            </a:r>
            <a:endParaRPr b="0" i="1" lang="en-US" sz="2600" spc="-1" strike="noStrike">
              <a:solidFill>
                <a:srgbClr val="0f5494"/>
              </a:solidFill>
              <a:latin typeface="Verdana"/>
            </a:endParaRPr>
          </a:p>
          <a:p>
            <a:pPr marL="38268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i="1" lang="en-US" sz="2600" spc="-1" strike="noStrike">
              <a:solidFill>
                <a:srgbClr val="0f5494"/>
              </a:solidFill>
              <a:latin typeface="Verdana"/>
            </a:endParaRPr>
          </a:p>
          <a:p>
            <a:pPr marL="38268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i="1" lang="en-US" sz="2600" spc="-1" strike="noStrike">
              <a:solidFill>
                <a:srgbClr val="0f5494"/>
              </a:solidFill>
              <a:latin typeface="Verdana"/>
            </a:endParaRPr>
          </a:p>
          <a:p>
            <a:pPr lvl="1" marL="82692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1" name="Espace réservé du numéro de diapositive 4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B8E96-68F2-4671-89C5-9FCD47A8C4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title"/>
          </p:nvPr>
        </p:nvSpPr>
        <p:spPr>
          <a:xfrm>
            <a:off x="4890960" y="15840"/>
            <a:ext cx="425304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712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ffd624"/>
                </a:solidFill>
                <a:latin typeface="Verdana"/>
              </a:rPr>
              <a:t>Macroeconomic Stability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p:transition spd="med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178920" y="1267920"/>
            <a:ext cx="8604360" cy="504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400" spc="-1" strike="noStrike">
                <a:solidFill>
                  <a:srgbClr val="0f5494"/>
                </a:solidFill>
                <a:latin typeface="Verdana"/>
              </a:rPr>
              <a:t>Unsustainable public debt can threaten macroeconomic stability and economic growth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A high public deb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2d5ec1"/>
              </a:buClr>
              <a:buFont typeface="Courier New"/>
              <a:buChar char="o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May reduce the ability of the government to implement contra-cyclical fiscal policies as needed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2d5ec1"/>
              </a:buClr>
              <a:buFont typeface="Courier New"/>
              <a:buChar char="o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Can panic investors and thus result in a self-fulfilling public debt crisis (high interest rates and inability to roll-over short term debt)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82692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4" name="Espace réservé du numéro de diapositive 4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AA007-9036-4C34-8A2B-3D3E645DF5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title"/>
          </p:nvPr>
        </p:nvSpPr>
        <p:spPr>
          <a:xfrm>
            <a:off x="4890960" y="15840"/>
            <a:ext cx="425304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712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ffd624"/>
                </a:solidFill>
                <a:latin typeface="Verdana"/>
              </a:rPr>
              <a:t>Macroeconomic Stability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8T10:25:18Z</dcterms:created>
  <dc:creator>turneem</dc:creator>
  <dc:description/>
  <dc:language>en-US</dc:language>
  <cp:lastModifiedBy>EPAULARD Anne (PRESTATAIRE)</cp:lastModifiedBy>
  <cp:lastPrinted>2015-06-02T09:44:00Z</cp:lastPrinted>
  <dcterms:modified xsi:type="dcterms:W3CDTF">2017-04-11T15:35:52Z</dcterms:modified>
  <cp:revision>235</cp:revision>
  <dc:subject/>
  <dc:title>Slide 1</dc:title>
</cp:coreProperties>
</file>