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80AF-EAF8-46EA-9B6B-91708D02185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915F-9D0D-4A82-8266-31F7D1371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D14C-68FD-4337-AD27-7EEEB1160B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D76-06F7-4A92-856B-C57DD3AEF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8CD-4101-40CB-88DF-FCA17B096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FBB6-E9C2-4A01-90AF-9BBE01A02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7196-5F19-4A16-B77F-8A3EB91A9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7AC-8185-4666-A5A5-26806AA35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FDDD-371B-4FF3-A165-4C97619A3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391-DD6B-46DD-BD24-B87BDE45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B62-2758-4989-872A-E5F3B2C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8DC-9891-467E-BBA0-F9123D84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A2D-8F68-455F-BA62-BF9BC13F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FEC5-B719-4C00-847A-EC4D69F5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7447-C59D-4CC4-874B-0B54B00E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125C-C502-4C22-9CDE-8C70C520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2E7E-1041-412A-BA4B-6F60981D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07E-2156-4875-875F-D83C596A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0C49-228A-41D7-A696-DA1981F1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93EB-E159-42E5-ABB3-ED419F9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665-7B71-4EC5-9034-3177DA21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8C19-4212-4216-BC11-A55359A0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C3B1-33F6-4C4D-8099-A1216A1E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277-8A01-49EB-BF6C-6E92F5AF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1E20-2CB5-4622-9976-F3B43E95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E9C9-2A14-4935-AA90-5248175F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BA8682-C55A-4545-B2FF-BA05573254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B354D-6B77-4DB3-8C0A-65181499A8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EB2C9-0DB9-4B7E-B55E-6249084422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2FB59-647D-42A2-AFD6-DCF8952369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1B360-9401-41F6-B727-A80E0539F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0B0-7C45-4573-A254-D490C717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4D1E6-67A2-417D-B3B8-18ADDF17F5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983E9-8EF4-49CE-A36D-842A29CC71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99AE1-AB41-4FD6-A2DD-1BAF6220F3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BCFD0-8831-4E69-970E-0C63B16409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90486-E85F-4076-93F5-43ECC126D6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1D94A-C76E-481F-A898-FE30D551DB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DE9B6-2156-4EA1-B499-B24008325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EFF-0EA2-47EE-9881-CCF8E61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EA1-EB06-4D01-A2F2-3D13765D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BD5-2416-4C04-B57B-0B5FA7A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9D0-1277-46C5-A6AB-6B3F7D1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F02-AAD0-46C5-A32B-E7B1A0A2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D4F-304F-40D4-8518-03A9235C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ECF1-132C-4101-9F62-4944AB6DF3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6F43-28A9-488D-8E1B-00E7E8E59FC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8756-1DB0-4DA1-9B07-2599C8C8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Macroeconomic Assessment and Risk Management Framework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D38C-7869-4022-B388-B0215EED415D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CA" sz="2800" spc="-1" strike="noStrike">
                <a:solidFill>
                  <a:srgbClr val="0f5494"/>
                </a:solidFill>
                <a:latin typeface="Verdana"/>
              </a:rPr>
              <a:t>In addition, high fiscal deficit can lead t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High inflation (notably in case of fiscal dominance that forces the CB to “print money” to finance the budget deficit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A reduction in private investment when government borrowing crowds out the private secto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Increased external vulnerability in case of foreign borrow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E831-49FF-4D90-A366-05F5DF83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The global financial crisis showed that the health of a country’s financial sector has far-reaching implications for its economy as well as for other econom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soundness is crucial to shock absorption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gile banking system is likely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) to reduce the effectiveness of monetary policy because of weak transmission channels to the real sector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9EF3-01D3-48EE-9524-DBF079255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) to propagate and amplify shocks, rather than facilitate their absorption by the econom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impeding recovery because of inability to lend to sectors important for the recover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putting public debt sustainability in case of recapitalization needs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A0BB-8093-432C-B652-B5A8BB361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i) to complicate policy responses to shocks and imbalanc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BoP imbalances, devaluation might be delayed for fear of its impact on the banking sector (short in foreign currency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inflation, monetary policy tightening might be delayed for fear of an increase in non performing loans (NPL) that would undermine bank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ED25-CB51-4DBD-9A91-A0CCFD6E6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Large gross private debt can challenge macroeconomic stabilit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arge and growing private debt can be a sign of an unsustainable growth model (based on an excessive increase in borrowing by the private sector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D758-7CC3-457B-A981-8E61244DE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4D9D-DA70-4E66-AFE8-9D8B0C3D6C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1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AB: Deficit or Surplus? Reason for deficit ? (high investment? Low saving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omposition of exports (product diversification of exports ; destination of export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vel and evolution of the real exchange rate (has the country lost competitiveness 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B915-29C5-404D-B989-AD7A0EC86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2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remittances: 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officials grants: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0A06-BCF3-4413-94D9-6038CE2C7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Capital and financial account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ize and composition of capital flows (short term / long term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ow volatile are they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re they at risk? (for example in case of change in global interest rate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d portfolio flows in the last few quarters coincide with large stock market appreciation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ould banks be able to roll-over their short term debt in foreign currenc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577B-12B4-4A0E-AB30-12CAE1DB3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xternal debt sustainability and stock of FX reserves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the external debt sustainable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what is the amount of FX reserves available in case of sudden stop in capital flows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E43E-7AB2-4778-8A91-D8688A34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Identification of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4E3C-6D64-4D82-A6A8-BB783F7A8B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The budge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ze of budget deficit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ot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rimary (before interest payment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efore gra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venue (as % of GDP) (it is a problem when it is too low – e.g. below 15% in poor countrie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ficit financing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entral bank financing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ther domestic financing? (any risk of crowding out private sector borrowing and investment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xternal financing? (at concessional rat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5BD2-03CB-4C0A-AB4C-4AE23015D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Public deb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How high is it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 under a stress scenario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isks to the public debt (contingent liabilities)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conomic outlook for State owned enterprises (any need of recapitalization or large subsidies?)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y risks of recapitalization need of the banking sector? (see later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0DB9-9105-4755-B05A-EF2B17C8E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onetary policy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Past inflation, expected future inflation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above 5%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Central bank independence and credibility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evel of private credit / GDP and recent evolution of this ratio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arge discrepancy between official and shadow (i.e. black market) nominal exchange rate (against the USD or the euro)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Any sign of “dollarization” (share of deposits in foreign currency above 15-20%) 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26E5-9EF5-4FD9-9CE8-6644C70B0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Monetary policy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General FSAP assessment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ecent evolution of Financial Soundness Indicato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……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ore on financial sector in lecture 5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8DFA-9155-48E1-B1AB-FE572ACE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ZoneTexte 2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Financial Sector Satbil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9560" y="1052640"/>
            <a:ext cx="896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Source of information for identifying </a:t>
            </a:r>
            <a:r>
              <a:rPr b="1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Macroeconomic policies and financial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 (or IMF reviews for countries under IMF program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FSAP documents and Financial Soundness Indicato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bt sustain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Debt sustainability : IMF -  WB Debt sustainability assessment (for both public and external deb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Vulnerability and Exogenous Shoc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s (notably the Risk Assessment Matrix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606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ZoneTexte 4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Source of inform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8AC-D34B-4E25-80DD-AF69D299CD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A971-6188-42B0-A162-A15175C252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360" y="43920"/>
            <a:ext cx="41022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MF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7240" y="1341360"/>
            <a:ext cx="8962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1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2 files: Questionnaire - Risk profi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mportant note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Excel spread sheet” doesn’t mean that’s it’s only about  numbers (or even mainly numbers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of filling up the spread sheet increases the probability that most potential risks are being scrutinized and understood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leads to a recommendation regarding EU budget support in the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0EFF-938C-4343-8EAB-46F3DAB01E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2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Questionnaire: concentrates on bas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44 questions in total,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7 of which for macroeconom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For each of them, one needs t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assess the level of risk (Low – Moderate – Substantial – High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give a justification for the level chosen and a description of the exact nature of the ris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ost of the answers </a:t>
            </a:r>
            <a:r>
              <a:rPr b="0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are not straightforwar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For the numerical part, level of risk are averaged by dimensions (14 of them) with some room for ad-hoc adjustment (up or down by one notch) based on judge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9983-F95F-4853-BD4A-A74A2D5A00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4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Risk profile 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Average level of risks for the 5 categories and overall average and trends (automati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Overall recommendation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: “What should the EU do regarding BS in this country?”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ajor risks and risk (or benefits) of non EU intervention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Key mitigating measures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4F21-3FDF-4F3B-929E-1FE04630FD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5508720" y="0"/>
            <a:ext cx="36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3" name="Espace réservé du contenu 4" descr=""/>
          <p:cNvPicPr/>
          <p:nvPr/>
        </p:nvPicPr>
        <p:blipFill>
          <a:blip r:embed="rId1"/>
          <a:srcRect l="0" t="6006" r="0" b="6006"/>
          <a:stretch/>
        </p:blipFill>
        <p:spPr>
          <a:xfrm>
            <a:off x="28440" y="2565360"/>
            <a:ext cx="9068040" cy="3888000"/>
          </a:xfrm>
          <a:prstGeom prst="rect">
            <a:avLst/>
          </a:prstGeom>
          <a:ln w="0">
            <a:noFill/>
          </a:ln>
        </p:spPr>
      </p:pic>
      <p:sp>
        <p:nvSpPr>
          <p:cNvPr id="234" name="ZoneTexte 1"/>
          <p:cNvSpPr/>
          <p:nvPr/>
        </p:nvSpPr>
        <p:spPr>
          <a:xfrm>
            <a:off x="395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f5494"/>
                </a:solidFill>
                <a:latin typeface="Verdana"/>
              </a:rPr>
              <a:t>Overall risk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8007-0AE6-4660-A30E-8D450D8793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840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Budget support is an aid modality. It involves the transfer of financial resources to the national Treasury of a partner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that leads to BS involves 4 assessments by the Commission of (the relevance and credibility of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ransparency and oversight of the budget proces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EB91-B3E5-4A38-8EE5-DF1788F55D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Assign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Using IMF information, please write a short country fiche for either Cambodia or Ghana and fill the RMF excel file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n order to do so, it is convenient first to use the check-list above, and identify the relevant risks for the country. Then indicate whether the country authorities are aware of the risks and are taking measures to reduce/mitigate them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ay-3 class will be on Financial Soundness indicators. Your assessment will be adjusted in the afternoon of day 3 to include financial stability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DF0-D5E2-4A9A-BC58-E1A8851510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 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42C-7F68-4B8E-AEBC-F684719E5811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125000"/>
            <a:ext cx="8820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risk assessment framework helps anticipate, monitor and react to political or economic development in the economy. 5 risk categories are consider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olitical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evelop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Corruption and frau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materialization of any of these risks is likely to significantly reduce the effectiveness of budget support unless adequate mitigating measures are taken by the partner count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BFA-A2F2-42BB-AB08-C92E013A42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What is macroeconomic stability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8BC2-77F1-4BD0-B43B-08F1CE887E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3200" spc="-1" strike="noStrike">
                <a:solidFill>
                  <a:srgbClr val="0f5494"/>
                </a:solidFill>
                <a:latin typeface="Verdana"/>
              </a:rPr>
              <a:t>Key elements of macroeconomic stability: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balance of Payments (external   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Low and stable inflation and low unemployment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Public debt sustainability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ound financial syste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private (corporate and household) deb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1AC7-DC84-47AF-ADC3-7A479650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wth is hard to achieve without a sustainable balance of pay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rnal crisis usually brings disruptions to imports and capital flows that can trigger a fall in GDP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284640"/>
          <a:ext cx="8388360" cy="2971800"/>
        </p:xfrm>
        <a:graphic>
          <a:graphicData uri="http://schemas.openxmlformats.org/drawingml/2006/table">
            <a:tbl>
              <a:tblPr/>
              <a:tblGrid>
                <a:gridCol w="3744720"/>
                <a:gridCol w="2021040"/>
                <a:gridCol w="2622600"/>
              </a:tblGrid>
              <a:tr h="9356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hange in Real GDP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: 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: 1998 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ey: 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: 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E100-2A52-4874-B239-6D446AEFF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84200" y="6324480"/>
            <a:ext cx="7745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IMF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orld Economic Outloo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eptember 2006, October 2007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Growth is hard to achieve without price stability 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High inflation discourages saving and foreign investment, distorts relative prices, promotes wasteful financial activities, and encourages speculation, dollarization, and capital flight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Deflation (negative inflation) discourages consumption, investment  (if real interest rates are positive) and delays relative price adjustments (because of nominal rigidities)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2F8-2F40-4FD6-8199-3930A9B98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Unsustainable public debt can threaten macroeconomic stability and economic growt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high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May reduce the ability of the government to implement contra-cyclical fiscal policies as need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an panic investors and thus result in a self-fulfilling public debt crisis (high interest rates and inability to roll-over short term deb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82FA-32B6-4C4F-B9C4-40D62EF14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EPAULARD Anne (PRESTATAIRE)</cp:lastModifiedBy>
  <cp:lastPrinted>2015-06-02T09:44:00Z</cp:lastPrinted>
  <dcterms:modified xsi:type="dcterms:W3CDTF">2017-04-11T15:35:52Z</dcterms:modified>
  <cp:revision>235</cp:revision>
  <dc:subject/>
  <dc:title>Slide 1</dc:title>
</cp:coreProperties>
</file>