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E3FF-55EC-4854-BE2C-49014FB7E382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ample of Ghana is goo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plain Sterilisation operation (OMO : Open Market Oper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8232-C880-404B-8CE9-6C19D642EA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ample of Ghana is goo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plain Sterilisation operation (OMO : Open Market Oper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A24C-D667-40D2-9CDB-A8A1A6215B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jouter « general gover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18AF-5EAC-4B92-9909-D1F8F59956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A150-EB57-4C6E-93A0-5F559C86E3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2F6B-07C4-4A44-B5A6-BA3A27C329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scuss Tunisia case (table 4a and 4b), Fiji (Table 3)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527E-B1B8-49E7-B5AB-43673F1BF2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A720-328D-483E-A623-1A5B948D04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8672-A3BF-43CC-A742-25ECC3641D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5018-751F-4415-AE84-5DC05976F8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scuss Tunisia case (table 4a and 4b), Fiji (Table 3)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C990-F0DD-4955-8663-4C969D4339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jouter « general gover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1787-72A3-448A-AD0A-7A8778CA00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6A97-34C1-486E-9CE5-2983671AB8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C18A-3660-45F4-AFB9-B52F97A3AD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8BBF-DF9E-4E40-AE4D-0E00AFB041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rite d* and reinterpret it as the stable debt ratio that can be sustained over time if a certain primary balance p* is maintained constant over time. The higher g is the higher the debt level that can be sustained and the opposite is true about 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B830-4E54-4888-B8E0-ADDF1FB0D2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CC8B-56E9-403F-8B1C-8D5531569E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ave a look at the table 3 / Ghana (middle part of the table), an upper part of table 2 / Fij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B817-5EC8-4EAA-B27D-3FD6F81B75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ave a look at the table 3 / Ghana (upper part of the table), an middle part of table 2 / Fij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A161-3A97-44F4-90C1-C27C56D7CE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ok at bottom part of table 2 for Fiji (the nice think for Fiji is that we have the 3 balance sheets : CN, commercial banks and consolidated), and Table 5 for Tuni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569C-0103-400C-961E-445CA5C311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Changing the amount of M0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Open market oper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Foreign exchange interven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Financing the government defic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Discount wind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7D01-3A69-4393-8851-9EF390D47B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ample of Ghana is goo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plain Sterilisation operation (OMO : Open Market Oper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1638-FB3A-44FD-86BA-D1DB03292D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5BB2-DC93-4640-A31B-DC4C4E00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BC98-5F3D-43D5-9BD3-30C0758D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44E9-AFB8-4C70-88A8-8D6A6507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6B55-E8AC-4762-B7C2-ED9A124A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F176-4E6C-4E24-8F0D-29BCF2CF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BF65-3BC2-483C-85D2-62890073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29F3-A52F-4999-9A71-B0AC864B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8440-78B9-49E8-8FDE-D8272ACA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F0E1-4128-4483-89D5-494C43D2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3373-999D-4D44-BE0D-4438895F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6A74-72F2-4F28-8671-86759547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C5FA-6D16-4FD8-B124-9020D495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0D62-2E6A-4618-A580-AA244531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4D81-6212-4A00-9B50-477FDBD5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AD20-7E00-462B-83BE-61CE3838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F2BC-7732-401D-BA3D-F1157FA5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ADAB-1443-4D82-9611-C8CA6F9E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DAC2-4C7F-4BB5-AA85-F4013D2C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9870-AB62-4E93-9740-6A3D51A1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81E9-858F-4031-935E-841650C7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877A-3165-4BCA-B08E-66D95681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5F33-F7B4-4586-8DC8-577CE69A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0CEE-64C0-4865-B074-5C49F386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EC1E-8881-4053-92D2-EFD3CBD3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FB15-3851-4279-8942-3CC01D38A4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9632-F868-407D-AF5E-EB81EB43A3A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2565360"/>
            <a:ext cx="7343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600" spc="-1" strike="noStrike">
                <a:solidFill>
                  <a:srgbClr val="ffd624"/>
                </a:solidFill>
                <a:latin typeface="Verdana"/>
              </a:rPr>
              <a:t>Macro - I</a:t>
            </a:r>
            <a:endParaRPr b="1" lang="en-US" sz="7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371628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Verdana"/>
              </a:rPr>
              <a:t>Introduction to Financial Programming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Verdana"/>
              </a:rPr>
              <a:t>Part 2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B90E-C92A-47D1-88D3-765FE95A17E6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858A-3418-4C14-B80F-DC614B308A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ZoneTexte 4"/>
          <p:cNvSpPr/>
          <p:nvPr/>
        </p:nvSpPr>
        <p:spPr>
          <a:xfrm>
            <a:off x="224280" y="549360"/>
            <a:ext cx="37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624"/>
                </a:solidFill>
                <a:latin typeface="Verdana"/>
              </a:rPr>
              <a:t>Cambodia, Monetary surve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ZoneTexte 5"/>
          <p:cNvSpPr/>
          <p:nvPr/>
        </p:nvSpPr>
        <p:spPr>
          <a:xfrm>
            <a:off x="239760" y="638172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Article IV report, Cambodi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576520" y="1413000"/>
            <a:ext cx="54151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7ADD-4D64-4B4E-961B-DDB94016D1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ZoneTexte 5"/>
          <p:cNvSpPr/>
          <p:nvPr/>
        </p:nvSpPr>
        <p:spPr>
          <a:xfrm>
            <a:off x="195840" y="549360"/>
            <a:ext cx="33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624"/>
                </a:solidFill>
                <a:latin typeface="Verdana"/>
              </a:rPr>
              <a:t>Ghana, Monetary surve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ZoneTexte 5"/>
          <p:cNvSpPr/>
          <p:nvPr/>
        </p:nvSpPr>
        <p:spPr>
          <a:xfrm>
            <a:off x="239760" y="638172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 Program Review, Ghan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0" y="1700280"/>
            <a:ext cx="893448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324000" y="1604880"/>
            <a:ext cx="8820000" cy="5253120"/>
          </a:xfrm>
          <a:prstGeom prst="rect">
            <a:avLst/>
          </a:prstGeom>
          <a:ln w="0">
            <a:noFill/>
          </a:ln>
        </p:spPr>
      </p:pic>
      <p:sp>
        <p:nvSpPr>
          <p:cNvPr id="160" name="ZoneTexte 5"/>
          <p:cNvSpPr/>
          <p:nvPr/>
        </p:nvSpPr>
        <p:spPr>
          <a:xfrm>
            <a:off x="0" y="98100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f5494"/>
                </a:solidFill>
                <a:latin typeface="Verdana"/>
              </a:rPr>
              <a:t>Main linkages between sector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f5494"/>
                </a:solidFill>
                <a:latin typeface="Verdana"/>
              </a:rPr>
              <a:t>(not exhaustive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61" name="Connecteur droit avec flèche 20"/>
          <p:cNvCxnSpPr/>
          <p:nvPr/>
        </p:nvCxnSpPr>
        <p:spPr>
          <a:xfrm>
            <a:off x="162000" y="5389200"/>
            <a:ext cx="738720" cy="1080"/>
          </a:xfrm>
          <a:prstGeom prst="straightConnector1">
            <a:avLst/>
          </a:prstGeom>
          <a:ln w="19080">
            <a:solidFill>
              <a:srgbClr val="5959ff"/>
            </a:solidFill>
            <a:miter/>
            <a:tailEnd len="med" type="arrow" w="med"/>
          </a:ln>
        </p:spPr>
      </p:cxnSp>
      <p:sp>
        <p:nvSpPr>
          <p:cNvPr id="162" name="Connecteur droit 25"/>
          <p:cNvSpPr/>
          <p:nvPr/>
        </p:nvSpPr>
        <p:spPr>
          <a:xfrm flipV="1">
            <a:off x="162000" y="2852280"/>
            <a:ext cx="0" cy="2536920"/>
          </a:xfrm>
          <a:prstGeom prst="line">
            <a:avLst/>
          </a:prstGeom>
          <a:ln w="1908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63" name="Connecteur droit avec flèche 27"/>
          <p:cNvCxnSpPr/>
          <p:nvPr/>
        </p:nvCxnSpPr>
        <p:spPr>
          <a:xfrm>
            <a:off x="162000" y="2852280"/>
            <a:ext cx="738720" cy="1080"/>
          </a:xfrm>
          <a:prstGeom prst="straightConnector1">
            <a:avLst/>
          </a:prstGeom>
          <a:ln w="19080">
            <a:solidFill>
              <a:srgbClr val="0000e5"/>
            </a:solidFill>
            <a:miter/>
            <a:tailEnd len="med" type="arrow" w="med"/>
          </a:ln>
        </p:spPr>
      </p:cxnSp>
      <p:sp>
        <p:nvSpPr>
          <p:cNvPr id="16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F5C5-FC63-4F0E-AF0D-2BA585BD0C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97E9-156F-4F4F-AC6A-9E9C9FB750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70000" y="155700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General government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omprises all government uni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Central govern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State governments (in federal countrie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Local govern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The public sector also includes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 corporations  and quasi-corporations controlled by the government units. These corporations are not part of the Government sector (but there can be public liabilities for the Government).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ses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528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Monetary and Banking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Government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Few words on debt sustainability analysi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A855-D930-4374-9899-1511C75712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F2D4-7953-4087-8200-A935F7113C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137440" cy="5118120"/>
          </a:xfrm>
          <a:prstGeom prst="rect">
            <a:avLst/>
          </a:prstGeom>
          <a:ln w="0">
            <a:noFill/>
          </a:ln>
        </p:spPr>
      </p:pic>
      <p:sp>
        <p:nvSpPr>
          <p:cNvPr id="173" name="ZoneTexte 5"/>
          <p:cNvSpPr/>
          <p:nvPr/>
        </p:nvSpPr>
        <p:spPr>
          <a:xfrm>
            <a:off x="23760" y="6330960"/>
            <a:ext cx="55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ource: Government Finance Statistics (GFS). IMF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8B0D-4CB3-483F-8EA9-2858E8F83A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70000" y="155700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77" name="Connecteur droit avec flèche 2"/>
          <p:cNvCxnSpPr/>
          <p:nvPr/>
        </p:nvCxnSpPr>
        <p:spPr>
          <a:xfrm>
            <a:off x="8317080" y="62064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178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9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608328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ZoneTexte 2"/>
          <p:cNvSpPr/>
          <p:nvPr/>
        </p:nvSpPr>
        <p:spPr>
          <a:xfrm>
            <a:off x="6012000" y="6237360"/>
            <a:ext cx="23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f5494"/>
                </a:solidFill>
                <a:latin typeface="Verdana"/>
              </a:rPr>
              <a:t>Source: GFS Manual, IMF, 2001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5280" y="115920"/>
            <a:ext cx="4140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624"/>
                </a:solidFill>
                <a:latin typeface="Verdana"/>
              </a:rPr>
              <a:t>Foreign Aid in the Gov. Oper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26920" y="1773360"/>
            <a:ext cx="734544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d5ec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5494"/>
                </a:solidFill>
                <a:latin typeface="Verdana"/>
              </a:rPr>
              <a:t>Aid Grants are registered  “above the line”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d5ec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5494"/>
                </a:solidFill>
                <a:latin typeface="Verdana"/>
              </a:rPr>
              <a:t>Foreign Loans are registered as Foreign financ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5589-B858-421E-87E4-2B19DBD7DB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7640" y="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Secto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Government Expenditures have a direct impact on the production sector in </a:t>
            </a:r>
            <a:r>
              <a:rPr b="0" i="1" lang="en-US" sz="2000" spc="-1" strike="noStrike" u="sng">
                <a:solidFill>
                  <a:srgbClr val="0f5494"/>
                </a:solidFill>
                <a:uFillTx/>
                <a:latin typeface="Verdana"/>
              </a:rPr>
              <a:t>the short run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Government consumption: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(Wages and Salaries, Consumption of Good and service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Government  investment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(transaction in non-financial asset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Y = C + GI + I + GI + (X – M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However, Government consumption and investment can partially crowd out private consumption and investment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This is the fiscal “multiplier” debate: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If multiplier = 1; 1 euro of gov. expenditure translate (one the short run) into 1 euro of additional GDP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If multiplier is below 1, the effect is smaller (crowding out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If multiplier is above 1, ….well, GDP increase by more than &amp; euro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01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The long run impact of government expenditures depends on the nature of expenditur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5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5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5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C132-376A-4701-A06C-F65D46E9DF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27640" y="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Secto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980640"/>
            <a:ext cx="9144000" cy="56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Government financing operations also have an impact on the economy in the short run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Taxes (more or less the same discussion than that about fiscal multiplier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01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Deficits: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inanced by the domestic banking sector = increase in Net Domestic Assets …..so it has an impact on money supply, unless the banking sector reduces credit to the private sector (less private sector investment and consumption)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inanced by the domestic private sector : total impact depends on the behavior of private sector (less consumption and more saving ? Less investment ?)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inanced by external borrowing increase long term external vulnerability …but has less impact in the short run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A good financial programming framework must take these constraints and potential impacts into account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2F04-5EAC-4013-A9D2-F3D0D45A72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ses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Monetary and Banking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Government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Few words on debt sustainability analysi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1052-AA90-49F2-877C-199F26A587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27640" y="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Secto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980640"/>
            <a:ext cx="9144000" cy="56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In the longer run: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Budget deficit and borrowing add to pubic debt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Public debt sustainability needs to be assessed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1F23-CF72-48C3-B7D6-D80AF3E337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89D2-C409-4D52-BC97-4611613325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70000" y="155700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95" name="Connecteur droit avec flèche 2"/>
          <p:cNvCxnSpPr/>
          <p:nvPr/>
        </p:nvCxnSpPr>
        <p:spPr>
          <a:xfrm>
            <a:off x="8317080" y="62064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196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Titre 1"/>
          <p:cNvSpPr/>
          <p:nvPr/>
        </p:nvSpPr>
        <p:spPr>
          <a:xfrm>
            <a:off x="9360" y="260280"/>
            <a:ext cx="33832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Cambodia: Fiscal Balanc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ZoneTexte 7"/>
          <p:cNvSpPr/>
          <p:nvPr/>
        </p:nvSpPr>
        <p:spPr>
          <a:xfrm>
            <a:off x="4932360" y="6581880"/>
            <a:ext cx="42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 Article IV report, Cambodi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9" name="Picture 9" descr=""/>
          <p:cNvPicPr/>
          <p:nvPr/>
        </p:nvPicPr>
        <p:blipFill>
          <a:blip r:embed="rId1"/>
          <a:stretch/>
        </p:blipFill>
        <p:spPr>
          <a:xfrm>
            <a:off x="2576520" y="1833480"/>
            <a:ext cx="501984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FCF1-0DAB-43DD-A81C-63E22663CCD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ZoneTexte 4"/>
          <p:cNvSpPr/>
          <p:nvPr/>
        </p:nvSpPr>
        <p:spPr>
          <a:xfrm>
            <a:off x="218160" y="549360"/>
            <a:ext cx="36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624"/>
                </a:solidFill>
                <a:latin typeface="Verdana"/>
              </a:rPr>
              <a:t>Ghana, Government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Rectangle 1"/>
          <p:cNvSpPr/>
          <p:nvPr/>
        </p:nvSpPr>
        <p:spPr>
          <a:xfrm>
            <a:off x="4537080" y="3906720"/>
            <a:ext cx="4357800" cy="282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22320" y="1844640"/>
            <a:ext cx="8964360" cy="3754440"/>
          </a:xfrm>
          <a:prstGeom prst="rect">
            <a:avLst/>
          </a:prstGeom>
          <a:ln w="0">
            <a:noFill/>
          </a:ln>
        </p:spPr>
      </p:pic>
      <p:sp>
        <p:nvSpPr>
          <p:cNvPr id="204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05" name="Picture 9" descr=""/>
          <p:cNvPicPr/>
          <p:nvPr/>
        </p:nvPicPr>
        <p:blipFill>
          <a:blip r:embed="rId2"/>
          <a:stretch/>
        </p:blipFill>
        <p:spPr>
          <a:xfrm>
            <a:off x="0" y="1844640"/>
            <a:ext cx="8907480" cy="3517920"/>
          </a:xfrm>
          <a:prstGeom prst="rect">
            <a:avLst/>
          </a:prstGeom>
          <a:ln w="0">
            <a:noFill/>
          </a:ln>
        </p:spPr>
      </p:pic>
      <p:sp>
        <p:nvSpPr>
          <p:cNvPr id="206" name="ZoneTexte 7"/>
          <p:cNvSpPr/>
          <p:nvPr/>
        </p:nvSpPr>
        <p:spPr>
          <a:xfrm>
            <a:off x="239760" y="638172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 Program Review, Ghan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4799-1F90-430D-85EA-02273333919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ZoneTexte 4"/>
          <p:cNvSpPr/>
          <p:nvPr/>
        </p:nvSpPr>
        <p:spPr>
          <a:xfrm>
            <a:off x="218160" y="549360"/>
            <a:ext cx="36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624"/>
                </a:solidFill>
                <a:latin typeface="Verdana"/>
              </a:rPr>
              <a:t>Ghana, Government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Rectangle 1"/>
          <p:cNvSpPr/>
          <p:nvPr/>
        </p:nvSpPr>
        <p:spPr>
          <a:xfrm>
            <a:off x="4537080" y="3906720"/>
            <a:ext cx="4357800" cy="282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ZoneTexte 7"/>
          <p:cNvSpPr/>
          <p:nvPr/>
        </p:nvSpPr>
        <p:spPr>
          <a:xfrm>
            <a:off x="239760" y="638172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 Program Review, Ghan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239760" y="1989000"/>
            <a:ext cx="4174920" cy="3597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414680" y="1749600"/>
            <a:ext cx="4724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324000" y="1604880"/>
            <a:ext cx="8820000" cy="5253120"/>
          </a:xfrm>
          <a:prstGeom prst="rect">
            <a:avLst/>
          </a:prstGeom>
          <a:ln w="0">
            <a:noFill/>
          </a:ln>
        </p:spPr>
      </p:pic>
      <p:sp>
        <p:nvSpPr>
          <p:cNvPr id="215" name="ZoneTexte 5"/>
          <p:cNvSpPr/>
          <p:nvPr/>
        </p:nvSpPr>
        <p:spPr>
          <a:xfrm>
            <a:off x="0" y="98100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f5494"/>
                </a:solidFill>
                <a:latin typeface="Verdana"/>
              </a:rPr>
              <a:t>Main linkages between sector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f5494"/>
                </a:solidFill>
                <a:latin typeface="Verdana"/>
              </a:rPr>
              <a:t>(not exhaustive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6" name="Connecteur droit avec flèche 20"/>
          <p:cNvCxnSpPr/>
          <p:nvPr/>
        </p:nvCxnSpPr>
        <p:spPr>
          <a:xfrm>
            <a:off x="162000" y="5389200"/>
            <a:ext cx="738720" cy="1080"/>
          </a:xfrm>
          <a:prstGeom prst="straightConnector1">
            <a:avLst/>
          </a:prstGeom>
          <a:ln w="19080">
            <a:solidFill>
              <a:srgbClr val="5959ff"/>
            </a:solidFill>
            <a:miter/>
            <a:tailEnd len="med" type="arrow" w="med"/>
          </a:ln>
        </p:spPr>
      </p:cxnSp>
      <p:sp>
        <p:nvSpPr>
          <p:cNvPr id="217" name="Connecteur droit 25"/>
          <p:cNvSpPr/>
          <p:nvPr/>
        </p:nvSpPr>
        <p:spPr>
          <a:xfrm flipV="1">
            <a:off x="162000" y="2852280"/>
            <a:ext cx="0" cy="2536920"/>
          </a:xfrm>
          <a:prstGeom prst="line">
            <a:avLst/>
          </a:prstGeom>
          <a:ln w="1908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8" name="Connecteur droit avec flèche 27"/>
          <p:cNvCxnSpPr/>
          <p:nvPr/>
        </p:nvCxnSpPr>
        <p:spPr>
          <a:xfrm>
            <a:off x="162000" y="2852280"/>
            <a:ext cx="738720" cy="1080"/>
          </a:xfrm>
          <a:prstGeom prst="straightConnector1">
            <a:avLst/>
          </a:prstGeom>
          <a:ln w="19080">
            <a:solidFill>
              <a:srgbClr val="0000e5"/>
            </a:solidFill>
            <a:miter/>
            <a:tailEnd len="med" type="arrow" w="med"/>
          </a:ln>
        </p:spPr>
      </p:cxnSp>
      <p:sp>
        <p:nvSpPr>
          <p:cNvPr id="21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0344-B64F-4A8E-98C9-AD806C235C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ses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9528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Monetary and Banking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Government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Few words on debt sustainability analysi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DB51-09EC-4F0C-96E0-5B1D833E0A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27640" y="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bt sustain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811E-3961-48D0-98F6-9329519C5F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79280" y="2205000"/>
            <a:ext cx="8585280" cy="357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ustainability of 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different types of debt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need to be assess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- External Debt (to assess Balance of Payment sustainability / “External sector”)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- Public Debt (to assess public finance sustainability / “Government sector”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1409760" y="3279600"/>
            <a:ext cx="7735680" cy="36086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27640" y="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bt sustain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A9C6-00DA-4B69-8BCB-AEB6EA8D87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50920" y="1079640"/>
            <a:ext cx="858672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e IMF and the WB DSA (Debt Sustainability Analysis) for Low Income Countries usually focus on the sustainability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PPG (public and publicly guaranteed debt) external debt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otal public deb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A7F0-FCB4-4D15-B209-B0162B406656}" type="slidenum">
              <a:rPr b="0" lang="es-B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2682720" y="2128680"/>
                <a:ext cx="5092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3" name="Rectangle 8"/>
          <p:cNvSpPr/>
          <p:nvPr/>
        </p:nvSpPr>
        <p:spPr>
          <a:xfrm>
            <a:off x="565200" y="3716280"/>
            <a:ext cx="77724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= debt-to-GDP ratio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r 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= real interest rate on domestic deb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= real GDP growth rate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= primary balance as a share of GDP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2320" y="126828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 the simplest case, the dynamic of the ratio of pubic debt to GDP can be summarized by the following equation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ZoneTexte 15"/>
          <p:cNvSpPr/>
          <p:nvPr/>
        </p:nvSpPr>
        <p:spPr>
          <a:xfrm>
            <a:off x="2916360" y="0"/>
            <a:ext cx="61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Public Debt Dynamic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292360" y="0"/>
            <a:ext cx="38862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Public Debt sustain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EEB2-7679-4D1E-9A9A-9A9B9437D8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50920" y="1267920"/>
            <a:ext cx="858672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6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e public debt sustainability is assessed by looking at the evolution of public debt at a 20-year horizon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Public debt is sustainable when 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d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 does not explode (or breach a given level) over the forecast horizon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68000" indent="-18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835280" y="2997360"/>
            <a:ext cx="624816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5ec1"/>
                </a:solidFill>
                <a:latin typeface="Verdana"/>
              </a:rPr>
              <a:t>Structure of the Financial System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C5BC-770F-4AF9-9C4D-7087A1D88C1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rocessus 3"/>
          <p:cNvSpPr/>
          <p:nvPr/>
        </p:nvSpPr>
        <p:spPr>
          <a:xfrm>
            <a:off x="2195640" y="2133720"/>
            <a:ext cx="5689440" cy="1655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rocessus 4"/>
          <p:cNvSpPr/>
          <p:nvPr/>
        </p:nvSpPr>
        <p:spPr>
          <a:xfrm>
            <a:off x="6588000" y="3213000"/>
            <a:ext cx="1440000" cy="7207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ZoneTexte 6"/>
          <p:cNvSpPr/>
          <p:nvPr/>
        </p:nvSpPr>
        <p:spPr>
          <a:xfrm>
            <a:off x="2411280" y="2133720"/>
            <a:ext cx="446436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inancial Syste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(Financial Survey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ZoneTexte 11"/>
          <p:cNvSpPr/>
          <p:nvPr/>
        </p:nvSpPr>
        <p:spPr>
          <a:xfrm>
            <a:off x="324000" y="3500280"/>
            <a:ext cx="396072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Banking Syste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(Monetary Survey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ZoneTexte 12"/>
          <p:cNvSpPr/>
          <p:nvPr/>
        </p:nvSpPr>
        <p:spPr>
          <a:xfrm>
            <a:off x="4680000" y="3429000"/>
            <a:ext cx="428472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Other Financial Institution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(Consolidated Balance Sheet of OFI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ZoneTexte 13"/>
          <p:cNvSpPr/>
          <p:nvPr/>
        </p:nvSpPr>
        <p:spPr>
          <a:xfrm>
            <a:off x="179280" y="5229360"/>
            <a:ext cx="446400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Monetary Authorit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(Balance Sheet of the MA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ZoneTexte 14"/>
          <p:cNvSpPr/>
          <p:nvPr/>
        </p:nvSpPr>
        <p:spPr>
          <a:xfrm>
            <a:off x="4788000" y="5229360"/>
            <a:ext cx="406872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Commercial Bank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(Consolidated Balance Sheets of Commercial Banks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Connecteur droit 8"/>
          <p:cNvSpPr/>
          <p:nvPr/>
        </p:nvSpPr>
        <p:spPr>
          <a:xfrm>
            <a:off x="4500720" y="2708280"/>
            <a:ext cx="0" cy="43344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Connecteur droit 20"/>
          <p:cNvSpPr/>
          <p:nvPr/>
        </p:nvSpPr>
        <p:spPr>
          <a:xfrm flipV="1">
            <a:off x="3924360" y="3141720"/>
            <a:ext cx="1071360" cy="79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Connecteur droit 22"/>
          <p:cNvSpPr/>
          <p:nvPr/>
        </p:nvSpPr>
        <p:spPr>
          <a:xfrm>
            <a:off x="3924360" y="3141720"/>
            <a:ext cx="0" cy="43164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Connecteur droit 23"/>
          <p:cNvSpPr/>
          <p:nvPr/>
        </p:nvSpPr>
        <p:spPr>
          <a:xfrm>
            <a:off x="5003640" y="3141720"/>
            <a:ext cx="0" cy="43164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Connecteur droit 24"/>
          <p:cNvSpPr/>
          <p:nvPr/>
        </p:nvSpPr>
        <p:spPr>
          <a:xfrm>
            <a:off x="3924360" y="4005360"/>
            <a:ext cx="0" cy="5760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Connecteur droit 25"/>
          <p:cNvSpPr/>
          <p:nvPr/>
        </p:nvSpPr>
        <p:spPr>
          <a:xfrm flipV="1">
            <a:off x="3419640" y="4581000"/>
            <a:ext cx="1944360" cy="8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Connecteur droit 27"/>
          <p:cNvSpPr/>
          <p:nvPr/>
        </p:nvSpPr>
        <p:spPr>
          <a:xfrm>
            <a:off x="3419640" y="4581360"/>
            <a:ext cx="0" cy="719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Connecteur droit 29"/>
          <p:cNvSpPr/>
          <p:nvPr/>
        </p:nvSpPr>
        <p:spPr>
          <a:xfrm>
            <a:off x="5364000" y="4581360"/>
            <a:ext cx="0" cy="6480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292360" y="0"/>
            <a:ext cx="38862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bt sustain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6E7A-C68C-4D4D-ACD7-093B3A8130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2491920"/>
            <a:ext cx="858672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……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more on debt sustainability in Macro II course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3520" y="2565360"/>
            <a:ext cx="7343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600" spc="-1" strike="noStrike">
                <a:solidFill>
                  <a:srgbClr val="ffd624"/>
                </a:solidFill>
                <a:latin typeface="Verdana"/>
              </a:rPr>
              <a:t>Thank you</a:t>
            </a:r>
            <a:endParaRPr b="1" lang="en-US" sz="7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81D3-F392-4B1B-A9BD-6CDB82D60CBA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4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5ec1"/>
                </a:solidFill>
                <a:latin typeface="Verdana"/>
              </a:rPr>
              <a:t>Monetary Authorities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413000"/>
            <a:ext cx="9144000" cy="24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Functions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• </a:t>
            </a: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Issue currency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• </a:t>
            </a: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Hold the country</a:t>
            </a:r>
            <a:r>
              <a:rPr b="0" i="1" lang="ja-JP" sz="1800" spc="-1" strike="noStrike">
                <a:solidFill>
                  <a:srgbClr val="072428"/>
                </a:solidFill>
                <a:latin typeface="Verdana"/>
              </a:rPr>
              <a:t>’</a:t>
            </a: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s foreign reserve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• </a:t>
            </a: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Oversee the monetary system, supervise banks and monitor financial stability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• </a:t>
            </a: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Serve as lender of last resort to the system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Balance Sheet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F106-4E46-458C-B207-C758B3366C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124000" y="3860640"/>
            <a:ext cx="6369120" cy="3544920"/>
          </a:xfrm>
          <a:prstGeom prst="rect">
            <a:avLst/>
          </a:prstGeom>
          <a:ln w="0">
            <a:noFill/>
          </a:ln>
        </p:spPr>
      </p:pic>
      <p:sp>
        <p:nvSpPr>
          <p:cNvPr id="123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640" y="981000"/>
            <a:ext cx="68403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5ec1"/>
                </a:solidFill>
                <a:latin typeface="Verdana"/>
              </a:rPr>
              <a:t>Commercial Bank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5ec1"/>
                </a:solidFill>
                <a:latin typeface="Verdana"/>
              </a:rPr>
              <a:t>Functi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e5"/>
              </a:buClr>
              <a:buSzPct val="131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Provide financial intermediation to savers and investors/borrowers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e5"/>
              </a:buClr>
              <a:buSzPct val="131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Affect money supply and liquidity in the economy (through their deposit taking and lending behaviors)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e5"/>
              </a:buClr>
              <a:buSzPct val="131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Help transmit monetary policy from the monetary authorities to the economy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5ec1"/>
                </a:solidFill>
                <a:latin typeface="Verdana"/>
              </a:rPr>
              <a:t>Balance Shee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6EEF-47B9-4984-AE6D-526D7A71CD3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27" name="Objet 1"/>
          <p:cNvGraphicFramePr/>
          <p:nvPr/>
        </p:nvGraphicFramePr>
        <p:xfrm>
          <a:off x="2556000" y="3933720"/>
          <a:ext cx="5508360" cy="33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Obje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3933720"/>
                    <a:ext cx="5508360" cy="33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822960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The Monetary Survey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1676520"/>
            <a:ext cx="9036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The Monetary Survey is the consolidated balance sheet for the entire banking system (Commercial Banks and Monetary Authorities)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Present, in a timely fashion, data on monetary and credit developments for the entire banking system. Data are available at quite high frequency (monthly)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F8AD-3BC7-420F-90F9-F22CEC967F2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33" name="Objet 1"/>
          <p:cNvGraphicFramePr/>
          <p:nvPr/>
        </p:nvGraphicFramePr>
        <p:xfrm>
          <a:off x="1547640" y="3573360"/>
          <a:ext cx="5915160" cy="36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Obje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573360"/>
                    <a:ext cx="5915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088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0c0"/>
                </a:solidFill>
                <a:latin typeface="Verdana"/>
              </a:rPr>
              <a:t>Balance of payments and Money suppl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Verdana"/>
                <a:ea typeface="Times New Roman"/>
              </a:rPr>
              <a:t>In the Monetary Survey </a:t>
            </a:r>
            <a:r>
              <a:rPr b="0" i="1" lang="en-U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: </a:t>
            </a: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262626"/>
                </a:solidFill>
                <a:latin typeface="Symbol"/>
                <a:ea typeface="Symbol"/>
              </a:rPr>
              <a:t></a:t>
            </a: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M2 = </a:t>
            </a:r>
            <a:r>
              <a:rPr b="0" i="1" lang="en-US" sz="2000" spc="-1" strike="noStrike">
                <a:solidFill>
                  <a:srgbClr val="262626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NFA - </a:t>
            </a:r>
            <a:r>
              <a:rPr b="0" i="1" lang="en-US" sz="2000" spc="-1" strike="noStrike">
                <a:solidFill>
                  <a:srgbClr val="262626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ND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The change in money supply is equal to the change in the net foreign assets in the banking sector minus the change in net domestic credit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In the BoP : </a:t>
            </a: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Change in FX reserves = CAB + CFAB = </a:t>
            </a:r>
            <a:r>
              <a:rPr b="0" lang="en-US" sz="2000" spc="-1" strike="noStrike">
                <a:solidFill>
                  <a:srgbClr val="26262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 NFA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          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           </a:t>
            </a: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The external sector (through changes in foreign exchange reserves) has an impact on Money Supply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     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8855-EEEC-47BC-9E19-8A95D9EA7A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Flèche droite 1"/>
          <p:cNvSpPr/>
          <p:nvPr/>
        </p:nvSpPr>
        <p:spPr>
          <a:xfrm>
            <a:off x="539640" y="5084640"/>
            <a:ext cx="1368360" cy="216000"/>
          </a:xfrm>
          <a:prstGeom prst="rightArrow">
            <a:avLst>
              <a:gd name="adj1" fmla="val 50000"/>
              <a:gd name="adj2" fmla="val 5000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Flèche droite 2"/>
          <p:cNvSpPr/>
          <p:nvPr/>
        </p:nvSpPr>
        <p:spPr>
          <a:xfrm>
            <a:off x="436680" y="4437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50560" y="1125360"/>
            <a:ext cx="8816760" cy="53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Verdana"/>
              </a:rPr>
              <a:t>Monetary aggregat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Mo (Monetary base= currency in circulation + reserves of commercial banks at the CB );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M1 (currency, checkable (or demand) deposits);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M2 (M1 + savings deposits, time deposits, money market funds);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M3 (M2 + special time deposit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The Monetary base is controlled by the Central Bank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M1, M2, and M3 are not fully controlled by the CB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Money Multiplier = M2/M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Money Velocity = GDP/M2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EA25-400D-400F-B328-D334BDF06F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38A1-B74D-48FD-BE70-527A2741B3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ZoneTexte 4"/>
          <p:cNvSpPr/>
          <p:nvPr/>
        </p:nvSpPr>
        <p:spPr>
          <a:xfrm>
            <a:off x="224280" y="549360"/>
            <a:ext cx="37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624"/>
                </a:solidFill>
                <a:latin typeface="Verdana"/>
              </a:rPr>
              <a:t>Cambodia, Monetary surve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ZoneTexte 5"/>
          <p:cNvSpPr/>
          <p:nvPr/>
        </p:nvSpPr>
        <p:spPr>
          <a:xfrm>
            <a:off x="239760" y="638172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Article IV report, Cambodi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2490840" y="1413000"/>
            <a:ext cx="55008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Anne Epaulard</cp:lastModifiedBy>
  <cp:lastPrinted>2015-06-02T09:44:00Z</cp:lastPrinted>
  <dcterms:modified xsi:type="dcterms:W3CDTF">2017-05-02T15:14:58Z</dcterms:modified>
  <cp:revision>223</cp:revision>
  <dc:subject/>
  <dc:title>Slide 1</dc:title>
</cp:coreProperties>
</file>