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DD0D-4CBF-4FD9-9720-F7203987F31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0FB-F41D-4664-929E-14570A006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F0B6-4782-442B-9130-5A4EFCF06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905-0EC1-442B-9D71-F1147D570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CE19-5526-4372-A524-CCBD007D8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F2DD-6FA2-4AD0-933F-972182C76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3291-39C6-43A5-BD61-A44ED3B10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D7F-8979-4336-ACA0-B94DA87B5C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FFDB-0DCF-4B99-A473-ABD7C9370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5F90-6E86-45EB-983D-7E151334E8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165A-323C-47B1-BBA9-979BDD14D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8A0-8F4F-4A55-9E26-1A0652B56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76B3-0C6C-4989-8689-6D4A514A7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D5A7-CCAD-46B9-AA5B-A60A21377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F9E-7351-4ABC-9DE4-2466842B7B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d* and reinterpret it as the stable debt ratio that can be sustained over time if a certain primary balance p* is maintained constant over time. The higher g is the higher the debt level that can be sustained and the opposite is true about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5E5-5DCF-4CB7-9185-CAF68FCA5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A96C-5E17-45A7-9AE5-5987E58DBD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middle part of the table), an upper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0E9C-C61D-467C-9EF4-5F5D298BD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upper part of the table), an middle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284D-1B67-40F0-AEAA-80E3E7AA8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ok at bottom part of table 2 for Fiji (the nice think for Fiji is that we have the 3 balance sheets : CN, commercial banks and consolidated), and Table 5 for Tuni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8E1B-EB5E-4F96-A5C4-6F9A24994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Changing the amount of M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Open market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oreign exchange inter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inancing the government defic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Discount win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16D2-5B8A-450B-A867-B88D3812B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EBA5-1BD9-455C-A239-D06328A07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F7E-4DCD-48BF-B138-F1919A14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8CA-0C63-49E8-8547-E63AA8BE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11F-83B8-4726-8B4E-A4E7716C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639-C626-4376-BCC2-807D00BB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0CE9-79C0-4836-9E4D-3C5C0753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9A6D-313C-473F-80A2-35C11C8E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7C6C-76F3-485C-8912-CB643849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4317-89E9-4119-B744-06697723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5158-FB21-4142-99CF-75AF9E18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0AF8-48DA-44CB-879B-F90DB4D8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564A-F2CB-42C2-A16D-E9CCBC1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071-9547-4F1E-8728-A1D4B7FE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1108-8FEE-441D-84CE-0D7FC6A2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E9FB-4542-4778-86C3-0DEE851A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E3D9-129D-427D-81C4-0D141A6F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50F1-75D5-463B-97E4-FA15E6E5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9D4D-A546-403E-B9A7-A84A6C54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814-0C7B-4993-8969-6B8899DB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217-0EE1-4BDD-B5C5-B666A2F7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5FB-85D5-48FD-8EEF-297EA334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495-2C4B-44F4-BD9E-0D06E7BE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922-27C5-4453-8B2F-529DDBC9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ACC-6E30-4DB1-A210-FF09540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089-84EF-4EAC-9B12-467858D4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758F-B4A8-4CFA-9CB2-6BE1C65E8E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3823-3178-4F28-ADDC-8205FBF4E92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Introduction to Financial Programm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Part 2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D781-90DA-46D2-B2F4-975156F7CC9C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85FB-D96E-4F1F-811D-711AB72524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576520" y="1413000"/>
            <a:ext cx="5415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3D2-8BF6-45C6-8772-5D601CE8A8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ZoneTexte 5"/>
          <p:cNvSpPr/>
          <p:nvPr/>
        </p:nvSpPr>
        <p:spPr>
          <a:xfrm>
            <a:off x="195840" y="54936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0" y="1700280"/>
            <a:ext cx="89344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1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162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3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E9BF-71CB-4059-A1BA-CA454E7EB0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720A-F98C-471E-A612-E47B62BEFE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General governmen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rises all government un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entral govern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tate governments (in federal countri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Local govern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The public sector also include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corporations  and quasi-corporations controlled by the government units. These corporations are not part of the Government sector (but there can be public liabilities for the Government)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63E7-3C9B-4A4A-9BDC-319AC9F7BC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B559-3031-4930-9AA3-706711E076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  <p:sp>
        <p:nvSpPr>
          <p:cNvPr id="173" name="ZoneTexte 5"/>
          <p:cNvSpPr/>
          <p:nvPr/>
        </p:nvSpPr>
        <p:spPr>
          <a:xfrm>
            <a:off x="23760" y="6330960"/>
            <a:ext cx="55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: Government Finance Statistics (GFS). IMF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269-116E-49A6-B100-333296B1B9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77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78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60832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2"/>
          <p:cNvSpPr/>
          <p:nvPr/>
        </p:nvSpPr>
        <p:spPr>
          <a:xfrm>
            <a:off x="6012000" y="62373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f5494"/>
                </a:solidFill>
                <a:latin typeface="Verdana"/>
              </a:rPr>
              <a:t>Source: GFS Manual, IMF, 2001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5280" y="115920"/>
            <a:ext cx="414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Foreign Aid in the Gov. Oper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26920" y="1773360"/>
            <a:ext cx="73454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Aid Grants are registered  “above the line”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Foreign Loans are registered as Foreign financ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F7B9-FDA4-412C-9E5F-1D94665C26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Expenditures have a direct impact on the production sector in </a:t>
            </a: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the short ru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consumption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Wages and Salaries, Consumption of Good and servi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 investment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transaction in non-financial asset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Y = C + GI + I + GI + (X – M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However, Government consumption and investment can partially crowd out private consumption and invest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is is the fiscal “multiplier” debate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= 1; 1 euro of gov. expenditure translate (one the short run) into 1 euro of additional GD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below 1, the effect is smaller (crowding out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above 1, ….well, GDP increase by more than &amp; euro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long run impact of government expenditures depends on the nature of expendit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AD01-D1EB-4E4F-B611-0799B3C4C9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financing operations also have an impact on the economy in the short ru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axes (more or less the same discussion than that about fiscal multiplier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ficits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banking sector = increase in Net Domestic Assets …..so it has an impact on money supply, unless the banking sector reduces credit to the private sector (less private sector investment and consumption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private sector : total impact depends on the behavior of private sector (less consumption and more saving ? Less investment ?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external borrowing increase long term external vulnerability …but has less impact in the short ru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 good financial programming framework must take these constraints and potential impacts into accou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421B-EF69-400F-8E50-126E31EF64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2DCC-9317-495A-BA0A-13A154D60B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n the longer run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Budget deficit and borrowing add to pubic deb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Public debt sustainability needs to be assessed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A9D1-5B68-4529-B970-EC9E0758C5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A492-CC66-4556-AC05-1D62B513D7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95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96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Titre 1"/>
          <p:cNvSpPr/>
          <p:nvPr/>
        </p:nvSpPr>
        <p:spPr>
          <a:xfrm>
            <a:off x="9360" y="260280"/>
            <a:ext cx="3383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Cambodia: Fiscal Bal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ZoneTexte 7"/>
          <p:cNvSpPr/>
          <p:nvPr/>
        </p:nvSpPr>
        <p:spPr>
          <a:xfrm>
            <a:off x="4932360" y="658188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2576520" y="1833480"/>
            <a:ext cx="50198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A229-C109-4AA6-B9D6-9FDFAFE230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2320" y="1844640"/>
            <a:ext cx="8964360" cy="3754440"/>
          </a:xfrm>
          <a:prstGeom prst="rect">
            <a:avLst/>
          </a:prstGeom>
          <a:ln w="0">
            <a:noFill/>
          </a:ln>
        </p:spPr>
      </p:pic>
      <p:sp>
        <p:nvSpPr>
          <p:cNvPr id="20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0" y="1844640"/>
            <a:ext cx="8907480" cy="3517920"/>
          </a:xfrm>
          <a:prstGeom prst="rect">
            <a:avLst/>
          </a:prstGeom>
          <a:ln w="0">
            <a:noFill/>
          </a:ln>
        </p:spPr>
      </p:pic>
      <p:sp>
        <p:nvSpPr>
          <p:cNvPr id="206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A655-81F9-4862-BEC4-03463AB39F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39760" y="1989000"/>
            <a:ext cx="4174920" cy="3597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414680" y="1749600"/>
            <a:ext cx="4724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215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6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217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8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BE74-4645-4F41-A913-FA85FF9E9E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E54D-B780-46C1-9175-C2B6F886FC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9ED9-48A6-4F91-B506-17C94C5635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2205000"/>
            <a:ext cx="8585280" cy="35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ustainability of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ifferent types of deb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need to be assess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External Debt (to assess Balance of Payment sustainability / “External sector”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Public Debt (to assess public finance sustainability / “Government sector”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409760" y="3279600"/>
            <a:ext cx="7735680" cy="3608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4E49-B894-4A58-B9B9-4A92AFEE3F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079640"/>
            <a:ext cx="85867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IMF and the WB DSA (Debt Sustainability Analysis) for Low Income Countries usually focus on the sustainabilit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PG (public and publicly guaranteed debt) external debt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otal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597C-B584-4A5E-808C-95BD3C454EC2}" type="slidenum">
              <a:rPr b="0" lang="es-B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682720" y="2128680"/>
                <a:ext cx="509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Rectangle 8"/>
          <p:cNvSpPr/>
          <p:nvPr/>
        </p:nvSpPr>
        <p:spPr>
          <a:xfrm>
            <a:off x="565200" y="3716280"/>
            <a:ext cx="77724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debt-to-GDP ratio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= real interest rate on domestic deb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real GDP growth rat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primary balance as a share of GD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320" y="12682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the simplest case, the dynamic of the ratio of pubic debt to GDP can be summarized by the following equ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ZoneTexte 15"/>
          <p:cNvSpPr/>
          <p:nvPr/>
        </p:nvSpPr>
        <p:spPr>
          <a:xfrm>
            <a:off x="2916360" y="0"/>
            <a:ext cx="61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Dynamic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71A6-A1F3-489F-A651-408565212D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267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public debt sustainability is assessed by looking at the evolution of public debt at a 20-year horizon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ublic debt is sustainable when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does not explode (or breach a given level) over the forecast horizo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68000" indent="-18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248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5ec1"/>
                </a:solidFill>
                <a:latin typeface="Verdana"/>
              </a:rPr>
              <a:t>Structure of the Financial System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D9FB-A8F4-40D4-98CD-4B8415D87C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rocessus 3"/>
          <p:cNvSpPr/>
          <p:nvPr/>
        </p:nvSpPr>
        <p:spPr>
          <a:xfrm>
            <a:off x="2195640" y="2133720"/>
            <a:ext cx="5689440" cy="1655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rocessus 4"/>
          <p:cNvSpPr/>
          <p:nvPr/>
        </p:nvSpPr>
        <p:spPr>
          <a:xfrm>
            <a:off x="6588000" y="3213000"/>
            <a:ext cx="1440000" cy="720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ZoneTexte 6"/>
          <p:cNvSpPr/>
          <p:nvPr/>
        </p:nvSpPr>
        <p:spPr>
          <a:xfrm>
            <a:off x="2411280" y="2133720"/>
            <a:ext cx="4464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inancial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Financial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ZoneTexte 11"/>
          <p:cNvSpPr/>
          <p:nvPr/>
        </p:nvSpPr>
        <p:spPr>
          <a:xfrm>
            <a:off x="324000" y="3500280"/>
            <a:ext cx="3960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Banking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Monetary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ZoneTexte 12"/>
          <p:cNvSpPr/>
          <p:nvPr/>
        </p:nvSpPr>
        <p:spPr>
          <a:xfrm>
            <a:off x="4680000" y="3429000"/>
            <a:ext cx="4284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Other Financial Institut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 of OFI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179280" y="5229360"/>
            <a:ext cx="44640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Monetary Auth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Balance Sheet of the MA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ZoneTexte 14"/>
          <p:cNvSpPr/>
          <p:nvPr/>
        </p:nvSpPr>
        <p:spPr>
          <a:xfrm>
            <a:off x="4788000" y="5229360"/>
            <a:ext cx="406872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s of Commercial Banks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Connecteur droit 8"/>
          <p:cNvSpPr/>
          <p:nvPr/>
        </p:nvSpPr>
        <p:spPr>
          <a:xfrm>
            <a:off x="4500720" y="2708280"/>
            <a:ext cx="0" cy="4334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Connecteur droit 20"/>
          <p:cNvSpPr/>
          <p:nvPr/>
        </p:nvSpPr>
        <p:spPr>
          <a:xfrm flipV="1">
            <a:off x="3924360" y="3141720"/>
            <a:ext cx="1071360" cy="79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Connecteur droit 22"/>
          <p:cNvSpPr/>
          <p:nvPr/>
        </p:nvSpPr>
        <p:spPr>
          <a:xfrm>
            <a:off x="392436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Connecteur droit 23"/>
          <p:cNvSpPr/>
          <p:nvPr/>
        </p:nvSpPr>
        <p:spPr>
          <a:xfrm>
            <a:off x="500364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Connecteur droit 24"/>
          <p:cNvSpPr/>
          <p:nvPr/>
        </p:nvSpPr>
        <p:spPr>
          <a:xfrm>
            <a:off x="3924360" y="4005360"/>
            <a:ext cx="0" cy="576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Connecteur droit 25"/>
          <p:cNvSpPr/>
          <p:nvPr/>
        </p:nvSpPr>
        <p:spPr>
          <a:xfrm flipV="1">
            <a:off x="3419640" y="4581000"/>
            <a:ext cx="1944360" cy="8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Connecteur droit 27"/>
          <p:cNvSpPr/>
          <p:nvPr/>
        </p:nvSpPr>
        <p:spPr>
          <a:xfrm>
            <a:off x="3419640" y="4581360"/>
            <a:ext cx="0" cy="719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Connecteur droit 29"/>
          <p:cNvSpPr/>
          <p:nvPr/>
        </p:nvSpPr>
        <p:spPr>
          <a:xfrm>
            <a:off x="5364000" y="4581360"/>
            <a:ext cx="0" cy="648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7A2-07F4-4A2D-9517-E1F483EFBF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2491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……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ore on debt sustainability in Macro II cours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E759-31A3-4E9A-8A2A-297A1024D0D0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Monetary Authoritie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13000"/>
            <a:ext cx="91440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Function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Issue currenc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Hold the country</a:t>
            </a:r>
            <a:r>
              <a:rPr b="0" i="1" lang="ja-JP" sz="1800" spc="-1" strike="noStrike">
                <a:solidFill>
                  <a:srgbClr val="072428"/>
                </a:solidFill>
                <a:latin typeface="Verdana"/>
              </a:rPr>
              <a:t>’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 foreign reserv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Oversee the monetary system, supervise banks and monitor financial stabilit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erve as lender of last resort to the syste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Balance Sheet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0303-23CA-47F9-8D6E-7693F6AA2F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6369120" cy="3544920"/>
          </a:xfrm>
          <a:prstGeom prst="rect">
            <a:avLst/>
          </a:prstGeom>
          <a:ln w="0">
            <a:noFill/>
          </a:ln>
        </p:spPr>
      </p:pic>
      <p:sp>
        <p:nvSpPr>
          <p:cNvPr id="12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6840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Commercial Ban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Fun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ovide financial intermediation to savers and investors/borrowers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Affect money supply and liquidity in the economy (through their deposit taking and lending behaviors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Help transmit monetary policy from the monetary authorities to the econom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Balance She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F574-115E-4666-8F4C-497F9B56CB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27" name="Objet 1"/>
          <p:cNvGraphicFramePr/>
          <p:nvPr/>
        </p:nvGraphicFramePr>
        <p:xfrm>
          <a:off x="2556000" y="3933720"/>
          <a:ext cx="5508360" cy="33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933720"/>
                    <a:ext cx="550836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The Monetary Survey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676520"/>
            <a:ext cx="903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Monetary Survey is the consolidated balance sheet for the entire banking system (Commercial Banks and Monetary Authorities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esent, in a timely fashion, data on monetary and credit developments for the entire banking system. Data are available at quite high frequency (monthly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54B4-B7F9-4900-9197-8CCAE3F99D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3" name="Objet 1"/>
          <p:cNvGraphicFramePr/>
          <p:nvPr/>
        </p:nvGraphicFramePr>
        <p:xfrm>
          <a:off x="1547640" y="3573360"/>
          <a:ext cx="591516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573360"/>
                    <a:ext cx="5915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Verdana"/>
              </a:rPr>
              <a:t>Balance of payments and Money suppl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Verdana"/>
                <a:ea typeface="Times New Roman"/>
              </a:rPr>
              <a:t>In the Monetary Survey </a:t>
            </a:r>
            <a:r>
              <a:rPr b="0" i="1" lang="en-U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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M2 =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FA -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D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change in money supply is equal to the change in the net foreign assets in the banking sector minus the change in net domestic credi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 the BoP : 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Change in FX reserves = CAB + CFAB = </a:t>
            </a:r>
            <a:r>
              <a:rPr b="0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 NFA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external sector (through changes in foreign exchange reserves) has an impact on Money Supply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1115-80C8-4113-B883-E0EEAC14AA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èche droite 1"/>
          <p:cNvSpPr/>
          <p:nvPr/>
        </p:nvSpPr>
        <p:spPr>
          <a:xfrm>
            <a:off x="539640" y="5084640"/>
            <a:ext cx="1368360" cy="21600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èche droite 2"/>
          <p:cNvSpPr/>
          <p:nvPr/>
        </p:nvSpPr>
        <p:spPr>
          <a:xfrm>
            <a:off x="436680" y="44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560" y="1125360"/>
            <a:ext cx="881676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Monetary aggreg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o (Monetary base= currency in circulation + reserves of commercial banks at the CB );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1 (currency, checkable (or demand) deposit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2 (M1 + savings deposits, time deposits, money market fund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3 (M2 + special time deposi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The Monetary base is controlled by the Central Ban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1, M2, and M3 are not fully controlled by the CB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Multiplier = M2/M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Velocity = GDP/M2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5D6B-F27D-4530-AFA4-9C7BB1556E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F1DF-229E-482C-B5C9-11574EB4EF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490840" y="1413000"/>
            <a:ext cx="55008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7-05-02T15:14:58Z</dcterms:modified>
  <cp:revision>223</cp:revision>
  <dc:subject/>
  <dc:title>Slide 1</dc:title>
</cp:coreProperties>
</file>