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5AC-3F80-47AC-B156-9DBBA1F096FB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86F8-291F-45ED-BCAE-980A62C8AB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172D-8E34-4644-9EB0-19C3F0A3F8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E7DD-9BEA-45C4-94F1-2645DA8B9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616A-26D2-4082-AF81-DE4E10C40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FFD8-ED24-43DB-AB4F-9AB837884D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EDE-4DE6-4646-8AE9-F7E04989F9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25E-9F16-458D-9DCA-D37A662B3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76F-61D7-4AEE-B006-5AC1E5B16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CE9-0CF0-4863-945E-D211D753F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iscuss Tunisia case (table 4a and 4b), Fiji (Table 3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DB0A-4DAA-4A4C-BFCD-5B5377DF0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jouter « general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B784-0977-464C-B464-E55A60EF8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1C1A-B353-464F-B4CA-C39DF34B63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30B6-A9A9-4098-BB78-B3988C6325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B61E-6073-4BEC-8F61-A78165DE7B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d* and reinterpret it as the stable debt ratio that can be sustained over time if a certain primary balance p* is maintained constant over time. The higher g is the higher the debt level that can be sustained and the opposite is true about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FD6-8DEF-49EF-A86C-917FDBB708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9856-E23F-427A-B2C2-AC95AC39C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middle part of the table), an upper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B2A-7AD8-44DA-B350-B466799F7A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ave a look at the table 3 / Ghana (upper part of the table), an middle part of table 2 / Fi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5DDF-E650-489E-BC9F-0988591DE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ok at bottom part of table 2 for Fiji (the nice think for Fiji is that we have the 3 balance sheets : CN, commercial banks and consolidated), and Table 5 for Tuni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F372-FFD5-48D6-8AE7-FD09BFF89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Changing the amount of M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Open market oper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oreign exchange interven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Financing the government defic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Discount wind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6FCD-6A9E-4A31-9B4B-3339A9479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ample of Ghana is goo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62626"/>
                </a:solidFill>
                <a:latin typeface="Arial"/>
              </a:rPr>
              <a:t>Explain Sterilisation operation (OMO : Open Market Ope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D045-0D7E-4168-96C5-6A4D3E4E8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30B-CDE6-4BCE-9A1E-A5F2DA3C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28B-C2B1-4CDB-A223-3AF2562E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DBF-62CD-4771-A555-A67FA062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6E30-7A77-4C18-A69D-E4D2763C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E7C-C400-46F6-98F0-DA891DF4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3371-5A20-4B4E-B957-4B09D953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04A-B635-46A3-AF77-19B94A2E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34F8-FC60-41B3-9663-3CB4155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C38-01AF-4B4C-B39F-0D1E5125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0800-FFF9-4EC5-BF98-DE4C9E0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355-CEA2-4C98-98C9-7826DD13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1B73-FE10-41AC-BECE-43516C8F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A87-A883-48CC-9497-A2D17C5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A46C-5F25-484E-A406-7EAEDA3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37B8-9037-4006-BE0C-BAD43297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B8EA-D5EA-415D-A648-111F0727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ABA5-A2DB-4E62-8F4E-A9A2ED4A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842-BB3C-4E08-8550-5C962A7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ED6-E5D7-40A9-A4A2-5901D09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4767-A540-4394-B874-6B69D4F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48B-19A5-46F6-BA81-A5B7A7FA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1A1-672F-422F-89B8-49C31BC5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4DE-17E1-4B34-9A9C-07D633E9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350-A5FC-46AC-8A87-C854831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3936-00C7-4452-A9E8-CE8BD2F38D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C2B-5D60-430B-B371-4F4AC5AA8F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Introduction to Financial Programming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Part 2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97B8-9915-4AD6-A14D-E3708AB2884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963-160E-40C5-8B4E-B6B7CE341E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576520" y="1413000"/>
            <a:ext cx="54151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C9D-2AAA-4680-8566-B1A32ADBF4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195840" y="54936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0" y="1700280"/>
            <a:ext cx="89344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160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1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162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63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DABE-0A87-41E5-9646-75236433E4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ED7D-7973-43E8-A645-C41BFB0369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General governmen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omprises all government uni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Central govern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State governments (in federal countrie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Local government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The public sector also includes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corporations  and quasi-corporations controlled by the government units. These corporations are not part of the Government sector (but there can be public liabilities for the Government)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3DB7-374B-4324-90B6-5F786A2734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A89-B8B6-46B2-8EBF-2A05F0BBB0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137440" cy="5118120"/>
          </a:xfrm>
          <a:prstGeom prst="rect">
            <a:avLst/>
          </a:prstGeom>
          <a:ln w="0">
            <a:noFill/>
          </a:ln>
        </p:spPr>
      </p:pic>
      <p:sp>
        <p:nvSpPr>
          <p:cNvPr id="173" name="ZoneTexte 5"/>
          <p:cNvSpPr/>
          <p:nvPr/>
        </p:nvSpPr>
        <p:spPr>
          <a:xfrm>
            <a:off x="23760" y="6330960"/>
            <a:ext cx="55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: Government Finance Statistics (GFS). IMF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8228-A8D8-400E-A12B-EF13DEFE72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77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78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60832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ZoneTexte 2"/>
          <p:cNvSpPr/>
          <p:nvPr/>
        </p:nvSpPr>
        <p:spPr>
          <a:xfrm>
            <a:off x="6012000" y="6237360"/>
            <a:ext cx="23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f5494"/>
                </a:solidFill>
                <a:latin typeface="Verdana"/>
              </a:rPr>
              <a:t>Source: GFS Manual, IMF, 2001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5280" y="115920"/>
            <a:ext cx="414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624"/>
                </a:solidFill>
                <a:latin typeface="Verdana"/>
              </a:rPr>
              <a:t>Foreign Aid in the Gov. Oper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26920" y="1773360"/>
            <a:ext cx="7345440" cy="48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Aid Grants are registered  “above the line”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d5ec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f5494"/>
                </a:solidFill>
                <a:latin typeface="Verdana"/>
              </a:rPr>
              <a:t>Foreign Loans are registered as Foreign financ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711B-3A60-4F65-AAFE-FEC52897BD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Expenditures have a direct impact on the production sector in </a:t>
            </a:r>
            <a:r>
              <a:rPr b="0" i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the short ru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consumption: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Wages and Salaries, Consumption of Good and service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US" sz="2000" spc="-1" strike="noStrike">
                <a:solidFill>
                  <a:srgbClr val="0f5494"/>
                </a:solidFill>
                <a:latin typeface="Verdana"/>
              </a:rPr>
              <a:t>Government  investment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(transaction in non-financial asset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Y = C + GI + I + GI + (X – M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However, Government consumption and investment can partially crowd out private consumption and invest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is is the fiscal “multiplier” debate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= 1; 1 euro of gov. expenditure translate (one the short run) into 1 euro of additional GDP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below 1, the effect is smaller (crowding out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f multiplier is above 1, ….well, GDP increase by more than &amp; euro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he long run impact of government expenditures depends on the nature of expenditure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5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A55-53DD-48D9-A347-26598DC3D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Government financing operations also have an impact on the economy in the short run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Taxes (more or less the same discussion than that about fiscal multiplier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Deficits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banking sector = increase in Net Domestic Assets …..so it has an impact on money supply, unless the banking sector reduces credit to the private sector (less private sector investment and consumption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the domestic private sector : total impact depends on the behavior of private sector (less consumption and more saving ? Less investment ?)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Financed by external borrowing increase long term external vulnerability …but has less impact in the short run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A good financial programming framework must take these constraints and potential impacts into accou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53760" indent="-25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827B-6B0A-4890-8A2F-140F4355C6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652-1519-43C9-80FE-7216CB7622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Secto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80640"/>
            <a:ext cx="9144000" cy="566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In the longer run: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Budget deficit and borrowing add to pubic deb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f5494"/>
                </a:solidFill>
                <a:latin typeface="Verdana"/>
              </a:rPr>
              <a:t>Public debt sustainability needs to be assessed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0218-7519-4132-8987-04B4A85C86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458-1529-47CF-A3D9-D016F58C83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70000" y="1557000"/>
            <a:ext cx="8858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95" name="Connecteur droit avec flèche 2"/>
          <p:cNvCxnSpPr/>
          <p:nvPr/>
        </p:nvCxnSpPr>
        <p:spPr>
          <a:xfrm>
            <a:off x="8317080" y="62064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96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Titre 1"/>
          <p:cNvSpPr/>
          <p:nvPr/>
        </p:nvSpPr>
        <p:spPr>
          <a:xfrm>
            <a:off x="9360" y="260280"/>
            <a:ext cx="33832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Cambodia: Fiscal Bal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ZoneTexte 7"/>
          <p:cNvSpPr/>
          <p:nvPr/>
        </p:nvSpPr>
        <p:spPr>
          <a:xfrm>
            <a:off x="4932360" y="6581880"/>
            <a:ext cx="42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tretch/>
        </p:blipFill>
        <p:spPr>
          <a:xfrm>
            <a:off x="2576520" y="1833480"/>
            <a:ext cx="501984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7A3-7C70-41E6-97CC-6098156CCF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2320" y="1844640"/>
            <a:ext cx="8964360" cy="3754440"/>
          </a:xfrm>
          <a:prstGeom prst="rect">
            <a:avLst/>
          </a:prstGeom>
          <a:ln w="0">
            <a:noFill/>
          </a:ln>
        </p:spPr>
      </p:pic>
      <p:sp>
        <p:nvSpPr>
          <p:cNvPr id="204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0" y="1844640"/>
            <a:ext cx="8907480" cy="351792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EBB7-3F1C-4D33-A7FD-CEE99F539A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ZoneTexte 4"/>
          <p:cNvSpPr/>
          <p:nvPr/>
        </p:nvSpPr>
        <p:spPr>
          <a:xfrm>
            <a:off x="218160" y="549360"/>
            <a:ext cx="36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Ghana, Government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Rectangle 1"/>
          <p:cNvSpPr/>
          <p:nvPr/>
        </p:nvSpPr>
        <p:spPr>
          <a:xfrm>
            <a:off x="4537080" y="3906720"/>
            <a:ext cx="4357800" cy="282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Titre 1"/>
          <p:cNvSpPr/>
          <p:nvPr/>
        </p:nvSpPr>
        <p:spPr>
          <a:xfrm>
            <a:off x="5796000" y="0"/>
            <a:ext cx="338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Government 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7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 Program Review, Ghan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9760" y="1989000"/>
            <a:ext cx="4174920" cy="3597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414680" y="1749600"/>
            <a:ext cx="4724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24000" y="1604880"/>
            <a:ext cx="8820000" cy="5253120"/>
          </a:xfrm>
          <a:prstGeom prst="rect">
            <a:avLst/>
          </a:prstGeom>
          <a:ln w="0">
            <a:noFill/>
          </a:ln>
        </p:spPr>
      </p:pic>
      <p:sp>
        <p:nvSpPr>
          <p:cNvPr id="215" name="ZoneTexte 5"/>
          <p:cNvSpPr/>
          <p:nvPr/>
        </p:nvSpPr>
        <p:spPr>
          <a:xfrm>
            <a:off x="0" y="98100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Main linkages between sector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f5494"/>
                </a:solidFill>
                <a:latin typeface="Verdana"/>
              </a:rPr>
              <a:t>(not exhaustive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6" name="Connecteur droit avec flèche 20"/>
          <p:cNvCxnSpPr/>
          <p:nvPr/>
        </p:nvCxnSpPr>
        <p:spPr>
          <a:xfrm>
            <a:off x="162000" y="5389200"/>
            <a:ext cx="738720" cy="1080"/>
          </a:xfrm>
          <a:prstGeom prst="straightConnector1">
            <a:avLst/>
          </a:prstGeom>
          <a:ln w="19080">
            <a:solidFill>
              <a:srgbClr val="5959ff"/>
            </a:solidFill>
            <a:miter/>
            <a:tailEnd len="med" type="arrow" w="med"/>
          </a:ln>
        </p:spPr>
      </p:cxnSp>
      <p:sp>
        <p:nvSpPr>
          <p:cNvPr id="217" name="Connecteur droit 25"/>
          <p:cNvSpPr/>
          <p:nvPr/>
        </p:nvSpPr>
        <p:spPr>
          <a:xfrm flipV="1">
            <a:off x="162000" y="2852280"/>
            <a:ext cx="0" cy="2536920"/>
          </a:xfrm>
          <a:prstGeom prst="line">
            <a:avLst/>
          </a:prstGeom>
          <a:ln w="19080">
            <a:solidFill>
              <a:srgbClr val="000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218" name="Connecteur droit avec flèche 27"/>
          <p:cNvCxnSpPr/>
          <p:nvPr/>
        </p:nvCxnSpPr>
        <p:spPr>
          <a:xfrm>
            <a:off x="162000" y="2852280"/>
            <a:ext cx="738720" cy="1080"/>
          </a:xfrm>
          <a:prstGeom prst="straightConnector1">
            <a:avLst/>
          </a:prstGeom>
          <a:ln w="19080">
            <a:solidFill>
              <a:srgbClr val="0000e5"/>
            </a:solidFill>
            <a:miter/>
            <a:tailEnd len="med" type="arrow" w="med"/>
          </a:ln>
        </p:spPr>
      </p:cxn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BAD-8DD1-462E-9E57-2BD240E5A2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sess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onetary and Banking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Government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Few words on debt sustainability analysi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1242-FE7B-44AD-8BE0-3307BFBD2F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B2CB-ECB9-4F3B-8DA5-4587C380ED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9280" y="2205000"/>
            <a:ext cx="8585280" cy="35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ustainability of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ifferent types of debt 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need to be assess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External Debt (to assess Balance of Payment sustainability / “External sector”)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- Public Debt (to assess public finance sustainability / “Government sector”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09760" y="3279600"/>
            <a:ext cx="7735680" cy="36086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27640" y="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E25-7821-4C99-8D81-A934DE0993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079640"/>
            <a:ext cx="8586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IMF and the WB DSA (Debt Sustainability Analysis) for Low Income Countries usually focus on the sustainabilit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PG (public and publicly guaranteed debt) external debt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otal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E9F-302A-4B9A-A46A-75F96D7906FA}" type="slidenum">
              <a:rPr b="0" lang="es-B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2682720" y="2128680"/>
                <a:ext cx="509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Rectangle 8"/>
          <p:cNvSpPr/>
          <p:nvPr/>
        </p:nvSpPr>
        <p:spPr>
          <a:xfrm>
            <a:off x="565200" y="3716280"/>
            <a:ext cx="77724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debt-to-GDP ratio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r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= real interest rate on domestic debt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real GDP growth rate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 = primary balance as a share of GDP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2320" y="126828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In the simplest case, the dynamic of the ratio of pubic debt to GDP can be summarized by the following equation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ZoneTexte 15"/>
          <p:cNvSpPr/>
          <p:nvPr/>
        </p:nvSpPr>
        <p:spPr>
          <a:xfrm>
            <a:off x="2916360" y="0"/>
            <a:ext cx="61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Dynamic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Public 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D17-EB59-4C3F-AE42-5F63F45CF5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50920" y="1267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6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e public debt sustainability is assessed by looking at the evolution of public debt at a 20-year horizon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Public debt is sustainable when </a:t>
            </a:r>
            <a:r>
              <a:rPr b="1" i="1" lang="en-US" sz="2400" spc="-1" strike="noStrike">
                <a:solidFill>
                  <a:srgbClr val="0f5494"/>
                </a:solidFill>
                <a:latin typeface="Verdana"/>
              </a:rPr>
              <a:t>d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 does not explode (or breach a given level) over the forecast horizon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68000" indent="-18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2481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5ec1"/>
                </a:solidFill>
                <a:latin typeface="Verdana"/>
              </a:rPr>
              <a:t>Structure of the Financial System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B70-5617-4F64-BEAD-8116FC3052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rocessus 3"/>
          <p:cNvSpPr/>
          <p:nvPr/>
        </p:nvSpPr>
        <p:spPr>
          <a:xfrm>
            <a:off x="2195640" y="2133720"/>
            <a:ext cx="5689440" cy="1655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rocessus 4"/>
          <p:cNvSpPr/>
          <p:nvPr/>
        </p:nvSpPr>
        <p:spPr>
          <a:xfrm>
            <a:off x="6588000" y="3213000"/>
            <a:ext cx="1440000" cy="720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ZoneTexte 6"/>
          <p:cNvSpPr/>
          <p:nvPr/>
        </p:nvSpPr>
        <p:spPr>
          <a:xfrm>
            <a:off x="2411280" y="2133720"/>
            <a:ext cx="446436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inancial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Financial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ZoneTexte 11"/>
          <p:cNvSpPr/>
          <p:nvPr/>
        </p:nvSpPr>
        <p:spPr>
          <a:xfrm>
            <a:off x="324000" y="3500280"/>
            <a:ext cx="3960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Banking Syste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Monetary Survey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ZoneTexte 12"/>
          <p:cNvSpPr/>
          <p:nvPr/>
        </p:nvSpPr>
        <p:spPr>
          <a:xfrm>
            <a:off x="4680000" y="3429000"/>
            <a:ext cx="428472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Other Financial Institut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 of OFI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ZoneTexte 13"/>
          <p:cNvSpPr/>
          <p:nvPr/>
        </p:nvSpPr>
        <p:spPr>
          <a:xfrm>
            <a:off x="179280" y="5229360"/>
            <a:ext cx="44640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Monetary Authoriti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Balance Sheet of the MA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ZoneTexte 14"/>
          <p:cNvSpPr/>
          <p:nvPr/>
        </p:nvSpPr>
        <p:spPr>
          <a:xfrm>
            <a:off x="4788000" y="5229360"/>
            <a:ext cx="4068720" cy="91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ommercial Bank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(Consolidated Balance Sheets of Commercial Banks)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Connecteur droit 8"/>
          <p:cNvSpPr/>
          <p:nvPr/>
        </p:nvSpPr>
        <p:spPr>
          <a:xfrm>
            <a:off x="4500720" y="2708280"/>
            <a:ext cx="0" cy="4334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Connecteur droit 20"/>
          <p:cNvSpPr/>
          <p:nvPr/>
        </p:nvSpPr>
        <p:spPr>
          <a:xfrm flipV="1">
            <a:off x="3924360" y="3141720"/>
            <a:ext cx="1071360" cy="79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Connecteur droit 22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Connecteur droit 23"/>
          <p:cNvSpPr/>
          <p:nvPr/>
        </p:nvSpPr>
        <p:spPr>
          <a:xfrm>
            <a:off x="5003640" y="3141720"/>
            <a:ext cx="0" cy="43164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Connecteur droit 24"/>
          <p:cNvSpPr/>
          <p:nvPr/>
        </p:nvSpPr>
        <p:spPr>
          <a:xfrm>
            <a:off x="3924360" y="4005360"/>
            <a:ext cx="0" cy="576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Connecteur droit 25"/>
          <p:cNvSpPr/>
          <p:nvPr/>
        </p:nvSpPr>
        <p:spPr>
          <a:xfrm flipV="1">
            <a:off x="3419640" y="4581000"/>
            <a:ext cx="1944360" cy="8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Connecteur droit 27"/>
          <p:cNvSpPr/>
          <p:nvPr/>
        </p:nvSpPr>
        <p:spPr>
          <a:xfrm>
            <a:off x="3419640" y="4581360"/>
            <a:ext cx="0" cy="719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Connecteur droit 29"/>
          <p:cNvSpPr/>
          <p:nvPr/>
        </p:nvSpPr>
        <p:spPr>
          <a:xfrm>
            <a:off x="5364000" y="4581360"/>
            <a:ext cx="0" cy="6480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292360" y="0"/>
            <a:ext cx="38862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bt sustain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E27D-C017-4E48-A4C2-1D277654EF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2491920"/>
            <a:ext cx="8586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……</a:t>
            </a: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more on debt sustainability in Macro II cours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11D-B1F2-449C-891C-1C7231DA7668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4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Monetary Authoritie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13000"/>
            <a:ext cx="9144000" cy="24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Function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f5494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Issue currenc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Hold the country</a:t>
            </a:r>
            <a:r>
              <a:rPr b="0" i="1" lang="ja-JP" sz="1800" spc="-1" strike="noStrike">
                <a:solidFill>
                  <a:srgbClr val="072428"/>
                </a:solidFill>
                <a:latin typeface="Verdana"/>
              </a:rPr>
              <a:t>’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 foreign reserv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Oversee the monetary system, supervise banks and monitor financial stability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• </a:t>
            </a:r>
            <a:r>
              <a:rPr b="0" i="1" lang="en-US" sz="1800" spc="-1" strike="noStrike">
                <a:solidFill>
                  <a:srgbClr val="072428"/>
                </a:solidFill>
                <a:latin typeface="Verdana"/>
              </a:rPr>
              <a:t>Serve as lender of last resort to the syste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f5494"/>
                </a:solidFill>
                <a:latin typeface="Verdana"/>
              </a:rPr>
              <a:t>Balance Sheet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27ED-8E74-4727-BC25-5A39DDDA1C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24000" y="3860640"/>
            <a:ext cx="6369120" cy="3544920"/>
          </a:xfrm>
          <a:prstGeom prst="rect">
            <a:avLst/>
          </a:prstGeom>
          <a:ln w="0">
            <a:noFill/>
          </a:ln>
        </p:spPr>
      </p:pic>
      <p:sp>
        <p:nvSpPr>
          <p:cNvPr id="12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640" y="981000"/>
            <a:ext cx="6840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5ec1"/>
                </a:solidFill>
                <a:latin typeface="Verdana"/>
              </a:rPr>
              <a:t>Commercial Ban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Function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ovide financial intermediation to savers and investors/borrowers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Affect money supply and liquidity in the economy (through their deposit taking and lending behaviors)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e5"/>
              </a:buClr>
              <a:buSzPct val="131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Help transmit monetary policy from the monetary authorities to the economy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d5ec1"/>
                </a:solidFill>
                <a:latin typeface="Verdana"/>
              </a:rPr>
              <a:t>Balance Shee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B4D3-50B4-4183-AB3A-BF089E70D6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27" name="Objet 1"/>
          <p:cNvGraphicFramePr/>
          <p:nvPr/>
        </p:nvGraphicFramePr>
        <p:xfrm>
          <a:off x="2556000" y="3933720"/>
          <a:ext cx="5508360" cy="33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933720"/>
                    <a:ext cx="5508360" cy="33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980640"/>
            <a:ext cx="82296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The Monetary Survey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1676520"/>
            <a:ext cx="903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Monetary Survey is the consolidated balance sheet for the entire banking system (Commercial Banks and Monetary Authorities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Present, in a timely fashion, data on monetary and credit developments for the entire banking system. Data are available at quite high frequency (monthly)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0A87-40C3-4053-B7FA-990B785864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33" name="Objet 1"/>
          <p:cNvGraphicFramePr/>
          <p:nvPr/>
        </p:nvGraphicFramePr>
        <p:xfrm>
          <a:off x="1547640" y="3573360"/>
          <a:ext cx="591516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573360"/>
                    <a:ext cx="5915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Verdana"/>
              </a:rPr>
              <a:t>Balance of payments and Money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Verdana"/>
                <a:ea typeface="Times New Roman"/>
              </a:rPr>
              <a:t>In the Monetary Survey </a:t>
            </a:r>
            <a:r>
              <a:rPr b="0" i="1" lang="en-US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: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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M2 =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FA - </a:t>
            </a:r>
            <a:r>
              <a:rPr b="0" i="1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ND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change in money supply is equal to the change in the net foreign assets in the banking sector minus the change in net domestic credit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In the BoP : 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Change in FX reserves = CAB + CFAB = </a:t>
            </a:r>
            <a:r>
              <a:rPr b="0" lang="en-US" sz="2000" spc="-1" strike="noStrike">
                <a:solidFill>
                  <a:srgbClr val="26262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 NFA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     </a:t>
            </a: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The external sector (through changes in foreign exchange reserves) has an impact on Money Supply.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62626"/>
                </a:solidFill>
                <a:latin typeface="Verdana"/>
              </a:rPr>
              <a:t>      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388E-B169-4BF5-ADA5-1922CA7D2C2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Flèche droite 1"/>
          <p:cNvSpPr/>
          <p:nvPr/>
        </p:nvSpPr>
        <p:spPr>
          <a:xfrm>
            <a:off x="539640" y="5084640"/>
            <a:ext cx="1368360" cy="21600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lèche droite 2"/>
          <p:cNvSpPr/>
          <p:nvPr/>
        </p:nvSpPr>
        <p:spPr>
          <a:xfrm>
            <a:off x="436680" y="4437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560" y="1125360"/>
            <a:ext cx="881676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Verdana"/>
              </a:rPr>
              <a:t>Monetary aggregat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o (Monetary base= currency in circulation + reserves of commercial banks at the CB );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1 (currency, checkable (or demand) deposit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2 (M1 + savings deposits, time deposits, money market funds);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M3 (M2 + special time deposi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The Monetary base is controlled by the Central Ban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1, M2, and M3 are not fully controlled by the CB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Multiplier = M2/Mo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43164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Verdana"/>
              </a:rPr>
              <a:t>Money Velocity = GDP/M2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560-BF29-45A8-B391-3366C0DBBC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E90-016D-404A-8F83-9C5924CB02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ZoneTexte 4"/>
          <p:cNvSpPr/>
          <p:nvPr/>
        </p:nvSpPr>
        <p:spPr>
          <a:xfrm>
            <a:off x="224280" y="549360"/>
            <a:ext cx="37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624"/>
                </a:solidFill>
                <a:latin typeface="Verdana"/>
              </a:rPr>
              <a:t>Cambodia, Monetary surve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Titre 1"/>
          <p:cNvSpPr/>
          <p:nvPr/>
        </p:nvSpPr>
        <p:spPr>
          <a:xfrm>
            <a:off x="6804000" y="0"/>
            <a:ext cx="23749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892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onetary Sector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239760" y="6381720"/>
            <a:ext cx="37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f5494"/>
                </a:solidFill>
                <a:latin typeface="Verdana"/>
              </a:rPr>
              <a:t>Source: IMF, 2016,Article IV report, Cambod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1"/>
          <a:stretch/>
        </p:blipFill>
        <p:spPr>
          <a:xfrm>
            <a:off x="2490840" y="1413000"/>
            <a:ext cx="55008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Anne Epaulard</cp:lastModifiedBy>
  <cp:lastPrinted>2015-06-02T09:44:00Z</cp:lastPrinted>
  <dcterms:modified xsi:type="dcterms:W3CDTF">2017-05-02T15:14:58Z</dcterms:modified>
  <cp:revision>223</cp:revision>
  <dc:subject/>
  <dc:title>Slide 1</dc:title>
</cp:coreProperties>
</file>