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92ED8-41F4-49AD-A219-C87921AA0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06419-74C6-4C41-851A-729A2DF5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C8984-3602-407B-91D5-600EEBC50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05211-009A-4A7C-BBD9-80A8C3B48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746D8-C255-452A-B6AC-E9D52D661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FEA42-5074-4EF6-967E-679A30B87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3D793-E617-4149-90B6-5BD770A3B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99D80-CD1F-4465-9C29-6FA132961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3513F-BFD8-4CB5-BF07-345AA8017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EDCFC-9114-40E7-B7DA-C7BF70B1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9699A-38C2-41A6-8DE1-B691FF9C8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31DC-3B89-4E8E-8D42-55E7FE9F1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71D0F-7AD1-4429-BEF1-4A85E2DE4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2A4C7-1396-4BAC-832F-D22908BDC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3DAC4-E9DC-47B1-9914-B03C9AA81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4E3CF-A609-4829-8E5F-5DB6CA72E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2CAC7-12F3-48A7-B68D-F842EE5CB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D16DB-CDD4-44CB-8DC2-E4859454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6D27-3AB8-4765-8986-BEB313BD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2D264-8265-4B9C-9FB2-781DCB94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1E7C-1A1F-4F75-A008-E2673F3DD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3085-9791-4A69-93AB-B2A42682E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79F5-2B51-4400-8CAF-0E56DAEE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91E0E-B043-4E16-B2EC-0EED46EF7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7F69-38AD-48D9-BE9F-B3EE89B3FDD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A4FA-A432-416A-8281-86BDC537C37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89"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Overview </a:t>
            </a:r>
            <a:endParaRPr b="0" i="1" lang="en-US" sz="3000" spc="-1" strike="noStrike">
              <a:solidFill>
                <a:srgbClr val="0f5494"/>
              </a:solidFill>
              <a:latin typeface="Verdana"/>
            </a:endParaRPr>
          </a:p>
        </p:txBody>
      </p:sp>
      <p:sp>
        <p:nvSpPr>
          <p:cNvPr id="9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BA6F-676D-4B7D-BCD8-19979B9FAE54}"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196640"/>
            <a:ext cx="91440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1 : Long and complete lecture on financial programming. Contains the elements needed to understand the short and medium run economic challenges of an economy. Also very useful to be able to read any IMF Article 4 repor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2 : </a:t>
            </a:r>
            <a:r>
              <a:rPr b="1" lang="en-CA" sz="2400" spc="-1" strike="noStrike">
                <a:solidFill>
                  <a:srgbClr val="0f5494"/>
                </a:solidFill>
                <a:latin typeface="Verdana"/>
              </a:rPr>
              <a:t>Morning Lecture </a:t>
            </a:r>
            <a:r>
              <a:rPr b="0" lang="en-CA" sz="2400" spc="-1" strike="noStrike">
                <a:solidFill>
                  <a:srgbClr val="0f5494"/>
                </a:solidFill>
                <a:latin typeface="Verdana"/>
              </a:rPr>
              <a:t>on how to use macroeconomic indicators on a country to write a “Macroeconomic Assessment” and fill up a “Risk Management Framework”.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3: </a:t>
            </a:r>
            <a:r>
              <a:rPr b="1" lang="en-CA" sz="2400" spc="-1" strike="noStrike">
                <a:solidFill>
                  <a:srgbClr val="0f5494"/>
                </a:solidFill>
                <a:latin typeface="Verdana"/>
              </a:rPr>
              <a:t>2 Morning lectures </a:t>
            </a:r>
            <a:r>
              <a:rPr b="0" lang="en-CA" sz="2400" spc="-1" strike="noStrike">
                <a:solidFill>
                  <a:srgbClr val="0f5494"/>
                </a:solidFill>
                <a:latin typeface="Verdana"/>
              </a:rPr>
              <a:t>(Bretton Woods Institutions ; Financial sector indicators).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4D5D-E665-4176-B4CB-0981E1AD13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6-02T09:44:00Z</cp:lastPrinted>
  <dcterms:modified xsi:type="dcterms:W3CDTF">2016-06-23T12:18:48Z</dcterms:modified>
  <cp:revision>234</cp:revision>
  <dc:subject/>
  <dc:title>Slide 1</dc:title>
</cp:coreProperties>
</file>