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AF47E-C9A8-471C-A680-1E72771C55C2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8A3DB-4BB2-49BB-BA79-0FADE1F3A4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03E88-787E-44DA-9418-55D9801A2E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4104D-7884-4239-A4D2-2BADA967F3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89CC9-7C79-4A04-B792-9D1EFA853E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28AC3-4F7F-4679-8BF4-341128D3BE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DC285-24E6-4A12-8324-A750F49E3C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e Section 6.4 of UNDP-UNEP (20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D7025-73F9-4766-ADAE-B124AFC5A0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 national level, a high-level formal or informal climate change coordinating structure can support the overall response – but should catalyse it rather than act as a substitute for action by other government ag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ntral body with a coordination mandate and decision-making power over line ministries, in particular with regard to budget alloc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.g. Office of the President or Prime Minister, Ministry of Finance, Ministry of Planning or equiva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296C8-9A83-4C85-8074-8F1A963EE6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6F450-401D-45F6-B4F0-E180E2C56E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D892D-0D62-4EE0-8F6F-A22EC697A6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73CBC-D1CA-4D1D-B477-A2F2FFB8E7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64895-A078-4259-990E-666EBA9D85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C9A39-EACA-4CFA-A564-ABDFDA96B4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19B50-AB8F-4F6B-A5FF-F7246B0F88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3E506-25D6-47A8-BDF8-1F41D1514B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DE987-4C9C-403F-8999-AF1B57E60B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DP (2011: 72) A NCSA is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country-drive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locally adap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consultativ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process that aims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review global environment issues that require priority att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determine how capacity development could strengthen management of these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prepare a national action plan for capacity developmen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 national capacity self-assessments and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ulnerability and capacity assessments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see UNDP-UNEP (2010)  pp. 32-3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64D5E-9B40-42A9-891F-30ABA4C4C1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AB6FC-6486-46B4-9AC8-F86111A349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See UNDP-UNEP (2009) page 7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743B4-349C-4F62-B534-8B3F782CA0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7E94B-6917-4C52-8322-4B39A3FD1C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links between the environment and sectoral performance have been addressed in Module 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rformance of the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vironmen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sector tends to be underfunded: for example, in Lesotho (2012) the Department of Environment is under the Ministry of Tourism and Environment. The whole Ministry receives about 0.16% of the budget allocated to line ministries, and only a small fraction of that is for the Department of Environment, as the Ministry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 main tasks are oriented to promotion of tour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ften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ns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under the environment sector do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 get implemented because of lack of funding. If other sectors do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 assume responsibility for their environmental dimension, there are very limited options to address the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69164-CFCF-4C47-B24B-3C2E49EEF8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59EED-AB99-42F2-A6DE-BCE7F788D6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lal-Clayton &amp; Bass 2009: Outcomes of mainstrea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Participation and democratic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Policy and political 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Planning 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Budget 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Institutional and capacity 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Investment 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Behavioural 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Developmental imp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4FA35-523F-4CB5-A4AE-0950E37500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847C8-1807-499D-B090-247BA4F293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0E893-9798-49AD-AA00-B5CE46148E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D6F0-23E0-454C-8034-631639433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0EEE-3CC0-4D55-A58F-27AF8B743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9246-63F2-4141-8C1D-B761E49CF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59F3-AB2A-4023-9967-93B472FCB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8366D-3361-40E3-80F5-ED0135BAB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8A84F-8DCF-46E2-A1A2-F56E95973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97F15-4953-4960-B9C7-B7B0A3628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818B1-7AE5-48E0-BC23-068635DCD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37FED-8FD0-4009-8A2F-806A8A933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23E59-0A05-4090-9712-BB06FA256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01C76-4B95-4910-9009-08A3A3DB9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E46D-336D-4E30-ABDF-D32D00B8D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BF0D0-5347-43DF-BD5F-FF2541090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35E9F-876E-4AB9-BE48-25E5B2C57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F4835-B69D-432B-B6ED-4CBA7277E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E9E8C-7819-44A5-BDE7-6ED7101F4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707D3-32F5-48ED-A461-170ACAD5C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D37C-C3A3-42D4-9C16-5DC791DFF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AB77-A614-49FF-9F70-B46E362F5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1C64-3483-475D-85CC-99BC0BC00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5A1D-6A9C-47DB-B495-426821836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7DD5-0014-45D3-A481-10FF72A19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E0E2-636B-4CC1-BFCE-275E943A8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54F9-57A1-47A6-9DC5-E7508B0D9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728DB-5754-4C57-B507-DFE93854F9E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6069E-32AF-492E-B47A-971B12E1E5E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undp.org/mainstreaming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environmental-mainstreaming.org/key-lit.html" TargetMode="External"/><Relationship Id="rId2" Type="http://schemas.openxmlformats.org/officeDocument/2006/relationships/hyperlink" Target="http://www.undp.org/climatechange/docs/English/UNDP_Adaptation_final.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3280" y="2924280"/>
            <a:ext cx="864072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d624"/>
                </a:solidFill>
                <a:latin typeface="Arial Black"/>
              </a:rPr>
              <a:t>Module 2</a:t>
            </a:r>
            <a:br>
              <a:rPr sz="3200"/>
            </a:br>
            <a:r>
              <a:rPr b="1" lang="en-GB" sz="3200" spc="-1" strike="noStrike">
                <a:solidFill>
                  <a:srgbClr val="ffd624"/>
                </a:solidFill>
                <a:latin typeface="Arial Black"/>
              </a:rPr>
              <a:t>Mainstreaming and strengthening institutions and capacities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11280" y="4723920"/>
            <a:ext cx="853272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Country-led environmental and climate change mainstreaming</a:t>
            </a:r>
            <a:endParaRPr b="0" i="1" lang="en-US" sz="25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56840" y="2514240"/>
            <a:ext cx="8534520" cy="167652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Strengthening institutions and capacities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5139D-E3F3-4D59-B7E4-5E8813298D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981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Key institutional requirements for effective mainstreaming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6" name="TextBox 4"/>
          <p:cNvSpPr/>
          <p:nvPr/>
        </p:nvSpPr>
        <p:spPr>
          <a:xfrm>
            <a:off x="3419640" y="3243240"/>
            <a:ext cx="2304720" cy="672840"/>
          </a:xfrm>
          <a:prstGeom prst="rect">
            <a:avLst/>
          </a:prstGeom>
          <a:solidFill>
            <a:srgbClr val="92d050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2060"/>
                </a:solidFill>
                <a:latin typeface="Verdana"/>
              </a:rPr>
              <a:t>Effective mainstreaming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" name="Rounded Rectangular Callout 5"/>
          <p:cNvSpPr/>
          <p:nvPr/>
        </p:nvSpPr>
        <p:spPr>
          <a:xfrm>
            <a:off x="334800" y="1535040"/>
            <a:ext cx="1981440" cy="1371600"/>
          </a:xfrm>
          <a:prstGeom prst="wedgeRoundRectCallout">
            <a:avLst>
              <a:gd name="adj1" fmla="val 115361"/>
              <a:gd name="adj2" fmla="val 70152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Cross-sectoral &amp; cross-level coordination, cooperation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Rounded Rectangular Callout 6"/>
          <p:cNvSpPr/>
          <p:nvPr/>
        </p:nvSpPr>
        <p:spPr>
          <a:xfrm>
            <a:off x="3306600" y="1306440"/>
            <a:ext cx="1905120" cy="1067040"/>
          </a:xfrm>
          <a:prstGeom prst="wedgeRoundRectCallout">
            <a:avLst>
              <a:gd name="adj1" fmla="val 21203"/>
              <a:gd name="adj2" fmla="val 118236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Powerful champions at national level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Rounded Rectangular Callout 7"/>
          <p:cNvSpPr/>
          <p:nvPr/>
        </p:nvSpPr>
        <p:spPr>
          <a:xfrm>
            <a:off x="6659640" y="1916280"/>
            <a:ext cx="1981080" cy="2057400"/>
          </a:xfrm>
          <a:prstGeom prst="wedgeRoundRectCallout">
            <a:avLst>
              <a:gd name="adj1" fmla="val -98763"/>
              <a:gd name="adj2" fmla="val 18055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Integration of new thinking, new research in planning &amp; monitoring systems &amp; process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0" name="Rounded Rectangular Callout 8"/>
          <p:cNvSpPr/>
          <p:nvPr/>
        </p:nvSpPr>
        <p:spPr>
          <a:xfrm>
            <a:off x="487440" y="3821040"/>
            <a:ext cx="1981080" cy="1524240"/>
          </a:xfrm>
          <a:prstGeom prst="wedgeRoundRectCallout">
            <a:avLst>
              <a:gd name="adj1" fmla="val 107791"/>
              <a:gd name="adj2" fmla="val -63949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Experience sharing, dissemination of good practic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" name="Rounded Rectangular Callout 9"/>
          <p:cNvSpPr/>
          <p:nvPr/>
        </p:nvSpPr>
        <p:spPr>
          <a:xfrm>
            <a:off x="3002040" y="4888080"/>
            <a:ext cx="2057400" cy="1371600"/>
          </a:xfrm>
          <a:prstGeom prst="wedgeRoundRectCallout">
            <a:avLst>
              <a:gd name="adj1" fmla="val 18453"/>
              <a:gd name="adj2" fmla="val -129851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Timely stakeholder participation at various scal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Rounded Rectangular Callout 10"/>
          <p:cNvSpPr/>
          <p:nvPr/>
        </p:nvSpPr>
        <p:spPr>
          <a:xfrm>
            <a:off x="5973840" y="4811760"/>
            <a:ext cx="2057400" cy="1371600"/>
          </a:xfrm>
          <a:prstGeom prst="wedgeRoundRectCallout">
            <a:avLst>
              <a:gd name="adj1" fmla="val -85004"/>
              <a:gd name="adj2" fmla="val -120013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Strengthening of capacities of stakeholders at various scal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" name="Rectangular Callout 11"/>
          <p:cNvSpPr/>
          <p:nvPr/>
        </p:nvSpPr>
        <p:spPr>
          <a:xfrm>
            <a:off x="5334120" y="1066680"/>
            <a:ext cx="3047760" cy="914400"/>
          </a:xfrm>
          <a:prstGeom prst="wedgeRectCallout">
            <a:avLst>
              <a:gd name="adj1" fmla="val -63527"/>
              <a:gd name="adj2" fmla="val 11472"/>
            </a:avLst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060"/>
                </a:solidFill>
                <a:latin typeface="Verdana"/>
              </a:rPr>
              <a:t>e.g. office of prime minister, ministries of finance/budget/planning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4" name="Slide Number Placeholder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E5DDC-2209-452F-9902-A5BCBC5834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Roles of main stakeholder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250920" y="1052640"/>
          <a:ext cx="8750160" cy="5321160"/>
        </p:xfrm>
        <a:graphic>
          <a:graphicData uri="http://schemas.openxmlformats.org/drawingml/2006/table">
            <a:tbl>
              <a:tblPr/>
              <a:tblGrid>
                <a:gridCol w="2881080"/>
                <a:gridCol w="58690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akeholder group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in roles &amp; responsibilit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ntral government (incl. office of prime minister, line ministries, DRR authorities)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adership, performance management framework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licies, standards &amp; regulation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location of budget resourc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uidance &amp; capacity building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Parliament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Leverage, advocacy (especially for budgeting)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National Statistics Office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Development and monitoring of indicator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cal government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lementation of national polic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gration with local-level strateg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vate sector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paration for losses &amp; opportunities, risk mgmt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ribution to sustainable investments &amp; vulnerability reduction through development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cientific &amp; academic organisation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licy-oriented research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pport for decision making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vestment promotion agenc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‘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ean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’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investments; climate-proofing of investments, bridging of development gap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verty reduction organisation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vironment and climate change adequately addressed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</a:tbl>
          </a:graphicData>
        </a:graphic>
      </p:graphicFrame>
      <p:sp>
        <p:nvSpPr>
          <p:cNvPr id="16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3CB41-7B6B-4A5B-8907-581484CDDB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TextBox 4"/>
          <p:cNvSpPr/>
          <p:nvPr/>
        </p:nvSpPr>
        <p:spPr>
          <a:xfrm>
            <a:off x="179280" y="6362640"/>
            <a:ext cx="396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Schipper et al (2008) and UNDP-UNEP (2009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Roles of main stakeholders (2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50920" y="1052640"/>
          <a:ext cx="8750160" cy="2597040"/>
        </p:xfrm>
        <a:graphic>
          <a:graphicData uri="http://schemas.openxmlformats.org/drawingml/2006/table">
            <a:tbl>
              <a:tblPr/>
              <a:tblGrid>
                <a:gridCol w="2881080"/>
                <a:gridCol w="58690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akeholder group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in roles &amp; responsibilit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ivil Society Organisation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ke use of their expertise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lp reflect local realit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formation collection, awareness raising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atchdog role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Media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Awareness raising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Reach out to community level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General public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Grass-roots level knowledge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Integrate voices of the poorest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71" name="TextBox 4"/>
          <p:cNvSpPr/>
          <p:nvPr/>
        </p:nvSpPr>
        <p:spPr>
          <a:xfrm>
            <a:off x="179280" y="6308640"/>
            <a:ext cx="396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Schipper et al (2008) and UNDP-UNEP (2009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957C9-9530-46A5-A9B1-0641B465D2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f5494"/>
                </a:solidFill>
                <a:latin typeface="Verdana"/>
              </a:rPr>
              <a:t>Possible entry points for environmental mainstreaming in national development planning</a:t>
            </a:r>
            <a:endParaRPr b="1" lang="en-US" sz="27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8604360" y="6381720"/>
            <a:ext cx="539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142E7-349A-46BA-915A-1A15C970D0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250920" y="2565360"/>
          <a:ext cx="8534160" cy="3814920"/>
        </p:xfrm>
        <a:graphic>
          <a:graphicData uri="http://schemas.openxmlformats.org/drawingml/2006/table">
            <a:tbl>
              <a:tblPr/>
              <a:tblGrid>
                <a:gridCol w="2286000"/>
                <a:gridCol w="624816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anning Level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ntry Point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554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tional government and cross-sector ministr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verty reduction strategy paper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tional development plan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DG-based national development strategy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tional budget allocation process or review (e.g. medium-term expenditure framework, public expenditure review)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ctor ministr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ctor strategies, plans and policies (e.g. agriculture sector plan)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paration of sector budget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ublic expenditure review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822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b-national authorit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centralisation polic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trict plan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paration of subnational budget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  <p:sp>
        <p:nvSpPr>
          <p:cNvPr id="176" name="TextBox 4"/>
          <p:cNvSpPr/>
          <p:nvPr/>
        </p:nvSpPr>
        <p:spPr>
          <a:xfrm>
            <a:off x="4572000" y="655020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EP-UNDP (2009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456840" y="2514240"/>
            <a:ext cx="8534520" cy="167652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Principles for institutionalising </a:t>
            </a:r>
            <a:br>
              <a:rPr sz="2800"/>
            </a:b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mainstreaming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4419720" y="4343400"/>
            <a:ext cx="46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DP-UNEP (2009, 2011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6014D-D97B-4827-96CD-5D9FA4FB18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1339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Institutional and capacity strengthening (1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2565000"/>
            <a:ext cx="8534160" cy="41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Move coordination to a central body with a coordination mandate and decision-making power over line ministri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For example, in the case of climate change: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China: National Development &amp; Reform Commission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Kenya: Office of the Presiden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For example, in the case of environment: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Sierra Leone: EPA under the Office of the Presiden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Malawi: Steering Committee on Natural Resource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D26B8-EC21-4B48-8198-A9106E5769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3" name="TextBox 4"/>
          <p:cNvSpPr/>
          <p:nvPr/>
        </p:nvSpPr>
        <p:spPr>
          <a:xfrm>
            <a:off x="3886200" y="647712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DP-UNEP (2011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1339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Institutional and capacity strengthening (2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2420640"/>
            <a:ext cx="837072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Establish/strengthen coordination mechanisms, with clear allocation of responsibilities and permanent arrangement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.g. for climate change, Mexico: Inter-Ministerial Commission on Climate Change (CICC) with dedicated working group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Build on pre-existing intersectoral coordination mechanisms wherever possibl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.g. for food security, DRR, sustainable land management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F7EB0-35EF-4778-BBE8-5B81BF20A4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7" name="TextBox 4"/>
          <p:cNvSpPr/>
          <p:nvPr/>
        </p:nvSpPr>
        <p:spPr>
          <a:xfrm>
            <a:off x="3886200" y="647712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DP-UNEP (2011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1339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Institutional and capacity strengthening (3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2707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Institutionalise flexibility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.g. commitment to regular policy/strategy revisions and reassessment of available knowledg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Institutionalise mainstreaming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nvironment and climate change mitigation/adaptatio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.g. in guidelines, procedures, systems, environmental screening for SEA and EIA, etc.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90B69-C17C-4C35-B327-E33C2FF027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1" name="TextBox 4"/>
          <p:cNvSpPr/>
          <p:nvPr/>
        </p:nvSpPr>
        <p:spPr>
          <a:xfrm>
            <a:off x="3924360" y="655020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DP-UNEP (2011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1339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Institutional and capacity strengthening (4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Develop effective national–local coordination mechanisms, identifying the most suitable level at which to cooperate/coordinat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.g. Rwanda: annual performance contracts between various levels of government, with clear definition of goals, indicators and activiti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Strengthen institutions at the sub-national level, matching the transfer of competences with the transfer of resourc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CAA1D-EEB7-4EBD-B97A-E30FB3829C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5" name="TextBox 4"/>
          <p:cNvSpPr/>
          <p:nvPr/>
        </p:nvSpPr>
        <p:spPr>
          <a:xfrm>
            <a:off x="3886200" y="647712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DP-UNEP (2011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250920" y="2492280"/>
            <a:ext cx="8534160" cy="187344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 fontScale="93000"/>
          </a:bodyPr>
          <a:p>
            <a:pPr marL="318960" indent="-31896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What is mainstreaming, </a:t>
            </a:r>
            <a:br>
              <a:rPr sz="2800"/>
            </a:b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 why mainstream environment and climate change?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C0F7B-D502-4B41-AE0C-06ABFBB15D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3F08C-5685-4FC9-9EB9-CC71A97CF9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97" name="Picture 4" descr="C:\Documents and Settings\Carlos Soria\My Documents\My Pictures\Alto Huallaga Tingo Maria Monzon Alto Bella julio 23, 2003\IM001873.JPG"/>
          <p:cNvPicPr/>
          <p:nvPr/>
        </p:nvPicPr>
        <p:blipFill>
          <a:blip r:embed="rId1"/>
          <a:stretch/>
        </p:blipFill>
        <p:spPr>
          <a:xfrm>
            <a:off x="0" y="0"/>
            <a:ext cx="91296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Box 5"/>
          <p:cNvSpPr/>
          <p:nvPr/>
        </p:nvSpPr>
        <p:spPr>
          <a:xfrm>
            <a:off x="439560" y="6396120"/>
            <a:ext cx="855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Source: Soria (2005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08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Local capaciti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24000" y="2491920"/>
            <a:ext cx="8534160" cy="167652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Tools and actions for supporting institutional and capacity strengthening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1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959D9-0992-44DE-9928-019ADD4624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981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Steps in institutional and capacity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strengthening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3" name="Slide Number Placeholder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78C3B-6E87-4416-830C-DF9C8F16EC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4" name="TextBox 4"/>
          <p:cNvSpPr/>
          <p:nvPr/>
        </p:nvSpPr>
        <p:spPr>
          <a:xfrm>
            <a:off x="3886200" y="647712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DP-UNEP (2009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5" name="Rounded Rectangle 12"/>
          <p:cNvSpPr/>
          <p:nvPr/>
        </p:nvSpPr>
        <p:spPr>
          <a:xfrm>
            <a:off x="609480" y="1684440"/>
            <a:ext cx="2519640" cy="1042920"/>
          </a:xfrm>
          <a:prstGeom prst="roundRect">
            <a:avLst>
              <a:gd name="adj" fmla="val 16667"/>
            </a:avLst>
          </a:prstGeom>
          <a:solidFill>
            <a:srgbClr val="bdde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Needs assessment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6" name="Rounded Rectangle 13"/>
          <p:cNvSpPr/>
          <p:nvPr/>
        </p:nvSpPr>
        <p:spPr>
          <a:xfrm>
            <a:off x="609480" y="3962520"/>
            <a:ext cx="2519640" cy="1044360"/>
          </a:xfrm>
          <a:prstGeom prst="roundRect">
            <a:avLst>
              <a:gd name="adj" fmla="val 16667"/>
            </a:avLst>
          </a:prstGeom>
          <a:solidFill>
            <a:srgbClr val="bdde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Learning by doing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7" name="Rounded Rectangle 14"/>
          <p:cNvSpPr/>
          <p:nvPr/>
        </p:nvSpPr>
        <p:spPr>
          <a:xfrm>
            <a:off x="609480" y="2819520"/>
            <a:ext cx="2519640" cy="1044360"/>
          </a:xfrm>
          <a:prstGeom prst="roundRect">
            <a:avLst>
              <a:gd name="adj" fmla="val 16667"/>
            </a:avLst>
          </a:prstGeom>
          <a:solidFill>
            <a:srgbClr val="bdde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Working mechanism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8" name="Rounded Rectangle 15"/>
          <p:cNvSpPr/>
          <p:nvPr/>
        </p:nvSpPr>
        <p:spPr>
          <a:xfrm>
            <a:off x="609480" y="5432400"/>
            <a:ext cx="2519640" cy="1044720"/>
          </a:xfrm>
          <a:prstGeom prst="roundRect">
            <a:avLst>
              <a:gd name="adj" fmla="val 16667"/>
            </a:avLst>
          </a:prstGeom>
          <a:solidFill>
            <a:srgbClr val="bdde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Mainstreaming as standard practice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9" name="Rounded Rectangle 16"/>
          <p:cNvSpPr/>
          <p:nvPr/>
        </p:nvSpPr>
        <p:spPr>
          <a:xfrm>
            <a:off x="3576600" y="1684440"/>
            <a:ext cx="2651040" cy="104292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5494"/>
                </a:solidFill>
                <a:latin typeface="Verdana"/>
              </a:rPr>
              <a:t>National capacity self-assessment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0" name="Rounded Rectangle 17"/>
          <p:cNvSpPr/>
          <p:nvPr/>
        </p:nvSpPr>
        <p:spPr>
          <a:xfrm>
            <a:off x="3576600" y="2819520"/>
            <a:ext cx="2651040" cy="104436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f5494"/>
                </a:solidFill>
                <a:latin typeface="Verdana"/>
              </a:rPr>
              <a:t>Inst</a:t>
            </a:r>
            <a:r>
              <a:rPr b="1" lang="ja-JP" sz="14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1" lang="en-GB" sz="1400" spc="-1" strike="noStrike">
                <a:solidFill>
                  <a:srgbClr val="0f5494"/>
                </a:solidFill>
                <a:latin typeface="Verdana"/>
              </a:rPr>
              <a:t>l arrangement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f5494"/>
                </a:solidFill>
                <a:latin typeface="Verdana"/>
              </a:rPr>
              <a:t>Management framework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f5494"/>
                </a:solidFill>
                <a:latin typeface="Verdana"/>
              </a:rPr>
              <a:t>Work plan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1" name="Rounded Rectangle 18"/>
          <p:cNvSpPr/>
          <p:nvPr/>
        </p:nvSpPr>
        <p:spPr>
          <a:xfrm>
            <a:off x="3576600" y="3962520"/>
            <a:ext cx="2651040" cy="104436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5494"/>
                </a:solidFill>
                <a:latin typeface="Verdana"/>
              </a:rPr>
              <a:t>Training, exchange visits, on-the-job learning, lesson learning/dissemination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12" name="Straight Arrow Connector 20"/>
          <p:cNvCxnSpPr>
            <a:stCxn id="209" idx="1"/>
            <a:endCxn id="205" idx="3"/>
          </p:cNvCxnSpPr>
          <p:nvPr/>
        </p:nvCxnSpPr>
        <p:spPr>
          <a:xfrm flipH="1">
            <a:off x="3128400" y="2204640"/>
            <a:ext cx="448200" cy="1080"/>
          </a:xfrm>
          <a:prstGeom prst="straightConnector1">
            <a:avLst/>
          </a:prstGeom>
          <a:ln w="28440">
            <a:solidFill>
              <a:srgbClr val="0f5494"/>
            </a:solidFill>
            <a:miter/>
            <a:tailEnd len="med" type="arrow" w="med"/>
          </a:ln>
        </p:spPr>
      </p:cxnSp>
      <p:cxnSp>
        <p:nvCxnSpPr>
          <p:cNvPr id="213" name="Straight Arrow Connector 21"/>
          <p:cNvCxnSpPr>
            <a:stCxn id="210" idx="1"/>
            <a:endCxn id="207" idx="3"/>
          </p:cNvCxnSpPr>
          <p:nvPr/>
        </p:nvCxnSpPr>
        <p:spPr>
          <a:xfrm flipH="1">
            <a:off x="3128400" y="3341160"/>
            <a:ext cx="448200" cy="1080"/>
          </a:xfrm>
          <a:prstGeom prst="straightConnector1">
            <a:avLst/>
          </a:prstGeom>
          <a:ln w="28440">
            <a:solidFill>
              <a:srgbClr val="0f5494"/>
            </a:solidFill>
            <a:miter/>
            <a:tailEnd len="med" type="arrow" w="med"/>
          </a:ln>
        </p:spPr>
      </p:cxnSp>
      <p:cxnSp>
        <p:nvCxnSpPr>
          <p:cNvPr id="214" name="Straight Arrow Connector 22"/>
          <p:cNvCxnSpPr>
            <a:stCxn id="211" idx="1"/>
            <a:endCxn id="206" idx="3"/>
          </p:cNvCxnSpPr>
          <p:nvPr/>
        </p:nvCxnSpPr>
        <p:spPr>
          <a:xfrm flipH="1">
            <a:off x="3128400" y="4484160"/>
            <a:ext cx="448200" cy="1080"/>
          </a:xfrm>
          <a:prstGeom prst="straightConnector1">
            <a:avLst/>
          </a:prstGeom>
          <a:ln w="28440">
            <a:solidFill>
              <a:srgbClr val="0f5494"/>
            </a:solidFill>
            <a:miter/>
            <a:tailEnd len="med" type="arrow" w="med"/>
          </a:ln>
        </p:spPr>
      </p:cxnSp>
      <p:cxnSp>
        <p:nvCxnSpPr>
          <p:cNvPr id="215" name="Straight Arrow Connector 27"/>
          <p:cNvCxnSpPr>
            <a:stCxn id="206" idx="2"/>
            <a:endCxn id="208" idx="0"/>
          </p:cNvCxnSpPr>
          <p:nvPr/>
        </p:nvCxnSpPr>
        <p:spPr>
          <a:xfrm flipH="1">
            <a:off x="1867680" y="5006880"/>
            <a:ext cx="2520" cy="427680"/>
          </a:xfrm>
          <a:prstGeom prst="straightConnector1">
            <a:avLst/>
          </a:prstGeom>
          <a:ln w="2844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216" name="Elbow Connector 31"/>
          <p:cNvCxnSpPr>
            <a:stCxn id="208" idx="1"/>
            <a:endCxn id="205" idx="1"/>
          </p:cNvCxnSpPr>
          <p:nvPr/>
        </p:nvCxnSpPr>
        <p:spPr>
          <a:xfrm rot="10800000">
            <a:off x="608760" y="2204280"/>
            <a:ext cx="2520" cy="3750480"/>
          </a:xfrm>
          <a:prstGeom prst="bentConnector3">
            <a:avLst>
              <a:gd name="adj1" fmla="val 14383333"/>
            </a:avLst>
          </a:prstGeom>
          <a:ln w="28440">
            <a:solidFill>
              <a:srgbClr val="002060"/>
            </a:solidFill>
            <a:prstDash val="dash"/>
            <a:miter/>
            <a:tailEnd len="med" type="arrow" w="med"/>
          </a:ln>
        </p:spPr>
      </p:cxnSp>
      <p:sp>
        <p:nvSpPr>
          <p:cNvPr id="217" name="Straight Connector 33"/>
          <p:cNvSpPr/>
          <p:nvPr/>
        </p:nvSpPr>
        <p:spPr>
          <a:xfrm>
            <a:off x="1870200" y="2727360"/>
            <a:ext cx="0" cy="9216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8" name="Straight Connector 35"/>
          <p:cNvSpPr/>
          <p:nvPr/>
        </p:nvSpPr>
        <p:spPr>
          <a:xfrm>
            <a:off x="1870200" y="3863880"/>
            <a:ext cx="0" cy="9864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9" name="Rounded Rectangle 19"/>
          <p:cNvSpPr/>
          <p:nvPr/>
        </p:nvSpPr>
        <p:spPr>
          <a:xfrm>
            <a:off x="6588000" y="1687680"/>
            <a:ext cx="2016360" cy="104436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5494"/>
                </a:solidFill>
                <a:latin typeface="Verdana"/>
              </a:rPr>
              <a:t>Stakeholder analysi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20" name="Straight Arrow Connector 23"/>
          <p:cNvCxnSpPr>
            <a:stCxn id="219" idx="1"/>
          </p:cNvCxnSpPr>
          <p:nvPr/>
        </p:nvCxnSpPr>
        <p:spPr>
          <a:xfrm flipH="1" flipV="1">
            <a:off x="6165000" y="2204280"/>
            <a:ext cx="423000" cy="5400"/>
          </a:xfrm>
          <a:prstGeom prst="straightConnector1">
            <a:avLst/>
          </a:prstGeom>
          <a:ln w="28440">
            <a:solidFill>
              <a:srgbClr val="0f5494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1339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Needs assessment: capacity development for whom, for what?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249192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Capacity development (CD) should take place </a:t>
            </a:r>
            <a:br>
              <a:rPr sz="2400"/>
            </a:b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at three complementary levels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e 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‘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nabling environment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 or 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‘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system level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 (overall institutional level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e organisation level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e individual level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E9CE0-FE26-4C4B-87CD-8A9D2F5EAD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4" name="Cloud Callout 4"/>
          <p:cNvSpPr/>
          <p:nvPr/>
        </p:nvSpPr>
        <p:spPr>
          <a:xfrm>
            <a:off x="3924360" y="4076640"/>
            <a:ext cx="4876920" cy="1874880"/>
          </a:xfrm>
          <a:prstGeom prst="cloudCallout">
            <a:avLst>
              <a:gd name="adj1" fmla="val -29435"/>
              <a:gd name="adj2" fmla="val -75777"/>
            </a:avLst>
          </a:prstGeom>
          <a:solidFill>
            <a:srgbClr val="0f5494"/>
          </a:solidFill>
          <a:ln w="255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Start by determining: </a:t>
            </a:r>
            <a:r>
              <a:rPr b="1" lang="ja-JP" sz="1600" spc="-1" strike="noStrike">
                <a:solidFill>
                  <a:srgbClr val="92d050"/>
                </a:solidFill>
                <a:latin typeface="Verdana"/>
              </a:rPr>
              <a:t>‘</a:t>
            </a:r>
            <a:r>
              <a:rPr b="1" lang="en-GB" sz="1600" spc="-1" strike="noStrike">
                <a:solidFill>
                  <a:srgbClr val="92d050"/>
                </a:solidFill>
                <a:latin typeface="Verdana"/>
              </a:rPr>
              <a:t>Capacity development for what?</a:t>
            </a:r>
            <a:r>
              <a:rPr b="1" lang="ja-JP" sz="1600" spc="-1" strike="noStrike">
                <a:solidFill>
                  <a:srgbClr val="92d050"/>
                </a:solidFill>
                <a:latin typeface="Verdana"/>
              </a:rPr>
              <a:t>’</a:t>
            </a:r>
            <a:r>
              <a:rPr b="1" lang="en-GB" sz="1600" spc="-1" strike="noStrike">
                <a:solidFill>
                  <a:srgbClr val="92d050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-&gt; Define specific objectiv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5" name="TextBox 4"/>
          <p:cNvSpPr/>
          <p:nvPr/>
        </p:nvSpPr>
        <p:spPr>
          <a:xfrm>
            <a:off x="3886200" y="647712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DP (2011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Needs assessment: stakeholders</a:t>
            </a:r>
            <a:r>
              <a:rPr b="1" lang="ja-JP" sz="30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CD needs for mainstreaming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7" name="TextBox 4"/>
          <p:cNvSpPr/>
          <p:nvPr/>
        </p:nvSpPr>
        <p:spPr>
          <a:xfrm>
            <a:off x="3708360" y="3243240"/>
            <a:ext cx="1800360" cy="9169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Verdana"/>
              </a:rPr>
              <a:t>Stakeholder capacity building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8" name="Rounded Rectangular Callout 5"/>
          <p:cNvSpPr/>
          <p:nvPr/>
        </p:nvSpPr>
        <p:spPr>
          <a:xfrm>
            <a:off x="471600" y="1752480"/>
            <a:ext cx="1600200" cy="1371600"/>
          </a:xfrm>
          <a:prstGeom prst="wedgeRoundRectCallout">
            <a:avLst>
              <a:gd name="adj1" fmla="val 153768"/>
              <a:gd name="adj2" fmla="val 75615"/>
              <a:gd name="adj3" fmla="val 1666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Information systems &amp; analytical skill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9" name="Rounded Rectangular Callout 6"/>
          <p:cNvSpPr/>
          <p:nvPr/>
        </p:nvSpPr>
        <p:spPr>
          <a:xfrm>
            <a:off x="3290760" y="1447920"/>
            <a:ext cx="1752840" cy="990360"/>
          </a:xfrm>
          <a:prstGeom prst="wedgeRoundRectCallout">
            <a:avLst>
              <a:gd name="adj1" fmla="val 22060"/>
              <a:gd name="adj2" fmla="val 131856"/>
              <a:gd name="adj3" fmla="val 1666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Planning &amp; prioritisation skill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0" name="Rounded Rectangular Callout 7"/>
          <p:cNvSpPr/>
          <p:nvPr/>
        </p:nvSpPr>
        <p:spPr>
          <a:xfrm>
            <a:off x="6567480" y="2209680"/>
            <a:ext cx="1981080" cy="1371600"/>
          </a:xfrm>
          <a:prstGeom prst="wedgeRoundRectCallout">
            <a:avLst>
              <a:gd name="adj1" fmla="val -101791"/>
              <a:gd name="adj2" fmla="val 39912"/>
              <a:gd name="adj3" fmla="val 1666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Participatory engagement &amp; empowerment skill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1" name="Rounded Rectangular Callout 8"/>
          <p:cNvSpPr/>
          <p:nvPr/>
        </p:nvSpPr>
        <p:spPr>
          <a:xfrm>
            <a:off x="395280" y="3962520"/>
            <a:ext cx="2133720" cy="1066680"/>
          </a:xfrm>
          <a:prstGeom prst="wedgeRoundRectCallout">
            <a:avLst>
              <a:gd name="adj1" fmla="val 107791"/>
              <a:gd name="adj2" fmla="val -63949"/>
              <a:gd name="adj3" fmla="val 1666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Political &amp; communication skill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2" name="Rounded Rectangular Callout 9"/>
          <p:cNvSpPr/>
          <p:nvPr/>
        </p:nvSpPr>
        <p:spPr>
          <a:xfrm>
            <a:off x="3200400" y="5105520"/>
            <a:ext cx="1905120" cy="1066680"/>
          </a:xfrm>
          <a:prstGeom prst="wedgeRoundRectCallout">
            <a:avLst>
              <a:gd name="adj1" fmla="val 19240"/>
              <a:gd name="adj2" fmla="val -138282"/>
              <a:gd name="adj3" fmla="val 1666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Monitoring, evaluation &amp; learning skill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3" name="Rounded Rectangular Callout 10"/>
          <p:cNvSpPr/>
          <p:nvPr/>
        </p:nvSpPr>
        <p:spPr>
          <a:xfrm>
            <a:off x="6705720" y="4267080"/>
            <a:ext cx="1828800" cy="990720"/>
          </a:xfrm>
          <a:prstGeom prst="wedgeRoundRectCallout">
            <a:avLst>
              <a:gd name="adj1" fmla="val -116518"/>
              <a:gd name="adj2" fmla="val -97810"/>
              <a:gd name="adj3" fmla="val 16667"/>
            </a:avLst>
          </a:prstGeom>
          <a:solidFill>
            <a:srgbClr val="00b0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Specific technical skill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4" name="Slide Number Placeholder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61F0F-C6A8-4161-8F02-CF661C2F33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5" name="TextBox 4"/>
          <p:cNvSpPr/>
          <p:nvPr/>
        </p:nvSpPr>
        <p:spPr>
          <a:xfrm>
            <a:off x="4484520" y="657684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Dalal-Clayton &amp; Bass (2009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6" name="Cloud Callout 12"/>
          <p:cNvSpPr/>
          <p:nvPr/>
        </p:nvSpPr>
        <p:spPr>
          <a:xfrm>
            <a:off x="395280" y="5410080"/>
            <a:ext cx="2286000" cy="1067040"/>
          </a:xfrm>
          <a:prstGeom prst="cloudCallout">
            <a:avLst>
              <a:gd name="adj1" fmla="val 56912"/>
              <a:gd name="adj2" fmla="val -11040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ffff"/>
                </a:solidFill>
                <a:latin typeface="Verdana"/>
              </a:rPr>
              <a:t>‘</a:t>
            </a:r>
            <a:r>
              <a:rPr b="1" lang="en-GB" sz="1400" spc="-1" strike="noStrike">
                <a:solidFill>
                  <a:srgbClr val="ffffff"/>
                </a:solidFill>
                <a:latin typeface="Verdana"/>
              </a:rPr>
              <a:t>FUNCTIONAL CAPACITIES</a:t>
            </a:r>
            <a:r>
              <a:rPr b="1" lang="ja-JP" sz="1400" spc="-1" strike="noStrike">
                <a:solidFill>
                  <a:srgbClr val="ffffff"/>
                </a:solidFill>
                <a:latin typeface="Verdana"/>
              </a:rPr>
              <a:t>’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7" name="Cloud Callout 13"/>
          <p:cNvSpPr/>
          <p:nvPr/>
        </p:nvSpPr>
        <p:spPr>
          <a:xfrm>
            <a:off x="5219640" y="5410080"/>
            <a:ext cx="2592360" cy="1067040"/>
          </a:xfrm>
          <a:prstGeom prst="cloudCallout">
            <a:avLst>
              <a:gd name="adj1" fmla="val 11166"/>
              <a:gd name="adj2" fmla="val -91194"/>
            </a:avLst>
          </a:prstGeom>
          <a:solidFill>
            <a:srgbClr val="00b0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ffff"/>
                </a:solidFill>
                <a:latin typeface="Verdana"/>
              </a:rPr>
              <a:t>‘</a:t>
            </a: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TECHNICAL CAPACITI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119700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Needs assessment: national capacity self-assessment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0" y="2060280"/>
            <a:ext cx="8964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Based on existing or ad hoc institutional assessments, consider for all relevant organisations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Level of education &amp; awareness of env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 and CC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Organisations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 mandates &amp; functions with regard to environment- and climate-related issu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Influence of climate risks on capacity to functio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echnical, financial, legal/regulatory capacities &amp; information systems in relation to env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 and CC issu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Planning, decision-making, budget allocation &amp; programming mechanism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Collaboration &amp; coordination structures &amp; mechanism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Assessments for environment and climate chang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0" name="TextBox 4"/>
          <p:cNvSpPr/>
          <p:nvPr/>
        </p:nvSpPr>
        <p:spPr>
          <a:xfrm>
            <a:off x="250920" y="655020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UNDP-UNEP (2011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1" name="Slide Number Placeholder 5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77BD0-3ED1-42ED-A609-9F655E47F3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1339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Setting up working mechanisms</a:t>
            </a:r>
            <a:br>
              <a:rPr sz="3000"/>
            </a:b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for a mainstreaming initiativ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94920" y="2492280"/>
            <a:ext cx="853452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Define institutional arrangements (political and technical) (e.g. steering and technical committees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Set up a management framework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Leadership arrangement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Human resourc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Financial arrangement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M&amp;E arrangement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Develop an operational work plan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26665-858D-4737-A01F-2C819A1E55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5" name="TextBox 4"/>
          <p:cNvSpPr/>
          <p:nvPr/>
        </p:nvSpPr>
        <p:spPr>
          <a:xfrm>
            <a:off x="5003640" y="6550200"/>
            <a:ext cx="335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DP-UNEP (2011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Learning-by-doing: multiple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approach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95280" y="2060640"/>
            <a:ext cx="87487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Formal training on mainstreaming and on </a:t>
            </a:r>
            <a:br>
              <a:rPr sz="2400"/>
            </a:b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specific technical aspect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Exchange visit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On-the-job learning through national mainstreaming programmes, including:  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	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Interdisciplinary team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winning between organisation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echnical assistanc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Demonstration project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Lesson learning and dissemination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16EE9-C47B-4FF5-877F-4A56FB615D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9" name="TextBox 4"/>
          <p:cNvSpPr/>
          <p:nvPr/>
        </p:nvSpPr>
        <p:spPr>
          <a:xfrm>
            <a:off x="395280" y="630864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DP-UNEP (2009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92c0"/>
                </a:solidFill>
                <a:latin typeface="Verdana"/>
              </a:rPr>
              <a:t>Recap – Key messag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24000" y="220464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ere is a strong case for mainstreaming environment and climate change into all development planning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ere are entry points for mainstreaming environment and climate change at all stages of the policy cycle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Institutional and capacity strengthening (rooted in a good diagnosis of the strengths/weaknesses of existing structures and efforts to improve governance) is a key condition for successful mainstreaming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Needs assessment, the setting up of effective working mechanisms and 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‘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learning by doing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 can support the mainstreaming proces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C5664-0B01-4324-AA75-14514CA695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836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Key referenc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250920" y="1699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UNDP (2011) Practitioner</a:t>
            </a:r>
            <a:r>
              <a:rPr b="0" lang="ja-JP" sz="22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s Guide: Capacity </a:t>
            </a:r>
            <a:br>
              <a:rPr sz="2200"/>
            </a:b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Development for Environmental Sustainability. United Nations Development Programme, New York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298440" indent="-29844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UNDP-UNEP (2009) Mainstreaming Poverty-Environment Linkages into Development Planning: A Handbook for Practitioners. UNDP-UNEP Poverty-Environment Initiative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298440" indent="-29844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UNDP-UNEP (2011) Mainstreaming Adaptation to Climate Change into Development Planning: A Guide for Practitioners. UNDP-UNEP Poverty-Environment Initiative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298440" indent="-29844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UNDP – Integrating environment into development: </a:t>
            </a:r>
            <a:r>
              <a:rPr b="0" lang="en-GB" sz="22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www.undp.org/mainstreaming/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AF674-2FB5-4A32-8995-7E96ABA9C6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920" y="1268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Beyond </a:t>
            </a:r>
            <a:r>
              <a:rPr b="1" lang="ja-JP" sz="3000" spc="-1" strike="noStrike">
                <a:solidFill>
                  <a:srgbClr val="0f5494"/>
                </a:solidFill>
                <a:latin typeface="Verdana"/>
              </a:rPr>
              <a:t>‘</a:t>
            </a: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environment</a:t>
            </a:r>
            <a:r>
              <a:rPr b="1" lang="ja-JP" sz="30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 as a sector...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04560" y="2397240"/>
            <a:ext cx="838188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Environment and protection of natural resources is a sector in its own right, but its sustainability also depends on other sectors</a:t>
            </a:r>
            <a:r>
              <a:rPr b="0" lang="ja-JP" sz="24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 polici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Other sectors</a:t>
            </a:r>
            <a:r>
              <a:rPr b="0" lang="ja-JP" sz="24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 performance depends closely on the state of the environmen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It does not suffice to address the environment exclusively as a sector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Other sector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s development paths need to take account of environmental sustainability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nvironment tends to be an underfunded sector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6858000" y="6613560"/>
            <a:ext cx="213372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55034-62ED-4B63-A94A-047C59E3E3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907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Referenc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250920" y="1851120"/>
            <a:ext cx="8640720" cy="39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Dalal-Clayton B. &amp; Bass S. (2009) The challenges of environmental mainstreaming: experience of integrating environment into development institutions and decisions. International Institute for Environment and Development, London. Available from: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www.environmental-mainstreaming.org/key-lit.html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Schipper E.L., Paz Cigarán M. &amp; McKenzie Hedger M. (2008) Adaptation to Climate Change: The new challenge for development in the developing world. Environment &amp; Energy Group, United Nations Development Programme, New York. Available from: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http://www.undp.org/climatechange/docs/English/UNDP_Adaptation_final.pdf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Soria, C (2005) SEA and the NGO community in Latin America. Presentation made at the SEA and IDC Conference, Halong Bay, Vietnam, 24-28 January, 2005.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76B3A-B149-4B40-A83B-D6D4BA7EA4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What is mainstreaming?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94920" y="2133720"/>
            <a:ext cx="8458200" cy="43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The </a:t>
            </a:r>
            <a:r>
              <a:rPr b="0" lang="en-GB" sz="2400" spc="-1" strike="noStrike">
                <a:solidFill>
                  <a:srgbClr val="0092c0"/>
                </a:solidFill>
                <a:latin typeface="Verdana"/>
              </a:rPr>
              <a:t>mainstream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: the prevailing or dominant </a:t>
            </a:r>
            <a:br>
              <a:rPr sz="2400"/>
            </a:b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course, current, tendency or way of thinking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92c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2c0"/>
                </a:solidFill>
                <a:latin typeface="Verdana"/>
              </a:rPr>
              <a:t>Mainstreaming</a:t>
            </a:r>
            <a:r>
              <a:rPr b="0" lang="en-GB" sz="2400" spc="-1" strike="noStrike">
                <a:solidFill>
                  <a:srgbClr val="002060"/>
                </a:solidFill>
                <a:latin typeface="Verdana"/>
              </a:rPr>
              <a:t>: 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the informed integration of a relevant value, theme or concern into the decisions of institutions that drive national, local and sectoral development policy, rules, plans, investment and action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(adapted from Dalal-Clayton &amp; Bass 2009)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2c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2c0"/>
                </a:solidFill>
                <a:latin typeface="Verdana"/>
              </a:rPr>
              <a:t>Institutional strengthening and change 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and</a:t>
            </a:r>
            <a:r>
              <a:rPr b="0" lang="en-GB" sz="2400" spc="-1" strike="noStrike">
                <a:solidFill>
                  <a:srgbClr val="005f7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092c0"/>
                </a:solidFill>
                <a:latin typeface="Verdana"/>
              </a:rPr>
              <a:t>capacity building 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are at the heart of any mainstreaming effor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2C35E-764C-42A8-9ADF-327925DEBE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Objectives of mainstreaming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8000" y="2205000"/>
            <a:ext cx="845820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Mainstreaming is a long-term, iterative </a:t>
            </a:r>
            <a:br>
              <a:rPr sz="2400"/>
            </a:b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process aimed at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ransforming ideas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ven more importantly, transforming policies, resource allocations and practic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in order to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promote desired developmental outcomes (with regard to gender, environment, climate change, governance, human rights, ...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and support integrated solutions to human problem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E831E-AF4F-4A25-8449-E0A02D23DC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Policy framework for mainstreaming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213156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European Consensus on Development (2005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Explicitly recognises links between development and environment and highlights need for a </a:t>
            </a: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“strengthened approach to mainstreaming of cross-cutting issues”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Agenda for Change (2011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“</a:t>
            </a: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development is not sustainable if it damages the environment, biodiversity and natural resources and increases the exposure/vulnerability to natural disasters”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EU Biodiversity Strategy to 2020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Calls to “biodiversity-proof” EC development cooperatio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24000" y="2491920"/>
            <a:ext cx="8534160" cy="167652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A framework for mainstreaming</a:t>
            </a:r>
            <a:br>
              <a:rPr sz="2800"/>
            </a:b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environment and climate change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6C27E-98E4-4D80-8392-5CD371DBD9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Entry points for mainstreaming in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the policy cycl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C4079-3E3B-4B14-9D88-1FD03BFCFF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14" name="Picture 3" descr="_Pic3"/>
          <p:cNvPicPr/>
          <p:nvPr/>
        </p:nvPicPr>
        <p:blipFill>
          <a:blip r:embed="rId1"/>
          <a:stretch/>
        </p:blipFill>
        <p:spPr>
          <a:xfrm>
            <a:off x="1371600" y="1523880"/>
            <a:ext cx="5913360" cy="4705560"/>
          </a:xfrm>
          <a:prstGeom prst="rect">
            <a:avLst/>
          </a:prstGeom>
          <a:ln w="0">
            <a:noFill/>
          </a:ln>
        </p:spPr>
      </p:pic>
      <p:sp>
        <p:nvSpPr>
          <p:cNvPr id="115" name="TextBox 7"/>
          <p:cNvSpPr/>
          <p:nvPr/>
        </p:nvSpPr>
        <p:spPr>
          <a:xfrm>
            <a:off x="3718080" y="3414600"/>
            <a:ext cx="167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National development planning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" name="TextBox 8"/>
          <p:cNvSpPr/>
          <p:nvPr/>
        </p:nvSpPr>
        <p:spPr>
          <a:xfrm>
            <a:off x="2422440" y="2390760"/>
            <a:ext cx="152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Agenda setting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" name="TextBox 9"/>
          <p:cNvSpPr/>
          <p:nvPr/>
        </p:nvSpPr>
        <p:spPr>
          <a:xfrm>
            <a:off x="5470560" y="338148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Policy making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TextBox 10"/>
          <p:cNvSpPr/>
          <p:nvPr/>
        </p:nvSpPr>
        <p:spPr>
          <a:xfrm>
            <a:off x="3184560" y="5019840"/>
            <a:ext cx="217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Implementation &amp; monitoring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Rounded Rectangular Callout 11"/>
          <p:cNvSpPr/>
          <p:nvPr/>
        </p:nvSpPr>
        <p:spPr>
          <a:xfrm>
            <a:off x="457200" y="1600200"/>
            <a:ext cx="1752480" cy="1066680"/>
          </a:xfrm>
          <a:prstGeom prst="wedgeRoundRectCallout">
            <a:avLst>
              <a:gd name="adj1" fmla="val 77625"/>
              <a:gd name="adj2" fmla="val 54203"/>
              <a:gd name="adj3" fmla="val 1666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Finding the entry points &amp; making the case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Rounded Rectangular Callout 12"/>
          <p:cNvSpPr/>
          <p:nvPr/>
        </p:nvSpPr>
        <p:spPr>
          <a:xfrm>
            <a:off x="6804000" y="2060640"/>
            <a:ext cx="1905120" cy="1143000"/>
          </a:xfrm>
          <a:prstGeom prst="wedgeRoundRectCallout">
            <a:avLst>
              <a:gd name="adj1" fmla="val -46481"/>
              <a:gd name="adj2" fmla="val 84250"/>
              <a:gd name="adj3" fmla="val 1666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ainstreaming into policy &amp; planning process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Rounded Rectangular Callout 13"/>
          <p:cNvSpPr/>
          <p:nvPr/>
        </p:nvSpPr>
        <p:spPr>
          <a:xfrm>
            <a:off x="250920" y="5257800"/>
            <a:ext cx="2187360" cy="990720"/>
          </a:xfrm>
          <a:prstGeom prst="wedgeRoundRectCallout">
            <a:avLst>
              <a:gd name="adj1" fmla="val 90509"/>
              <a:gd name="adj2" fmla="val -33495"/>
              <a:gd name="adj3" fmla="val 1666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eeting the implementation challenge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TextBox 14"/>
          <p:cNvSpPr/>
          <p:nvPr/>
        </p:nvSpPr>
        <p:spPr>
          <a:xfrm>
            <a:off x="2050920" y="6308640"/>
            <a:ext cx="684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UNDP-UNEP (2009) Figure 3.2, p. 15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ounded Rectangle 3"/>
          <p:cNvSpPr/>
          <p:nvPr/>
        </p:nvSpPr>
        <p:spPr>
          <a:xfrm>
            <a:off x="611280" y="76320"/>
            <a:ext cx="2520720" cy="863640"/>
          </a:xfrm>
          <a:prstGeom prst="roundRect">
            <a:avLst>
              <a:gd name="adj" fmla="val 16667"/>
            </a:avLst>
          </a:prstGeom>
          <a:solidFill>
            <a:srgbClr val="3c8c93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Finding the entry points and making the case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Rounded Rectangle 4"/>
          <p:cNvSpPr/>
          <p:nvPr/>
        </p:nvSpPr>
        <p:spPr>
          <a:xfrm>
            <a:off x="3429000" y="76320"/>
            <a:ext cx="2666880" cy="863640"/>
          </a:xfrm>
          <a:prstGeom prst="roundRect">
            <a:avLst>
              <a:gd name="adj" fmla="val 16667"/>
            </a:avLst>
          </a:prstGeom>
          <a:solidFill>
            <a:srgbClr val="3c8c93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Mainstreaming into policy and planning process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Rounded Rectangle 5"/>
          <p:cNvSpPr/>
          <p:nvPr/>
        </p:nvSpPr>
        <p:spPr>
          <a:xfrm>
            <a:off x="6400800" y="76320"/>
            <a:ext cx="2519280" cy="863640"/>
          </a:xfrm>
          <a:prstGeom prst="roundRect">
            <a:avLst>
              <a:gd name="adj" fmla="val 16667"/>
            </a:avLst>
          </a:prstGeom>
          <a:solidFill>
            <a:srgbClr val="3c8c93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Meeting the implementation challenge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Rounded Rectangle 6"/>
          <p:cNvSpPr/>
          <p:nvPr/>
        </p:nvSpPr>
        <p:spPr>
          <a:xfrm>
            <a:off x="581040" y="1066680"/>
            <a:ext cx="2663640" cy="251460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2060"/>
                </a:solidFill>
                <a:latin typeface="Calibri"/>
                <a:ea typeface="Calibri"/>
              </a:rPr>
              <a:t>Preliminary assessment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060"/>
                </a:solidFill>
                <a:latin typeface="Calibri"/>
                <a:ea typeface="Calibri"/>
              </a:rPr>
              <a:t>Understanding the challenges and the science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060"/>
                </a:solidFill>
                <a:latin typeface="Calibri"/>
                <a:ea typeface="Calibri"/>
              </a:rPr>
              <a:t>Understanding poverty-environment and CC–development linkage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060"/>
                </a:solidFill>
                <a:latin typeface="Calibri"/>
                <a:ea typeface="Calibri"/>
              </a:rPr>
              <a:t>Understanding government, institutional and political context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Rounded Rectangle 7"/>
          <p:cNvSpPr/>
          <p:nvPr/>
        </p:nvSpPr>
        <p:spPr>
          <a:xfrm>
            <a:off x="609480" y="3657600"/>
            <a:ext cx="2667240" cy="129528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Raising awareness and building partnership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National consensus and commitment to resilient, low-carbon development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Rounded Rectangle 8"/>
          <p:cNvSpPr/>
          <p:nvPr/>
        </p:nvSpPr>
        <p:spPr>
          <a:xfrm>
            <a:off x="612720" y="5029200"/>
            <a:ext cx="2664000" cy="99072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Strengthening institutions and capacitie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Needs assessment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Working mechanism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Rounded Rectangle 9"/>
          <p:cNvSpPr/>
          <p:nvPr/>
        </p:nvSpPr>
        <p:spPr>
          <a:xfrm>
            <a:off x="3429000" y="1066680"/>
            <a:ext cx="2743200" cy="274320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2060"/>
                </a:solidFill>
                <a:latin typeface="Calibri"/>
                <a:ea typeface="Calibri"/>
              </a:rPr>
              <a:t>Collecting country-specific evidence and influencing policy processe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060"/>
                </a:solidFill>
                <a:latin typeface="Calibri"/>
                <a:ea typeface="Calibri"/>
              </a:rPr>
              <a:t>Integrated ecosystem assessment; economic analysis…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060"/>
                </a:solidFill>
                <a:latin typeface="Calibri"/>
                <a:ea typeface="Calibri"/>
              </a:rPr>
              <a:t>Mainstreaming in (sub)national and sector policies, strategies, programme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060"/>
                </a:solidFill>
                <a:latin typeface="Calibri"/>
                <a:ea typeface="Calibri"/>
              </a:rPr>
              <a:t>Understanding uncertaintie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Rounded Rectangle 10"/>
          <p:cNvSpPr/>
          <p:nvPr/>
        </p:nvSpPr>
        <p:spPr>
          <a:xfrm>
            <a:off x="3429000" y="3962520"/>
            <a:ext cx="2743200" cy="99036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Developing, costing, assessing and selecting policy measures, 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Rounded Rectangle 11"/>
          <p:cNvSpPr/>
          <p:nvPr/>
        </p:nvSpPr>
        <p:spPr>
          <a:xfrm>
            <a:off x="3429000" y="5029200"/>
            <a:ext cx="2743200" cy="99072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Strengthening institutions and capacitie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Learning by doing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2" name="Rounded Rectangle 12"/>
          <p:cNvSpPr/>
          <p:nvPr/>
        </p:nvSpPr>
        <p:spPr>
          <a:xfrm>
            <a:off x="6396120" y="1066680"/>
            <a:ext cx="2519280" cy="121932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Budgeting and financing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Mainstreaming in the budgetary proces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3" name="Rounded Rectangle 13"/>
          <p:cNvSpPr/>
          <p:nvPr/>
        </p:nvSpPr>
        <p:spPr>
          <a:xfrm>
            <a:off x="6400800" y="2352600"/>
            <a:ext cx="2519280" cy="153360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Mainstreaming in monitoring system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Performance assessment framework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Indicators and data collection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4" name="Rounded Rectangle 14"/>
          <p:cNvSpPr/>
          <p:nvPr/>
        </p:nvSpPr>
        <p:spPr>
          <a:xfrm>
            <a:off x="6396120" y="4011480"/>
            <a:ext cx="2519280" cy="865440"/>
          </a:xfrm>
          <a:prstGeom prst="roundRect">
            <a:avLst>
              <a:gd name="adj" fmla="val 16667"/>
            </a:avLst>
          </a:prstGeom>
          <a:solidFill>
            <a:srgbClr val="f8fbfc"/>
          </a:solidFill>
          <a:ln w="25560">
            <a:solidFill>
              <a:srgbClr val="0f5494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Supporting policy measure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National, sector and sub-national level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5" name="Rounded Rectangle 15"/>
          <p:cNvSpPr/>
          <p:nvPr/>
        </p:nvSpPr>
        <p:spPr>
          <a:xfrm>
            <a:off x="6396120" y="5029200"/>
            <a:ext cx="2519280" cy="99072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Strengthening institutions and capacitie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Mainstreaming </a:t>
            </a:r>
            <a:br>
              <a:rPr sz="1500"/>
            </a:b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as standard practice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6" name="Rounded Rectangle 16"/>
          <p:cNvSpPr/>
          <p:nvPr/>
        </p:nvSpPr>
        <p:spPr>
          <a:xfrm>
            <a:off x="1332000" y="6121440"/>
            <a:ext cx="6769080" cy="431640"/>
          </a:xfrm>
          <a:prstGeom prst="roundRect">
            <a:avLst>
              <a:gd name="adj" fmla="val 16667"/>
            </a:avLst>
          </a:prstGeom>
          <a:solidFill>
            <a:srgbClr val="f8fbfc"/>
          </a:solidFill>
          <a:ln w="25560">
            <a:solidFill>
              <a:srgbClr val="0f549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Engaging stakeholders and coordinating within the development community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Flowchart: Document 17"/>
          <p:cNvSpPr/>
          <p:nvPr/>
        </p:nvSpPr>
        <p:spPr>
          <a:xfrm>
            <a:off x="76320" y="1371600"/>
            <a:ext cx="696960" cy="35100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1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8" name="Flowchart: Document 18"/>
          <p:cNvSpPr/>
          <p:nvPr/>
        </p:nvSpPr>
        <p:spPr>
          <a:xfrm>
            <a:off x="2971800" y="3230640"/>
            <a:ext cx="696960" cy="35064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4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Flowchart: Document 19"/>
          <p:cNvSpPr/>
          <p:nvPr/>
        </p:nvSpPr>
        <p:spPr>
          <a:xfrm>
            <a:off x="108000" y="3962520"/>
            <a:ext cx="696960" cy="35064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5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0" name="Flowchart: Document 20"/>
          <p:cNvSpPr/>
          <p:nvPr/>
        </p:nvSpPr>
        <p:spPr>
          <a:xfrm>
            <a:off x="115920" y="5334120"/>
            <a:ext cx="696960" cy="35064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3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1" name="Flowchart: Document 22"/>
          <p:cNvSpPr/>
          <p:nvPr/>
        </p:nvSpPr>
        <p:spPr>
          <a:xfrm>
            <a:off x="3124080" y="2697120"/>
            <a:ext cx="698760" cy="37152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6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2" name="Flowchart: Document 23"/>
          <p:cNvSpPr/>
          <p:nvPr/>
        </p:nvSpPr>
        <p:spPr>
          <a:xfrm>
            <a:off x="3276720" y="3916440"/>
            <a:ext cx="698400" cy="35064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7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3" name="Straight Connector 25"/>
          <p:cNvSpPr/>
          <p:nvPr/>
        </p:nvSpPr>
        <p:spPr>
          <a:xfrm>
            <a:off x="3276720" y="5524560"/>
            <a:ext cx="152280" cy="0"/>
          </a:xfrm>
          <a:prstGeom prst="line">
            <a:avLst/>
          </a:prstGeom>
          <a:ln w="2844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Straight Connector 29"/>
          <p:cNvSpPr/>
          <p:nvPr/>
        </p:nvSpPr>
        <p:spPr>
          <a:xfrm>
            <a:off x="6172200" y="5524560"/>
            <a:ext cx="223920" cy="0"/>
          </a:xfrm>
          <a:prstGeom prst="line">
            <a:avLst/>
          </a:prstGeom>
          <a:ln w="2844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Flowchart: Document 32"/>
          <p:cNvSpPr/>
          <p:nvPr/>
        </p:nvSpPr>
        <p:spPr>
          <a:xfrm>
            <a:off x="6161040" y="1704960"/>
            <a:ext cx="696960" cy="35244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8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Flowchart: Document 33"/>
          <p:cNvSpPr/>
          <p:nvPr/>
        </p:nvSpPr>
        <p:spPr>
          <a:xfrm>
            <a:off x="6161040" y="2468520"/>
            <a:ext cx="696960" cy="35100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9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7" name="TextBox 34"/>
          <p:cNvSpPr/>
          <p:nvPr/>
        </p:nvSpPr>
        <p:spPr>
          <a:xfrm>
            <a:off x="76320" y="6581880"/>
            <a:ext cx="859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5494"/>
                </a:solidFill>
                <a:latin typeface="Verdana"/>
              </a:rPr>
              <a:t>Adapted from: UNDP-UNEP (2009) Figure 3.1, p. 15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8" name="Flowchart: Document 27"/>
          <p:cNvSpPr/>
          <p:nvPr/>
        </p:nvSpPr>
        <p:spPr>
          <a:xfrm>
            <a:off x="76320" y="1905120"/>
            <a:ext cx="696960" cy="35064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2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9" name="Flowchart: Document 30"/>
          <p:cNvSpPr/>
          <p:nvPr/>
        </p:nvSpPr>
        <p:spPr>
          <a:xfrm>
            <a:off x="3341520" y="5562720"/>
            <a:ext cx="696960" cy="35064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3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Flowchart: Document 31"/>
          <p:cNvSpPr/>
          <p:nvPr/>
        </p:nvSpPr>
        <p:spPr>
          <a:xfrm>
            <a:off x="6161040" y="5592600"/>
            <a:ext cx="696960" cy="35100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3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1" name="Flowchart: Document 31"/>
          <p:cNvSpPr/>
          <p:nvPr/>
        </p:nvSpPr>
        <p:spPr>
          <a:xfrm>
            <a:off x="120600" y="2590920"/>
            <a:ext cx="696960" cy="35064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3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" name="Flowchart: Document 19"/>
          <p:cNvSpPr/>
          <p:nvPr/>
        </p:nvSpPr>
        <p:spPr>
          <a:xfrm>
            <a:off x="3200400" y="2133720"/>
            <a:ext cx="696960" cy="35064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5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Juan Palerm</cp:lastModifiedBy>
  <dcterms:modified xsi:type="dcterms:W3CDTF">2014-02-10T17:46:19Z</dcterms:modified>
  <cp:revision>120</cp:revision>
  <dc:subject/>
  <dc:title>Slide 1</dc:title>
</cp:coreProperties>
</file>