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21A7-B966-4936-B530-41BF92BB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EBB4-FAF3-4846-8519-C0889F7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1358D-0E8A-44B8-9A61-D50C7C3C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F301-E0D2-4457-ADDB-DA24C06E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9397-C7FB-4EAF-BC27-3CCEA8E9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12F3-191F-49D4-B8E2-BC5DB6EE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62A1-E369-4C05-8CC8-177A69B7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1875-8EE5-4388-BD4E-35FA5D15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AE9E-0F9D-4A09-AF07-398569FA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9AA8-4028-420E-A365-E8EE3CEE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91BD-F15F-46D4-A64B-B1C9F33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3238-2C75-4C0D-81BB-99506C55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0511-7F5D-4757-A512-70338DB0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DBCA-7877-4C8D-8C1F-E22F4D74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AE47-0514-40F0-B146-0153C658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4D93-0127-480C-A017-1D6DC43D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211E-E490-48CB-9BCE-D0C47CC0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7837-FABD-4D6B-A6CD-B63BB1D5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8C43-CE9C-4EBB-9BB2-71E252FC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7070-4960-4F6F-A066-3AA642E1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2CAF-C3E8-4912-9A59-19AC7B6F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DCA0-38F6-4DD7-8B9D-5DF2BE7C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EABF-099E-4F4D-B4EF-2C589F8E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77DF-9412-486E-A642-E8963A1F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B71C-DBF1-4F65-AE22-D5811F358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08E6-B5AE-4C5D-ACB7-4AE1EB37B1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hyperlink" Target="http://catalog.az/ru/15_/toplivo.php" TargetMode="External"/><Relationship Id="rId8" Type="http://schemas.openxmlformats.org/officeDocument/2006/relationships/hyperlink" Target="http://catalog.az/ru/15_/elektro.php" TargetMode="External"/><Relationship Id="rId9" Type="http://schemas.openxmlformats.org/officeDocument/2006/relationships/hyperlink" Target="http://catalog.az/ru/15_/gorndob.php" TargetMode="External"/><Relationship Id="rId10" Type="http://schemas.openxmlformats.org/officeDocument/2006/relationships/hyperlink" Target="http://catalog.az/ru/15_/chornayamet.php" TargetMode="External"/><Relationship Id="rId11" Type="http://schemas.openxmlformats.org/officeDocument/2006/relationships/image" Target="../media/image1.png"/><Relationship Id="rId12" Type="http://schemas.openxmlformats.org/officeDocument/2006/relationships/hyperlink" Target="http://catalog.az/ru/15_/svetnayamet.php" TargetMode="External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и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вентаризация выбросов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ционарных и передвижных                                     источ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зербайджан  Рафиев Рамиз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Нынешнее состояние национального кадастра выброс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настоящее время в АР  Кадастр Выбросов на стадии разрабо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2d050"/>
                </a:solidFill>
                <a:latin typeface="Arial"/>
              </a:rPr>
              <a:t>Анализ национальных норм и стандартов</a:t>
            </a:r>
            <a:r>
              <a:rPr b="1" lang="ru-RU" sz="24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ормативы качества окружающей среды и рассчитанные на их основе нормативы воздействия на окружающую среду жестче мировых</a:t>
            </a:r>
            <a:r>
              <a:rPr b="0" lang="az-Latn-AZ" sz="2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В 2014 г. планируется разрабатывать новые ПДК вредных веществ с учетом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Директива N 2008/50/ЕС Европейского парламента и Совета "О качестве атмосферного воздуха  и мерах его очистки"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Когда Секретариату Конвенции были представлены отчеты в последний раз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Секретариату Конвенции были представлены отчеты в 2011 –м г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дготавливаются ли отчеты ежегодн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тчеты ежегодно не подготавливаются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счеты выбросов от каких  секторов проводятся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7"/>
              </a:rPr>
              <a:t>Топливная промышленность</a:t>
            </a:r>
            <a:r>
              <a:rPr b="1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8"/>
              </a:rPr>
              <a:t>Электроэнергетик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9"/>
              </a:rPr>
              <a:t>Горнодобывающая промышленность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0"/>
              </a:rPr>
              <a:t>Чер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12"/>
              </a:rPr>
              <a:t>Цветная металлургия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Химическая и нефтехимическая промышленность, Машиностроение и металлообработка, Промышленность строительных материалов, Легкая промышлен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 каких секторах  в данный момент информации н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О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Сельско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м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 домашнем </a:t>
            </a:r>
            <a:r>
              <a:rPr b="1" lang="en-GB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хозяйств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е в данный момент информации не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бросы каких веществ расчитываются в данным  момен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данный  момент можно сказать что расчитываю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ыбросы  традиционно принятых вещест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Rectangle 1024"/>
          <p:cNvSpPr/>
          <p:nvPr/>
        </p:nvSpPr>
        <p:spPr>
          <a:xfrm>
            <a:off x="395280" y="14925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5. Формы отчётности для выбросов от стационарных источ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№ 2 - Источники выделения загрязняющих веществ (И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250920" y="2565360"/>
          <a:ext cx="8713800" cy="331956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39800"/>
                <a:gridCol w="987480"/>
                <a:gridCol w="720720"/>
                <a:gridCol w="863640"/>
                <a:gridCol w="720720"/>
                <a:gridCol w="936720"/>
                <a:gridCol w="934920"/>
                <a:gridCol w="936720"/>
              </a:tblGrid>
              <a:tr h="14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цех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участ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источника выд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ние выде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И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ре м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-сота источ-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аметр устья источ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ика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араметдушной на вы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точн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с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воз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мес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де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а выб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су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ъем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3/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-тура, гра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539640" y="2637000"/>
          <a:ext cx="8353440" cy="3498840"/>
        </p:xfrm>
        <a:graphic>
          <a:graphicData uri="http://schemas.openxmlformats.org/drawingml/2006/table">
            <a:tbl>
              <a:tblPr/>
              <a:tblGrid>
                <a:gridCol w="792360"/>
                <a:gridCol w="620640"/>
                <a:gridCol w="1211400"/>
                <a:gridCol w="904680"/>
                <a:gridCol w="927000"/>
                <a:gridCol w="1033560"/>
                <a:gridCol w="1103400"/>
                <a:gridCol w="1044360"/>
                <a:gridCol w="716040"/>
              </a:tblGrid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дное вещество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ЗВ, отходящих от И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азоочистного оборудо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мер ИЗА  в котор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упают вредные вещест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 И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каждом режим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тонн в год)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/с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/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Rectangle 226"/>
          <p:cNvSpPr/>
          <p:nvPr/>
        </p:nvSpPr>
        <p:spPr>
          <a:xfrm>
            <a:off x="0" y="441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231"/>
          <p:cNvSpPr/>
          <p:nvPr/>
        </p:nvSpPr>
        <p:spPr>
          <a:xfrm>
            <a:off x="1831320" y="2204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должение таблицы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Line 131"/>
          <p:cNvSpPr/>
          <p:nvPr/>
        </p:nvSpPr>
        <p:spPr>
          <a:xfrm>
            <a:off x="3040200" y="2381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55"/>
          <p:cNvSpPr/>
          <p:nvPr/>
        </p:nvSpPr>
        <p:spPr>
          <a:xfrm>
            <a:off x="395280" y="1310400"/>
            <a:ext cx="8461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6.  Периодичность подготовки этих отчётов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 действия проекта по инвентаризации составляет пять лет. Досрочная  инвентаризация осуществляется в случаях: изменения технологии   производства, качества и вида применяемого топлива,  сырья  или  материалов и после проведения реконструкции технологического   оборудования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c000"/>
              </a:buClr>
              <a:buFont typeface="Times New Roman"/>
              <a:buAutoNum type="arabicPeriod" startAt="7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оступность да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Открытые публикации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ля специалистов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Arial"/>
              </a:rPr>
              <a:t>Данные в сети Интернета для специалистов отсутству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ое  законодательство  не  адаптировано  к  требованиям  Директив  Евросоюза:  Отсутствует  перечень  основных  промышленных   производств  и  их оценка по отраслям в соответствии с приложением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рективы  о  промышленном  загрязнении  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 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6" name="Picture 4" descr="0130_subst0301"/>
          <p:cNvPicPr/>
          <p:nvPr/>
        </p:nvPicPr>
        <p:blipFill>
          <a:blip r:embed="rId1"/>
          <a:stretch/>
        </p:blipFill>
        <p:spPr>
          <a:xfrm>
            <a:off x="2627280" y="1339920"/>
            <a:ext cx="5004000" cy="500364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5"/>
          <p:cNvSpPr/>
          <p:nvPr/>
        </p:nvSpPr>
        <p:spPr>
          <a:xfrm>
            <a:off x="755640" y="836640"/>
            <a:ext cx="799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е рассеивания окислов азота от выбросов НПЗ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fdef6"/>
                </a:solidFill>
                <a:latin typeface="Arial"/>
              </a:rPr>
              <a:t>2.</a:t>
            </a: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Инвентаризация выбросов от </a:t>
            </a:r>
            <a:br>
              <a:rPr sz="2000"/>
            </a:b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  передвижных источников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14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Государственные органы/ведомства, которые участвуют в инвентаризации выбросов от передвиж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</a:rPr>
              <a:t>центр Республики и Департамент мониторинга окружающей среды, а также экологические службы отдельных компаний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спользуемые методики, удельные выбросы и характеристика источников выбросов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Инвентаризация выбросов от передвижных источников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оводится по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Методика определения выбросов вред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еществ в атмосферный воздух от автотранспортных пото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движущихся по автомагистралям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Санкт-Петербурга“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05 г. </a:t>
            </a:r>
            <a:r>
              <a:rPr b="0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N309                        </a:t>
            </a:r>
            <a:r>
              <a:rPr b="0" lang="ru-RU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 и методика </a:t>
            </a: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"Правил инвентаризации вредных выбросов в атмосферный воздух и источников, оказывающих на него физическое воздействие"  Аз.Р. 2002 г. № 6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11412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кие источники учитываются при инвентаризации выбросов от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едвижных источников.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Инвентаризация выбросов от 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2d050"/>
                </a:solidFill>
                <a:latin typeface="Arial"/>
              </a:rPr>
              <a:t>передвижных источников проводится в автомагистралях и регулируемых перекрестках.</a:t>
            </a: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99560" indent="165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инвентаризации выбросов автотранспорта на городских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магистраля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оводится изучение особенностей распределения автотранспортных потоков (их состава и интенсивности) по городу и их изменений во времени (в течение суток, недели и г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де проведения натурных обследований дополнительно определяется ряд параметров, необходимых как для расчета выбросов, так и проведения расчетов загрязнения атмосф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3355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ой автомагистрали (или ее участке) фиксируются следующие парамет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рина проезжей части (в метрах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о полос движения в каждом направл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тяженность выбранного участка автомагистрали (в км) с указанием названий улиц, ограничивающих данную автомагистраль (или ее участок)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яя скорость автотранспортного потока с подразделением на три основные категории: легковые, грузовые и автобусы (в км/час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34272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кущее состояние инвентаризации выбросов и соответствующей отчетности в странах-партне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нтаризации выбросов от стационарных источ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92d05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ет ли страна отчёт об инвентаризации выбросов в рамках Конвенции о трансграничном загрязнении воздуха на большие расстоя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«Конвенция о трансграничном загрязнении воздуха на большие  расстояния   вступила в силу в Азербайджане в 09.04.2002 года.  Отчёт об инвентаризации выбросов в рамках Конвенции о трансграничном загрязнении воздуха на большие расстояния не предоставляе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285560"/>
            <a:ext cx="82296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ы отчётности для выбросов от передвижных источников и периодичность подготовки отчёт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78800" indent="6840" algn="just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АР используется стандартные формы отчётности, которые  приведены  в методике "Правил инвентаризации вредных выбросов в атмосферный воздух и источников, оказывающих на него физическое воздействие"  Аз.Р. 2002 г. № 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евой журнал обследования характеристик движущего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транспортного поток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именование улицы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правление движ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Этажность прилегающих зд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Ширина проезжей части (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Количество пол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 и другие информации заполняются в журнале формы отче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Поле рассеивания окислов азота от выбросов автотранспортного потока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7" name="Picture 5" descr="F:\img002.jpg"/>
          <p:cNvPicPr/>
          <p:nvPr/>
        </p:nvPicPr>
        <p:blipFill>
          <a:blip r:embed="rId1"/>
          <a:stretch/>
        </p:blipFill>
        <p:spPr>
          <a:xfrm>
            <a:off x="1017720" y="1071720"/>
            <a:ext cx="76374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28400" y="5571720"/>
            <a:ext cx="83581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ле рассеивания окиси  углерода от выбросов автотранспортного пото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2" descr="F:\img001.jpg"/>
          <p:cNvPicPr/>
          <p:nvPr/>
        </p:nvPicPr>
        <p:blipFill>
          <a:blip r:embed="rId1"/>
          <a:srcRect l="3109" t="0" r="3109" b="0"/>
          <a:stretch/>
        </p:blipFill>
        <p:spPr>
          <a:xfrm>
            <a:off x="1792440" y="612720"/>
            <a:ext cx="64944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программе Copert 4, проводили расчет для определения количества выбросов, создаваемых дорожным транспортом.  При этом  ведется учет расхода транспортного топли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сновании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был проведен расчет для  углерода оксид, азота диоксид, серы диоксид, углеводороды, твердые частиц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равниваем полученные данные с данными, полученными в  отчете по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Таблица  Суммарный выброс от бензинзиновых и дизельных </a:t>
            </a:r>
            <a:br>
              <a:rPr sz="2000"/>
            </a:br>
            <a:r>
              <a:rPr b="0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автомлей 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57200" y="1428840"/>
          <a:ext cx="8229600" cy="4605120"/>
        </p:xfrm>
        <a:graphic>
          <a:graphicData uri="http://schemas.openxmlformats.org/drawingml/2006/table">
            <a:tbl>
              <a:tblPr/>
              <a:tblGrid>
                <a:gridCol w="1074600"/>
                <a:gridCol w="662040"/>
                <a:gridCol w="1135080"/>
                <a:gridCol w="576360"/>
                <a:gridCol w="1220760"/>
                <a:gridCol w="650880"/>
                <a:gridCol w="1052640"/>
                <a:gridCol w="460080"/>
                <a:gridCol w="662040"/>
                <a:gridCol w="735120"/>
              </a:tblGrid>
              <a:tr h="150804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590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бензин-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934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от бензин-х автом-и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639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бензин-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41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888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от дизельных автом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4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5380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 от дизельных автомо-л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370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от дизельных автомо-ей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47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изель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28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05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NО</a:t>
                      </a:r>
                      <a:r>
                        <a:rPr b="0" lang="ru-RU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72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ОС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76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М всего,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19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br>
              <a:rPr sz="2000"/>
            </a:b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7120" y="785880"/>
          <a:ext cx="8429760" cy="5395680"/>
        </p:xfrm>
        <a:graphic>
          <a:graphicData uri="http://schemas.openxmlformats.org/drawingml/2006/table">
            <a:tbl>
              <a:tblPr/>
              <a:tblGrid>
                <a:gridCol w="1381320"/>
                <a:gridCol w="1025280"/>
                <a:gridCol w="901800"/>
                <a:gridCol w="898560"/>
                <a:gridCol w="866880"/>
                <a:gridCol w="852480"/>
                <a:gridCol w="882360"/>
                <a:gridCol w="722520"/>
                <a:gridCol w="898560"/>
              </a:tblGrid>
              <a:tr h="29844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треб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рода 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ота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ры диокс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глеводор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ажа,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P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сего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опливо, тыс. тонн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 тон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етодология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9.0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4.7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5.7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.1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08.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циональная методолог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68.3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9.3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6.6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.7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68.8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436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иж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1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жат.газ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ерерасчет по нац. мет.  при расходе топлива, соответ-щем полученному по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PER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енз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7.1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5.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9.5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7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35.6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31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53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зница между двумя методологиями при одинаковом расходе топлива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8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5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ход топлива по методологи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ERT I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еньше, чем по национальной методологии для бензина на 33,5 тыс.тонн (3%), для дизельного топлива на 120 тыс.тонн (8%).  Так как национальная статистика дает точную цифру потребления топлива, то, вероятно, данная разница обусловлена тем, что "разница топлива" потребляется не автомобилями, находящимися в эксплуатации в Республике а автомобилями приграничных районов  из-за низкой цены на топливо в Республике Иран, а также транзитными автомобилями, осуществляющими перевозки из стран  Российскую Федерацию и Ту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Arial"/>
              </a:rPr>
              <a:t>Сравниваем полученные данные с данными, полученными в отчете по национальной методологии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35684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ациональную методологию пересчитать на количество топлива, потребленное только транспортными средствами, эксплуатируемыми в Аз.Республике, то получаться достаточно близкие цифры п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+1.4%) и ЛОС (-5.2%), что вкладывается в погрешность принятия различных допущений в настоящем отчете в отношении того или иного автомобиля к законодательству Е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оксиду углерод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твердым частицам (РМ) показатели по методолог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PERT IV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начительно ниже, чем по национальной методологии: СО – на 28,6%, РМ – на 30,0%, что говорит о том, что если сделать очень серьезный анализ всех типов транспортных средств и правильно их распределить на соответствие законодательству ЕС, то получается, что удельные показатели по СО и по РМ завышены в национальной методоло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Прямоугольник 1"/>
          <p:cNvSpPr/>
          <p:nvPr/>
        </p:nvSpPr>
        <p:spPr>
          <a:xfrm>
            <a:off x="2500200" y="264312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дарю за внима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Государственные органы / ведомства, которые участвуют в инвентаризации выбр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инвентаризации выбросов из Государственных органов участвуют Эко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нтр Республики и Департамент мониторинга окружающей среды, а также экологические службы отдельных комп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едоставляются ли также информационные сообщения о результатах инвентариз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 результатом инвентаризации разрабатывается проект ПДВ, составляется статистический отчет предприятия, который предоставляются Статистическому Комитету Аз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Roman AzLat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Line 139"/>
          <p:cNvSpPr/>
          <p:nvPr/>
        </p:nvSpPr>
        <p:spPr>
          <a:xfrm>
            <a:off x="5705640" y="2141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24000" y="2060640"/>
          <a:ext cx="8567640" cy="3936960"/>
        </p:xfrm>
        <a:graphic>
          <a:graphicData uri="http://schemas.openxmlformats.org/drawingml/2006/table">
            <a:tbl>
              <a:tblPr/>
              <a:tblGrid>
                <a:gridCol w="647640"/>
                <a:gridCol w="936360"/>
                <a:gridCol w="1224000"/>
                <a:gridCol w="1190880"/>
                <a:gridCol w="753840"/>
                <a:gridCol w="1008000"/>
                <a:gridCol w="1067040"/>
                <a:gridCol w="950760"/>
                <a:gridCol w="789120"/>
              </a:tblGrid>
              <a:tr h="337320"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а промыш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нных объектов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ства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ч-ников выбро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а вредных веществ, выбра-сываемых в атмосферу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ердые частиц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 них: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нис-тый ангид-р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ь углерода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ислы азота            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гле-водо-роды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з.Р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9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6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6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584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4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7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7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32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5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259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8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36000" rIns="36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мга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6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Rectangle 298"/>
          <p:cNvSpPr/>
          <p:nvPr/>
        </p:nvSpPr>
        <p:spPr>
          <a:xfrm>
            <a:off x="468360" y="79992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материалам проектов ПДВ составляются статистические характеристики выбросов вредных веществ. (2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да по Аз.Р.)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 %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ционарных источни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z-Latn-AZ" sz="1800" spc="-1" strike="noStrike">
                <a:solidFill>
                  <a:srgbClr val="ffffff"/>
                </a:solidFill>
                <a:latin typeface="Arial"/>
              </a:rPr>
              <a:t>в Республике сосредоточены в г Бак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ыбросы углеводородов составляет 87%, выбросы других веществ 53-77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03"/>
          <p:cNvSpPr/>
          <p:nvPr/>
        </p:nvSpPr>
        <p:spPr>
          <a:xfrm>
            <a:off x="468360" y="5761080"/>
            <a:ext cx="845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864396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285840" y="1857240"/>
          <a:ext cx="8229600" cy="2216160"/>
        </p:xfrm>
        <a:graphic>
          <a:graphicData uri="http://schemas.openxmlformats.org/drawingml/2006/table">
            <a:tbl>
              <a:tblPr/>
              <a:tblGrid>
                <a:gridCol w="936360"/>
                <a:gridCol w="706680"/>
                <a:gridCol w="733320"/>
                <a:gridCol w="800280"/>
                <a:gridCol w="938160"/>
                <a:gridCol w="822240"/>
                <a:gridCol w="895320"/>
                <a:gridCol w="750960"/>
                <a:gridCol w="906480"/>
                <a:gridCol w="739800"/>
              </a:tblGrid>
              <a:tr h="537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рны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ыс.т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ыброс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ци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р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точни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Авт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ыс.то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з.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7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4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8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а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11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9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9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5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умга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1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75"/>
          <p:cNvSpPr/>
          <p:nvPr/>
        </p:nvSpPr>
        <p:spPr>
          <a:xfrm>
            <a:off x="250920" y="49417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У: По сравнению с 1990-м годом выбросы в атмосферу, от стационар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ов уменьшился в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, а выбросы от автотранспорта увеличили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а. Вклад автотранспорта в общем выбросе составляет 7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129"/>
          <p:cNvSpPr/>
          <p:nvPr/>
        </p:nvSpPr>
        <p:spPr>
          <a:xfrm>
            <a:off x="1403280" y="1072080"/>
            <a:ext cx="57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3788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 выбросов по городам  Баку  и  Сумга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Rectangle 1329"/>
          <p:cNvSpPr/>
          <p:nvPr/>
        </p:nvSpPr>
        <p:spPr>
          <a:xfrm>
            <a:off x="1361520" y="4493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1657"/>
          <p:cNvSpPr/>
          <p:nvPr/>
        </p:nvSpPr>
        <p:spPr>
          <a:xfrm>
            <a:off x="324000" y="2421000"/>
            <a:ext cx="86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2. Если используется не Руководство по инвентаризации EMEP/EAООС, просьба пояснить конкретные подходы и методологию инвентаризации выбро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В  настоящее  время  в  Республике  Азербайджан  не  реализованы  и  не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применены принципы  Директивы  о  промышленном  загрязнении  </a:t>
            </a:r>
            <a:r>
              <a:rPr b="1" lang="en-US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10/75/EU и Руководство  ЕМЕП/ЕАОС по инвентаризации - выбросов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50920" y="1261440"/>
            <a:ext cx="87138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ционарные источн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вентаризация выбросов загрязняющих  веществ  в атмосферный воздух стационарными источниками в Азербайджане осуществляется  по методики  "Правил инвентаризации вредных выбросов в атмосферный воздух и источников, оказывающих на него физическое воздействие" утвержденный постановлением  Кабинета  Министров Азербайджанской Республики от 15 апреля 2002 года № 6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роведении инвентаризации используются инструментальны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ментально-расчетные и   расчетные   методы определения выбросов загрязняющих веществ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Республике  Азербайджан  нет  единой  базы  данных  по  удельным  выбросам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 источников  выбросов  промышленных  предприятий.  Методические  указания применяемые  для  расчета  выбросов загрязняющих  веществ  от  стационарных источников разработаны отраслевыми институтами Российской Федерации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этому для  расчета  выбросов  загрязняющих  веществ  от  стационарных источников используется разные программы Р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324000" y="1021320"/>
            <a:ext cx="85690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     </a:t>
            </a:r>
            <a:r>
              <a:rPr b="1" lang="ru-RU" sz="2000" spc="-1" strike="noStrike">
                <a:solidFill>
                  <a:srgbClr val="92d050"/>
                </a:solidFill>
                <a:latin typeface="Times New Roman"/>
                <a:ea typeface="Arial"/>
              </a:rPr>
              <a:t>В нефтеперерабатывающих и цементных заводах инвентаризация крупных точечных источников (высота 140- 170 м, диаметр 4-6 м ) проводится инструментально – расчетными метод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тный газ (ПГ). Одной из самых актуальных проблем нефтедобычи является утилизация попутного газа. Сжигание попутного газа производится на факельных установках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целом по стране на факелах сгорает около 20 миллиардов кубических метров попутного газа. За 2006-2011 гг. выбросы попутного газа в атмосферу сократились почти в 2 раза – с 578,6 млн. кубометров до 298,3 млн. кубометров в год». «За несколько лет в результате целого ряда организационно-технических мероприятий объем выбросов попутных газов в атмосферу сократился в 2-3 раза. Проекты по снижению выбросов попутного газа реализуются как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так и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P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В 2012 году компания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AR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планирует довести объем сбора попутных газов на собственных месторождениях д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Семинар </a:t>
            </a:r>
            <a:br>
              <a:rPr sz="2000"/>
            </a:br>
            <a:r>
              <a:rPr b="0" lang="ru-RU" sz="2000" spc="-1" strike="noStrike">
                <a:solidFill>
                  <a:srgbClr val="dfdef6"/>
                </a:solidFill>
                <a:latin typeface="Times New Roman"/>
                <a:ea typeface="Times New Roman"/>
              </a:rPr>
              <a:t>«Инвентаризация выбросов»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настоящее время в АР инвентаризация источников выброса в Сельском хозяйство не прово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Имеется ли программное обеспечение для сбора и обработки данных инвентаризации выбросов?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-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 Комитете статистики име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5:14:29Z</dcterms:created>
  <dc:creator>User</dc:creator>
  <dc:description/>
  <dc:language>en-US</dc:language>
  <cp:lastModifiedBy>pc</cp:lastModifiedBy>
  <dcterms:modified xsi:type="dcterms:W3CDTF">2013-12-09T11:35:26Z</dcterms:modified>
  <cp:revision>160</cp:revision>
  <dc:subject/>
  <dc:title>Слайд 1</dc:title>
</cp:coreProperties>
</file>