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CCA6A-5988-438F-8AEE-A7F2B3BA5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FB093-1062-485E-A1CE-B02871ED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0FA20-8388-4764-B065-077B6ACF8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ADC26-E542-4D42-AE1D-4E3AC9AD6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C6C4-05A0-4FEF-8B64-6476B2CCA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6644-5E1B-4FC0-A712-99165D05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9FF7-C00F-46F1-AD32-56D3E7AD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1156-38D4-4946-9DA0-A4AA3DD8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E59D-5790-4783-B382-802F1775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E3DE-9ABE-4D08-AC9C-B786297E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608B-2E88-4C5D-8D62-866E0894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0A118-C6BB-4DC0-917A-775DA5AD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19C9-40FA-4940-9891-F65EC873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0944-FBDE-4355-96E4-5EB07F36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DD21-D093-4013-9596-A33CEB4A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D039-3179-4437-8196-E1CAD97C8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6D37-752F-4B99-B38C-60FDFBA54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0222E-71FE-4B72-959C-0CBC210D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77459-9F23-4433-9030-C1FAB27A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01C43-9857-4E53-9100-7C6035B0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EC38B-6BE5-4098-9D32-CD0565FD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0DED4-9D2F-4C48-98B5-00B0F45F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49F1C-7666-44B5-9579-EE5AF888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9DAAF-47F4-41A7-A0E3-7F5237FA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C45A-1024-4C5F-B14B-9E7BA995A4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876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E65D-E9E6-47FC-A0BE-B03E403825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hyperlink" Target="http://catalog.az/ru/15_/toplivo.php" TargetMode="External"/><Relationship Id="rId8" Type="http://schemas.openxmlformats.org/officeDocument/2006/relationships/hyperlink" Target="http://catalog.az/ru/15_/elektro.php" TargetMode="External"/><Relationship Id="rId9" Type="http://schemas.openxmlformats.org/officeDocument/2006/relationships/hyperlink" Target="http://catalog.az/ru/15_/gorndob.php" TargetMode="External"/><Relationship Id="rId10" Type="http://schemas.openxmlformats.org/officeDocument/2006/relationships/hyperlink" Target="http://catalog.az/ru/15_/chornayamet.php" TargetMode="External"/><Relationship Id="rId11" Type="http://schemas.openxmlformats.org/officeDocument/2006/relationships/image" Target="../media/image1.png"/><Relationship Id="rId12" Type="http://schemas.openxmlformats.org/officeDocument/2006/relationships/hyperlink" Target="http://catalog.az/ru/15_/svetnayamet.php" TargetMode="External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и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вентаризация выбросов о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ационарных и передвижных                                     источ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зербайджан  Рафиев Рамиз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Нынешнее состояние национального кадастра выброс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настоящее время в АР  Кадастр Выбросов на стадии разрабо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2d050"/>
                </a:solidFill>
                <a:latin typeface="Arial"/>
              </a:rPr>
              <a:t>Анализ национальных норм и стандартов</a:t>
            </a:r>
            <a:r>
              <a:rPr b="1" lang="ru-RU" sz="2400" spc="-1" strike="noStrike">
                <a:solidFill>
                  <a:srgbClr val="92d05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Нормативы качества окружающей среды и рассчитанные на их основе нормативы воздействия на окружающую среду жестче мировых</a:t>
            </a:r>
            <a:r>
              <a:rPr b="0" lang="az-Latn-AZ" sz="2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В 2014 г. планируется разрабатывать новые ПДК вредных веществ с учетом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Директива N 2008/50/ЕС Европейского парламента и Совета "О качестве атмосферного воздуха  и мерах его очистки"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35684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Когда Секретариату Конвенции были представлены отчеты в последний раз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Arial"/>
              </a:rPr>
              <a:t>Секретариату Конвенции были представлены отчеты в 2011 –м год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дготавливаются ли отчеты ежегодн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Отчеты ежегодно не подготавливаются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Расчеты выбросов от каких  секторов проводятся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99ff"/>
                </a:solidFill>
                <a:uFillTx/>
                <a:latin typeface="Times New Roman"/>
                <a:ea typeface="Times New Roman"/>
                <a:hlinkClick r:id="rId7"/>
              </a:rPr>
              <a:t>Топливная промышленность</a:t>
            </a:r>
            <a:r>
              <a:rPr b="1" lang="ru-RU" sz="2000" spc="-1" strike="noStrike" u="sng">
                <a:solidFill>
                  <a:srgbClr val="92d050"/>
                </a:solidFill>
                <a:uFillTx/>
                <a:latin typeface="Times New Roman"/>
                <a:ea typeface="Times New Roman"/>
              </a:rPr>
              <a:t>, </a:t>
            </a:r>
            <a:r>
              <a:rPr b="0" lang="ru-RU" sz="2000" spc="-1" strike="noStrike" u="sng">
                <a:solidFill>
                  <a:srgbClr val="9999ff"/>
                </a:solidFill>
                <a:uFillTx/>
                <a:latin typeface="Times New Roman"/>
                <a:ea typeface="Times New Roman"/>
                <a:hlinkClick r:id="rId8"/>
              </a:rPr>
              <a:t>Электроэнергетик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ru-RU" sz="2000" spc="-1" strike="noStrike" u="sng">
                <a:solidFill>
                  <a:srgbClr val="9999ff"/>
                </a:solidFill>
                <a:uFillTx/>
                <a:latin typeface="Times New Roman"/>
                <a:ea typeface="Times New Roman"/>
                <a:hlinkClick r:id="rId9"/>
              </a:rPr>
              <a:t>Горнодобывающая промышленность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ru-RU" sz="2000" spc="-1" strike="noStrike" u="sng">
                <a:solidFill>
                  <a:srgbClr val="9999ff"/>
                </a:solidFill>
                <a:uFillTx/>
                <a:latin typeface="Times New Roman"/>
                <a:ea typeface="Times New Roman"/>
                <a:hlinkClick r:id="rId10"/>
              </a:rPr>
              <a:t>Черная металлургия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99ff"/>
                </a:solidFill>
                <a:uFillTx/>
                <a:latin typeface="Times New Roman"/>
                <a:ea typeface="Times New Roman"/>
                <a:hlinkClick r:id="rId12"/>
              </a:rPr>
              <a:t>Цветная металлургия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Химическая и нефтехимическая промышленность, Машиностроение и металлообработка, Промышленность строительных материалов, Легкая промышленнос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 каких секторах  в данный момент информации нет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О </a:t>
            </a:r>
            <a:r>
              <a:rPr b="1" lang="en-GB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Сельско</a:t>
            </a: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м</a:t>
            </a:r>
            <a:r>
              <a:rPr b="1" lang="en-GB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и домашнем </a:t>
            </a:r>
            <a:r>
              <a:rPr b="1" lang="en-GB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хозяйств</a:t>
            </a: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е в данный момент информации не имее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ыбросы каких веществ расчитываются в данным  момент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 данный  момент можно сказать что расчитываю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ыбросы  традиционно принятых вещест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24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Roman AzLat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Roman AzLat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Rectangle 1024"/>
          <p:cNvSpPr/>
          <p:nvPr/>
        </p:nvSpPr>
        <p:spPr>
          <a:xfrm>
            <a:off x="395280" y="149256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5. Формы отчётности для выбросов от стационарных источ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аблица № 2 - Источники выделения загрязняющих веществ (И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250920" y="2565360"/>
          <a:ext cx="8713800" cy="331956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39800"/>
                <a:gridCol w="987480"/>
                <a:gridCol w="720720"/>
                <a:gridCol w="863640"/>
                <a:gridCol w="720720"/>
                <a:gridCol w="936720"/>
                <a:gridCol w="934920"/>
                <a:gridCol w="936720"/>
              </a:tblGrid>
              <a:tr h="14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цех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ание участ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мер источника выд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ИВ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ание выдел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ИВ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ре мя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бо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-сота источ-ника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аметр устья источ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ика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араметдушной на вы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точ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ос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азовоз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мес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оде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 выб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сут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ъем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3/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пера-тура, гра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Roman AzLat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Roman AzLat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539640" y="2637000"/>
          <a:ext cx="8353440" cy="3498840"/>
        </p:xfrm>
        <a:graphic>
          <a:graphicData uri="http://schemas.openxmlformats.org/drawingml/2006/table">
            <a:tbl>
              <a:tblPr/>
              <a:tblGrid>
                <a:gridCol w="792360"/>
                <a:gridCol w="620640"/>
                <a:gridCol w="1211400"/>
                <a:gridCol w="904680"/>
                <a:gridCol w="927000"/>
                <a:gridCol w="1033560"/>
                <a:gridCol w="1103400"/>
                <a:gridCol w="1044360"/>
                <a:gridCol w="716040"/>
              </a:tblGrid>
              <a:tr h="642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дное вещество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ЗВ, отходящих от И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азоочистного оборудо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мер ИЗА  в которы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тупают вредные веществ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 ИВ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ан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каждом режим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онн в год)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/се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/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0" name="Rectangle 226"/>
          <p:cNvSpPr/>
          <p:nvPr/>
        </p:nvSpPr>
        <p:spPr>
          <a:xfrm>
            <a:off x="0" y="44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231"/>
          <p:cNvSpPr/>
          <p:nvPr/>
        </p:nvSpPr>
        <p:spPr>
          <a:xfrm>
            <a:off x="1831320" y="220428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должение таблицы № 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Line 131"/>
          <p:cNvSpPr/>
          <p:nvPr/>
        </p:nvSpPr>
        <p:spPr>
          <a:xfrm>
            <a:off x="3040200" y="2381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355"/>
          <p:cNvSpPr/>
          <p:nvPr/>
        </p:nvSpPr>
        <p:spPr>
          <a:xfrm>
            <a:off x="395280" y="1310400"/>
            <a:ext cx="846144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Arial"/>
              </a:rPr>
              <a:t>6.  Периодичность подготовки этих отчётов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рок действия проекта по инвентаризации составляет пять лет. Досрочная  инвентаризация осуществляется в случаях: изменения технологии   производства, качества и вида применяемого топлива,  сырья  или  материалов и после проведения реконструкции технологического   оборудования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c000"/>
              </a:buClr>
              <a:buFont typeface="Times New Roman"/>
              <a:buAutoNum type="arabicPeriod" startAt="7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Arial"/>
              </a:rPr>
              <a:t>Доступность дан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Arial"/>
              </a:rPr>
              <a:t>Открытые публикации 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Arial"/>
              </a:rPr>
              <a:t>     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Arial"/>
              </a:rPr>
              <a:t>Для специалистов 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Arial"/>
              </a:rPr>
              <a:t>     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Arial"/>
              </a:rPr>
              <a:t>Данные в сети Интернета для специалистов отсутствую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циональное  законодательство  не  адаптировано  к  требованиям  Директив  Евросоюза:  Отсутствует  перечень  основных  промышленных   производств  и  их оценка по отраслям в соответствии с приложением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рективы  о  промышленном  загрязнении  2010/75/EU и Руководство  ЕМЕП/ЕАОС по инвентаризации - выбросов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 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6" name="Picture 4" descr="0130_subst0301"/>
          <p:cNvPicPr/>
          <p:nvPr/>
        </p:nvPicPr>
        <p:blipFill>
          <a:blip r:embed="rId1"/>
          <a:stretch/>
        </p:blipFill>
        <p:spPr>
          <a:xfrm>
            <a:off x="2627280" y="1339920"/>
            <a:ext cx="5004000" cy="500364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5"/>
          <p:cNvSpPr/>
          <p:nvPr/>
        </p:nvSpPr>
        <p:spPr>
          <a:xfrm>
            <a:off x="755640" y="836640"/>
            <a:ext cx="799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ле рассеивания окислов азота от выбросов НПЗ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2.</a:t>
            </a: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dfdef6"/>
                </a:solidFill>
                <a:latin typeface="Arial"/>
              </a:rPr>
              <a:t>Инвентаризация выбросов от </a:t>
            </a:r>
            <a:br>
              <a:rPr sz="2000"/>
            </a:br>
            <a:r>
              <a:rPr b="1" lang="ru-RU" sz="2000" spc="-1" strike="noStrike">
                <a:solidFill>
                  <a:srgbClr val="dfdef6"/>
                </a:solidFill>
                <a:latin typeface="Arial"/>
              </a:rPr>
              <a:t>  передвижных источников.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14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</a:rPr>
              <a:t>Государственные органы/ведомства, которые участвуют в инвентаризации выбросов от передвижных источн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14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Times New Roman"/>
              </a:rPr>
              <a:t>В инвентаризации выбросов из Государственных органов участвуют Эко</a:t>
            </a:r>
            <a:r>
              <a:rPr b="0" lang="en-US" sz="2000" spc="-1" strike="noStrike">
                <a:solidFill>
                  <a:srgbClr val="92d05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92d050"/>
                </a:solidFill>
                <a:latin typeface="Times New Roman"/>
              </a:rPr>
              <a:t>центр Республики и Департамент мониторинга окружающей среды, а также экологические службы отдельных компаний</a:t>
            </a:r>
            <a:r>
              <a:rPr b="0" lang="ru-RU" sz="3200" spc="-1" strike="noStrike">
                <a:solidFill>
                  <a:srgbClr val="92d05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92d05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Используемые методики, удельные выбросы и характеристика источников выбросов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141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Инвентаризация выбросов от передвижных источников</a:t>
            </a:r>
            <a:r>
              <a:rPr b="1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проводится по </a:t>
            </a:r>
            <a:r>
              <a:rPr b="0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"Методика определения выбросов вредн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14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еществ в атмосферный воздух от автотранспортных потоков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14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движущихся по автомагистралям</a:t>
            </a:r>
            <a:r>
              <a:rPr b="0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Санкт-Петербурга“</a:t>
            </a:r>
            <a:r>
              <a:rPr b="0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05 г. </a:t>
            </a:r>
            <a:r>
              <a:rPr b="0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N309                        </a:t>
            </a:r>
            <a:r>
              <a:rPr b="0" lang="ru-RU" sz="2000" spc="-1" strike="noStrike" u="sng">
                <a:solidFill>
                  <a:srgbClr val="92d050"/>
                </a:solidFill>
                <a:uFillTx/>
                <a:latin typeface="Times New Roman"/>
                <a:ea typeface="Times New Roman"/>
              </a:rPr>
              <a:t> и методика </a:t>
            </a:r>
            <a:r>
              <a:rPr b="0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"Правил инвентаризации вредных выбросов в атмосферный воздух и источников, оказывающих на него физическое воздействие"  Аз.Р. 2002 г. № 63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141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3" marL="799560" indent="1659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акие источники учитываются при инвентаризации выбросов от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ередвижных источников. </a:t>
            </a:r>
            <a:r>
              <a:rPr b="1" lang="ru-RU" sz="2000" spc="-1" strike="noStrike">
                <a:solidFill>
                  <a:srgbClr val="92d050"/>
                </a:solidFill>
                <a:latin typeface="Arial"/>
              </a:rPr>
              <a:t>Инвентаризация выбросов от </a:t>
            </a:r>
            <a:r>
              <a:rPr b="1" lang="en-US" sz="20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2d050"/>
                </a:solidFill>
                <a:latin typeface="Arial"/>
              </a:rPr>
              <a:t>передвижных источников проводится в автомагистралях и регулируемых перекрестках.</a:t>
            </a:r>
            <a:r>
              <a:rPr b="0" lang="ru-RU" sz="2000" spc="-1" strike="noStrike">
                <a:solidFill>
                  <a:srgbClr val="92d05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799560" indent="1659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инвентаризации выбросов автотранспорта на городских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томагистралях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роводится изучение особенностей распределения автотранспортных потоков (их состава и интенсивности) по городу и их изменений во времени (в течение суток, недели и год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335520" algn="just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ходе проведения натурных обследований дополнительно определяется ряд параметров, необходимых как для расчета выбросов, так и проведения расчетов загрязнения атмосфе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335520" algn="just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каждой автомагистрали (или ее участке) фиксируются следующие параметр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342720" algn="just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ирина проезжей части (в метрах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342720" algn="just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личество полос движения в каждом направлен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342720" algn="just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тяженность выбранного участка автомагистрали (в км) с указанием названий улиц, ограничивающих данную автомагистраль (или ее участок);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3427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редняя скорость автотранспортного потока с подразделением на три основные категории: легковые, грузовые и автобусы (в км/час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34272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екущее состояние инвентаризации выбросов и соответствующей отчетности в странах-партнер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.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вентаризации выбросов от стационарных источн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92d050"/>
                </a:solidFill>
                <a:latin typeface="Arial"/>
              </a:rPr>
              <a:t>. </a:t>
            </a:r>
            <a:r>
              <a:rPr b="1" lang="ru-RU" sz="22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Предоставляет ли страна отчёт об инвентаризации выбросов в рамках Конвенции о трансграничном загрязнении воздуха на большие расстояния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   </a:t>
            </a:r>
            <a:r>
              <a:rPr b="1" lang="ru-RU" sz="22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«Конвенция о трансграничном загрязнении воздуха на большие  расстояния   вступила в силу в Азербайджане в 09.04.2002 года.  Отчёт об инвентаризации выбросов в рамках Конвенции о трансграничном загрязнении воздуха на большие расстояния не предоставляетс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285560"/>
            <a:ext cx="822960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3" marL="478800" indent="6840" algn="just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рмы отчётности для выбросов от передвижных источников и периодичность подготовки отчёт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78800" indent="6840" algn="just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АР используется стандартные формы отчётности, которые  приведены  в методике "Правил инвентаризации вредных выбросов в атмосферный воздух и источников, оказывающих на него физическое воздействие"  Аз.Р. 2002 г. № 6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евой журнал обследования характеристик движущего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транспортного потока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аименование улицы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аправление движ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Этажность прилегающих здан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Ширина проезжей части (м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Количество полос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и и другие информации заполняются в журнале формы отчет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dfdef6"/>
                </a:solidFill>
                <a:latin typeface="Arial"/>
              </a:rPr>
              <a:t>Поле рассеивания окислов азота от выбросов автотранспортного потока</a:t>
            </a:r>
            <a:br>
              <a:rPr sz="2000"/>
            </a:b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7" name="Picture 5" descr="F:\img002.jpg"/>
          <p:cNvPicPr/>
          <p:nvPr/>
        </p:nvPicPr>
        <p:blipFill>
          <a:blip r:embed="rId1"/>
          <a:stretch/>
        </p:blipFill>
        <p:spPr>
          <a:xfrm>
            <a:off x="1017720" y="1071720"/>
            <a:ext cx="76374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28400" y="5571720"/>
            <a:ext cx="8358120" cy="6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ле рассеивания окиси  углерода от выбросов автотранспортного пото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0" name="Picture 2" descr="F:\img001.jpg"/>
          <p:cNvPicPr/>
          <p:nvPr/>
        </p:nvPicPr>
        <p:blipFill>
          <a:blip r:embed="rId1"/>
          <a:srcRect l="3109" t="0" r="3109" b="0"/>
          <a:stretch/>
        </p:blipFill>
        <p:spPr>
          <a:xfrm>
            <a:off x="1792440" y="612720"/>
            <a:ext cx="64944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программе Copert 4, проводили расчет для определения количества выбросов, создаваемых дорожным транспортом.  При этом  ведется учет расхода транспортного топлив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основании методологи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ERT IV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был проведен расчет для  углерода оксид, азота диоксид, серы диоксид, углеводороды, твердые частиц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равниваем полученные данные с данными, полученными в  отчете по национальной методолог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Таблица  Суммарный выброс от бензинзиновых и дизельных </a:t>
            </a:r>
            <a:br>
              <a:rPr sz="2000"/>
            </a:br>
            <a:r>
              <a:rPr b="0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автомлей </a:t>
            </a:r>
            <a:br>
              <a:rPr sz="2000"/>
            </a:b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457200" y="1428840"/>
          <a:ext cx="8229600" cy="4605120"/>
        </p:xfrm>
        <a:graphic>
          <a:graphicData uri="http://schemas.openxmlformats.org/drawingml/2006/table">
            <a:tbl>
              <a:tblPr/>
              <a:tblGrid>
                <a:gridCol w="1074600"/>
                <a:gridCol w="662040"/>
                <a:gridCol w="1135080"/>
                <a:gridCol w="576360"/>
                <a:gridCol w="1220760"/>
                <a:gridCol w="650880"/>
                <a:gridCol w="1052640"/>
                <a:gridCol w="460080"/>
                <a:gridCol w="662040"/>
                <a:gridCol w="735120"/>
              </a:tblGrid>
              <a:tr h="150804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O от бензин-ых автом-лей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05904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О</a:t>
                      </a:r>
                      <a:r>
                        <a:rPr b="0" lang="ru-RU" sz="1600" spc="-1" strike="noStrike" baseline="-25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от бензин-х автомо-лей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9345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ОС от бензин-х автом-илей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6393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М от бензин-ых автом-лей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26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ензин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26416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888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O от дизельных автом-лей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3148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О</a:t>
                      </a:r>
                      <a:r>
                        <a:rPr b="0" lang="ru-RU" sz="1600" spc="-1" strike="noStrike" baseline="-25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от дизельных автомо-лей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5380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ОС от дизельных автомо-лей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9370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М от дизельных автомо-ей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472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изель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316287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820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O всего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19053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О</a:t>
                      </a:r>
                      <a:r>
                        <a:rPr b="0" lang="ru-RU" sz="1600" spc="-1" strike="noStrike" baseline="-25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всего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4725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ОС всего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5763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М всего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198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Arial"/>
              </a:rPr>
              <a:t>Сравниваем полученные данные с данными, полученными в отчете по национальной методологии.</a:t>
            </a:r>
            <a:br>
              <a:rPr sz="2000"/>
            </a:b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357120" y="785880"/>
          <a:ext cx="8429760" cy="5395680"/>
        </p:xfrm>
        <a:graphic>
          <a:graphicData uri="http://schemas.openxmlformats.org/drawingml/2006/table">
            <a:tbl>
              <a:tblPr/>
              <a:tblGrid>
                <a:gridCol w="1381320"/>
                <a:gridCol w="1025280"/>
                <a:gridCol w="901800"/>
                <a:gridCol w="898560"/>
                <a:gridCol w="866880"/>
                <a:gridCol w="852480"/>
                <a:gridCol w="882360"/>
                <a:gridCol w="722520"/>
                <a:gridCol w="898560"/>
              </a:tblGrid>
              <a:tr h="298440"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отребл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Углерода окси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зота диокси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еры диокси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Углеводоро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ажа,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сего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96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опливо, тыс. тонн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ыс. тон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етодология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OPERT I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ензи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26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19.0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4.7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.2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5.7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.1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08.9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316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7000">
                <a:tc rowSpan="4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ациональная методолог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ензи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59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68.3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9.3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.7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6.6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.7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68.8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436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жиж.га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1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жат.га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7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ерерасчет по нац. мет.  при расходе топлива, соответ-щем полученному по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OPERT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ензи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26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47.1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5.5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.7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9.5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.7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35.6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316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532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азница между двумя методологиями при одинаковом расходе топлива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8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6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5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0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9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Arial"/>
              </a:rPr>
              <a:t>Сравниваем полученные данные с данными, полученными в отчете по национальной методологии.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ход топлива по методологи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ERT IV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меньше, чем по национальной методологии для бензина на 33,5 тыс.тонн (3%), для дизельного топлива на 120 тыс.тонн (8%).  Так как национальная статистика дает точную цифру потребления топлива, то, вероятно, данная разница обусловлена тем, что "разница топлива" потребляется не автомобилями, находящимися в эксплуатации в Республике а автомобилями приграничных районов  из-за низкой цены на топливо в Республике Иран, а также транзитными автомобилями, осуществляющими перевозки из стран  Российскую Федерацию и Тур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Arial"/>
              </a:rPr>
              <a:t>Сравниваем полученные данные с данными, полученными в отчете по национальной методологии.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35684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национальную методологию пересчитать на количество топлива, потребленное только транспортными средствами, эксплуатируемыми в Аз.Республике, то получаться достаточно близкие цифры по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+1.4%) и ЛОС (-5.2%), что вкладывается в погрешность принятия различных допущений в настоящем отчете в отношении того или иного автомобиля к законодательству Е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оксиду углерода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и твердым частицам (РМ) показатели по методологи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ERT IV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значительно ниже, чем по национальной методологии: СО – на 28,6%, РМ – на 30,0%, что говорит о том, что если сделать очень серьезный анализ всех типов транспортных средств и правильно их распределить на соответствие законодательству ЕС, то получается, что удельные показатели по СО и по РМ завышены в национальной методолог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Прямоугольник 1"/>
          <p:cNvSpPr/>
          <p:nvPr/>
        </p:nvSpPr>
        <p:spPr>
          <a:xfrm>
            <a:off x="2500200" y="2643120"/>
            <a:ext cx="46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лагодарю за вниман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Государственные органы / ведомства, которые участвуют в инвентаризации выбро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инвентаризации выбросов из Государственных органов участвуют Эко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нтр Республики и Департамент мониторинга окружающей среды, а также экологические службы отдельных компа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Предоставляются ли также информационные сообщения о результатах инвентаризац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 результатом инвентаризации разрабатывается проект ПДВ, составляется статистический отчет предприятия, который предоставляются Статистическому Комитету Аз.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Roman AzLat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Roman AzLat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Line 139"/>
          <p:cNvSpPr/>
          <p:nvPr/>
        </p:nvSpPr>
        <p:spPr>
          <a:xfrm>
            <a:off x="5705640" y="2141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324000" y="2060640"/>
          <a:ext cx="8567640" cy="3936960"/>
        </p:xfrm>
        <a:graphic>
          <a:graphicData uri="http://schemas.openxmlformats.org/drawingml/2006/table">
            <a:tbl>
              <a:tblPr/>
              <a:tblGrid>
                <a:gridCol w="647640"/>
                <a:gridCol w="936360"/>
                <a:gridCol w="1224000"/>
                <a:gridCol w="1190880"/>
                <a:gridCol w="753840"/>
                <a:gridCol w="1008000"/>
                <a:gridCol w="1067040"/>
                <a:gridCol w="950760"/>
                <a:gridCol w="789120"/>
              </a:tblGrid>
              <a:tr h="337320">
                <a:tc rowSpan="3">
                  <a:txBody>
                    <a:bodyPr lIns="36000" rIns="36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az-Latn-A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ва промыш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az-Latn-A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енных объектов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az-Latn-A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ства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точ-ников выбро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а вредных веществ, выбра-сываемых в атмосферу,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о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6000" rIns="36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вердые частиц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36000" rIns="36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ом числе: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 них: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рнис-тый ангид-ри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ись углерода                                                                                                                                  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ислы азота                                                                                                                                                   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гле-водо-роды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з.Р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5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87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49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65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к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3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65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6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77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5842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72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42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671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77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232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53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259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87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мгаи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1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6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3" name="Rectangle 298"/>
          <p:cNvSpPr/>
          <p:nvPr/>
        </p:nvSpPr>
        <p:spPr>
          <a:xfrm>
            <a:off x="468360" y="79992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материалам проектов ПДВ составляются статистические характеристики выбросов вредных веществ. (20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да по Аз.Р.) </a:t>
            </a:r>
            <a:r>
              <a:rPr b="0" lang="az-Latn-AZ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z-Latn-AZ" sz="1800" spc="-1" strike="noStrike">
                <a:solidFill>
                  <a:srgbClr val="ffffff"/>
                </a:solidFill>
                <a:latin typeface="Arial"/>
              </a:rPr>
              <a:t> %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ационарных источнико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z-Latn-AZ" sz="1800" spc="-1" strike="noStrike">
                <a:solidFill>
                  <a:srgbClr val="ffffff"/>
                </a:solidFill>
                <a:latin typeface="Arial"/>
              </a:rPr>
              <a:t>в Республике сосредоточены в г Бак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выбросы углеводородов составляет 87%, выбросы других веществ 53-77%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303"/>
          <p:cNvSpPr/>
          <p:nvPr/>
        </p:nvSpPr>
        <p:spPr>
          <a:xfrm>
            <a:off x="468360" y="5761080"/>
            <a:ext cx="8459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-360" y="1214280"/>
            <a:ext cx="864396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285840" y="1857240"/>
          <a:ext cx="8229600" cy="2216160"/>
        </p:xfrm>
        <a:graphic>
          <a:graphicData uri="http://schemas.openxmlformats.org/drawingml/2006/table">
            <a:tbl>
              <a:tblPr/>
              <a:tblGrid>
                <a:gridCol w="936360"/>
                <a:gridCol w="706680"/>
                <a:gridCol w="733320"/>
                <a:gridCol w="800280"/>
                <a:gridCol w="938160"/>
                <a:gridCol w="822240"/>
                <a:gridCol w="895320"/>
                <a:gridCol w="750960"/>
                <a:gridCol w="906480"/>
                <a:gridCol w="739800"/>
              </a:tblGrid>
              <a:tr h="537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умм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рны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ыс.т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ыброс,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аци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рн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ыс.то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сточн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Авт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транспор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тыс.то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9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9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19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з.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53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75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7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26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4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8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ак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590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53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11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90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6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197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3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5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умга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2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2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0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8" name="Rectangle 75"/>
          <p:cNvSpPr/>
          <p:nvPr/>
        </p:nvSpPr>
        <p:spPr>
          <a:xfrm>
            <a:off x="250920" y="494172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КУ: По сравнению с 1990-м годом выбросы в атмосферу, от стационарн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чников уменьшился в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аз, а выбросы от автотранспорта увеличилис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,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аза. Вклад автотранспорта в общем выбросе составляет 7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%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129"/>
          <p:cNvSpPr/>
          <p:nvPr/>
        </p:nvSpPr>
        <p:spPr>
          <a:xfrm>
            <a:off x="1403280" y="1072080"/>
            <a:ext cx="574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03788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намика  выбросов по городам  Баку  и  Сумгаи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Rectangle 1329"/>
          <p:cNvSpPr/>
          <p:nvPr/>
        </p:nvSpPr>
        <p:spPr>
          <a:xfrm>
            <a:off x="1361520" y="4493880"/>
            <a:ext cx="3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1657"/>
          <p:cNvSpPr/>
          <p:nvPr/>
        </p:nvSpPr>
        <p:spPr>
          <a:xfrm>
            <a:off x="324000" y="2421000"/>
            <a:ext cx="860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2. Если используется не Руководство по инвентаризации EMEP/EAООС, просьба пояснить конкретные подходы и методологию инвентаризации выбро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  настоящее  время  в  Республике  Азербайджан  не  реализованы  и  не  </a:t>
            </a:r>
            <a:r>
              <a:rPr b="1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применены принципы  Директивы  о  промышленном  загрязнении  </a:t>
            </a:r>
            <a:r>
              <a:rPr b="1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10/75/EU и Руководство  ЕМЕП/ЕАОС по инвентаризации - выбросов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250920" y="1261440"/>
            <a:ext cx="871380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ctr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ционарные источн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вентаризация выбросов загрязняющих  веществ  в атмосферный воздух стационарными источниками в Азербайджане осуществляется  по методики  "Правил инвентаризации вредных выбросов в атмосферный воздух и источников, оказывающих на него физическое воздействие" утвержденный постановлением  Кабинета  Министров Азербайджанской Республики от 15 апреля 2002 года № 6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проведении инвентаризации используются инструментальны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струментально-расчетные и   расчетные   методы определения выбросов загрязняющих веществ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 Республике  Азербайджан  нет  единой  базы  данных  по  удельным  выбросам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т источников  выбросов  промышленных  предприятий.  Методические  указания применяемые  для  расчета  выбросов загрязняющих  веществ  от  стационарных источников разработаны отраслевыми институтами Российской Федерации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этому для  расчета  выбросов  загрязняющих  веществ  от  стационарных источников используется разные программы РФ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324000" y="1021320"/>
            <a:ext cx="8569080" cy="60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Arial"/>
              </a:rPr>
              <a:t>     </a:t>
            </a: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Arial"/>
              </a:rPr>
              <a:t>В нефтеперерабатывающих и цементных заводах инвентаризация крупных точечных источников (высота 140- 170 м, диаметр 4-6 м ) проводится инструментально – расчетными метод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путный газ (ПГ). Одной из самых актуальных проблем нефтедобычи является утилизация попутного газа. Сжигание попутного газа производится на факельных установках.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целом по стране на факелах сгорает около 20 миллиардов кубических метров попутного газа. За 2006-2011 гг. выбросы попутного газа в атмосферу сократились почти в 2 раза – с 578,6 млн. кубометров до 298,3 млн. кубометров в год». «За несколько лет в результате целого ряда организационно-технических мероприятий объем выбросов попутных газов в атмосферу сократился в 2-3 раза. Проекты по снижению выбросов попутного газа реализуются как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CAR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так и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P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В 2012 году компания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CAR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ланирует довести объем сбора попутных газов на собственных месторождениях до 100 процен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льское хозяй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настоящее время в АР инвентаризация источников выброса в Сельском хозяйство не проводи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Имеется ли программное обеспечение для сбора и обработки данных инвентаризации выбросов?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-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  Комитете статистики имее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2T05:14:29Z</dcterms:created>
  <dc:creator>User</dc:creator>
  <dc:description/>
  <dc:language>en-US</dc:language>
  <cp:lastModifiedBy>pc</cp:lastModifiedBy>
  <dcterms:modified xsi:type="dcterms:W3CDTF">2013-12-09T11:35:26Z</dcterms:modified>
  <cp:revision>160</cp:revision>
  <dc:subject/>
  <dc:title>Слайд 1</dc:title>
</cp:coreProperties>
</file>