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744-EC90-4118-AE69-2B4EA82F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32A-6D19-4B30-BCDD-790239E3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8BD-1202-4A7F-97EE-794BFCC7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59D-1FA2-4A69-A58F-9DBDBF99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CC5E-C904-417A-B112-9A540AFE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A074-5EEA-4ACA-A187-B764D32D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7AD4-6D9B-485F-94DE-CF6AD6C9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CFCD-5E85-4978-9EB0-55E49613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BC44-B0BE-4456-8BC0-56D1BAEE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E508-F67E-497D-A7E5-D2E9215E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4EF1-ED22-4313-9AA1-150CD00A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362-BCB8-4CA1-B02F-44F05E2D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6AFA-04E8-4029-9940-2192FBA4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6E03-2D9B-4E77-9DD9-202E876E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9C80-D166-43CF-88F5-E8A2E998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AD53-10B6-40FD-B68C-4E8F4AF9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AA99-997A-4DB9-B5D9-B6510978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183-F817-48FE-B8B8-A57DE446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AF4-8208-43F1-A284-A3AEFAC2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F45-7CF0-4448-92BF-0E2BD293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FF3-27F6-464C-A1BE-66C147AA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FB0-686F-4DB4-B6EF-CF16B6CF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B19-8EB0-457A-8518-4B1FE31B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0F4-2AA7-40AD-A0A7-171D909E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8024-F8C8-4020-A603-D1F7ED61D8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7D1E-FEA1-4144-AEAE-931DFBAC025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49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d624"/>
                </a:solidFill>
                <a:latin typeface="Verdana"/>
              </a:rPr>
              <a:t>Module 9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Knowledge sharing context in DEVC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Staff cuts, simplification exercice ongo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New Mission statement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opeAid aims at being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learning organis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Learning and Knowledge development strategy in the making of aid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Management increasingly present on the Knowledge Sharing platform capacity4de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unities of practice: Grou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rcRect l="0" t="0" r="0" b="18877"/>
          <a:stretch/>
        </p:blipFill>
        <p:spPr>
          <a:xfrm>
            <a:off x="5170320" y="402732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48360" y="2230560"/>
            <a:ext cx="3095640" cy="179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79280" y="2600280"/>
            <a:ext cx="421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ory telling: Voices &amp; View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26287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2760840" y="2276640"/>
            <a:ext cx="210492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4"/>
          <a:srcRect l="0" t="8780" r="0" b="11291"/>
          <a:stretch/>
        </p:blipFill>
        <p:spPr>
          <a:xfrm>
            <a:off x="14400" y="4429080"/>
            <a:ext cx="479088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435640" y="2502000"/>
            <a:ext cx="31208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4865760" y="4599000"/>
            <a:ext cx="4095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ing up next =&gt; 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 (March 2014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84360" y="3718080"/>
            <a:ext cx="5975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CHO HIDALGA Maria (DEVCO)</cp:lastModifiedBy>
  <cp:lastPrinted>2013-03-25T09:55:49Z</cp:lastPrinted>
  <dcterms:modified xsi:type="dcterms:W3CDTF">2014-03-17T09:49:32Z</dcterms:modified>
  <cp:revision>188</cp:revision>
  <dc:subject/>
  <dc:title>Slide 1</dc:title>
</cp:coreProperties>
</file>