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19353-9714-4A73-90CA-8A15547426F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7C012-01A2-4DB6-BB5E-A9199826B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1C85C-1A50-4F44-BC7F-CEB87B06E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48695-01B4-4C8D-A0AB-85F6224DE7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8A4AD-388C-4991-B37E-106E19E07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23FDF0-6BE6-4D5E-8E5A-AAC6E189C6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2572D3-A027-4A2F-BD52-15594BCA3C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FF9F45-8BA4-4835-A858-985B20E13F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AA3A8-3F8F-44A9-B1A1-CD33183DE0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D4E81D-111F-4947-9090-B1CA7AB96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46BCD6-FF99-40FA-9C41-D57E4348D1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02C4C-46D4-4818-B5AA-CDC08BE12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49235-5FF9-4165-8D0B-3128AFB0C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A3AA2-9541-443F-95F7-42B76033C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EFA0F-F6ED-4688-8C73-1D01FADA9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385365-E457-4E34-95C8-700C43DCC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9C0703-9A48-45B8-9EC6-0FA42FB33A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69F93F-E503-4AE1-9F4E-C790C3AA41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9CE2D-A588-4F7A-BF01-4AC1BF4F1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F9E05-9C1C-45D9-892C-C2EE48AC1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08EF6-0182-4879-9CC9-F9A897ABB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404C3-B8D1-4A29-9FA6-E9D6F7DBC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B0453-A3F4-4949-BF1C-7BB7B0A6C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2A5E3-F4DF-4FC7-BA13-819E7F993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C206B-4007-4775-B49D-D8847DD2B8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AE67D-B5D5-411A-AC86-7479ACC2EC2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D273B-8915-4C79-9A5E-0D8B10CDC53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7432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jaak de Boer – EU Delegation Namibi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1-11-30T06:30:50Z</dcterms:modified>
  <cp:revision>285</cp:revision>
  <dc:subject/>
  <dc:title>Slide 1</dc:title>
</cp:coreProperties>
</file>