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8F43-9561-47E5-96ED-C9117A1276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F345-8C4D-4F6F-B7C2-6A91DD8B1E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F7E4-1FAB-4886-AE06-00FA593D4D97}" type="datetime">
              <a:rPr b="0" lang="en-US" sz="1200" spc="-1" strike="noStrike">
                <a:solidFill>
                  <a:srgbClr val="ffffff"/>
                </a:solidFill>
                <a:latin typeface="Verdana"/>
              </a:rPr>
              <a:t>07/29/26</a:t>
            </a:fld>
            <a:r>
              <a:rPr b="0" lang="en-US" sz="1200" spc="-1" strike="noStrike">
                <a:solidFill>
                  <a:srgbClr val="ffffff"/>
                </a:solidFill>
                <a:latin typeface="Verdana"/>
              </a:rPr>
              <a:t> </a:t>
            </a:r>
            <a:fld id="{A32AF2A9-B3A5-4D75-8918-A41F87C86EA7}"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80AA-F345-4454-AC32-209B4F3C42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EEBC-8913-4255-A36B-32CF6A36A37B}" type="datetime">
              <a:rPr b="0" lang="en-US" sz="1200" spc="-1" strike="noStrike">
                <a:solidFill>
                  <a:srgbClr val="ffffff"/>
                </a:solidFill>
                <a:latin typeface="Verdana"/>
              </a:rPr>
              <a:t>07/29/26</a:t>
            </a:fld>
            <a:r>
              <a:rPr b="0" lang="en-US" sz="1200" spc="-1" strike="noStrike">
                <a:solidFill>
                  <a:srgbClr val="ffffff"/>
                </a:solidFill>
                <a:latin typeface="Verdana"/>
              </a:rPr>
              <a:t> </a:t>
            </a:r>
            <a:fld id="{3E1009F3-7BFC-40E9-93D0-94DAD3C1AD98}"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2978-60EF-4CCD-AE7A-AB9540871B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E1AD-2333-4F6A-9068-DB4225CE24C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19A0-C903-461D-925E-66791889E327}" type="datetime">
              <a:rPr b="0" lang="en-US" sz="1200" spc="-1" strike="noStrike">
                <a:solidFill>
                  <a:srgbClr val="ffffff"/>
                </a:solidFill>
                <a:latin typeface="Verdana"/>
              </a:rPr>
              <a:t>07/29/26</a:t>
            </a:fld>
            <a:r>
              <a:rPr b="0" lang="en-US" sz="1200" spc="-1" strike="noStrike">
                <a:solidFill>
                  <a:srgbClr val="ffffff"/>
                </a:solidFill>
                <a:latin typeface="Verdana"/>
              </a:rPr>
              <a:t> </a:t>
            </a:r>
            <a:fld id="{967DF3EB-21AA-488E-A6D3-7E3B91E1E4C5}"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AFA5-631E-403F-A41C-8306467056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0AB0-26B4-4884-88E8-BE7B0A5B1105}" type="datetime">
              <a:rPr b="0" lang="en-US" sz="1200" spc="-1" strike="noStrike">
                <a:solidFill>
                  <a:srgbClr val="ffffff"/>
                </a:solidFill>
                <a:latin typeface="Verdana"/>
              </a:rPr>
              <a:t>07/29/26</a:t>
            </a:fld>
            <a:r>
              <a:rPr b="0" lang="en-US" sz="1200" spc="-1" strike="noStrike">
                <a:solidFill>
                  <a:srgbClr val="ffffff"/>
                </a:solidFill>
                <a:latin typeface="Verdana"/>
              </a:rPr>
              <a:t> </a:t>
            </a:r>
            <a:fld id="{3DD76C57-E21B-41AB-815C-94F66909C8E6}"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1740-A695-4D09-BDED-7930B7CA95E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A42D-E417-4104-BB87-C6C6FF85945C}" type="datetime">
              <a:rPr b="0" lang="en-US" sz="1200" spc="-1" strike="noStrike">
                <a:solidFill>
                  <a:srgbClr val="ffffff"/>
                </a:solidFill>
                <a:latin typeface="Verdana"/>
              </a:rPr>
              <a:t>07/29/26</a:t>
            </a:fld>
            <a:r>
              <a:rPr b="0" lang="en-US" sz="1200" spc="-1" strike="noStrike">
                <a:solidFill>
                  <a:srgbClr val="ffffff"/>
                </a:solidFill>
                <a:latin typeface="Verdana"/>
              </a:rPr>
              <a:t> </a:t>
            </a:r>
            <a:fld id="{C196C0BE-AC77-4353-8407-651130D35365}"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848B-3D50-4341-A5DD-91872AE921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A074-0AC9-46FF-BBF6-D0698D3BDA36}" type="datetime">
              <a:rPr b="0" lang="en-US" sz="1200" spc="-1" strike="noStrike">
                <a:solidFill>
                  <a:srgbClr val="ffffff"/>
                </a:solidFill>
                <a:latin typeface="Verdana"/>
              </a:rPr>
              <a:t>07/29/26</a:t>
            </a:fld>
            <a:r>
              <a:rPr b="0" lang="en-US" sz="1200" spc="-1" strike="noStrike">
                <a:solidFill>
                  <a:srgbClr val="ffffff"/>
                </a:solidFill>
                <a:latin typeface="Verdana"/>
              </a:rPr>
              <a:t> </a:t>
            </a:r>
            <a:fld id="{A1F0C72B-C413-472A-91BA-B73D3F72C42A}"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FD0B-6B0E-4CAE-ADA7-CC8EC6E43E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0D24-7BEA-41A0-AB8F-5A575747BF9E}" type="datetime">
              <a:rPr b="0" lang="en-US" sz="1200" spc="-1" strike="noStrike">
                <a:solidFill>
                  <a:srgbClr val="ffffff"/>
                </a:solidFill>
                <a:latin typeface="Verdana"/>
              </a:rPr>
              <a:t>07/29/26</a:t>
            </a:fld>
            <a:r>
              <a:rPr b="0" lang="en-US" sz="1200" spc="-1" strike="noStrike">
                <a:solidFill>
                  <a:srgbClr val="ffffff"/>
                </a:solidFill>
                <a:latin typeface="Verdana"/>
              </a:rPr>
              <a:t> </a:t>
            </a:r>
            <a:fld id="{B65FACBA-8D3D-4C8E-AD5C-1B919C740752}"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64AA-7DF0-4AD3-83D9-12CF2CA53A3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E401-FAD7-43B7-9A6F-0770DD5BDB70}" type="datetime">
              <a:rPr b="0" lang="en-US" sz="1200" spc="-1" strike="noStrike">
                <a:solidFill>
                  <a:srgbClr val="ffffff"/>
                </a:solidFill>
                <a:latin typeface="Verdana"/>
              </a:rPr>
              <a:t>07/29/26</a:t>
            </a:fld>
            <a:r>
              <a:rPr b="0" lang="en-US" sz="1200" spc="-1" strike="noStrike">
                <a:solidFill>
                  <a:srgbClr val="ffffff"/>
                </a:solidFill>
                <a:latin typeface="Verdana"/>
              </a:rPr>
              <a:t> </a:t>
            </a:r>
            <a:fld id="{8A3C03E1-39B3-4A7B-AB95-D9DE07BDA2A9}"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27FD-4F57-4FD6-A4FE-FA2442B451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3EF2-FE1A-4695-BAD0-0543981CF1F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936F-6376-450B-ADFB-F394B9A44EF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8EF7-3049-4C17-8C6A-BC78AC4D63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29CF-7DEF-4219-AE9B-68B86E185CE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B4F5-33CA-4540-8281-7BC28A3B34C2}" type="datetime">
              <a:rPr b="0" lang="en-US" sz="1200" spc="-1" strike="noStrike">
                <a:solidFill>
                  <a:srgbClr val="ffffff"/>
                </a:solidFill>
                <a:latin typeface="Verdana"/>
              </a:rPr>
              <a:t>07/29/26</a:t>
            </a:fld>
            <a:r>
              <a:rPr b="0" lang="en-US" sz="1200" spc="-1" strike="noStrike">
                <a:solidFill>
                  <a:srgbClr val="ffffff"/>
                </a:solidFill>
                <a:latin typeface="Verdana"/>
              </a:rPr>
              <a:t> </a:t>
            </a:r>
            <a:fld id="{155D486E-552F-4C67-AA89-1FF2B615A4B6}"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B5F9-6665-42AA-A041-CF4D8D4DACF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4F84-CBF0-4289-BEDA-4474380CFDF9}" type="datetime">
              <a:rPr b="0" lang="en-US" sz="1200" spc="-1" strike="noStrike">
                <a:solidFill>
                  <a:srgbClr val="ffffff"/>
                </a:solidFill>
                <a:latin typeface="Verdana"/>
              </a:rPr>
              <a:t>07/29/26</a:t>
            </a:fld>
            <a:r>
              <a:rPr b="0" lang="en-US" sz="1200" spc="-1" strike="noStrike">
                <a:solidFill>
                  <a:srgbClr val="ffffff"/>
                </a:solidFill>
                <a:latin typeface="Verdana"/>
              </a:rPr>
              <a:t> </a:t>
            </a:r>
            <a:fld id="{47BBD645-A0B5-4970-8FB1-235B3C9388DE}"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BA2C-09DE-4DE4-9C9F-8F44F62B41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6FFE-50F8-4C05-B0AF-2A9D57CA7A03}" type="datetime">
              <a:rPr b="0" lang="en-US" sz="1200" spc="-1" strike="noStrike">
                <a:solidFill>
                  <a:srgbClr val="ffffff"/>
                </a:solidFill>
                <a:latin typeface="Verdana"/>
              </a:rPr>
              <a:t>07/29/26</a:t>
            </a:fld>
            <a:r>
              <a:rPr b="0" lang="en-US" sz="1200" spc="-1" strike="noStrike">
                <a:solidFill>
                  <a:srgbClr val="ffffff"/>
                </a:solidFill>
                <a:latin typeface="Verdana"/>
              </a:rPr>
              <a:t> </a:t>
            </a:r>
            <a:fld id="{B6232FEB-66E6-45F3-85C8-8B18EC4A5420}" type="datetime10">
              <a:rPr b="0" lang="en-US" sz="1200" spc="-1" strike="noStrike">
                <a:solidFill>
                  <a:srgbClr val="ffffff"/>
                </a:solidFill>
                <a:latin typeface="Verdana"/>
              </a:rPr>
              <a:t>18:08</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4507-C0BA-4456-94C1-995F40AD6E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2436-C99D-46B9-903C-B8019550A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FB52D-5384-4BAB-804C-59389E6F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72751-468E-410B-8A88-8B6B64CDF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BABAC-232A-44B8-89E3-6C2369D6E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E6760-F788-4D43-9A78-7C576ADE1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F7869-F423-46EE-893A-19FC87CCE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079D7-7253-4E8B-B507-F34AF7503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9F15C-539E-4411-8BCD-D0DFEEA24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C1E7F-65E4-46B1-9DC0-758551ABB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0B3D5-F64E-4651-8270-E959CB919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89EDD-99F2-4969-ADF1-F4776003A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4229-8B8C-4CB5-BC09-52033587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CA307-F60A-48A5-A22B-EFCD1445D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06C97-DA80-4C3F-9DFA-42739F983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33384-1168-4D98-88E4-68A109EE7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6E36A-8FBA-43D6-8245-8CA73EC38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92B1D-C588-44CB-8FB3-B1A737E2E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0880-09D7-470F-9AAC-36DAF7FA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1ACAE-4631-4BBD-85A1-A56F2186C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0868A-58B5-4C7F-826A-A7E52175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A67B-80C6-4F6C-8705-B5F06DF58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9ACC-33D5-4670-8913-0F4FE5C81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012C-5E8B-4C27-B3D2-DAA384AC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1168-5D99-444A-A63C-7C864057F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3344-3396-4316-98CB-127DAB140FE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B037-CC8D-4FCE-B925-B4C60BE42F8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3474-DCB9-4E63-AC8C-4EF6BB91809A}"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