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979D-BEF8-4B09-8661-1351509F04F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897F-D642-460B-98DA-10B5D025952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3900-2FDD-4522-BFEB-D9D011641157}" type="datetime">
              <a:rPr b="0" lang="en-US" sz="1200" spc="-1" strike="noStrike">
                <a:solidFill>
                  <a:srgbClr val="ffffff"/>
                </a:solidFill>
                <a:latin typeface="Verdana"/>
              </a:rPr>
              <a:t>07/30/26</a:t>
            </a:fld>
            <a:r>
              <a:rPr b="0" lang="en-US" sz="1200" spc="-1" strike="noStrike">
                <a:solidFill>
                  <a:srgbClr val="ffffff"/>
                </a:solidFill>
                <a:latin typeface="Verdana"/>
              </a:rPr>
              <a:t> </a:t>
            </a:r>
            <a:fld id="{3D60B4AC-B7C2-4849-84B7-9B301B259E83}"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C04E-D913-4A1B-A4CB-4922EDEF11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0B08-576C-49E7-A171-D7069545B5CD}" type="datetime">
              <a:rPr b="0" lang="en-US" sz="1200" spc="-1" strike="noStrike">
                <a:solidFill>
                  <a:srgbClr val="ffffff"/>
                </a:solidFill>
                <a:latin typeface="Verdana"/>
              </a:rPr>
              <a:t>07/30/26</a:t>
            </a:fld>
            <a:r>
              <a:rPr b="0" lang="en-US" sz="1200" spc="-1" strike="noStrike">
                <a:solidFill>
                  <a:srgbClr val="ffffff"/>
                </a:solidFill>
                <a:latin typeface="Verdana"/>
              </a:rPr>
              <a:t> </a:t>
            </a:r>
            <a:fld id="{2CCC907C-A0A6-4D5B-9552-A1F0C4CA1F1A}"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EC26-E724-4732-B68C-E6596C43CA8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317E-2248-4707-9EA6-4942C65FEE2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9BA4-8B5E-44EB-ADE4-2CA6328928C4}" type="datetime">
              <a:rPr b="0" lang="en-US" sz="1200" spc="-1" strike="noStrike">
                <a:solidFill>
                  <a:srgbClr val="ffffff"/>
                </a:solidFill>
                <a:latin typeface="Verdana"/>
              </a:rPr>
              <a:t>07/30/26</a:t>
            </a:fld>
            <a:r>
              <a:rPr b="0" lang="en-US" sz="1200" spc="-1" strike="noStrike">
                <a:solidFill>
                  <a:srgbClr val="ffffff"/>
                </a:solidFill>
                <a:latin typeface="Verdana"/>
              </a:rPr>
              <a:t> </a:t>
            </a:r>
            <a:fld id="{3F4B383D-7B57-411B-A0D3-6A6C92FA2357}"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7071-50F9-48AA-A6EE-C7678FBBE27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DD09-4FA3-4C3B-AEFB-82B305C6BBA6}" type="datetime">
              <a:rPr b="0" lang="en-US" sz="1200" spc="-1" strike="noStrike">
                <a:solidFill>
                  <a:srgbClr val="ffffff"/>
                </a:solidFill>
                <a:latin typeface="Verdana"/>
              </a:rPr>
              <a:t>07/30/26</a:t>
            </a:fld>
            <a:r>
              <a:rPr b="0" lang="en-US" sz="1200" spc="-1" strike="noStrike">
                <a:solidFill>
                  <a:srgbClr val="ffffff"/>
                </a:solidFill>
                <a:latin typeface="Verdana"/>
              </a:rPr>
              <a:t> </a:t>
            </a:r>
            <a:fld id="{3627EDB3-A233-4518-B5DD-C2939D538D48}"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7786-9A05-428C-9F20-0250974CD83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F90F-2042-4E7B-99DA-91AC6F6BC6BD}" type="datetime">
              <a:rPr b="0" lang="en-US" sz="1200" spc="-1" strike="noStrike">
                <a:solidFill>
                  <a:srgbClr val="ffffff"/>
                </a:solidFill>
                <a:latin typeface="Verdana"/>
              </a:rPr>
              <a:t>07/30/26</a:t>
            </a:fld>
            <a:r>
              <a:rPr b="0" lang="en-US" sz="1200" spc="-1" strike="noStrike">
                <a:solidFill>
                  <a:srgbClr val="ffffff"/>
                </a:solidFill>
                <a:latin typeface="Verdana"/>
              </a:rPr>
              <a:t> </a:t>
            </a:r>
            <a:fld id="{D0C7419C-43FD-4695-BC1D-FF4B057D525E}"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490B-4F00-4EBA-BFA5-3079EC081F5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4898-A9C6-4D60-B49E-B358BFF8D353}" type="datetime">
              <a:rPr b="0" lang="en-US" sz="1200" spc="-1" strike="noStrike">
                <a:solidFill>
                  <a:srgbClr val="ffffff"/>
                </a:solidFill>
                <a:latin typeface="Verdana"/>
              </a:rPr>
              <a:t>07/30/26</a:t>
            </a:fld>
            <a:r>
              <a:rPr b="0" lang="en-US" sz="1200" spc="-1" strike="noStrike">
                <a:solidFill>
                  <a:srgbClr val="ffffff"/>
                </a:solidFill>
                <a:latin typeface="Verdana"/>
              </a:rPr>
              <a:t> </a:t>
            </a:r>
            <a:fld id="{AEBFB6FC-949D-4B51-949B-D58D3B59546B}"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7C9B-2297-4A81-8AE9-F28BF9F7A38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19B9-1635-4F80-87DA-E89397C9CC78}" type="datetime">
              <a:rPr b="0" lang="en-US" sz="1200" spc="-1" strike="noStrike">
                <a:solidFill>
                  <a:srgbClr val="ffffff"/>
                </a:solidFill>
                <a:latin typeface="Verdana"/>
              </a:rPr>
              <a:t>07/30/26</a:t>
            </a:fld>
            <a:r>
              <a:rPr b="0" lang="en-US" sz="1200" spc="-1" strike="noStrike">
                <a:solidFill>
                  <a:srgbClr val="ffffff"/>
                </a:solidFill>
                <a:latin typeface="Verdana"/>
              </a:rPr>
              <a:t> </a:t>
            </a:r>
            <a:fld id="{0EEF6CE3-2A2E-4B66-A0A7-DF371EB77E8E}"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1A23-7AD0-4170-A7DA-ABFF62C607F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F04F-73CA-48C4-937C-9A5B353F2FBF}" type="datetime">
              <a:rPr b="0" lang="en-US" sz="1200" spc="-1" strike="noStrike">
                <a:solidFill>
                  <a:srgbClr val="ffffff"/>
                </a:solidFill>
                <a:latin typeface="Verdana"/>
              </a:rPr>
              <a:t>07/30/26</a:t>
            </a:fld>
            <a:r>
              <a:rPr b="0" lang="en-US" sz="1200" spc="-1" strike="noStrike">
                <a:solidFill>
                  <a:srgbClr val="ffffff"/>
                </a:solidFill>
                <a:latin typeface="Verdana"/>
              </a:rPr>
              <a:t> </a:t>
            </a:r>
            <a:fld id="{78E4AE75-846A-40B5-802B-EB2D9A10E555}"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5FDA-AF4A-4BA5-851F-DFA8A479E12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F755-717F-4581-9DB7-46DC9AD565B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2EC6-0B0F-4420-9955-EA12FDFD13E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80D6-1F4D-4267-81D9-596734EB4FB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8021-EB4B-4D5C-A8B9-66BC2C80861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EF1F-50FF-4527-965F-3FD47E3F4119}" type="datetime">
              <a:rPr b="0" lang="en-US" sz="1200" spc="-1" strike="noStrike">
                <a:solidFill>
                  <a:srgbClr val="ffffff"/>
                </a:solidFill>
                <a:latin typeface="Verdana"/>
              </a:rPr>
              <a:t>07/30/26</a:t>
            </a:fld>
            <a:r>
              <a:rPr b="0" lang="en-US" sz="1200" spc="-1" strike="noStrike">
                <a:solidFill>
                  <a:srgbClr val="ffffff"/>
                </a:solidFill>
                <a:latin typeface="Verdana"/>
              </a:rPr>
              <a:t> </a:t>
            </a:r>
            <a:fld id="{CD17CBDF-996F-48AD-AE0C-32D082577EAA}"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530F-0207-4FA3-B6DA-3B4AB56CB83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5C35-1EB2-41A3-BF4C-1641E0E5FC56}" type="datetime">
              <a:rPr b="0" lang="en-US" sz="1200" spc="-1" strike="noStrike">
                <a:solidFill>
                  <a:srgbClr val="ffffff"/>
                </a:solidFill>
                <a:latin typeface="Verdana"/>
              </a:rPr>
              <a:t>07/30/26</a:t>
            </a:fld>
            <a:r>
              <a:rPr b="0" lang="en-US" sz="1200" spc="-1" strike="noStrike">
                <a:solidFill>
                  <a:srgbClr val="ffffff"/>
                </a:solidFill>
                <a:latin typeface="Verdana"/>
              </a:rPr>
              <a:t> </a:t>
            </a:r>
            <a:fld id="{004ED1EB-361C-4062-820D-BA92F48D0B9C}"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D6DF-BD64-49E7-85E4-53261A40D69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F6B4-3C23-4684-BCF2-43A2C90D2AAE}" type="datetime">
              <a:rPr b="0" lang="en-US" sz="1200" spc="-1" strike="noStrike">
                <a:solidFill>
                  <a:srgbClr val="ffffff"/>
                </a:solidFill>
                <a:latin typeface="Verdana"/>
              </a:rPr>
              <a:t>07/30/26</a:t>
            </a:fld>
            <a:r>
              <a:rPr b="0" lang="en-US" sz="1200" spc="-1" strike="noStrike">
                <a:solidFill>
                  <a:srgbClr val="ffffff"/>
                </a:solidFill>
                <a:latin typeface="Verdana"/>
              </a:rPr>
              <a:t> </a:t>
            </a:r>
            <a:fld id="{708290A9-2254-40A3-BBA4-BF803FCDB951}"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7176-E32D-4FB5-B1AD-4C16E460D36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AB2E5-FB61-40DB-AC84-7B6A994A9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F6CA5-D0A7-49E4-AE84-D0D21EF8D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EC2F9-C266-4809-9A74-F65AA3B33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A7D88-AC88-4113-A209-D6E11DB84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E0C2B-0B27-4E16-9E0D-A5C33E00A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054A4-9980-4E88-B982-D9B6688FD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D2B06-5A53-467F-A522-B5A261BC5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1D147-9D05-4D42-89FC-2FFE69009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E5C59-B477-455A-B892-AD2185F69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8AA1E-91D6-4DB2-A4BC-EEB1DADE8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64960-C342-4192-903E-6CD4097F3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CA96A-0540-4607-BCF0-7F3F5533D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89D52-AE7B-44D2-B569-955032129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69E74-4880-43B7-A78C-6F7BF5792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2301C-FBC9-4E85-88D9-53310EA15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6776B-40D8-40EF-84A0-C859E9F14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56FEA-1EF7-4E37-B09F-573BC0A8FB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63B15-9BB8-4925-BC92-43171A1A6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CA877-E258-4361-8B48-38027F55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61456-93F4-4E7D-96C7-1B4E81854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A1825-0E6A-4A0D-9EEC-FC285916B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3288B-2DBD-4CA9-8C4E-77465F0EA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7C6E7-6797-42BB-B68A-2EDBA924B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D4954-A589-4042-A0AA-EB435FEBB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6E74-5E65-44FA-85A0-D3E02E4AF68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5CAB-03F6-4A9B-B366-3D579D6C61F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909D-C452-472E-BB05-4AB2DBAAB2E3}"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