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98BE1-4DDA-49DA-8BEC-F13C383EC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A2CBD-AB81-4B54-BDA9-DAFE2470B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061BD-CF99-44A0-8816-371475877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476DF-0EF5-4258-9722-6F2DBEEF7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48BAF-4BB4-4948-8F45-0ECCFF1E4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1C8BB-B8B9-4898-8E6D-B5C1F592B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88DC6-C6C3-4636-9420-BC9B49609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83316-B3B4-4CEF-AD26-58CEECE3C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E81A2-F35D-4B05-BEAC-6B850FBBE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C8ED7-B7A2-4845-A812-58C39B2C1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0E7AB-0ECE-49C6-BE8E-B676A420A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E03BA-4C78-4DB9-B30C-5CC0148CE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24B4F-85CD-4CFB-8D8C-822054D4738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BC877-FE44-4698-90B1-CC6A7DC9D6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ter Week 2011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llenges of Urbanization for Water and Sanitation Infrastruc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Cost Effects of a Lack of Spatial Plann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World Ban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440B6-4AEE-486F-847E-65A23DBBE3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nancing Infrastruc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How is new infrastructure financed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oes the larger community pay (taxes on existing residents to provide services to new residents)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o residents of the new community pay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evelopment Charges = entry fee for urban servi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asiest when you have greenfield and organized developm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till possible when there are multiple own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ven still possible for servicing in-situ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CC7A4-840F-44D4-B890-E6D43A4DE3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0" dur="500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500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5" dur="500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osts, Choices, and Trade-Off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velopment charges make explicit the cost of providing servi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o expensive?  There is a choic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ait another 10 or 20 years for someone else to pay for servi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ize and pay for services that you can enjoy now and that increases the value of the proper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CF09A-C3A2-421B-B685-24A058AB10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7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2" dur="5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7" dur="5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he Case of Water Suppl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ter and sanitation is the most difficult and expensive infrastructure to prov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SCo is one of the better utilities in Africa, but it doesn’t generate enough excess funds through existing tariffs to pay for major network extens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can’t “pre-invest” in new development areas without up-front capit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7FE78-0F79-4FC1-B19D-CCAD8E373F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4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4" dur="5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urces of funding for water infrastruc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entral government or local authority – to service a specific industrial or residential developmen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utside donors – to provide services to underserved areas, at concessional rat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ormal real estate developers?  Effectively paying development charges to pay for the cost of extending servi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rganized communities?  Pooling or raising funds to pay for the cost of extending servi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C309F-2B1E-422E-A2B9-4E813F9D0D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1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6" dur="5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" dur="5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Question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6250A-5251-4F4B-A0D6-6E8BC7CA2C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3" dur="5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2B643-D749-404E-854D-CBEA135206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5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Introduction and Characteristics of Urban Developmen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wnership characteristi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perty marketability and transferabi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tail financial sector / willingness to le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ate of urban servi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= characteristics of urban develop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E6475-16D6-4134-92E9-4DB14410CA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1000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Impressions of Maseru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ifficult to draw conclusions about Maseru and environ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ome limited planning; some haphazard growth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ome “leapfrog” developmen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ix of housing qualit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Variable road qualit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Variable servi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F757B-4C4C-44AA-9272-FF421671C0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Urbaniza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mal definition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nsific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version of u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practice: the addition of new resid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praw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oth a cause and consequence of a lack of plann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A12FB-F2DD-4907-AF9E-3D1C274168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Urban Servic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cope of service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re:  roads and paths, water and sanitation, solid waste management, public light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ocial:  schools, health clinics, space for places of worshi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menities: parks, places for civic gathering, playgroun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Provision of (and financing of) service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direct tax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irect tax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09FE9-EEA1-4AB2-AB73-272F6169C9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osts of Unplanned Spraw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dditional costs to resident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ime and monetary costs for transportation and for wa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educed mobili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oor safety and securi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(unclear costs with respect to electricity and solid waste management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dditional costs to service providers for later retrofittin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articularly high for water and sanitation servic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C05C2-6521-4D80-A70E-7FDBD8555A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ome incidental benefits of spraw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nsity (or lack of density) means that existing sanitation is accept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ealth effects of poor sanitation are relatively min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visible mix in the quality of housing = neighborhoods are not limited to a single incom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FC924-3B29-41F0-96E7-D5CD8A3ABA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Measuring the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Value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of Servic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asure the value of serviced land vs. unserviced l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 a competitive property market, this is the value that society places on those servi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may or may not be a good approximation of th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cos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f providing those servi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Maseru, cost &gt; valu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ccept the state of affairs (and wait…), 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ork to reduce the costs of providing servi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8F236-AF5F-4A31-8F36-570538511A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500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Planning for Growth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lanning ahead for growth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t eas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ood human capac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ransparent, enforceable land-use regul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redible and transparent way to convert land from non-urban to urban u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asily transferable land righ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C0430-04E5-4348-932C-BCE6837CB2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50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5T02:43:31Z</dcterms:created>
  <dc:creator>wb112884</dc:creator>
  <dc:description/>
  <dc:language>en-US</dc:language>
  <cp:lastModifiedBy>new</cp:lastModifiedBy>
  <dcterms:modified xsi:type="dcterms:W3CDTF">2011-04-05T09:09:27Z</dcterms:modified>
  <cp:revision>16</cp:revision>
  <dc:subject/>
  <dc:title>Slide 1</dc:title>
</cp:coreProperties>
</file>