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A8F-6FE5-4764-ADEF-F4D1643F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40D-2DBE-48C4-8D7D-617A0F6C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87C-F166-45A5-92A0-71A2F7BF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283-380E-4956-9F1D-4D005F44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566-319D-4BC8-8604-82642B5F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80E-1A40-41A2-9375-76E89646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6FC-D54F-4CB8-A53A-6FDE8102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88F-27B2-4FD8-A57B-54189335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8F3-0E0F-4256-9B95-3E23CC29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EDD-A7AD-44F2-9448-4DADD52C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B5A-5946-49E8-BCC9-E733EF6F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5A5-9EF9-4FDC-B3EF-D1D1A26A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EDFF-EEC8-4774-A825-858E71929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BA7-16A7-4B2B-A5B7-83E6D491A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eek 201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st Effects of a Lack of Spatial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E1BB-FF4C-4041-8DE4-96FCC6251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is new infrastructure financ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the larger community pay (taxes on existing residents to provide services to new residents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residents of the new community p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ment Charges = entry fee for urba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iest when you have greenfield and organized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ll possible when there are multiple ow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still possible for servicing in-si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815D-C47C-4CC0-AD5B-0F6B10C40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, Choices, and Trade-Off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charges make explicit the cost of providing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 expensive?  There is a cho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another 10 or 20 years for someone else to pay fo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 and pay for services that you can enjoy now and that increases the value of the prop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4ED2-2F13-42F5-9665-0D3577AC9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ase of Water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and sanitation is the most difficult and expensive infrastructure to pro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Co is one of the better utilities in Africa, but it doesn’t generate enough excess funds through existing tariffs to pay for major network exten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’t “pre-invest” in new development areas without up-front ca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155A-9828-4564-A833-38E8EA9D6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funding for water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tral government or local authority – to service a specific industrial or residential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tside donors – to provide services to underserved areas, at concessional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al real estate developers?  Effectively paying development charge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ed communities?  Pooling or raising funds to pay for the cost of extending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5CB-F2E4-4489-8E4D-5EAAC5115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1136-D5ED-43F4-8DC7-87EC5C6E3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9EE7-3911-475F-A697-9977A0C77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and Characteristics of Urban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ship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marketability and transf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ail financial sector / willingness to l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urban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characteristics of urb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6C9A-B20C-4C66-9441-CF843E898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essions of Mase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icult to draw conclusions about Maseru and envi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limited planning; some haphazard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“leapfrog”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x of housing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road qua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riabl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37CC-3629-4FCE-B19D-A9CB06A48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l 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sion of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: the addition of new res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aw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 cause and consequence of a lack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A34B-F435-4A18-B40E-B755CBF0F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ban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ope of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e:  roads and paths, water and sanitation, solid waste management, public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:  schools, health clinics, space for places of w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nities: parks, places for civic gathering, play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sion of (and financing of) servi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2BB0-5611-421E-AF45-2D2EF0CE6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sts of Unplanned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ime and monetary costs for transportation and fo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safety and 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unclear costs with respect to electricity and solid waste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costs to service providers for later retrofit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ularly high for water and sanitation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6FCA-D671-4AB8-BAE9-25B13BF1F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incidental benefits of spra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(or lack of density) means that existing sanitation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effects of poor sanitation are relatively mi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ible mix in the quality of housing = neighborhoods are not limited to a single incom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41DF-DC36-49D3-B211-F046A5540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suring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the value of serviced land vs. unserviced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competitive property market, this is the value that society places on thos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or may not be a good approximation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providing thos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seru, cost &gt;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the state of affairs (and wait…)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o reduce the costs of provid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28A9-283C-4983-A906-8B6FCE975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ning for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ahead for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human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, enforceable land-use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ble and transparent way to convert land from non-urban to urban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transferable land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F62A-9DAA-43D2-A928-A2D4A279B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43:31Z</dcterms:created>
  <dc:creator>wb112884</dc:creator>
  <dc:description/>
  <dc:language>en-US</dc:language>
  <cp:lastModifiedBy>new</cp:lastModifiedBy>
  <dcterms:modified xsi:type="dcterms:W3CDTF">2011-04-05T09:09:27Z</dcterms:modified>
  <cp:revision>16</cp:revision>
  <dc:subject/>
  <dc:title>Slide 1</dc:title>
</cp:coreProperties>
</file>