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3697C5-A1F3-415B-BABB-BA50229F5E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9D8EE-A841-4F36-8B90-1662C94EB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636BE6-2C8A-47B0-8272-3347F78932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E0E74F-B411-4C17-BD7E-BB236D2928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B1A4951-37C1-40DC-A5DE-FD86284279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F8152BF-331C-472F-988A-27F246B9D4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B5949C3-979D-4FA6-8A7D-EEB61A953B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99C4CC0-6E0C-4E80-9357-BF944FCC5A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23F82E3-A68F-46FE-833F-2FDA805188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4943E03-8718-4451-A2CE-E5CD56614F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A4EDFA4-D529-47B9-9300-E01DA6F114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64693-0B98-4A71-889A-98DA694EC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A635C93-C2E9-47AF-AB3A-BDECEF3E44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53C6423-B5CB-40F4-9E13-8D4F45EEE5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67AE3DC-CC8B-44BC-BD9C-5E6F91010A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0948B95-85E0-49E0-99FE-95FFE5DE3C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2FFDEF4-E879-4D98-A40E-BAB4528C84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1BA10-6835-4181-A81C-535EA17E2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D0BB2-B6B9-4976-BFB6-5D30E6FAD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FA2D4-AF43-4B77-A259-2594AAD6A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F830A-C08D-463D-9CF5-E10E3377D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15507-1472-43BA-98A7-78C785DF1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3EF6D-EDA0-46C1-931A-893658F02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E396F-421D-4D8E-A0AF-1CA31D981D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25F9A-B571-49EE-9E1C-B0B29E535B3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17079-EC3F-41F4-9A2F-3000BA22AF8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The opportunities and challenges of urban planning in practice – The Case of Maseru</a:t>
            </a:r>
            <a:endParaRPr b="0" lang="en-US" sz="36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eru City Counc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atial Planning …..</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atial planning is by nature statutory and although recent international best practices show that planning has significantly shifted towards collaborative and participatory approaches, success has in the past depended on appropriate and effectively implemented legislation;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plementation of planning laws in Lesotho has generally not been very effectiv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hallenges of urban planning in Maseru</a:t>
            </a:r>
            <a:endParaRPr b="0" lang="en-US" sz="40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 Maseru that the country’s most significant urban challenges are seen, including: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pid population growth,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estruction of much of the city’s physical infrastructure due to rapid population growth,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nd tenure issue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harp increase in land prices and rent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prevalence of HIV/AID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rate of unemploy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accessible infrastructural services such as water, electricity, road network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agmented policies all aimed at addressing urban manage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levels of poverty,</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oradic urban sprawl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rban planning not implemented to the latter (development control aspect onl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Key actors in urban planning in Maseru</a:t>
            </a:r>
            <a:endParaRPr b="0" lang="en-US" sz="36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Local Government &amp; Chieftainship</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Lands, Survey and Physical Planning</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eru Municipal Council</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otho Housing and Land Development Corporation</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Housing</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Public Works and Transport</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Natural Resource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CO</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C</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Absence of integrated planning</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Uncoordinated and often conflicting plans (case of Ha Mabo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Urbanization?</a:t>
            </a:r>
            <a:endParaRPr b="0" lang="en-US" sz="36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rbanization is understood to refer to a process by which an increasing proportion of a country’s population ends up living in towns and citie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stantial differences exist in the way in which different countries divide their populations into urban and rural;</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criteria have been used in various countries, including population size, dominant economic activities/functions and legal decla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Urbanization in Lesotho</a:t>
            </a:r>
            <a:endParaRPr b="0" lang="en-US" sz="36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gal declaration has been used to define urban areas, with the inherent drawback that often such definition is not based on any functional or statistical criteria;</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instance, Lesotho had 11 proclaimed urban centres up to June 1980, after which an additional 5 rural settlements with a combined population of over 30 000 people were proclaimed as urban, thereby bringing the total number of urban centres in Lesotho to 16;</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86 the 5 urban centres that had been added in 1980 were again re-designated as rural;</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2006, yet another hitherto rural settlement of Semonkong had been gazetted as urban, thereby increasing the number of urban areas to 12;</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shifts make it extremely difficult to compute the level of Lesotho’s urbanization with any degree of certaint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Urbanisation …</a:t>
            </a:r>
            <a:endParaRPr b="0" lang="en-US" sz="36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evel of urbanization in Lesotho stood at 17%, a figure which was somewhat low compared to some of the Southern African countries;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more recent survey (CWIQ Survey 2002)put the level of urbanization in Lesotho at 23%;</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seru City continues to increase its share of Lesotho’s urban population since 1976;</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rapid expansion of the industrial and commercial base in recent years, and the poor performance of Lesotho’s agricultural sector, has given an impetus to the migration of large numbers of the rural population to the Cit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Population Indicators</a:t>
            </a:r>
            <a:endParaRPr b="0" lang="en-US" sz="2800" spc="-1" strike="noStrike">
              <a:solidFill>
                <a:srgbClr val="e3e3ff"/>
              </a:solidFill>
              <a:latin typeface="Arial"/>
            </a:endParaRPr>
          </a:p>
        </p:txBody>
      </p:sp>
      <p:graphicFrame>
        <p:nvGraphicFramePr>
          <p:cNvPr id="131" name=""/>
          <p:cNvGraphicFramePr/>
          <p:nvPr/>
        </p:nvGraphicFramePr>
        <p:xfrm>
          <a:off x="0" y="1600200"/>
          <a:ext cx="9144000" cy="4691160"/>
        </p:xfrm>
        <a:graphic>
          <a:graphicData uri="http://schemas.openxmlformats.org/drawingml/2006/table">
            <a:tbl>
              <a:tblPr/>
              <a:tblGrid>
                <a:gridCol w="1690560"/>
                <a:gridCol w="1863720"/>
                <a:gridCol w="1862280"/>
                <a:gridCol w="1863720"/>
                <a:gridCol w="1863720"/>
              </a:tblGrid>
              <a:tr h="564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7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6</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16,81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606,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41,96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72,72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7,435</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8,02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12,444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444,541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rban as % of total populatio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0.5</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1.8</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7</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population</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5,031</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98,01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37,83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27,88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as % of total population</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1</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7.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2</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as % of urban populatio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5.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2.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6.0</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1.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growth rate</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opulation Projections - 2030</a:t>
            </a:r>
            <a:endParaRPr b="0" lang="en-US" sz="4400" spc="-1" strike="noStrike">
              <a:solidFill>
                <a:srgbClr val="e3e3ff"/>
              </a:solidFill>
              <a:latin typeface="Arial"/>
            </a:endParaRPr>
          </a:p>
        </p:txBody>
      </p:sp>
      <p:graphicFrame>
        <p:nvGraphicFramePr>
          <p:cNvPr id="133" name=""/>
          <p:cNvGraphicFramePr/>
          <p:nvPr/>
        </p:nvGraphicFramePr>
        <p:xfrm>
          <a:off x="380880" y="1828800"/>
          <a:ext cx="8077320" cy="4343400"/>
        </p:xfrm>
        <a:graphic>
          <a:graphicData uri="http://schemas.openxmlformats.org/drawingml/2006/table">
            <a:tbl>
              <a:tblPr/>
              <a:tblGrid>
                <a:gridCol w="2694240"/>
                <a:gridCol w="2692440"/>
                <a:gridCol w="2690640"/>
              </a:tblGrid>
              <a:tr h="755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jec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seru 200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going spraw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16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7 88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8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A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94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5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7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A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8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0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5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A ex. MU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6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9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telite Town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1 5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Status of Maseru</a:t>
            </a:r>
            <a:endParaRPr b="0" lang="en-US" sz="32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re is a general recognition that Maseru City has today become an important settlement with regional, national and international function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city stands out as an undisputable primate settlement in Lesotho, and as an administrative, industrial and commercial capital of the country;</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ts growth, both in terms of population and physical development, has far outpaced the provision of services, a problem that poses serious challenges for urban plann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Social Aspects</a:t>
            </a:r>
            <a:endParaRPr b="0" lang="en-US" sz="28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Maseru City has expanded amongst traditional villages and the City itself has largely grown through rural-urban migrations, it has retained a very strong rural outlook in social structure where modern and customary laws are applied side by side and where the poor and the rich are closely integrated;</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wever, a few traditional villages have remained clearly distinct and largely characterized by dilapidated housing and concentrations of poverty;</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ilarly, the central business district and its surrounds (old Maseru reserve) have not been fully integrated with peri-urban areas in terms of service provision, with the latter areas remaining largely underserv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atial Planning Issues</a:t>
            </a:r>
            <a:endParaRPr b="0" lang="en-US" sz="44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empts at spatial planning in Lesotho started soon after independence and continued sporadically until 1985, ending with the National Settlement Policy in 1990;</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local level, spatial planning appears to predate independence;</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ries of plans were prepared for Maseru again ending with the Maseru Development Plan in 1990;</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ft MUPTS now in place – yet to be accepted as a working document/planning polic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31T09:06:23Z</dcterms:created>
  <dc:creator>Mantai Phaila</dc:creator>
  <dc:description/>
  <dc:language>en-US</dc:language>
  <cp:lastModifiedBy>Mantai Phaila</cp:lastModifiedBy>
  <dcterms:modified xsi:type="dcterms:W3CDTF">2011-04-05T06:36:29Z</dcterms:modified>
  <cp:revision>5</cp:revision>
  <dc:subject/>
  <dc:title>Urbanisation?</dc:title>
</cp:coreProperties>
</file>