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5FC9-6AD3-43EF-8A06-7898DCEE5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3B2-305A-4BF9-85DA-538728142F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5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6181-B4C4-42EC-B630-04AAC0E4EC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062160" y="522360"/>
            <a:ext cx="379728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582-73C2-4F00-AD4C-BD71A086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984-9B52-429C-A8D6-3F8661DC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3BE-93BA-453B-8EAD-202A181F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FA3-E485-434B-B2CA-0504489A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BB4F-8255-44A8-9A00-702294E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A20-A619-40F7-9DD8-93DC5D9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1AE2-6F43-4A23-A53E-7FDF3188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FE7C-D4BC-4ACC-B891-B60E8C4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463-A366-47A7-998E-980F2F63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7843-6359-4536-AD5E-0080F7E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D8B5-4A66-4CD5-994D-A6DBCA79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CF6-8890-47B0-8AE1-981282B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248-0707-4D31-8A17-09F5A03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936-3EE9-4447-B7BB-1A34161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89B-6A37-4145-94D4-9A7C5D3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9878-A7A1-4968-A2F0-5ED0FC63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89B3-7D0A-41ED-BCF4-7EEE1C9F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3F8-0263-4ECC-BE95-49C7C4C1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AA3-07EF-44A9-9ECC-D51BDCE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FCD-D136-4D53-B76D-90A5920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CCB-F4C2-4EFC-AED7-67CC7B1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75C-6F5D-4E45-9136-F6D4B16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AAC-E0E4-4C0D-B69F-FE464C5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795-AA6E-477B-AC27-318F559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20B-F8EE-41A6-8DDB-ABEEC9580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63B-267D-4D38-B55F-98B2D592A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sotho Water Wee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e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20574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urbanization for water and sanitation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hakoe Cl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eru,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E. M. Les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6F0-45D7-4BAB-B0FF-72CFBF32A0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47680" y="1371600"/>
            <a:ext cx="1733400" cy="120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AR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64,0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83360" y="76212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6,8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210200" y="114300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93,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14840" y="1981080"/>
            <a:ext cx="990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95,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724120" y="2666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13,6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898640" y="342900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75,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394000" y="49528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2,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054240" y="58672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4,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33400" y="4495680"/>
            <a:ext cx="9907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82,8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7680" y="304920"/>
            <a:ext cx="3137040" cy="91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WLANDS WATER SCHEME TARGETTED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OW TO IMPLEMENT THE SECTOR BUDGET SUPPOR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216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gal and regulation: EDF-ACP Cotonou Agre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ncial regulation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rules of budg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nancing Agreement 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21644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tor Budget Support  (SBS) and calendar: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bursement is foreseen for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¼ of FY following joint re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2590920"/>
          <a:ext cx="8839440" cy="4082760"/>
        </p:xfrm>
        <a:graphic>
          <a:graphicData uri="http://schemas.openxmlformats.org/drawingml/2006/table">
            <a:tbl>
              <a:tblPr/>
              <a:tblGrid>
                <a:gridCol w="2127240"/>
                <a:gridCol w="1473480"/>
                <a:gridCol w="1473120"/>
                <a:gridCol w="1228680"/>
                <a:gridCol w="1063440"/>
                <a:gridCol w="147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ounts in M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1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2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13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t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for monitoring and sector dialo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762120"/>
          <a:ext cx="8534520" cy="541008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5"/>
          <p:cNvSpPr/>
          <p:nvPr/>
        </p:nvSpPr>
        <p:spPr>
          <a:xfrm>
            <a:off x="2286000" y="990720"/>
            <a:ext cx="4648320" cy="28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ARTNER COUNRY’S 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14600" y="1981080"/>
            <a:ext cx="16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reig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serve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800600" y="1905120"/>
            <a:ext cx="1676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533520" y="198108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sistance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09480" y="4648320"/>
            <a:ext cx="3505320" cy="1218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ditions for disburs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ener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8288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952880" y="4648320"/>
            <a:ext cx="35816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udge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ough partner countr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ublic Financi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4"/>
          <p:cNvSpPr/>
          <p:nvPr/>
        </p:nvSpPr>
        <p:spPr>
          <a:xfrm>
            <a:off x="5715000" y="33526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p Arrow 15"/>
          <p:cNvSpPr/>
          <p:nvPr/>
        </p:nvSpPr>
        <p:spPr>
          <a:xfrm>
            <a:off x="1752480" y="2971800"/>
            <a:ext cx="228600" cy="15238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7467480" y="1828800"/>
            <a:ext cx="13716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ax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on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>
            <a:off x="1905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7"/>
          <p:cNvSpPr/>
          <p:nvPr/>
        </p:nvSpPr>
        <p:spPr>
          <a:xfrm>
            <a:off x="6629400" y="2057400"/>
            <a:ext cx="762120" cy="484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8"/>
          <p:cNvSpPr/>
          <p:nvPr/>
        </p:nvSpPr>
        <p:spPr>
          <a:xfrm>
            <a:off x="4191120" y="2209680"/>
            <a:ext cx="685800" cy="484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5"/>
          <p:cNvSpPr/>
          <p:nvPr/>
        </p:nvSpPr>
        <p:spPr>
          <a:xfrm>
            <a:off x="2286000" y="1447920"/>
            <a:ext cx="4648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Thank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 You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Comment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Questions 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C5E-A8D7-485F-B5F9-E6B965A871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496360" cy="398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Foundations &amp; Building Blocks Being Put in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5676840"/>
            <a:ext cx="9144000" cy="943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	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MS Gothic"/>
              </a:rPr>
              <a:t>Industrial Wastewater Management Policy, Water and Sanitation Policy, Water Act-2008, After-Care-Strategy, Interim Strategy for Water and Sanitation Sector, other laws establishing Government Agenc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312408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H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419720" y="457200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OCAL GOVERNMENT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19720" y="3276720"/>
            <a:ext cx="2127240" cy="943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OTHER GOVERNMENT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676520" y="2133720"/>
            <a:ext cx="1828800" cy="660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HWC (LESOT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3657600"/>
            <a:ext cx="1143000" cy="37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76520" y="4343400"/>
            <a:ext cx="2616120" cy="1227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DONOR COMMUNITY: TECHNICAL AS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76520" y="3009960"/>
            <a:ext cx="2590560" cy="943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GOs: (TRC, WORLD VIS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733920" y="2133720"/>
            <a:ext cx="2057400" cy="660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28600" y="411480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819840" y="3733920"/>
            <a:ext cx="20192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WA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(W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 Box 13" descr=""/>
          <p:cNvPicPr/>
          <p:nvPr/>
        </p:nvPicPr>
        <p:blipFill>
          <a:blip r:embed="rId1"/>
          <a:stretch/>
        </p:blipFill>
        <p:spPr>
          <a:xfrm>
            <a:off x="6808680" y="4522680"/>
            <a:ext cx="204336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2"/>
          <a:stretch/>
        </p:blipFill>
        <p:spPr>
          <a:xfrm>
            <a:off x="5815080" y="2084400"/>
            <a:ext cx="310356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28600" y="2590920"/>
            <a:ext cx="1143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2920" y="3276720"/>
            <a:ext cx="1676160" cy="37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E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28600" y="213372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M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28600" y="5181480"/>
            <a:ext cx="1123920" cy="37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LW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00080" y="837720"/>
            <a:ext cx="8967600" cy="1255320"/>
            <a:chOff x="100080" y="837720"/>
            <a:chExt cx="8967600" cy="1255320"/>
          </a:xfrm>
        </p:grpSpPr>
        <p:sp>
          <p:nvSpPr>
            <p:cNvPr id="111" name="AutoShape 20"/>
            <p:cNvSpPr/>
            <p:nvPr/>
          </p:nvSpPr>
          <p:spPr>
            <a:xfrm rot="10800000">
              <a:off x="100080" y="837360"/>
              <a:ext cx="8967600" cy="1255320"/>
            </a:xfrm>
            <a:prstGeom prst="pie">
              <a:avLst/>
            </a:prstGeom>
            <a:blipFill rotWithShape="0">
              <a:blip r:embed="rId3">
                <a:alphaModFix amt="61000"/>
              </a:blip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898200" y="1284120"/>
              <a:ext cx="714204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IMPLEMENT SECTOR BUDGET SUPPO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MS Gothic"/>
                </a:rPr>
                <a:t>Meet: Current and Future Needs (MDG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2666880" y="914400"/>
            <a:ext cx="3962520" cy="3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Gothic"/>
              </a:rPr>
              <a:t>NOW URGENTLY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28600" y="4648320"/>
            <a:ext cx="1123920" cy="37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8"/>
          <p:cNvSpPr/>
          <p:nvPr/>
        </p:nvSpPr>
        <p:spPr>
          <a:xfrm>
            <a:off x="8915400" y="2133720"/>
            <a:ext cx="0" cy="3504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150480" y="2057400"/>
            <a:ext cx="3240" cy="358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INFORMATION FLOW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728640" y="1816200"/>
            <a:ext cx="76867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access to water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rules for tariffs and connection fees allowing for free basic water to vulnerable households developed, tested and approved by the LE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0 new public standpipes serving about 15,000 persons established for providing access to water in areas with low connection rates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00 new domestic connections installed serving about 30,000 per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expansion:  connect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or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ing operating efficienc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policy and strategy for meter calibration and replacement developed and being implemente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fW reduced to an average of 27% overall by March 2012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consumption reduced by 20% from M9.3m/annum in 2008/09 to M7.44m/annum in the 2011/12 financia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BS PROGRAMME IMPLEM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s: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OTHO GOVERNMENT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delegated (decentralized) authority by EU to G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FDP: sign financing agreement, donor coordination; GoL procurement procedures (assessment done by Pot for PFM); thresholds of contracts for: works, supplies, services, grant contracts, etc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NR: implementation: water sector agencies, reporting (M&amp;E)  (supervision and execution, etc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peration with donor comm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: procurement ?, ensures agreement is sign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LAN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IB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 and financi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C.,Other stakeholders: NGO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llenges Improve production capac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olong Project: for Maseru, TY, Roma and Mori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3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Towns Project: Maputsoe, TY, and Rom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 and Peri-urban Project: rehabilitation of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Scootvlei WTP (to 5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feteng WTP (to 2,000m3/day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a-Bothe boreholes (to 2,600m3/day)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thing WTP (to 1,500m3/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koe-Thetsane: intake structure at Caledon River, 20ML WTP, transmission main, gravity m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production capacity increased by 29.52ML/day by March 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190512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urbishment and upgrading of the Ratjomose WWT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WWTP at Agric Colle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, infilling and extension of sewerage systems in the Ratjomos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new sewerage systems in the Agric College catchment 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rban sanitation serv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llenges </a:t>
            </a: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for Urban Sani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91440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sewerage network, and this will be achieved throug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ongoing Maseru Wastewater Project, which inclu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tion of on-site disposal systems (VIPs) and conversion of existing VIP latrines into water bor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habilitation and expansion of sewerage networks and treatment plants in Maputsoe, TY and Roma (3-Towns Proj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37:15Z</dcterms:created>
  <dc:creator>Windows User</dc:creator>
  <dc:description/>
  <dc:language>en-US</dc:language>
  <cp:lastModifiedBy>new</cp:lastModifiedBy>
  <dcterms:modified xsi:type="dcterms:W3CDTF">2011-04-05T08:47:55Z</dcterms:modified>
  <cp:revision>388</cp:revision>
  <dc:subject/>
  <dc:title>Slide 1</dc:title>
</cp:coreProperties>
</file>