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22D3-DDCE-4E55-8951-9EA5E4B61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724E-B8F5-4BAF-9F26-BB89C2AC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4A0D-B8D2-49AD-BA32-483A43B55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4D24-405F-4533-9B72-E79E96721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A66C-57E2-4306-B229-99BF71A4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77F7-09EA-440B-BE9E-B20EB465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6DF7-3461-4015-862D-2E06BD67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F9A0-D0CF-4667-BF51-F36795EC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14E1-0D57-4DAF-8ED3-C00C6A1D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7A79-E0DE-4700-B637-7D752EA8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4396-FB35-4AB2-81FB-68356100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2318-7614-42A1-A95C-69C4C00A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AAD4-6250-4A9C-900A-478B73E906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Water sector semin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898989"/>
                </a:solidFill>
                <a:latin typeface="Calibri"/>
              </a:rPr>
              <a:t>Lesotho 5th to 7th Mar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684360" y="907920"/>
            <a:ext cx="777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Agenda – mai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Key objective: discuss various aspects of the sector to order to obtain comments and contributions to the national strategy that is being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1 Sector coordination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lanning (Maseru city council, World Bank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Sanitation  (WASCO, TED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– Water resources and climat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IWRM and Climate (Met. Services, DW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Land use (GIZ, LHDA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– M&amp;E and fin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M&amp;E (M&amp;E unit, BOS) +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611280" y="1413000"/>
            <a:ext cx="77058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group work  Urbanisation for water and san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e – Institutional – techn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allen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: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ggest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tions,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Final task by all across the groups: prioritise th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611280" y="1413000"/>
            <a:ext cx="770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3 group work  Climate and water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mate change adaptation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- Challenges to developing convincing fundable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- Steps to be taken to develop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WRM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611280" y="1413000"/>
            <a:ext cx="770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4 group work  M&amp;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ach group/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1 – Challenges that the strategy will need to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k 2 – Opportunities </a:t>
            </a: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 and approaches that could be considered by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Task 3 – define institutiona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468360" y="112536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Day 2 –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On cards (one point per card, put country on c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 main challenges /issues  that you are facing which brings you to this seminar and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or 2  experiences/ lessons learnt/best practice which you feel would be worth sha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Pai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the person next to you - Name, delegation/job, one surprising 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1:23:51Z</dcterms:created>
  <dc:creator>PC</dc:creator>
  <dc:description/>
  <dc:language>en-US</dc:language>
  <cp:lastModifiedBy>new</cp:lastModifiedBy>
  <dcterms:modified xsi:type="dcterms:W3CDTF">2011-04-06T11:10:49Z</dcterms:modified>
  <cp:revision>11</cp:revision>
  <dc:subject/>
  <dc:title>Regional water seminar</dc:title>
</cp:coreProperties>
</file>