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2B79A-6052-421B-8DC2-B778F0FAD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D7AA-0C1A-4E6F-897C-F2C2A3CBB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06AC7-7A8D-4577-8308-0E06459E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9FCAC-5294-4078-83AC-3284D0F29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2951A-D706-45F7-9414-DAC3B63D40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52A6D-A3D7-4630-9DAB-B3AC152F6E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F8214-A469-41FE-BE44-DBA07673CA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56F4E-E7DF-4DC5-B756-B3DA4F4898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02480-AD26-49EC-BB80-34DB0A4214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BB1F5-5B84-4468-922A-2F9B139FB3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BC231-9C35-42CF-BE17-18A03916AE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000A9-C132-4818-82D4-AB92D617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2ACC5-7A08-4CE5-9109-68B45CE3DC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D0780-2548-440A-B43B-AC6812336E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7A6AA-728F-47AE-9982-1675508ED1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08E4B-EC8A-43C4-82E7-822974A254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C36023-6D30-4F85-8646-FDD57FE80F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264F-BA5A-49B7-9983-42C1C562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BA16-2CB9-4FE1-9B30-D8D1C5AC2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CD589-E5A6-48C8-A320-2FF2F4956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90F0-35F9-40E6-B1CC-D0D01C237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5A68-40C8-4AAF-9B2A-80C8AF3CF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4407-1436-4A8F-A927-EA0878DF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9DCE6-A450-4389-9B3F-4A5952BCD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97CEC8E-D593-422C-A45A-4B2EFA8DC29F}" type="datetime11">
              <a:rPr b="0" lang="en-US" sz="1400" spc="-1" strike="noStrike">
                <a:solidFill>
                  <a:srgbClr val="ffffff"/>
                </a:solidFill>
                <a:latin typeface="Times New Roman"/>
              </a:rPr>
              <a:t>17:48:0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3B27-E076-4072-9579-62B82B3DF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737C-1ED9-40AB-910C-5CB5BD087D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59340327-DBA2-407E-9BDC-0175F33DD3F6}" type="datetime11">
              <a:rPr b="0" lang="en-US" sz="1400" spc="-1" strike="noStrike">
                <a:solidFill>
                  <a:srgbClr val="ffffff"/>
                </a:solidFill>
                <a:latin typeface="Times New Roman"/>
              </a:rPr>
              <a:t>17:48:07</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7D7292D-378A-49E5-A71A-FE6B8D027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FA93E38-77A1-4567-B481-D05F4C05A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3D16B3C-0D9E-4971-9F87-8CD3BFB17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CE9234-5F41-4657-8F97-0D565C392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55B8861E-DA14-48C0-9798-7955652E43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7146727-4595-476D-AE75-D6FF38EFC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AC32BC-7028-484A-8BB7-2EE052BAD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4A884A6-B8F0-46D1-A6CF-F26808E783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7CEA288C-2E27-4C02-A67A-1046CF1B6BF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99AB6B9-E3A3-403C-BFDD-EBAA096E6DC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ACF9AE-B8ED-45A5-964F-978639F998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6E5EA61-D65B-44B5-8A49-B12768AC25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BBCA133-0A4E-4755-BFD7-9093EC6F7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A72E290-BEAC-4C38-8700-23F207DC82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C09BA41-04B5-4F99-A566-714980CA7D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7E8DE1-E5A6-4D8B-8818-1F74844486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5CD3E42-2E32-4D27-A53C-736541F6A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