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94227-1F7C-4A2A-94F1-EDD974A08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203C1-587E-49B5-9FDB-198B7C31A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CEEFF-40DB-471F-8078-C0D85D5D7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307A4-E6EA-450A-A691-4B0D59F1C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7DB664-11D5-4EEC-A7A8-24203292A58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11FB0C-7ADA-48D8-B615-3DA024027C1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72666B-FFF1-44D0-8DC5-E754076C86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609448-DB87-4B8D-A468-1133F0C6BA3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EB3247-398A-46BE-A6CE-C731464485F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23863B-4DBF-4F9D-ABA4-C9E11AE6A31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F97660-3E4F-447A-936B-B7FC5D31E8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80F22-A027-44ED-B3AA-05D177C06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035C07-C67F-4F5A-A5CB-0A51DBBA18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C8C108-2E95-45E6-B8A0-C88BCF55E3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F4065D-88DF-48AE-9927-3DD00BD23B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CF1847-E740-42F5-9D9E-2A927993241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4C2563-E4E8-460C-996B-8AE1D0A1DE6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769D2-D000-4686-BBFB-1436B6E58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FF74E-F266-479A-BD8C-1BD12E257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8FFF9-8F4D-4967-B5C4-D14EF2111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B32BE-B478-4438-B831-1C2505E81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9114E-4BE2-4DB2-ABC6-432B6A425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2F9A4-30B5-4DC0-8316-3EBCB3960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6632B-5B45-4815-BFFD-78F7D919A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F1873A97-3EFD-4400-B503-84FC9F8300F5}" type="datetime11">
              <a:rPr b="0" lang="en-US" sz="1400" spc="-1" strike="noStrike">
                <a:solidFill>
                  <a:srgbClr val="ffffff"/>
                </a:solidFill>
                <a:latin typeface="Times New Roman"/>
              </a:rPr>
              <a:t>18:06:5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8F80-2E61-43C1-98F8-2BAC46556B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93B0C-DECB-4507-9AC8-C93C086A20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A151D045-0007-4AEA-ABE2-86D222684151}" type="datetime11">
              <a:rPr b="0" lang="en-US" sz="1400" spc="-1" strike="noStrike">
                <a:solidFill>
                  <a:srgbClr val="ffffff"/>
                </a:solidFill>
                <a:latin typeface="Times New Roman"/>
              </a:rPr>
              <a:t>18:06:51</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20634BE-5F90-4FD8-93A8-7E9A7ED896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6457EF9-7775-49D3-9768-978945A886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D778D9B-8AC2-4B9E-880E-26BC00D22C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DA35718-7027-4260-9114-F54A69E24F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82876BD5-7AF1-4F0A-A906-D078444C8E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6E8946E-520D-425D-89B7-FDAAA41F13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4E9D3CB-E92A-4D37-A344-256AD9CCC2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36C979A-FAF1-4DC8-824A-E3CE689953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19D98887-C60F-41AF-B0A4-06F3BBF67F00}"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59D8352-4B04-4622-8372-CEDD7BEBB91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96FB0FF-EDCE-47C2-8406-A1D3E41430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8DA002F-C0DB-4FEA-B39E-CE5A2D454E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0B782FC-1ACA-4B57-9862-4ED7DCA88A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387C86B-9379-4162-80BB-5CE6D3D9B0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7D8CCDC-E8FD-4629-9CE4-C238FC398F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0634219-EC08-45A2-BA10-7D86283145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573FA3A-D16E-45B6-ABFC-23AC09CD21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