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F586-3D1B-4246-80F0-5A76F77AD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EDC2-DA71-4FB6-8B37-1496042F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0630-3956-4D45-AA8B-877F0119F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DF0F-AA55-4B63-AB82-608C2865B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BD87-CBED-4CD8-8DA3-676D52C2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78F4-AC52-4440-90A1-64F597B1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08D4-0635-444C-B17F-262E27C0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F645-2708-411D-A737-7EC325AE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E96D-8350-4B20-96D4-B4065C25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C22A-C5FC-4795-B9EE-7C5EF607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F2A7-38ED-4A35-ACA2-19F8DDA6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259A-52CD-41E0-8C22-C3A97A3B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EF84-DB77-4DDF-9A33-24C81E82FC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or Re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s and key less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s        the need for re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oor govern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improve policy framework incl. regulation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k gov. capacity to carry  out all tasks at hand (+ brain dra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clear roles and respons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financ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or PFM – corru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ow service provi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Höger 3"/>
          <p:cNvSpPr/>
          <p:nvPr/>
        </p:nvSpPr>
        <p:spPr>
          <a:xfrm>
            <a:off x="2771640" y="765000"/>
            <a:ext cx="576360" cy="287640"/>
          </a:xfrm>
          <a:prstGeom prst="rightArrow">
            <a:avLst>
              <a:gd name="adj1" fmla="val 50000"/>
              <a:gd name="adj2" fmla="val 5009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Höger 4"/>
          <p:cNvSpPr/>
          <p:nvPr/>
        </p:nvSpPr>
        <p:spPr>
          <a:xfrm>
            <a:off x="755640" y="558972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- role of Gov + D.P.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itical will + government ownership is cru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if it is not there from star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. Partners  need to promote change through policy dialogue and be flexible and patien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ve into sector support  and use of Gov systems gradually as ownership/capacity  increases but also leave funds outside for quick wins and innovations (80/2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Key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sons-</a:t>
            </a: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 reform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rst step in reform is to put right policies in place – clarify roles and responsibilities (one entry point as in Kenya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ed for finance mechanisms  (i.e. Kenya trust fund as a good exampl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centralisation of responsibilities  need to be followed by money and skil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oth WUA and PS can play a role and their comparative advantage depends on the context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GOs need to focus to be profession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gulation and monitoring of service providers crucial, but too many small providers is challenging to contro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– policy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ly too little focus on water resources management  and protection of water resources to ensure water q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stronger link between water supply with sani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scal incentives to promote innovative technology  (i.e. solar panels in Cha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9:29:14Z</dcterms:created>
  <dc:creator>Ditt användarnamn</dc:creator>
  <dc:description/>
  <dc:language>en-US</dc:language>
  <cp:lastModifiedBy>Ditt användarnamn</cp:lastModifiedBy>
  <dcterms:modified xsi:type="dcterms:W3CDTF">2010-10-20T20:02:41Z</dcterms:modified>
  <cp:revision>6</cp:revision>
  <dc:subject/>
  <dc:title>Sector Reforms </dc:title>
</cp:coreProperties>
</file>