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74CF-B41A-4822-8E42-25D70A4DED6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FAFC-9FBF-497A-A3A2-8E66DCD4D59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7F1B-C3ED-474F-9C5D-C2F61487CD55}" type="datetime">
              <a:rPr b="0" lang="en-US" sz="1200" spc="-1" strike="noStrike">
                <a:solidFill>
                  <a:srgbClr val="ffffff"/>
                </a:solidFill>
                <a:latin typeface="Verdana"/>
              </a:rPr>
              <a:t>07/29/26</a:t>
            </a:fld>
            <a:r>
              <a:rPr b="0" lang="en-US" sz="1200" spc="-1" strike="noStrike">
                <a:solidFill>
                  <a:srgbClr val="ffffff"/>
                </a:solidFill>
                <a:latin typeface="Verdana"/>
              </a:rPr>
              <a:t> </a:t>
            </a:r>
            <a:fld id="{80C7C80C-DE6F-440C-906A-E90898F29A82}"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ABF7-E9B9-4D7C-B977-41257015ECC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E782-385B-49D8-AD36-CC5ABFE0336B}" type="datetime">
              <a:rPr b="0" lang="en-US" sz="1200" spc="-1" strike="noStrike">
                <a:solidFill>
                  <a:srgbClr val="ffffff"/>
                </a:solidFill>
                <a:latin typeface="Verdana"/>
              </a:rPr>
              <a:t>07/29/26</a:t>
            </a:fld>
            <a:r>
              <a:rPr b="0" lang="en-US" sz="1200" spc="-1" strike="noStrike">
                <a:solidFill>
                  <a:srgbClr val="ffffff"/>
                </a:solidFill>
                <a:latin typeface="Verdana"/>
              </a:rPr>
              <a:t> </a:t>
            </a:r>
            <a:fld id="{C555FDB0-2251-4985-AC4F-57B0C64B4E93}"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EFC9-5BD7-4BF7-9C97-7C2948CD1BB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E2F9-5CD3-48B1-97B1-292F53C3EAC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89B8-ED27-489E-AAEB-6E6028C3B564}" type="datetime">
              <a:rPr b="0" lang="en-US" sz="1200" spc="-1" strike="noStrike">
                <a:solidFill>
                  <a:srgbClr val="ffffff"/>
                </a:solidFill>
                <a:latin typeface="Verdana"/>
              </a:rPr>
              <a:t>07/29/26</a:t>
            </a:fld>
            <a:r>
              <a:rPr b="0" lang="en-US" sz="1200" spc="-1" strike="noStrike">
                <a:solidFill>
                  <a:srgbClr val="ffffff"/>
                </a:solidFill>
                <a:latin typeface="Verdana"/>
              </a:rPr>
              <a:t> </a:t>
            </a:r>
            <a:fld id="{41354215-9215-4D10-853A-6068E7FE41C6}"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32C2-B26D-4E57-B577-6EE6B0FDC4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858D-57DB-4040-B268-975FD596E3CE}" type="datetime">
              <a:rPr b="0" lang="en-US" sz="1200" spc="-1" strike="noStrike">
                <a:solidFill>
                  <a:srgbClr val="ffffff"/>
                </a:solidFill>
                <a:latin typeface="Verdana"/>
              </a:rPr>
              <a:t>07/29/26</a:t>
            </a:fld>
            <a:r>
              <a:rPr b="0" lang="en-US" sz="1200" spc="-1" strike="noStrike">
                <a:solidFill>
                  <a:srgbClr val="ffffff"/>
                </a:solidFill>
                <a:latin typeface="Verdana"/>
              </a:rPr>
              <a:t> </a:t>
            </a:r>
            <a:fld id="{59401B14-6E17-4F87-A455-CB855FED6C54}"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0DFE-1E15-428E-A2BF-7083748A84E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82F9-C4EB-40F6-BE4F-FB4C8FBD6EA0}" type="datetime">
              <a:rPr b="0" lang="en-US" sz="1200" spc="-1" strike="noStrike">
                <a:solidFill>
                  <a:srgbClr val="ffffff"/>
                </a:solidFill>
                <a:latin typeface="Verdana"/>
              </a:rPr>
              <a:t>07/29/26</a:t>
            </a:fld>
            <a:r>
              <a:rPr b="0" lang="en-US" sz="1200" spc="-1" strike="noStrike">
                <a:solidFill>
                  <a:srgbClr val="ffffff"/>
                </a:solidFill>
                <a:latin typeface="Verdana"/>
              </a:rPr>
              <a:t> </a:t>
            </a:r>
            <a:fld id="{98D1C095-4F66-49E2-8BC0-0E2F178EA0E3}"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6E29-C8CB-43D1-BE11-19FD868465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BC2D-192B-4779-912D-9ACFF03B2AF6}" type="datetime">
              <a:rPr b="0" lang="en-US" sz="1200" spc="-1" strike="noStrike">
                <a:solidFill>
                  <a:srgbClr val="ffffff"/>
                </a:solidFill>
                <a:latin typeface="Verdana"/>
              </a:rPr>
              <a:t>07/29/26</a:t>
            </a:fld>
            <a:r>
              <a:rPr b="0" lang="en-US" sz="1200" spc="-1" strike="noStrike">
                <a:solidFill>
                  <a:srgbClr val="ffffff"/>
                </a:solidFill>
                <a:latin typeface="Verdana"/>
              </a:rPr>
              <a:t> </a:t>
            </a:r>
            <a:fld id="{427E6024-D105-4A1B-A854-A08CCD035368}"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A6E9-DE67-4EC7-9FCD-8E5E64622E2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2B5A-EE68-4D4A-A7E7-39CCEBF5E106}" type="datetime">
              <a:rPr b="0" lang="en-US" sz="1200" spc="-1" strike="noStrike">
                <a:solidFill>
                  <a:srgbClr val="ffffff"/>
                </a:solidFill>
                <a:latin typeface="Verdana"/>
              </a:rPr>
              <a:t>07/29/26</a:t>
            </a:fld>
            <a:r>
              <a:rPr b="0" lang="en-US" sz="1200" spc="-1" strike="noStrike">
                <a:solidFill>
                  <a:srgbClr val="ffffff"/>
                </a:solidFill>
                <a:latin typeface="Verdana"/>
              </a:rPr>
              <a:t> </a:t>
            </a:r>
            <a:fld id="{0CA37428-4AE1-4F59-ABD3-D308D54A8B3B}"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5C2C-37BD-4887-8EE6-8040754985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E1FA-59E6-4360-8B61-5D312308CA14}" type="datetime">
              <a:rPr b="0" lang="en-US" sz="1200" spc="-1" strike="noStrike">
                <a:solidFill>
                  <a:srgbClr val="ffffff"/>
                </a:solidFill>
                <a:latin typeface="Verdana"/>
              </a:rPr>
              <a:t>07/29/26</a:t>
            </a:fld>
            <a:r>
              <a:rPr b="0" lang="en-US" sz="1200" spc="-1" strike="noStrike">
                <a:solidFill>
                  <a:srgbClr val="ffffff"/>
                </a:solidFill>
                <a:latin typeface="Verdana"/>
              </a:rPr>
              <a:t> </a:t>
            </a:r>
            <a:fld id="{E47968A2-1B45-4E2D-8888-AB8915925892}"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95F2-4771-4E93-98D0-64877E5684A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CA24-C26F-4597-B9EB-4EA7A28E5BA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7DBE-32F7-4EBC-9E34-1F8918716E5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DABF-B8DD-4761-885D-F1BC8BD793E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EA16-48B1-4B40-8FD2-EC9BE909B1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9734-3670-413A-8DB5-6F868999DF0A}" type="datetime">
              <a:rPr b="0" lang="en-US" sz="1200" spc="-1" strike="noStrike">
                <a:solidFill>
                  <a:srgbClr val="ffffff"/>
                </a:solidFill>
                <a:latin typeface="Verdana"/>
              </a:rPr>
              <a:t>07/29/26</a:t>
            </a:fld>
            <a:r>
              <a:rPr b="0" lang="en-US" sz="1200" spc="-1" strike="noStrike">
                <a:solidFill>
                  <a:srgbClr val="ffffff"/>
                </a:solidFill>
                <a:latin typeface="Verdana"/>
              </a:rPr>
              <a:t> </a:t>
            </a:r>
            <a:fld id="{ADD897A0-CB7C-4F61-BDF1-2AAD10A8CE61}"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7187-055D-4CBF-B85A-7F85F3849A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1059-D12E-4117-AF83-8069BC0B50C2}" type="datetime">
              <a:rPr b="0" lang="en-US" sz="1200" spc="-1" strike="noStrike">
                <a:solidFill>
                  <a:srgbClr val="ffffff"/>
                </a:solidFill>
                <a:latin typeface="Verdana"/>
              </a:rPr>
              <a:t>07/29/26</a:t>
            </a:fld>
            <a:r>
              <a:rPr b="0" lang="en-US" sz="1200" spc="-1" strike="noStrike">
                <a:solidFill>
                  <a:srgbClr val="ffffff"/>
                </a:solidFill>
                <a:latin typeface="Verdana"/>
              </a:rPr>
              <a:t> </a:t>
            </a:r>
            <a:fld id="{B9286BD1-9411-47AB-84E7-0D814FD2211A}"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2C86-78D9-42CD-98DA-C9569D2745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BA43-827C-499F-8063-998E5ADA4D43}" type="datetime">
              <a:rPr b="0" lang="en-US" sz="1200" spc="-1" strike="noStrike">
                <a:solidFill>
                  <a:srgbClr val="ffffff"/>
                </a:solidFill>
                <a:latin typeface="Verdana"/>
              </a:rPr>
              <a:t>07/29/26</a:t>
            </a:fld>
            <a:r>
              <a:rPr b="0" lang="en-US" sz="1200" spc="-1" strike="noStrike">
                <a:solidFill>
                  <a:srgbClr val="ffffff"/>
                </a:solidFill>
                <a:latin typeface="Verdana"/>
              </a:rPr>
              <a:t> </a:t>
            </a:r>
            <a:fld id="{525B092B-42A5-4A6D-9978-F2FBC9E04793}" type="datetime10">
              <a:rPr b="0" lang="en-US" sz="1200" spc="-1" strike="noStrike">
                <a:solidFill>
                  <a:srgbClr val="ffffff"/>
                </a:solidFill>
                <a:latin typeface="Verdana"/>
              </a:rPr>
              <a:t>17:58</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C276-3F3A-4A3E-B8D1-502A4FB796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43836-2148-4CCC-A8FC-84DE651E0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6014-2DE2-4855-8C21-B227D099C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A4959-120B-4DE9-A448-EBFC6A3B4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98FAA-1958-490E-95F4-EAB7DF0C0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BD6CD-4156-484C-93AA-116ABA3EA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946A8-1AE9-44E8-AA3F-1DD806CF2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EFBD-9F4E-4983-A351-EC22958E1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21A8D-C101-4F76-89D4-7C9CD8EE2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35BA6-71A4-436D-AF1E-BB6C5260C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428C2-F512-4013-9C00-616A5D498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B2469-1C27-468C-9FCB-2D5108A4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CE51-1EDE-40D5-A859-816512341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EB73-B1A0-4EE1-BAE4-618647B3F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4F5A7-9E11-4395-81D2-C9A022B1F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31DD5-DA7F-4D98-9261-B3224A7C1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98925-E2B1-46FC-A502-D42BAD420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D20CC-692C-4BFD-B4E7-47D4EF180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CB749-6592-4741-AFAC-2F54C15A3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2B0DA-0A2A-4768-9A2A-80706263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7630-EE5F-4DCA-B978-02D0577B1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8948-0388-498D-942C-102916F92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68F8-D62C-4239-88C4-CFCADD7E9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917B7-3CC1-4EE2-8DB7-298C1692C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F92D2-1701-495D-9F39-2167B4526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8A30-90C9-4361-A109-06611F69AFC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9A46-89E5-47B6-82AC-926CC6A89F8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445E-2A88-4597-9237-E8C356958E1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