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AC67-C60C-4648-9FF6-E5CA0070B5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9F49-BF4B-4F6F-A6F7-3FDD625CB7D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CC02-C7D1-480C-B7F8-D02DFDCC452E}" type="datetime">
              <a:rPr b="0" lang="en-US" sz="1200" spc="-1" strike="noStrike">
                <a:solidFill>
                  <a:srgbClr val="ffffff"/>
                </a:solidFill>
                <a:latin typeface="Verdana"/>
              </a:rPr>
              <a:t>07/30/26</a:t>
            </a:fld>
            <a:r>
              <a:rPr b="0" lang="en-US" sz="1200" spc="-1" strike="noStrike">
                <a:solidFill>
                  <a:srgbClr val="ffffff"/>
                </a:solidFill>
                <a:latin typeface="Verdana"/>
              </a:rPr>
              <a:t> </a:t>
            </a:r>
            <a:fld id="{52576DA7-768E-4187-9B6A-3D5054DE92DD}"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5B52-2FE6-4BDE-AA48-475FA9AC028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A965-8ABC-455B-AAC6-3529122BD5A6}" type="datetime">
              <a:rPr b="0" lang="en-US" sz="1200" spc="-1" strike="noStrike">
                <a:solidFill>
                  <a:srgbClr val="ffffff"/>
                </a:solidFill>
                <a:latin typeface="Verdana"/>
              </a:rPr>
              <a:t>07/30/26</a:t>
            </a:fld>
            <a:r>
              <a:rPr b="0" lang="en-US" sz="1200" spc="-1" strike="noStrike">
                <a:solidFill>
                  <a:srgbClr val="ffffff"/>
                </a:solidFill>
                <a:latin typeface="Verdana"/>
              </a:rPr>
              <a:t> </a:t>
            </a:r>
            <a:fld id="{DA3877C4-9AA6-478B-AA85-91FAAAAD883F}"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016C-D54A-408F-8307-E08A268EFA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5C10-DF77-4009-A44D-6C31A5587F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B3BA-C984-4B07-B179-88FFC6B859C7}" type="datetime">
              <a:rPr b="0" lang="en-US" sz="1200" spc="-1" strike="noStrike">
                <a:solidFill>
                  <a:srgbClr val="ffffff"/>
                </a:solidFill>
                <a:latin typeface="Verdana"/>
              </a:rPr>
              <a:t>07/30/26</a:t>
            </a:fld>
            <a:r>
              <a:rPr b="0" lang="en-US" sz="1200" spc="-1" strike="noStrike">
                <a:solidFill>
                  <a:srgbClr val="ffffff"/>
                </a:solidFill>
                <a:latin typeface="Verdana"/>
              </a:rPr>
              <a:t> </a:t>
            </a:r>
            <a:fld id="{9D662B57-7717-4BA2-96F0-EFAF06AF7C81}"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581F-D948-43F9-9F18-36DBCD89BF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18BF-1DED-481C-9755-EEF1B733B36D}" type="datetime">
              <a:rPr b="0" lang="en-US" sz="1200" spc="-1" strike="noStrike">
                <a:solidFill>
                  <a:srgbClr val="ffffff"/>
                </a:solidFill>
                <a:latin typeface="Verdana"/>
              </a:rPr>
              <a:t>07/30/26</a:t>
            </a:fld>
            <a:r>
              <a:rPr b="0" lang="en-US" sz="1200" spc="-1" strike="noStrike">
                <a:solidFill>
                  <a:srgbClr val="ffffff"/>
                </a:solidFill>
                <a:latin typeface="Verdana"/>
              </a:rPr>
              <a:t> </a:t>
            </a:r>
            <a:fld id="{51197DF4-1035-4363-82D8-D7E222CB6334}"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3A29-83CE-451E-A7E9-F6B6C67C25F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DB1D-B4C5-495C-984F-9FA6F9157AC4}" type="datetime">
              <a:rPr b="0" lang="en-US" sz="1200" spc="-1" strike="noStrike">
                <a:solidFill>
                  <a:srgbClr val="ffffff"/>
                </a:solidFill>
                <a:latin typeface="Verdana"/>
              </a:rPr>
              <a:t>07/30/26</a:t>
            </a:fld>
            <a:r>
              <a:rPr b="0" lang="en-US" sz="1200" spc="-1" strike="noStrike">
                <a:solidFill>
                  <a:srgbClr val="ffffff"/>
                </a:solidFill>
                <a:latin typeface="Verdana"/>
              </a:rPr>
              <a:t> </a:t>
            </a:r>
            <a:fld id="{2548436D-9068-46CC-BAE1-0A9AFBCDA65F}"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EE44-57F0-4FC5-AFA5-C1D8ED83F0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9060-AACE-405A-A6A2-FB31DF4B6415}" type="datetime">
              <a:rPr b="0" lang="en-US" sz="1200" spc="-1" strike="noStrike">
                <a:solidFill>
                  <a:srgbClr val="ffffff"/>
                </a:solidFill>
                <a:latin typeface="Verdana"/>
              </a:rPr>
              <a:t>07/30/26</a:t>
            </a:fld>
            <a:r>
              <a:rPr b="0" lang="en-US" sz="1200" spc="-1" strike="noStrike">
                <a:solidFill>
                  <a:srgbClr val="ffffff"/>
                </a:solidFill>
                <a:latin typeface="Verdana"/>
              </a:rPr>
              <a:t> </a:t>
            </a:r>
            <a:fld id="{E5093382-9312-4CE9-B1D3-8BFC8A88AEDB}"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F8D2-1DD0-4643-8934-4B90CBF41D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8C5D-662B-475A-B1EC-90869077C334}" type="datetime">
              <a:rPr b="0" lang="en-US" sz="1200" spc="-1" strike="noStrike">
                <a:solidFill>
                  <a:srgbClr val="ffffff"/>
                </a:solidFill>
                <a:latin typeface="Verdana"/>
              </a:rPr>
              <a:t>07/30/26</a:t>
            </a:fld>
            <a:r>
              <a:rPr b="0" lang="en-US" sz="1200" spc="-1" strike="noStrike">
                <a:solidFill>
                  <a:srgbClr val="ffffff"/>
                </a:solidFill>
                <a:latin typeface="Verdana"/>
              </a:rPr>
              <a:t> </a:t>
            </a:r>
            <a:fld id="{D19DB976-5298-424E-9CC1-0A20E757ECB2}"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71A2-F277-45BC-8715-8D98138973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3419-930A-402B-A8B4-FAA3E6FF5791}" type="datetime">
              <a:rPr b="0" lang="en-US" sz="1200" spc="-1" strike="noStrike">
                <a:solidFill>
                  <a:srgbClr val="ffffff"/>
                </a:solidFill>
                <a:latin typeface="Verdana"/>
              </a:rPr>
              <a:t>07/30/26</a:t>
            </a:fld>
            <a:r>
              <a:rPr b="0" lang="en-US" sz="1200" spc="-1" strike="noStrike">
                <a:solidFill>
                  <a:srgbClr val="ffffff"/>
                </a:solidFill>
                <a:latin typeface="Verdana"/>
              </a:rPr>
              <a:t> </a:t>
            </a:r>
            <a:fld id="{DB9D8CB7-8C17-41BD-95E2-165F2F6F1D98}"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9DF1-F9B1-47B5-A2A2-FE25F84A61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49F6-C471-4B6F-99E5-BCB42974A2D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939B-7F69-48DD-9CEE-003F19FAA3D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E071-2886-4ABE-8DB2-B12F028FBB3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AF37-B977-4A5D-934A-BAF222ED76F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FBF0-E5D7-44E2-87C1-4DC49DA4AEC6}" type="datetime">
              <a:rPr b="0" lang="en-US" sz="1200" spc="-1" strike="noStrike">
                <a:solidFill>
                  <a:srgbClr val="ffffff"/>
                </a:solidFill>
                <a:latin typeface="Verdana"/>
              </a:rPr>
              <a:t>07/30/26</a:t>
            </a:fld>
            <a:r>
              <a:rPr b="0" lang="en-US" sz="1200" spc="-1" strike="noStrike">
                <a:solidFill>
                  <a:srgbClr val="ffffff"/>
                </a:solidFill>
                <a:latin typeface="Verdana"/>
              </a:rPr>
              <a:t> </a:t>
            </a:r>
            <a:fld id="{06888837-D51E-4D15-A875-EB2908E17DAF}"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DF21-2008-46F2-8E7F-3071E3A95B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941F-A640-479D-9DF9-D07EB35D008C}" type="datetime">
              <a:rPr b="0" lang="en-US" sz="1200" spc="-1" strike="noStrike">
                <a:solidFill>
                  <a:srgbClr val="ffffff"/>
                </a:solidFill>
                <a:latin typeface="Verdana"/>
              </a:rPr>
              <a:t>07/30/26</a:t>
            </a:fld>
            <a:r>
              <a:rPr b="0" lang="en-US" sz="1200" spc="-1" strike="noStrike">
                <a:solidFill>
                  <a:srgbClr val="ffffff"/>
                </a:solidFill>
                <a:latin typeface="Verdana"/>
              </a:rPr>
              <a:t> </a:t>
            </a:r>
            <a:fld id="{2FBBEDEB-8E8C-4B65-A333-CFA7B89D3668}"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0114-8E15-4E8D-A1C1-F8C5D24059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4064-ADB9-4EFD-854A-3A625835DA04}" type="datetime">
              <a:rPr b="0" lang="en-US" sz="1200" spc="-1" strike="noStrike">
                <a:solidFill>
                  <a:srgbClr val="ffffff"/>
                </a:solidFill>
                <a:latin typeface="Verdana"/>
              </a:rPr>
              <a:t>07/30/26</a:t>
            </a:fld>
            <a:r>
              <a:rPr b="0" lang="en-US" sz="1200" spc="-1" strike="noStrike">
                <a:solidFill>
                  <a:srgbClr val="ffffff"/>
                </a:solidFill>
                <a:latin typeface="Verdana"/>
              </a:rPr>
              <a:t> </a:t>
            </a:r>
            <a:fld id="{8E5AB905-9206-48C5-A7E9-E521788DA7A5}"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DCD9-6E72-472B-948D-1ABDEE2F6E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B23D7-641D-4623-9938-164834666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AF09-0059-4319-8D19-5D60F7F3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FAD5A-3317-41AD-8058-3BB75C11E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5FEF7-1E2E-40A1-9DB7-D4542E55A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C99B7-BCEF-4151-B96E-B3AB535E2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E5BF4-6219-4688-8FA6-8C4BAC69E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FAD5F-1F8B-4D93-9807-EED264AD0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3E4B2-3F6E-49AF-AB3E-7DBD8676D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2F406-685E-42A9-A103-E445A4633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F43B5-5889-4876-A4C2-24D82260A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B83B-B309-4A9D-9729-558B47D5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21E4-371C-45E1-AE7D-FEA92545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31D7E-9F99-4220-9131-CE02B1157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21183-D6A3-4A73-9915-882A1EADF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5EE3E-67CC-4B28-BE13-F69E7311C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71A81-8126-48F8-9B54-E480F7540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5E4C4-5FA4-4633-9FC1-9CDEE12D8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766E2-101D-40FF-87E1-F4DCD4D6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42E14-6F43-45A8-A94D-D886F4A85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17B72-85C0-400A-91CC-A6E89DD74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211C-3520-4EE5-A76F-5FB54A1E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E52B-2F57-4B51-9711-B876F011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B3EF-27B0-4FD0-B0F9-A89BDAFF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24A5-F590-43B1-B879-3B4B84507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C234-009C-444C-A275-97A7B41A976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D7E0-04FF-4CB1-AB17-9C7C17DF2DB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0352-641A-4BD6-A925-ADF4B489E1B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