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7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13.jpeg" ContentType="image/jpeg"/>
  <Override PartName="/ppt/media/image12.wmf" ContentType="image/x-wmf"/>
  <Override PartName="/ppt/media/image4.png" ContentType="image/pn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0B46F2-05A4-4FCE-9983-DEBD77C72F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73645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96520" y="3689280"/>
            <a:ext cx="73645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5BB860-597D-45FF-9B10-E03641DA3F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70400" y="153972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6520" y="368928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70400" y="368928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E36A4F-FA7E-4BF7-9155-7B1FFBD9B3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23709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86280" y="1539720"/>
            <a:ext cx="23709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76400" y="1539720"/>
            <a:ext cx="23709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96520" y="3689280"/>
            <a:ext cx="23709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86280" y="3689280"/>
            <a:ext cx="23709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76400" y="3689280"/>
            <a:ext cx="23709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283AE2-861E-473F-A34C-56D95983BC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96520" y="1539720"/>
            <a:ext cx="736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Pl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736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3593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370400" y="1539720"/>
            <a:ext cx="3593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96520" y="736200"/>
            <a:ext cx="73645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3197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Pl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370400" y="1539720"/>
            <a:ext cx="3593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96520" y="368928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96520" y="1539720"/>
            <a:ext cx="736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Pl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7562FC-A388-4487-996D-6E1AE12CBD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3593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370400" y="153972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370400" y="368928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370400" y="153972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96520" y="3689280"/>
            <a:ext cx="73645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73645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96520" y="3689280"/>
            <a:ext cx="73645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370400" y="153972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6520" y="368928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370400" y="368928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23709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086280" y="1539720"/>
            <a:ext cx="23709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576400" y="1539720"/>
            <a:ext cx="23709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96520" y="3689280"/>
            <a:ext cx="23709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086280" y="3689280"/>
            <a:ext cx="23709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576400" y="3689280"/>
            <a:ext cx="23709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736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DB6C7E-A1AF-4560-913F-DE5525468E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3593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70400" y="1539720"/>
            <a:ext cx="3593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91D811-1631-4B6D-94DD-658D66D97B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BD4F7B-7AAB-4B4D-9D5E-7F160A73AF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96520" y="736200"/>
            <a:ext cx="73645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3197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Pl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0D5307-F53A-41D6-AC3D-5F9363521D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70400" y="1539720"/>
            <a:ext cx="3593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96520" y="368928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6F12E4-CA93-4EF5-A10B-95C03CAE04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3593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70400" y="153972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70400" y="368928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D7200B-0C34-4E9D-B77C-39B99D4A45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70400" y="153972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96520" y="3689280"/>
            <a:ext cx="73645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87D62F-B19E-4693-ADC0-920613AE04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7888320" y="5478480"/>
            <a:ext cx="698400" cy="954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1876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66cc"/>
                </a:solidFill>
                <a:latin typeface="Plan"/>
              </a:rPr>
              <a:t>Click to edit the title text format</a:t>
            </a: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596520" y="1539720"/>
            <a:ext cx="736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  <a:p>
            <a:pPr lvl="1" marL="380880" indent="-1886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  <a:p>
            <a:pPr lvl="2" marL="1187280" indent="-22860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  <a:p>
            <a:pPr lvl="3" marL="1606680" indent="-22860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  <a:p>
            <a:pPr lvl="4" marL="2057400" indent="-22860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  <a:p>
            <a:pPr lvl="5" marL="2057400" indent="-22860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  <a:p>
            <a:pPr lvl="6" marL="2057400" indent="-22860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Pl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Pl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Pl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D473C-EB36-4D59-B5F2-8199E1D787DE}" type="slidenum">
              <a:rPr b="0" lang="en-GB" sz="1400" spc="-1" strike="noStrike">
                <a:solidFill>
                  <a:srgbClr val="000000"/>
                </a:solidFill>
                <a:latin typeface="Pl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297480"/>
            <a:ext cx="1015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3366cc"/>
                </a:solidFill>
                <a:latin typeface="Plan"/>
              </a:rPr>
              <a:t>©</a:t>
            </a:r>
            <a:r>
              <a:rPr b="0" lang="en-GB" sz="800" spc="-1" strike="noStrike">
                <a:solidFill>
                  <a:srgbClr val="3366cc"/>
                </a:solidFill>
                <a:latin typeface="AdobeSanMM"/>
              </a:rPr>
              <a:t> </a:t>
            </a:r>
            <a:r>
              <a:rPr b="0" lang="en-GB" sz="1000" spc="-1" strike="noStrike">
                <a:solidFill>
                  <a:srgbClr val="3366cc"/>
                </a:solidFill>
                <a:latin typeface="Plan"/>
              </a:rPr>
              <a:t>P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47480"/>
            <a:ext cx="7772400" cy="14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ffffff"/>
                </a:solidFill>
                <a:latin typeface="Plan"/>
              </a:rPr>
              <a:t>Click to edit the title text format</a:t>
            </a:r>
            <a:endParaRPr b="1" lang="en-US" sz="5600" spc="-1" strike="noStrike">
              <a:solidFill>
                <a:srgbClr val="ffffff"/>
              </a:solidFill>
              <a:latin typeface="Pl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1600200"/>
            <a:ext cx="90180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Plan"/>
              </a:rPr>
              <a:t>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6297480"/>
            <a:ext cx="1015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Plan"/>
              </a:rPr>
              <a:t>©</a:t>
            </a:r>
            <a:r>
              <a:rPr b="0" lang="en-GB" sz="800" spc="-1" strike="noStrike">
                <a:solidFill>
                  <a:srgbClr val="ffffff"/>
                </a:solidFill>
                <a:latin typeface="AdobeSanMM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Plan"/>
              </a:rPr>
              <a:t>P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Plan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Plan"/>
            </a:endParaRPr>
          </a:p>
          <a:p>
            <a:pPr lvl="1" marL="192240" indent="0"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lan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Plan"/>
            </a:endParaRPr>
          </a:p>
          <a:p>
            <a:pPr lvl="2" marL="914400" indent="44280" algn="ctr">
              <a:spcBef>
                <a:spcPts val="601"/>
              </a:spcBef>
              <a:buClr>
                <a:srgbClr val="000000"/>
              </a:buClr>
              <a:buFont typeface="Pl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lan"/>
            </a:endParaRPr>
          </a:p>
          <a:p>
            <a:pPr lvl="3" marL="1371600" indent="6480" algn="ctr">
              <a:spcBef>
                <a:spcPts val="499"/>
              </a:spcBef>
              <a:buClr>
                <a:srgbClr val="000000"/>
              </a:buClr>
              <a:buFont typeface="Pl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l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l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l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mailto:Samuel.Musyoki@Plan-International.org" TargetMode="External"/><Relationship Id="rId3" Type="http://schemas.openxmlformats.org/officeDocument/2006/relationships/hyperlink" Target="http://www.communityledtotalsanitation.org/" TargetMode="External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2.wmf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28600" y="81000"/>
            <a:ext cx="8686800" cy="21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Plan"/>
              </a:rPr>
              <a:t>Community-Led Total Sanitation (CLTS)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Plan"/>
              </a:rPr>
              <a:t>&amp; Challenges</a:t>
            </a:r>
            <a:endParaRPr b="1" lang="en-US" sz="4000" spc="-1" strike="noStrike">
              <a:solidFill>
                <a:srgbClr val="ffffff"/>
              </a:solidFill>
              <a:latin typeface="Pl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304920" y="2362320"/>
            <a:ext cx="8686800" cy="30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lan Kenya Experiences, Achievements, Challenges </a:t>
            </a:r>
            <a:endParaRPr b="0" lang="en-US" sz="2800" spc="-1" strike="noStrike">
              <a:solidFill>
                <a:srgbClr val="ffffff"/>
              </a:solidFill>
              <a:latin typeface="Plan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Plan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gional Water &amp; Sanitation Workshop</a:t>
            </a:r>
            <a:endParaRPr b="0" lang="en-US" sz="3200" spc="-1" strike="noStrike">
              <a:solidFill>
                <a:srgbClr val="ffffff"/>
              </a:solidFill>
              <a:latin typeface="Plan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Fairview Hotel – Nairobi</a:t>
            </a:r>
            <a:endParaRPr b="0" lang="en-US" sz="3200" spc="-1" strike="noStrike">
              <a:solidFill>
                <a:srgbClr val="ffffff"/>
              </a:solidFill>
              <a:latin typeface="Plan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Plan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lan"/>
              </a:rPr>
              <a:t>(18</a:t>
            </a:r>
            <a:r>
              <a:rPr b="0" lang="en-US" sz="2000" spc="-1" strike="noStrike" baseline="30000">
                <a:solidFill>
                  <a:srgbClr val="ffffff"/>
                </a:solidFill>
                <a:latin typeface="Plan"/>
              </a:rPr>
              <a:t>th</a:t>
            </a:r>
            <a:r>
              <a:rPr b="0" lang="en-US" sz="2000" spc="-1" strike="noStrike">
                <a:solidFill>
                  <a:srgbClr val="ffffff"/>
                </a:solidFill>
                <a:latin typeface="Plan"/>
              </a:rPr>
              <a:t> – 21st Oct. 2010)</a:t>
            </a:r>
            <a:endParaRPr b="0" lang="en-US" sz="2000" spc="-1" strike="noStrike">
              <a:solidFill>
                <a:srgbClr val="ffffff"/>
              </a:solidFill>
              <a:latin typeface="Plan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9966"/>
                </a:solidFill>
                <a:uFillTx/>
                <a:latin typeface="Plan"/>
                <a:hlinkClick r:id="rId2"/>
              </a:rPr>
              <a:t>Samuel.Musyoki@Plan-International.org</a:t>
            </a:r>
            <a:endParaRPr b="0" lang="en-US" sz="2000" spc="-1" strike="noStrike">
              <a:solidFill>
                <a:srgbClr val="ffffff"/>
              </a:solidFill>
              <a:latin typeface="Plan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9966"/>
                </a:solidFill>
                <a:uFillTx/>
                <a:latin typeface="Plan"/>
                <a:hlinkClick r:id="rId3"/>
              </a:rPr>
              <a:t>www.communityledtotalsanitation.org</a:t>
            </a:r>
            <a:endParaRPr b="0" lang="en-US" sz="2000" spc="-1" strike="noStrike">
              <a:solidFill>
                <a:srgbClr val="ffffff"/>
              </a:solidFill>
              <a:latin typeface="Plan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Plan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96520" y="304560"/>
            <a:ext cx="73645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cc"/>
                </a:solidFill>
                <a:latin typeface="Plan"/>
              </a:rPr>
              <a:t>CLTS: Sequence of Key Steps</a:t>
            </a:r>
            <a:endParaRPr b="1" lang="en-US" sz="3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51920" y="1143000"/>
            <a:ext cx="861084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marL="176760" indent="-176760">
              <a:lnSpc>
                <a:spcPts val="3197"/>
              </a:lnSpc>
              <a:spcBef>
                <a:spcPts val="799"/>
              </a:spcBef>
              <a:buClr>
                <a:srgbClr val="ff33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Plan"/>
              </a:rPr>
              <a:t>Pre-triggering:</a:t>
            </a: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 buy-in, selection of sites, training, introduction and building rapport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6760" indent="0">
              <a:lnSpc>
                <a:spcPts val="3197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6760" indent="-176760">
              <a:lnSpc>
                <a:spcPts val="3197"/>
              </a:lnSpc>
              <a:spcBef>
                <a:spcPts val="799"/>
              </a:spcBef>
              <a:buClr>
                <a:srgbClr val="ff33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Plan"/>
              </a:rPr>
              <a:t>Triggering:</a:t>
            </a: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 Sanitation profile –mapping-calculation of quantities-transect walk- flow-channels-effects-costs-ignition moment-action planning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6760" indent="0">
              <a:lnSpc>
                <a:spcPts val="3197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6760" indent="-176760">
              <a:lnSpc>
                <a:spcPts val="3197"/>
              </a:lnSpc>
              <a:spcBef>
                <a:spcPts val="799"/>
              </a:spcBef>
              <a:buClr>
                <a:srgbClr val="ff33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Plan"/>
              </a:rPr>
              <a:t>Post-triggering: </a:t>
            </a: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implementation of Action plans, follow-up, monitoring and documentation.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6760" indent="0">
              <a:lnSpc>
                <a:spcPts val="3197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6760" indent="-176760">
              <a:lnSpc>
                <a:spcPts val="3197"/>
              </a:lnSpc>
              <a:spcBef>
                <a:spcPts val="799"/>
              </a:spcBef>
              <a:buClr>
                <a:srgbClr val="ff33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Plan"/>
              </a:rPr>
              <a:t>Scaling up:</a:t>
            </a:r>
            <a:r>
              <a:rPr b="1" lang="en-US" sz="3200" spc="-1" strike="noStrike">
                <a:solidFill>
                  <a:srgbClr val="ff3300"/>
                </a:solidFill>
                <a:latin typeface="Pl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Going beyond CLTS…what next?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66cc"/>
                </a:solidFill>
                <a:latin typeface="Plan"/>
              </a:rPr>
              <a:t>Some Photos </a:t>
            </a: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596880" y="2244600"/>
            <a:ext cx="3605400" cy="27036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4836960" y="1539720"/>
            <a:ext cx="2935440" cy="21942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4191120" y="3962520"/>
            <a:ext cx="38098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cc"/>
                </a:solidFill>
                <a:latin typeface="Plan"/>
              </a:rPr>
              <a:t>Triggering Responses</a:t>
            </a:r>
            <a:endParaRPr b="1" lang="en-US" sz="3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10" name=""/>
          <p:cNvSpPr/>
          <p:nvPr/>
        </p:nvSpPr>
        <p:spPr>
          <a:xfrm>
            <a:off x="304920" y="3886200"/>
            <a:ext cx="2438280" cy="16002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atchbox in a g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048120" y="4952880"/>
            <a:ext cx="1752480" cy="13716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omis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l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181480" y="4572000"/>
            <a:ext cx="2286000" cy="1600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ahoma"/>
              </a:rPr>
              <a:t>Scattered spar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248520" y="2666880"/>
            <a:ext cx="1981080" cy="16002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amp mat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514600" y="1676520"/>
            <a:ext cx="3200400" cy="205740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1676520"/>
            <a:ext cx="19047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iggering produces different respon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2286000" y="3124080"/>
            <a:ext cx="83808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3962160" y="3276720"/>
            <a:ext cx="152280" cy="175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00600" y="3200400"/>
            <a:ext cx="1219320" cy="167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86400" y="281952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69800" y="151920"/>
            <a:ext cx="73134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cc"/>
                </a:solidFill>
                <a:latin typeface="Plan"/>
              </a:rPr>
              <a:t>Background to CLTS in Kenya</a:t>
            </a:r>
            <a:endParaRPr b="1" lang="en-US" sz="3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With previous pace and approaches, it would take &gt;100 years and &gt;$30 billion (@$100/HH) to achieve total sanitation in RESA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Plan RESA ins searched of  cost effective,  fast  and sustainable approaches for accelerating sanitation work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Came across CLTS-Origins in Bangladesh  and tried with documented positive  results in South East Asia seemed promising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Plan decided to adopt CLTS as the major approach for sanitation promotion. 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96520" y="228240"/>
            <a:ext cx="73645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66cc"/>
                </a:solidFill>
                <a:latin typeface="Plan"/>
              </a:rPr>
              <a:t>CLTS Timeline in Kenya</a:t>
            </a:r>
            <a:endParaRPr b="1" lang="en-US" sz="3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marL="173160" indent="-17316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Feb 2007:</a:t>
            </a:r>
            <a:r>
              <a:rPr b="1" lang="en-GB" sz="3200" spc="-1" strike="noStrike">
                <a:solidFill>
                  <a:srgbClr val="000000"/>
                </a:solidFill>
                <a:latin typeface="Pl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RESA training for 38 participants in Tz-3 participants from Kenya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3160" indent="-17316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May 2007:</a:t>
            </a:r>
            <a:r>
              <a:rPr b="1" lang="en-GB" sz="3200" spc="-1" strike="noStrike">
                <a:solidFill>
                  <a:srgbClr val="000000"/>
                </a:solidFill>
                <a:latin typeface="Pl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Plan Kenya Management decides to</a:t>
            </a:r>
            <a:r>
              <a:rPr b="1" lang="en-GB" sz="3200" spc="-1" strike="noStrike">
                <a:solidFill>
                  <a:srgbClr val="000000"/>
                </a:solidFill>
                <a:latin typeface="Pl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pilot CLTS in Nyanza, Coast and Eastern regions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3160" indent="-17316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July 2007: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 CLTS training and triggering in (Arujo village Homa Bay and Jaribuni village Kilifi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3160" indent="-17316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Sept/Oct. 2007: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 Training and triggering Tharaka Machakos and Kisumu PUs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3160" indent="-17316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Oct. 2007: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 First village (Jaribuni) attains ODF status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3160" indent="-17316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Dec. 2007: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 Training and triggering of CLTS in Bondo and Siaya PUs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3160" indent="0">
              <a:lnSpc>
                <a:spcPts val="3197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66cc"/>
                </a:solidFill>
                <a:latin typeface="Plan"/>
              </a:rPr>
              <a:t>CLTS Timeline cont’d</a:t>
            </a:r>
            <a:endParaRPr b="1" lang="en-US" sz="3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Feb. 08: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 UKNO/DFID CLTS grant (50,000US$ for Kenya)start-up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Mar.08: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 Plan/IDS AfricaSan CLTS pre-conference workshop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Apr.08:</a:t>
            </a:r>
            <a:r>
              <a:rPr b="1" lang="en-GB" sz="3200" spc="-1" strike="noStrike">
                <a:solidFill>
                  <a:srgbClr val="000000"/>
                </a:solidFill>
                <a:latin typeface="Pl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Sharing UNICEF regional workshop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May 08: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 MOH/PH CLTS training and triggering in Kilifi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June 08: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 Program conference parallel start-up workshop and the plenary session with Robert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July 08: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 RESA CLTS training in Kilifi;  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0">
              <a:lnSpc>
                <a:spcPts val="3197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96520" y="304920"/>
            <a:ext cx="736452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66cc"/>
                </a:solidFill>
                <a:latin typeface="Plan"/>
              </a:rPr>
              <a:t>CLTS Timeline continued</a:t>
            </a:r>
            <a:endParaRPr b="1" lang="en-US" sz="40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560" y="1539360"/>
            <a:ext cx="8458200" cy="47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Aug. 08: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 ODF verification exercise of 20 villages of  Siaya district (near Kogelo); 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Oct. 08: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 UNICEF/MoPH&amp;S Training in Kisumu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Nov. 08:</a:t>
            </a:r>
            <a:r>
              <a:rPr b="1" lang="en-GB" sz="3200" spc="-1" strike="noStrike">
                <a:solidFill>
                  <a:srgbClr val="000000"/>
                </a:solidFill>
                <a:latin typeface="Pl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World Toilet Week events including the training in Kwale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Dec. 08: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 AfricaSan Durban IDS/Plan pre- conference CLTS session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Mar. 09:</a:t>
            </a:r>
            <a:r>
              <a:rPr b="1" lang="en-GB" sz="3200" spc="-1" strike="noStrike">
                <a:solidFill>
                  <a:srgbClr val="000000"/>
                </a:solidFill>
                <a:latin typeface="Pl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CLTS Africa sharing event in Kilifi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96520" y="228600"/>
            <a:ext cx="7364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cc"/>
                </a:solidFill>
                <a:latin typeface="Plan"/>
              </a:rPr>
              <a:t>Achievements</a:t>
            </a:r>
            <a:endParaRPr b="1" lang="en-US" sz="3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09120" y="1066680"/>
            <a:ext cx="81536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Trained over 600 practitioners (MoPH&amp;S, UNICEF, NGOs, CBOs, local leaders and youth);</a:t>
            </a:r>
            <a:endParaRPr b="0" lang="en-US" sz="24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Kilifi became the  learning centre early ODF status;</a:t>
            </a:r>
            <a:endParaRPr b="0" lang="en-US" sz="24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Over 860 villages in various parts of the country have been triggered &amp; are at different stages towards ODF ;</a:t>
            </a:r>
            <a:endParaRPr b="0" lang="en-US" sz="24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To date 146 villages have been declared ODF, in Coast (Kilifi) and Nyanza (Homabay);</a:t>
            </a:r>
            <a:endParaRPr b="0" lang="en-US" sz="24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Adoption of CLTS for Rural sanitation by MoPHS- annual targets/CLTS coordination;</a:t>
            </a:r>
            <a:endParaRPr b="0" lang="en-US" sz="24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Increased Interest and demand for CLTS-training and support</a:t>
            </a:r>
            <a:endParaRPr b="0" lang="en-US" sz="2400" spc="-1" strike="noStrike">
              <a:solidFill>
                <a:srgbClr val="000000"/>
              </a:solidFill>
              <a:latin typeface="Plan"/>
            </a:endParaRPr>
          </a:p>
          <a:p>
            <a:pPr marL="190440" indent="0">
              <a:lnSpc>
                <a:spcPts val="3197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0" y="-360"/>
            <a:ext cx="2819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66cc"/>
                </a:solidFill>
                <a:latin typeface="Plan"/>
              </a:rPr>
              <a:t>Achievements</a:t>
            </a: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28600" y="68580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marL="165600" indent="-16560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Change in mindsets &amp; leading to collective action =Increased coverage &amp; use: Kilifi from </a:t>
            </a:r>
            <a:r>
              <a:rPr b="0" lang="en-US" sz="2000" spc="-1" strike="noStrike">
                <a:solidFill>
                  <a:srgbClr val="ff0000"/>
                </a:solidFill>
                <a:latin typeface="Plan"/>
              </a:rPr>
              <a:t>30% to 48%</a:t>
            </a: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 between May 2008-June 2010, Homa Bay- </a:t>
            </a:r>
            <a:r>
              <a:rPr b="0" lang="en-US" sz="2000" spc="-1" strike="noStrike">
                <a:solidFill>
                  <a:srgbClr val="ff0000"/>
                </a:solidFill>
                <a:latin typeface="Plan"/>
              </a:rPr>
              <a:t>66 triggered 29</a:t>
            </a: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 ODF and </a:t>
            </a:r>
            <a:r>
              <a:rPr b="0" lang="en-US" sz="2000" spc="-1" strike="noStrike">
                <a:solidFill>
                  <a:srgbClr val="ff0000"/>
                </a:solidFill>
                <a:latin typeface="Plan"/>
              </a:rPr>
              <a:t>Busia- 380</a:t>
            </a: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Plan"/>
              </a:rPr>
              <a:t>triggered 56 ODF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  <a:p>
            <a:pPr marL="165600" indent="-16560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World Toilet Day celebrated to mark ODF for the past 3 years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  <a:p>
            <a:pPr marL="165600" indent="-16560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Media buy-in and coverage e.g. partnership with KBC series of “Vitimbi”;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  <a:p>
            <a:pPr marL="165600" indent="-16560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Networks and partnerships on CLTS have emerged;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  <a:p>
            <a:pPr marL="165600" indent="-16560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Children and youth participation in CLTS-School-Led Total Sanitation;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  <a:p>
            <a:pPr marL="165600" indent="-16560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Funding for CLTS, scaling-up, capacity building, advocacy  research &amp; documentation (e.g. DGIS/Plan Netherlands 8.5 million Euro in 8 African Countries;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  <a:p>
            <a:pPr marL="165600" indent="-16560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CLTS moving from Rural to Urban  and to Schools;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  <a:p>
            <a:pPr marL="165600" indent="-16560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Establishment of a CLTS unit within Plan Kenya- responding demands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  <a:p>
            <a:pPr marL="165600" indent="-16560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Systematic documentation of CLTS experiences – PLA CLTS Issue,  “Tales of Shit in Africa”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  <a:p>
            <a:pPr marL="165600"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1709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380880" y="914400"/>
          <a:ext cx="8229600" cy="54054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914400"/>
                    <a:ext cx="8229600" cy="540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5943600" y="3429000"/>
            <a:ext cx="2610000" cy="274320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6629400" y="30481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O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66cc"/>
                </a:solidFill>
                <a:latin typeface="Plan"/>
              </a:rPr>
              <a:t>Plan  International: Who we are</a:t>
            </a: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78613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Plan is an international humanitarian, child centered, development organization, without religious, political or governmental affiliation;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Plan’s vision is of a world in which all children realize their full potential in societies that respect people’s rights and dignity;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75 Years of Existence; 48 Program Countries (13 in ESA Region) 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In since Kenya 1982 (28yrs)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  <a:p>
            <a:pPr marL="190440"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66cc"/>
                </a:solidFill>
                <a:latin typeface="Plan"/>
                <a:ea typeface="Times New Roman"/>
              </a:rPr>
              <a:t>Challenges</a:t>
            </a:r>
            <a:endParaRPr b="1" lang="en-US" sz="3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861048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marL="174960" indent="-17496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  <a:ea typeface="Times New Roman"/>
              </a:rPr>
              <a:t>Uptake slow/not the same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  <a:ea typeface="Times New Roman"/>
              </a:rPr>
              <a:t> in the different regions Plan Kenya works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4960" indent="-174960">
              <a:lnSpc>
                <a:spcPts val="3197"/>
              </a:lnSpc>
              <a:spcBef>
                <a:spcPts val="799"/>
              </a:spcBef>
              <a:buClr>
                <a:srgbClr val="ff33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00"/>
                </a:solidFill>
                <a:latin typeface="Plan"/>
                <a:ea typeface="Times New Roman"/>
              </a:rPr>
              <a:t>Conflicting approaches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  <a:ea typeface="Times New Roman"/>
              </a:rPr>
              <a:t> by different agencies  in the sanitation sector. 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4960" indent="-174960">
              <a:lnSpc>
                <a:spcPts val="3197"/>
              </a:lnSpc>
              <a:spcBef>
                <a:spcPts val="799"/>
              </a:spcBef>
              <a:buClr>
                <a:srgbClr val="ff33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00"/>
                </a:solidFill>
                <a:latin typeface="Plan"/>
                <a:ea typeface="Times New Roman"/>
              </a:rPr>
              <a:t>The allowance culture: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  <a:ea typeface="Times New Roman"/>
              </a:rPr>
              <a:t> Some are in it for the out of pocket-not passionate or committed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4960" indent="-17496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  <a:ea typeface="Times New Roman"/>
              </a:rPr>
              <a:t>Doubt and scepticism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  <a:ea typeface="Times New Roman"/>
              </a:rPr>
              <a:t> among sanitation professionals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4960" indent="-174960">
              <a:lnSpc>
                <a:spcPts val="3197"/>
              </a:lnSpc>
              <a:spcBef>
                <a:spcPts val="799"/>
              </a:spcBef>
              <a:buClr>
                <a:srgbClr val="ff33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00"/>
                </a:solidFill>
                <a:latin typeface="Plan"/>
                <a:ea typeface="Times New Roman"/>
              </a:rPr>
              <a:t>Lack of willingness to let go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  <a:ea typeface="Times New Roman"/>
              </a:rPr>
              <a:t> our professionalism-wanting the communities to start at the top of the ladder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4960" indent="-17496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Plan"/>
                <a:ea typeface="Times New Roman"/>
              </a:rPr>
              <a:t> </a:t>
            </a:r>
            <a:r>
              <a:rPr b="0" lang="en-GB" sz="3200" spc="-1" strike="noStrike">
                <a:solidFill>
                  <a:srgbClr val="ff0000"/>
                </a:solidFill>
                <a:latin typeface="Plan"/>
                <a:ea typeface="Times New Roman"/>
              </a:rPr>
              <a:t>Weak M&amp;E and reporting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  <a:ea typeface="Times New Roman"/>
              </a:rPr>
              <a:t>  within the mandated institutions; 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4960" indent="0">
              <a:lnSpc>
                <a:spcPts val="3197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4960" indent="0">
              <a:lnSpc>
                <a:spcPts val="3197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cc"/>
                </a:solidFill>
                <a:latin typeface="Plan"/>
              </a:rPr>
              <a:t>Challenges – cont’d</a:t>
            </a:r>
            <a:endParaRPr b="1" lang="en-US" sz="3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1920" y="990360"/>
            <a:ext cx="853452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188280" indent="-18828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Plan"/>
              </a:rPr>
              <a:t>Dependency syndrome </a:t>
            </a: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in some areas emanating from previous approaches;</a:t>
            </a:r>
            <a:endParaRPr b="0" lang="en-US" sz="2400" spc="-1" strike="noStrike">
              <a:solidFill>
                <a:srgbClr val="000000"/>
              </a:solidFill>
              <a:latin typeface="Plan"/>
            </a:endParaRPr>
          </a:p>
          <a:p>
            <a:pPr marL="188280" indent="-18828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Plan"/>
              </a:rPr>
              <a:t>Finding good facilitators:</a:t>
            </a: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 Not all trained find it easy and/or develop the passion to take up the CLTS challenges;</a:t>
            </a:r>
            <a:endParaRPr b="0" lang="en-US" sz="2400" spc="-1" strike="noStrike">
              <a:solidFill>
                <a:srgbClr val="000000"/>
              </a:solidFill>
              <a:latin typeface="Plan"/>
            </a:endParaRPr>
          </a:p>
          <a:p>
            <a:pPr marL="188280" indent="-18828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Plan"/>
              </a:rPr>
              <a:t>Triggering without adequate mechanisms</a:t>
            </a: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 for follow-up and support;</a:t>
            </a:r>
            <a:endParaRPr b="0" lang="en-US" sz="2400" spc="-1" strike="noStrike">
              <a:solidFill>
                <a:srgbClr val="000000"/>
              </a:solidFill>
              <a:latin typeface="Plan"/>
            </a:endParaRPr>
          </a:p>
          <a:p>
            <a:pPr marL="188280" indent="-18828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Plan"/>
              </a:rPr>
              <a:t>Inadequate support and mentoring</a:t>
            </a: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 of natural leaders;</a:t>
            </a:r>
            <a:endParaRPr b="0" lang="en-US" sz="2400" spc="-1" strike="noStrike">
              <a:solidFill>
                <a:srgbClr val="000000"/>
              </a:solidFill>
              <a:latin typeface="Plan"/>
            </a:endParaRPr>
          </a:p>
          <a:p>
            <a:pPr marL="188280" indent="-18828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Private sector inability to come-up with affordable technological </a:t>
            </a:r>
            <a:r>
              <a:rPr b="0" lang="en-US" sz="2400" spc="-1" strike="noStrike">
                <a:solidFill>
                  <a:srgbClr val="ff0000"/>
                </a:solidFill>
                <a:latin typeface="Plan"/>
              </a:rPr>
              <a:t>innovations-dependency!</a:t>
            </a:r>
            <a:endParaRPr b="0" lang="en-US" sz="2400" spc="-1" strike="noStrike">
              <a:solidFill>
                <a:srgbClr val="000000"/>
              </a:solidFill>
              <a:latin typeface="Plan"/>
            </a:endParaRPr>
          </a:p>
          <a:p>
            <a:pPr marL="188280" indent="-18828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Plan"/>
              </a:rPr>
              <a:t>CLTS health outcomes/Impact research</a:t>
            </a: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 of CLTS intervention on diarrhea control and reduction in child mortality? </a:t>
            </a:r>
            <a:endParaRPr b="0" lang="en-US" sz="24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66cc"/>
                </a:solidFill>
                <a:latin typeface="Plan"/>
              </a:rPr>
              <a:t>Future </a:t>
            </a: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736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Citizen Led Total Sanitation –Urban CLTS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  <a:p>
            <a:pPr lvl="1" marL="380880" indent="-188640">
              <a:lnSpc>
                <a:spcPts val="2398"/>
              </a:lnSpc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lan"/>
              </a:rPr>
              <a:t>Politics and governance of urban sanitation</a:t>
            </a:r>
            <a:endParaRPr b="0" lang="en-US" sz="1800" spc="-1" strike="noStrike">
              <a:solidFill>
                <a:srgbClr val="000000"/>
              </a:solidFill>
              <a:latin typeface="Plan"/>
            </a:endParaRPr>
          </a:p>
          <a:p>
            <a:pPr lvl="1" marL="380880" indent="-188640">
              <a:lnSpc>
                <a:spcPts val="2398"/>
              </a:lnSpc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lan"/>
              </a:rPr>
              <a:t>Land tenure</a:t>
            </a:r>
            <a:endParaRPr b="0" lang="en-US" sz="1800" spc="-1" strike="noStrike">
              <a:solidFill>
                <a:srgbClr val="000000"/>
              </a:solidFill>
              <a:latin typeface="Plan"/>
            </a:endParaRPr>
          </a:p>
          <a:p>
            <a:pPr lvl="1" marL="380880" indent="-188640">
              <a:lnSpc>
                <a:spcPts val="2398"/>
              </a:lnSpc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lan"/>
              </a:rPr>
              <a:t>City planning</a:t>
            </a:r>
            <a:endParaRPr b="0" lang="en-US" sz="1800" spc="-1" strike="noStrike">
              <a:solidFill>
                <a:srgbClr val="000000"/>
              </a:solidFill>
              <a:latin typeface="Plan"/>
            </a:endParaRPr>
          </a:p>
          <a:p>
            <a:pPr lvl="1" marL="380880" indent="-188640">
              <a:lnSpc>
                <a:spcPts val="2398"/>
              </a:lnSpc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lan"/>
              </a:rPr>
              <a:t>Tenancy standards</a:t>
            </a:r>
            <a:endParaRPr b="0" lang="en-US" sz="18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Harnessing ICT4D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  <a:p>
            <a:pPr lvl="2" marL="118728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Pl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lan"/>
              </a:rPr>
              <a:t>Mobile/GIS mapping</a:t>
            </a:r>
            <a:endParaRPr b="0" lang="en-US" sz="1400" spc="-1" strike="noStrike">
              <a:solidFill>
                <a:srgbClr val="000000"/>
              </a:solidFill>
              <a:latin typeface="Plan"/>
            </a:endParaRPr>
          </a:p>
          <a:p>
            <a:pPr lvl="2" marL="118728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Pl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lan"/>
              </a:rPr>
              <a:t>Partnership with Map Kibera</a:t>
            </a:r>
            <a:endParaRPr b="0" lang="en-US" sz="1400" spc="-1" strike="noStrike">
              <a:solidFill>
                <a:srgbClr val="000000"/>
              </a:solidFill>
              <a:latin typeface="Plan"/>
            </a:endParaRPr>
          </a:p>
          <a:p>
            <a:pPr lvl="2" marL="118728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Pl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lan"/>
              </a:rPr>
              <a:t>Next Map Mathare</a:t>
            </a:r>
            <a:endParaRPr b="0" lang="en-US" sz="14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Sanitation Marketing/Sanitation Financing-what options for urban informal settlements and small towns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  <a:p>
            <a:pPr lvl="2" marL="1187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66cc"/>
                </a:solidFill>
                <a:latin typeface="Plan"/>
              </a:rPr>
              <a:t>Many Designs</a:t>
            </a: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838080" y="1219320"/>
            <a:ext cx="3646440" cy="244476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 rot="21246600">
            <a:off x="4749480" y="987120"/>
            <a:ext cx="3809880" cy="251604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 rot="959400">
            <a:off x="298440" y="3395520"/>
            <a:ext cx="3962520" cy="297180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4"/>
          <a:stretch/>
        </p:blipFill>
        <p:spPr>
          <a:xfrm>
            <a:off x="4572000" y="3429000"/>
            <a:ext cx="40384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120" y="53316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66cc"/>
                </a:solidFill>
                <a:latin typeface="Plan"/>
              </a:rPr>
              <a:t>Achievements-Triggered plus spill over in Kilifi District (May -2008-June 2010</a:t>
            </a:r>
            <a:endParaRPr b="1" lang="en-US" sz="1700" spc="-1" strike="noStrike">
              <a:solidFill>
                <a:srgbClr val="3366cc"/>
              </a:solidFill>
              <a:latin typeface="Plan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304920" y="1371600"/>
          <a:ext cx="8686800" cy="5405400"/>
        </p:xfrm>
        <a:graphic>
          <a:graphicData uri="http://schemas.openxmlformats.org/drawingml/2006/table">
            <a:tbl>
              <a:tblPr/>
              <a:tblGrid>
                <a:gridCol w="1981080"/>
                <a:gridCol w="1066680"/>
                <a:gridCol w="1219320"/>
                <a:gridCol w="1066680"/>
                <a:gridCol w="1067040"/>
                <a:gridCol w="1066680"/>
                <a:gridCol w="1219320"/>
              </a:tblGrid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ivisio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. Villag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illages triggered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. ODF villag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illages below 50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illages above 50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atrine coverag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ikambal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1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hony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1.9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har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3.1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ribun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1.5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anz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0.7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itengen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0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mb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istric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1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8.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0" name=""/>
          <p:cNvGraphicFramePr/>
          <p:nvPr/>
        </p:nvGraphicFramePr>
        <p:xfrm>
          <a:off x="685800" y="1219320"/>
          <a:ext cx="7966080" cy="4860720"/>
        </p:xfrm>
        <a:graphic>
          <a:graphicData uri="http://schemas.openxmlformats.org/drawingml/2006/table">
            <a:tbl>
              <a:tblPr/>
              <a:tblGrid>
                <a:gridCol w="1036800"/>
                <a:gridCol w="941400"/>
                <a:gridCol w="753840"/>
                <a:gridCol w="1319400"/>
                <a:gridCol w="1137960"/>
                <a:gridCol w="927360"/>
                <a:gridCol w="925560"/>
                <a:gridCol w="923760"/>
              </a:tblGrid>
              <a:tr h="222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ivis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op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H with latrines as at 1</a:t>
                      </a:r>
                      <a:r>
                        <a:rPr b="1" lang="en-US" sz="11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July 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atrine coverage (1 st July 1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H with new latrin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H with  latrines at 31</a:t>
                      </a:r>
                      <a:r>
                        <a:rPr b="1" lang="en-US" sz="11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…201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% Cov. ForAug20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hony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2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877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36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72.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7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har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19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1745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68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61.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0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63.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ikambal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736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2070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94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43.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02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43.5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anz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0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304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8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58.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4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60.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mb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75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1379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8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13.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itengen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399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732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8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50.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57.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ribun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11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249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50.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8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51.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istric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9167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736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9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4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72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48.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66cc"/>
                </a:solidFill>
                <a:latin typeface="Plan"/>
              </a:rPr>
              <a:t>Kilifi District Latrine Coverage By Division</a:t>
            </a:r>
            <a:endParaRPr b="1" lang="en-US" sz="1700" spc="-1" strike="noStrike">
              <a:solidFill>
                <a:srgbClr val="3366cc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364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66cc"/>
                </a:solidFill>
                <a:latin typeface="Plan"/>
              </a:rPr>
              <a:t>Plan Kenya: Where we Work </a:t>
            </a: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pic>
        <p:nvPicPr>
          <p:cNvPr id="88" name="Kenya_400" descr=""/>
          <p:cNvPicPr/>
          <p:nvPr/>
        </p:nvPicPr>
        <p:blipFill>
          <a:blip r:embed="rId1"/>
          <a:stretch/>
        </p:blipFill>
        <p:spPr>
          <a:xfrm>
            <a:off x="990720" y="838080"/>
            <a:ext cx="6858000" cy="586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11280" y="263160"/>
            <a:ext cx="7364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lan"/>
              </a:rPr>
              <a:t>Country Goal &amp; Programs</a:t>
            </a:r>
            <a:endParaRPr b="1" lang="en-US" sz="32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3160" y="990360"/>
            <a:ext cx="83055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lvl="1" marL="319680" indent="0" algn="ctr">
              <a:lnSpc>
                <a:spcPts val="2398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Plan"/>
              </a:rPr>
              <a:t>Country Goal:</a:t>
            </a:r>
            <a:r>
              <a:rPr b="1" lang="en-GB" sz="2400" spc="-1" strike="noStrike">
                <a:solidFill>
                  <a:srgbClr val="000000"/>
                </a:solidFill>
                <a:latin typeface="Plan"/>
              </a:rPr>
              <a:t> Transformed Institutions &amp; Societies That Respect and Fulfil Rights of All Children in Kenya.</a:t>
            </a: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lan"/>
            </a:endParaRPr>
          </a:p>
          <a:p>
            <a:pPr lvl="1" marL="319680" indent="0" algn="ctr">
              <a:lnSpc>
                <a:spcPts val="2398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lan"/>
            </a:endParaRPr>
          </a:p>
          <a:p>
            <a:pPr lvl="1" marL="319680" indent="0" algn="ctr">
              <a:lnSpc>
                <a:spcPts val="2398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Plan"/>
              </a:rPr>
              <a:t>Country Programs</a:t>
            </a:r>
            <a:r>
              <a:rPr b="1" lang="en-US" sz="3200" spc="-1" strike="noStrike">
                <a:solidFill>
                  <a:srgbClr val="000000"/>
                </a:solidFill>
                <a:latin typeface="Plan"/>
              </a:rPr>
              <a:t>: Right to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lvl="1" marL="319680" indent="0" algn="ctr">
              <a:lnSpc>
                <a:spcPts val="2398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lvl="1" marL="319680" indent="-158400" algn="ctr">
              <a:lnSpc>
                <a:spcPts val="2398"/>
              </a:lnSpc>
              <a:spcBef>
                <a:spcPts val="400"/>
              </a:spcBef>
              <a:buClr>
                <a:srgbClr val="99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Plan"/>
              </a:rPr>
              <a:t>Health [includes Water &amp; Sanitation] 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lvl="1" marL="319680" indent="0" algn="ctr">
              <a:lnSpc>
                <a:spcPts val="2398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lvl="1" marL="319680" indent="-158400" algn="ctr">
              <a:lnSpc>
                <a:spcPts val="2398"/>
              </a:lnSpc>
              <a:spcBef>
                <a:spcPts val="400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lan"/>
              </a:rPr>
              <a:t>Quality Basic Education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lvl="1" marL="319680" indent="0" algn="ctr">
              <a:lnSpc>
                <a:spcPts val="2398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lvl="1" marL="319680" indent="-158400" algn="ctr">
              <a:lnSpc>
                <a:spcPts val="2398"/>
              </a:lnSpc>
              <a:spcBef>
                <a:spcPts val="400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lan"/>
              </a:rPr>
              <a:t>Inclusion &amp; Protection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lvl="1" marL="319680" indent="0" algn="ctr">
              <a:lnSpc>
                <a:spcPts val="2398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lvl="1" marL="319680" indent="-158400" algn="ctr">
              <a:lnSpc>
                <a:spcPts val="2398"/>
              </a:lnSpc>
              <a:spcBef>
                <a:spcPts val="400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lan"/>
              </a:rPr>
              <a:t>Sustainable and Dignified Livelihoods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lvl="1" marL="319680" indent="0" algn="ctr">
              <a:lnSpc>
                <a:spcPts val="2398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lvl="1" marL="319680" indent="-158400" algn="ctr">
              <a:lnSpc>
                <a:spcPts val="2398"/>
              </a:lnSpc>
              <a:spcBef>
                <a:spcPts val="400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lan"/>
              </a:rPr>
              <a:t>Just and Democratic Governance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73620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66cc"/>
                </a:solidFill>
                <a:latin typeface="Plan"/>
              </a:rPr>
              <a:t>Plan Kenya &amp; Others: Long History of Latrine Subsidies</a:t>
            </a: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250920" y="2133720"/>
            <a:ext cx="4371840" cy="41148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4643280" y="2133720"/>
            <a:ext cx="41562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66cc"/>
                </a:solidFill>
                <a:latin typeface="Plan"/>
              </a:rPr>
              <a:t>Let’s Talk About?</a:t>
            </a: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990720" y="1295280"/>
            <a:ext cx="693396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6094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cc"/>
                </a:solidFill>
                <a:latin typeface="Plan"/>
              </a:rPr>
              <a:t>What is CLTS? Community-Led Total Sanitation</a:t>
            </a:r>
            <a:endParaRPr b="1" lang="en-US" sz="3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7631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0440" indent="0">
              <a:lnSpc>
                <a:spcPts val="3197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   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  <a:p>
            <a:pPr marL="190440" indent="0">
              <a:lnSpc>
                <a:spcPts val="3197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A </a:t>
            </a:r>
            <a:r>
              <a:rPr b="0" lang="en-US" sz="3200" spc="-1" strike="noStrike">
                <a:solidFill>
                  <a:srgbClr val="ff3300"/>
                </a:solidFill>
                <a:latin typeface="Plan"/>
              </a:rPr>
              <a:t>“Participatory and Learning Action”</a:t>
            </a: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 approach based on stimulating a collective sense of </a:t>
            </a:r>
            <a:r>
              <a:rPr b="0" lang="en-US" sz="3200" spc="-1" strike="noStrike">
                <a:solidFill>
                  <a:srgbClr val="ff3300"/>
                </a:solidFill>
                <a:latin typeface="Plan"/>
              </a:rPr>
              <a:t>disgust, shame and fear</a:t>
            </a: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 among community members as they confront the crude reality about mass open defecation </a:t>
            </a:r>
            <a:r>
              <a:rPr b="0" i="1" lang="en-US" sz="3200" spc="-1" strike="noStrike">
                <a:solidFill>
                  <a:srgbClr val="000000"/>
                </a:solidFill>
                <a:latin typeface="Plan"/>
              </a:rPr>
              <a:t>[environmental contamination] and </a:t>
            </a: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its negative effects on the entire community. 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Plan"/>
              </a:rPr>
              <a:t>Underlying Assumptions of CLTS</a:t>
            </a: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3605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marL="171360" indent="-17136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Plan"/>
              </a:rPr>
              <a:t>No one  can stay unmoved once they discover they are ingesting other people’s or their own faeces;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  <a:p>
            <a:pPr marL="171360" indent="-17136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Plan"/>
              </a:rPr>
              <a:t>High sense of shame and disgust hold the power to ignite people to take action and use their resources (not subsidy) to stop open defecation and be totally sanitised; 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  <a:p>
            <a:pPr marL="171360"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l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191120" y="1295280"/>
            <a:ext cx="472428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cc"/>
                </a:solidFill>
                <a:latin typeface="Plan"/>
              </a:rPr>
              <a:t>CLTS is</a:t>
            </a:r>
            <a:endParaRPr b="1" lang="en-US" sz="3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33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Plan"/>
              </a:rPr>
              <a:t>Community-led:</a:t>
            </a:r>
            <a:r>
              <a:rPr b="1" lang="en-US" sz="3200" spc="-1" strike="noStrike">
                <a:solidFill>
                  <a:srgbClr val="000000"/>
                </a:solidFill>
                <a:latin typeface="Pl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They lead and</a:t>
            </a:r>
            <a:r>
              <a:rPr b="1" lang="en-US" sz="3200" spc="-1" strike="noStrike">
                <a:solidFill>
                  <a:srgbClr val="000000"/>
                </a:solidFill>
                <a:latin typeface="Pl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 everyone in the community is involved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33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Plan"/>
              </a:rPr>
              <a:t>Total:</a:t>
            </a: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Plan"/>
              </a:rPr>
              <a:t>100%</a:t>
            </a: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  elimination of open defecation &amp; practice of good hygiene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33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Plan"/>
              </a:rPr>
              <a:t>Sanitation:</a:t>
            </a:r>
            <a:r>
              <a:rPr b="1" lang="en-US" sz="3200" spc="-1" strike="noStrike">
                <a:solidFill>
                  <a:srgbClr val="000000"/>
                </a:solidFill>
                <a:latin typeface="Pl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Beyond construction of toilet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33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Plan"/>
              </a:rPr>
              <a:t>Collective action:</a:t>
            </a: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 Often locally decided and not dependent on external subsidies and prescriptions of solutions.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2T05:02:51Z</dcterms:created>
  <dc:creator>cmcc</dc:creator>
  <dc:description/>
  <dc:language>en-US</dc:language>
  <cp:lastModifiedBy>smusyoki</cp:lastModifiedBy>
  <dcterms:modified xsi:type="dcterms:W3CDTF">2010-10-19T07:31:49Z</dcterms:modified>
  <cp:revision>151</cp:revision>
  <dc:subject/>
  <dc:title>Ethics in Human Development; Do the poor really Matter?</dc:title>
</cp:coreProperties>
</file>