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60CE-1009-4DAB-9779-CFCBD51A4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81C4-6A70-4722-811B-247A021C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D56C-B55F-4583-99C4-3BEE07933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E70D-5958-4B3E-AB52-B1B78A560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08FE-FC2C-4492-B119-19D09E44A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DFA4-75A9-4080-8BB1-EEFA1394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8935-67D9-428C-B116-DF8B501D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75DE-D368-4548-972E-E99FCACB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C52F-D9C4-44B2-95BA-FBDCF3AE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FB47-F3BD-4C8B-9BD6-E87EA4EB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C9CC-1DEE-48CF-A8C2-9592D3CD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DEB7-872D-405E-9FA3-E6602679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C652-0614-4689-B16E-BCB40FEC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CBDC-128A-46E1-903B-38767DAC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1999-F30D-4B23-9034-1D6E3523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D30D-A0D4-46EE-B539-8CF4299E8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A570-0013-4161-B3D3-2860623BD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CE14-A995-43AB-9A95-56759B93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ADBC-5AB6-4155-BADA-B732C10E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D4E4-596E-42C2-961F-E8BC662D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BCBD-1193-41E2-A433-DC8BF9AA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88E2-4E09-42C1-A8E7-36593FEE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7BD8-4C44-431A-91DF-65450F01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8A60-A5F1-489C-8274-AD8B78F0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2D68-3900-4E04-96B4-6D073E1103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Line 19"/>
          <p:cNvSpPr/>
          <p:nvPr/>
        </p:nvSpPr>
        <p:spPr>
          <a:xfrm>
            <a:off x="4253040" y="123660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22" descr="Picture2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3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1128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6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7" name="Line 22"/>
          <p:cNvSpPr/>
          <p:nvPr/>
        </p:nvSpPr>
        <p:spPr>
          <a:xfrm>
            <a:off x="4253040" y="123336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8" name="Picture 26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48000" cy="26856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AF09-2A1E-40BA-BE33-EE705DCA84E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35344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624"/>
                </a:solidFill>
                <a:latin typeface="Verdana"/>
              </a:rPr>
              <a:t>Field visit to Banks Brewerie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d624"/>
                </a:solidFill>
                <a:latin typeface="Verdana"/>
              </a:rPr>
              <a:t>See, learn, apply?</a:t>
            </a:r>
            <a:endParaRPr b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6520" y="5661000"/>
            <a:ext cx="853272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ffffff"/>
                </a:solidFill>
                <a:latin typeface="Verdana"/>
              </a:rPr>
              <a:t>Jannik VAA, EU Delegation, Barbados and OEC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EU Energy and Water Seminar, 18-22 May 2015, Barbados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2d5ec1"/>
              </a:solidFill>
              <a:latin typeface="Verdana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708012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Results”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964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Electrical KPI  reduction from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Wildey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 34 Kwh/hl to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011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 28.3 kwh/h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015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 23.3 kwh/h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Thermal energy KPI reduction from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Wildey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114Kg/Hl to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011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 32.8 Kg/hl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015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28.8 Kg/h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Results”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50560" y="2060280"/>
            <a:ext cx="87138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Water consumption KPI from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Wildey</a:t>
            </a: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: 16 Hl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2011</a:t>
            </a: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: 9.6Hl/hl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2015</a:t>
            </a: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: 8. 7hl/hl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spcAft>
                <a:spcPts val="1199"/>
              </a:spcAft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C</a:t>
            </a: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onclus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177336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spcAft>
                <a:spcPts val="1199"/>
              </a:spcAft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spcAft>
                <a:spcPts val="1199"/>
              </a:spcAft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Example of the “green economy” concept being embraced at private sector level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spcAft>
                <a:spcPts val="1199"/>
              </a:spcAft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GE actions and undertakings save money and resources – good for business. Generates / secures job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spcAft>
                <a:spcPts val="1199"/>
              </a:spcAft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Given the “right” framework (enabling environment) private sector can and will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annik</cp:lastModifiedBy>
  <cp:lastPrinted>2015-02-23T13:54:39Z</cp:lastPrinted>
  <dcterms:modified xsi:type="dcterms:W3CDTF">2015-05-20T10:33:20Z</dcterms:modified>
  <cp:revision>241</cp:revision>
  <dc:subject/>
  <dc:title>Slide 1</dc:title>
</cp:coreProperties>
</file>