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49FB-D0E4-48B2-B794-5B8EA77F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199F-7DF6-4C29-B2C0-6C0EC263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12CA-4524-45EC-B76F-F6D6CE026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CB30-9886-46B1-80A9-991BD704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F8FE-16F7-42D7-AC52-B6C4105B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0F8A-B4BF-4C45-B5B5-2D2C8496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9B5B-C020-4F9B-B7FC-119FBF52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C995-BC5C-41D2-931B-3B62D5D6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D0FA-A621-4048-A3DC-69F914EC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2087-EB68-457C-BEBF-4D0E0BF2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EC56-F31D-4ADD-B2F7-7002DC7F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AF41-B5EB-4243-8BD9-8FFA177B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D49D-C4C9-4039-9042-83A64342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D78E-7ECD-4D8D-82EC-FE7CDF4A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3E86-39D4-47A0-BB82-AD00D21D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9B92-B7B4-4179-A1AB-73281F7D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4F8A-8C30-4EDF-9B25-7366724D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BE7F-17A1-4C5F-8913-638506AA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EF49-E24B-4CBF-BD49-6756E954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FDE1-4642-413E-AE31-5026399A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80FF-A141-41B8-BFA2-58D3814F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46D0-93EA-47F4-A2BA-E11D7743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C06E-120D-4D62-8762-15636540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5E83-382C-4D37-BDA5-0302CDF2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C0D0-C424-402D-A462-AD7B90487A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9A1E-3BD0-467A-AA9F-66B0312BC2A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35344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624"/>
                </a:solidFill>
                <a:latin typeface="Verdana"/>
              </a:rPr>
              <a:t>Field visit to Banks Breweri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d624"/>
                </a:solidFill>
                <a:latin typeface="Verdana"/>
              </a:rPr>
              <a:t>See, learn, apply?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6520" y="5661000"/>
            <a:ext cx="85327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Jannik VAA, EU Delegation, Barbados and OEC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U Energy and Water Seminar, 18-22 May 2015, Barbado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d5ec1"/>
              </a:solidFill>
              <a:latin typeface="Verdana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08012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Results”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Electrical KPI  reduction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34 Kwh/hl to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28.3 kwh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23.3 kwh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Thermal energy KPI reduction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114Kg/Hl to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32.8 Kg/hl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28.8 Kg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Results”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0560" y="2060280"/>
            <a:ext cx="8713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Water consumption KPI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16 Hl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9.6Hl/hl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8. 7hl/hl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nclu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77336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Example of the “green economy” concept being embraced at private sector leve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GE actions and undertakings save money and resources – good for business. Generates / secures job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Given the “right” framework (enabling environment) private sector can and wil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annik</cp:lastModifiedBy>
  <cp:lastPrinted>2015-02-23T13:54:39Z</cp:lastPrinted>
  <dcterms:modified xsi:type="dcterms:W3CDTF">2015-05-20T10:33:20Z</dcterms:modified>
  <cp:revision>241</cp:revision>
  <dc:subject/>
  <dc:title>Slide 1</dc:title>
</cp:coreProperties>
</file>