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FA462-CE8C-4A68-AF35-C6B9689EC40C}" type="slidenum">
              <a:rPr b="0" lang="en-GB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F0E99-8291-4010-BC39-4CF8A92876A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39DC4-7BEB-4F89-AB6C-010F9C6368F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79043-0B8A-4198-88A7-564B148EEDE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7FAA5-8F31-4BF1-96F5-835389CECB1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D5369-229A-41E5-9AFA-CE003CA3994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B5AFE-7777-4C6A-A14F-38954BAF211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e Section 6.4 of UNDP-UNEP (20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5CE7D-1181-47FC-A5FB-0DF17137220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t national level, a high-level formal or informal climate change coordinating structure can support the overall response – but should catalyse it rather than act as a substitute for action by other government ag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entral body with a coordination mandate and decision-making power over line ministries, in particular with regard to budget alloc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.g. Office of the President or Prime Minister, Ministry of Finance, Ministry of Planning or equival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0AF77-8D4B-4708-8066-B539CD4B583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22DE2-DA45-4C1D-9049-6B7BA3A827E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E7C81-34D5-4850-86C6-FA498AA82DB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736D5-6103-4B4E-B339-C1719482F89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4A93E-288C-490A-A307-79534A3B747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BE315-44B5-4B5D-9146-94B37792A6B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228AE-5210-4F38-B9C5-4B8F2E388C0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14593-6035-4F20-9CF0-602CBB4B487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20AC3-555F-439C-AEEA-741704BDD8C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DP (2011: 72) A NCSA is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country-drive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locally adap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consultativ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process that aims t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review global environment issues that require priority atten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determine how capacity development could strengthen management of these 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prepare a national action plan for capacity development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n national capacity self-assessments and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ulnerability and capacity assessments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 see UNDP-UNEP (2010)  pp. 32-3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13EF2-E67A-47E3-BB6C-CE568F26EAA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B587A-0550-4111-AB2A-2715529871A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See UNDP-UNEP (2009) page 72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DDE10-E9CF-48E0-AEDC-CE3BA6253DD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7F4C5-6BBC-4FF5-9B36-BA1C28DDCF3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links between the environment and sectoral performance have been addressed in Module 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rformance of the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vironment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sector tends to be underfunded: for example, in Lesotho (2012) the Department of Environment is under the Ministry of Tourism and Environment. The whole Ministry receives about 0.16% of the budget allocated to line ministries, and only a small fraction of that is for the Department of Environment, as the Ministry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 main tasks are oriented to promotion of touris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ften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lans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under the environment sector do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 get implemented because of lack of funding. If other sectors do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 assume responsibility for their environmental dimension, there are very limited options to address the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8D889-3379-44B1-A231-827D8910BB2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E95B5-CD1D-4F1C-B300-20C9EF8B9CA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alal-Clayton &amp; Bass 2009: Outcomes of mainstream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 Participation and democratic 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 Policy and political outc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 Planning outc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 Budget outc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 Institutional and capacity outc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 Investment outc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 Behavioural outc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 Developmental imp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929C2-8348-4C19-B245-FD338252854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8AC19-BA66-41B4-A0CA-4D4F1406844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C50AC-6995-49F1-94F5-B86A07F6002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9C3B-7445-42C9-A608-305CD248F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6B42-6622-4F36-B9DB-FEE247B00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D275-866D-4E8E-A193-236CC5CEC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A4A3-E3E0-4CEA-BB58-45B1195C2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754A6-3A03-404D-8879-5E40C9B83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E4211-80B8-4861-B159-EDA7BA602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B3A56-7045-4A1B-A064-DE9D9EBC1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6EBBF-C805-43A3-BF4B-F43CF7D84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5450F-6B30-469F-A1CB-4447F7A22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CBFF5-9EA8-47A5-8895-A398B6D37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1A4CC-0059-475C-B96A-825B8C246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44D0-D3E0-4AAD-8C92-EC799F11F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CEA0C-08B2-4376-BA34-ABA037833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A49C2-FBDA-40CE-87B9-A9F5D651F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74B85-6D3D-49DB-9F2B-29B861961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79B00-3331-4294-9FD1-1F7BC3BE5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3561F-16F0-424B-9B23-CD6892941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7B61-A030-40EF-891D-5B34BDED8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EFD8-DFCD-46BB-B470-9447C3EC1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DBA6-2F63-49D2-A97A-C20D5A6CF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DC26-5C39-4823-A81D-D4202F912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E3EE-0B5F-45A4-9043-62020560C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FA71-0F8F-44CB-B394-BC0F4A7D1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D4C5-77A5-4D4B-97AA-E091EDA88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FF449-22C3-410E-A89E-66C20F90762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7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5" name="Picture 6" descr="LOGO CE-EN-quadri.eps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9986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1"/>
          <p:cNvSpPr/>
          <p:nvPr/>
        </p:nvSpPr>
        <p:spPr>
          <a:xfrm>
            <a:off x="4267080" y="6659640"/>
            <a:ext cx="611280" cy="21600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6C08A-32A5-4B4C-A6B8-583C5CE55ED0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undp.org/mainstreaming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www.environmental-mainstreaming.org/key-lit.html" TargetMode="External"/><Relationship Id="rId2" Type="http://schemas.openxmlformats.org/officeDocument/2006/relationships/hyperlink" Target="http://www.undp.org/climatechange/docs/English/UNDP_Adaptation_final.pdf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3280" y="2924280"/>
            <a:ext cx="864072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2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d624"/>
                </a:solidFill>
                <a:latin typeface="Arial Black"/>
              </a:rPr>
              <a:t>Module 2</a:t>
            </a:r>
            <a:br>
              <a:rPr sz="3200"/>
            </a:br>
            <a:r>
              <a:rPr b="1" lang="en-GB" sz="3200" spc="-1" strike="noStrike">
                <a:solidFill>
                  <a:srgbClr val="ffd624"/>
                </a:solidFill>
                <a:latin typeface="Arial Black"/>
              </a:rPr>
              <a:t>Mainstreaming and strengthening institutions and capacities</a:t>
            </a:r>
            <a:endParaRPr b="1" lang="en-US" sz="3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611280" y="4723920"/>
            <a:ext cx="8532720" cy="17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Country-led environmental and climate change mainstreaming</a:t>
            </a:r>
            <a:endParaRPr b="0" i="1" lang="en-US" sz="25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456840" y="2514240"/>
            <a:ext cx="8534520" cy="1676520"/>
          </a:xfrm>
          <a:prstGeom prst="rect">
            <a:avLst/>
          </a:prstGeom>
          <a:gradFill rotWithShape="0">
            <a:gsLst>
              <a:gs pos="0">
                <a:srgbClr val="afe0e4"/>
              </a:gs>
              <a:gs pos="100000">
                <a:srgbClr val="85aaad"/>
              </a:gs>
            </a:gsLst>
            <a:lin ang="5400000"/>
          </a:gradFill>
          <a:ln w="93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marL="343080" indent="-343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Strengthening institutions and capacities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58C48-551F-4EA4-9FEB-EA1C3AA0B1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98100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Key institutional requirements for effective mainstreaming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6" name="TextBox 4"/>
          <p:cNvSpPr/>
          <p:nvPr/>
        </p:nvSpPr>
        <p:spPr>
          <a:xfrm>
            <a:off x="3419640" y="3243240"/>
            <a:ext cx="2304720" cy="672840"/>
          </a:xfrm>
          <a:prstGeom prst="rect">
            <a:avLst/>
          </a:prstGeom>
          <a:solidFill>
            <a:srgbClr val="92d050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2060"/>
                </a:solidFill>
                <a:latin typeface="Verdana"/>
              </a:rPr>
              <a:t>Effective mainstreaming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7" name="Rounded Rectangular Callout 5"/>
          <p:cNvSpPr/>
          <p:nvPr/>
        </p:nvSpPr>
        <p:spPr>
          <a:xfrm>
            <a:off x="334800" y="1535040"/>
            <a:ext cx="1981440" cy="1371600"/>
          </a:xfrm>
          <a:prstGeom prst="wedgeRoundRectCallout">
            <a:avLst>
              <a:gd name="adj1" fmla="val 115361"/>
              <a:gd name="adj2" fmla="val 70152"/>
              <a:gd name="adj3" fmla="val 16667"/>
            </a:avLst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Cross-sectoral &amp; cross-level coordination, cooperation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8" name="Rounded Rectangular Callout 6"/>
          <p:cNvSpPr/>
          <p:nvPr/>
        </p:nvSpPr>
        <p:spPr>
          <a:xfrm>
            <a:off x="3306600" y="1306440"/>
            <a:ext cx="1905120" cy="1067040"/>
          </a:xfrm>
          <a:prstGeom prst="wedgeRoundRectCallout">
            <a:avLst>
              <a:gd name="adj1" fmla="val 21203"/>
              <a:gd name="adj2" fmla="val 118236"/>
              <a:gd name="adj3" fmla="val 16667"/>
            </a:avLst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Powerful champions at national level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9" name="Rounded Rectangular Callout 7"/>
          <p:cNvSpPr/>
          <p:nvPr/>
        </p:nvSpPr>
        <p:spPr>
          <a:xfrm>
            <a:off x="6659640" y="1916280"/>
            <a:ext cx="1981080" cy="2057400"/>
          </a:xfrm>
          <a:prstGeom prst="wedgeRoundRectCallout">
            <a:avLst>
              <a:gd name="adj1" fmla="val -98763"/>
              <a:gd name="adj2" fmla="val 18055"/>
              <a:gd name="adj3" fmla="val 16667"/>
            </a:avLst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Integration of new thinking, new research in planning &amp; monitoring systems &amp; processe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0" name="Rounded Rectangular Callout 8"/>
          <p:cNvSpPr/>
          <p:nvPr/>
        </p:nvSpPr>
        <p:spPr>
          <a:xfrm>
            <a:off x="487440" y="3821040"/>
            <a:ext cx="1981080" cy="1524240"/>
          </a:xfrm>
          <a:prstGeom prst="wedgeRoundRectCallout">
            <a:avLst>
              <a:gd name="adj1" fmla="val 107791"/>
              <a:gd name="adj2" fmla="val -63949"/>
              <a:gd name="adj3" fmla="val 16667"/>
            </a:avLst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Experience sharing, dissemination of good practice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1" name="Rounded Rectangular Callout 9"/>
          <p:cNvSpPr/>
          <p:nvPr/>
        </p:nvSpPr>
        <p:spPr>
          <a:xfrm>
            <a:off x="3002040" y="4888080"/>
            <a:ext cx="2057400" cy="1371600"/>
          </a:xfrm>
          <a:prstGeom prst="wedgeRoundRectCallout">
            <a:avLst>
              <a:gd name="adj1" fmla="val 18453"/>
              <a:gd name="adj2" fmla="val -129851"/>
              <a:gd name="adj3" fmla="val 16667"/>
            </a:avLst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Timely stakeholder participation at various scale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2" name="Rounded Rectangular Callout 10"/>
          <p:cNvSpPr/>
          <p:nvPr/>
        </p:nvSpPr>
        <p:spPr>
          <a:xfrm>
            <a:off x="5973840" y="4811760"/>
            <a:ext cx="2057400" cy="1371600"/>
          </a:xfrm>
          <a:prstGeom prst="wedgeRoundRectCallout">
            <a:avLst>
              <a:gd name="adj1" fmla="val -85004"/>
              <a:gd name="adj2" fmla="val -120013"/>
              <a:gd name="adj3" fmla="val 16667"/>
            </a:avLst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Strengthening of capacities of stakeholders at various scale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3" name="Rectangular Callout 11"/>
          <p:cNvSpPr/>
          <p:nvPr/>
        </p:nvSpPr>
        <p:spPr>
          <a:xfrm>
            <a:off x="5334120" y="1066680"/>
            <a:ext cx="3047760" cy="914400"/>
          </a:xfrm>
          <a:prstGeom prst="wedgeRectCallout">
            <a:avLst>
              <a:gd name="adj1" fmla="val -63527"/>
              <a:gd name="adj2" fmla="val 11472"/>
            </a:avLst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060"/>
                </a:solidFill>
                <a:latin typeface="Verdana"/>
              </a:rPr>
              <a:t>e.g. office of prime minister, ministries of finance/budget/planning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4" name="Slide Number Placeholder 1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70CB3-C8B2-463A-B367-6CDF1BAD41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Roles of main stakeholder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250920" y="1052640"/>
          <a:ext cx="8750160" cy="5321160"/>
        </p:xfrm>
        <a:graphic>
          <a:graphicData uri="http://schemas.openxmlformats.org/drawingml/2006/table">
            <a:tbl>
              <a:tblPr/>
              <a:tblGrid>
                <a:gridCol w="2881080"/>
                <a:gridCol w="586908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takeholder group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ain roles &amp; responsibiliti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</a:tr>
              <a:tr h="1066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ntral government (incl. office of prime minister, line ministries, DRR authorities)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adership, performance management framework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licies, standards &amp; regulation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location of budget resourc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uidance &amp; capacity building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Parliament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Leverage, advocacy (especially for budgeting)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National Statistics Office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Development and monitoring of indicator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cal government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lementation of national polici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egration with local-level strategi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822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ivate sector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eparation for losses &amp; opportunities, risk mgmt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tribution to sustainable investments &amp; vulnerability reduction through development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cientific &amp; academic organisation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licy-oriented research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upport for decision making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vestment promotion agenci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‘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ean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’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investments; climate-proofing of investments, bridging of development gap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verty reduction organisation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nvironment and climate change adequately addressed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</a:tbl>
          </a:graphicData>
        </a:graphic>
      </p:graphicFrame>
      <p:sp>
        <p:nvSpPr>
          <p:cNvPr id="16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4E186-E8E6-4CE0-A2A5-E5DB2B2CFD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8" name="TextBox 4"/>
          <p:cNvSpPr/>
          <p:nvPr/>
        </p:nvSpPr>
        <p:spPr>
          <a:xfrm>
            <a:off x="179280" y="6362640"/>
            <a:ext cx="396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Adapted from: Schipper et al (2008) and UNDP-UNEP (2009) 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Roles of main stakeholders (2)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250920" y="1052640"/>
          <a:ext cx="8750160" cy="2597040"/>
        </p:xfrm>
        <a:graphic>
          <a:graphicData uri="http://schemas.openxmlformats.org/drawingml/2006/table">
            <a:tbl>
              <a:tblPr/>
              <a:tblGrid>
                <a:gridCol w="2881080"/>
                <a:gridCol w="586908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takeholder group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ain roles &amp; responsibiliti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</a:tr>
              <a:tr h="1066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ivil Society Organisation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ke use of their expertise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elp reflect local realiti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formation collection, awareness raising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atchdog role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Media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Awareness raising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Reach out to community level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General public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Grass-roots level knowledge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Integrate voices of the poorest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71" name="TextBox 4"/>
          <p:cNvSpPr/>
          <p:nvPr/>
        </p:nvSpPr>
        <p:spPr>
          <a:xfrm>
            <a:off x="179280" y="6308640"/>
            <a:ext cx="396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Adapted from: Schipper et al (2008) and UNDP-UNEP (2009) 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120DD-5FFE-423E-BC68-29839E6AD4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112536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f5494"/>
                </a:solidFill>
                <a:latin typeface="Verdana"/>
              </a:rPr>
              <a:t>Possible entry points for environmental mainstreaming in national development planning</a:t>
            </a:r>
            <a:endParaRPr b="1" lang="en-US" sz="27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8604360" y="6381720"/>
            <a:ext cx="539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827A7-8FB1-4D9E-B838-F374183205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250920" y="2565360"/>
          <a:ext cx="8534160" cy="3814920"/>
        </p:xfrm>
        <a:graphic>
          <a:graphicData uri="http://schemas.openxmlformats.org/drawingml/2006/table">
            <a:tbl>
              <a:tblPr/>
              <a:tblGrid>
                <a:gridCol w="2286000"/>
                <a:gridCol w="624816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lanning Level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ntry Points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</a:tr>
              <a:tr h="1554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ational government and cross-sector ministri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verty reduction strategy paper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ational development plan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DG-based national development strategy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ational budget allocation process or review (e.g. medium-term expenditure framework, public expenditure review)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1066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ctor ministri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ctor strategies, plans and policies (e.g. agriculture sector plan)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eparation of sector budget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ublic expenditure review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822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ub-national authoriti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centralisation polici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strict plan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eparation of subnational budget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</a:tbl>
          </a:graphicData>
        </a:graphic>
      </p:graphicFrame>
      <p:sp>
        <p:nvSpPr>
          <p:cNvPr id="176" name="TextBox 4"/>
          <p:cNvSpPr/>
          <p:nvPr/>
        </p:nvSpPr>
        <p:spPr>
          <a:xfrm>
            <a:off x="4572000" y="6550200"/>
            <a:ext cx="419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Source: UNEP-UNDP (2009) 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456840" y="2514240"/>
            <a:ext cx="8534520" cy="1676520"/>
          </a:xfrm>
          <a:prstGeom prst="rect">
            <a:avLst/>
          </a:prstGeom>
          <a:gradFill rotWithShape="0">
            <a:gsLst>
              <a:gs pos="0">
                <a:srgbClr val="afe0e4"/>
              </a:gs>
              <a:gs pos="100000">
                <a:srgbClr val="85aaad"/>
              </a:gs>
            </a:gsLst>
            <a:lin ang="5400000"/>
          </a:gradFill>
          <a:ln w="93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marL="343080" indent="-343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Principles for institutionalising </a:t>
            </a:r>
            <a:br>
              <a:rPr sz="2800"/>
            </a:b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mainstreaming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4419720" y="4343400"/>
            <a:ext cx="46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Source: UNDP-UNEP (2009, 2011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9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3F0F0-6FA1-4C11-B49D-22F969B3DF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133992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Institutional and capacity strengthening (1)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2565000"/>
            <a:ext cx="8534160" cy="41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Move coordination to a central body with a coordination mandate and decision-making power over line ministrie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For example, in the case of climate change: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China: National Development &amp; Reform Commission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Kenya: Office of the President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For example, in the case of environment: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Sierra Leone: EPA under the Office of the President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Malawi: Steering Committee on Natural Resource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7B417-2DCD-4E9E-809E-485AF6003C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3" name="TextBox 4"/>
          <p:cNvSpPr/>
          <p:nvPr/>
        </p:nvSpPr>
        <p:spPr>
          <a:xfrm>
            <a:off x="3886200" y="6477120"/>
            <a:ext cx="419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Source: UNDP-UNEP (2011) 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133992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Institutional and capacity strengthening (2)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2420640"/>
            <a:ext cx="837072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Establish/strengthen coordination mechanisms, with clear allocation of responsibilities and permanent arrangement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e.g. for climate change, Mexico: Inter-Ministerial Commission on Climate Change (CICC) with dedicated working group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Build on pre-existing intersectoral coordination mechanisms wherever possible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e.g. for food security, DRR, sustainable land management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FA91C-8BFC-4B28-83CD-CCC485419A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7" name="TextBox 4"/>
          <p:cNvSpPr/>
          <p:nvPr/>
        </p:nvSpPr>
        <p:spPr>
          <a:xfrm>
            <a:off x="3886200" y="6477120"/>
            <a:ext cx="419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Source: UNDP-UNEP (2011) 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133992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Institutional and capacity strengthening (3)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2707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Institutionalise flexibility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e.g. commitment to regular policy/strategy revisions and reassessment of available knowledge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Institutionalise mainstreaming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environment and climate change mitigation/adaptation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e.g. in guidelines, procedures, systems, environmental screening for SEA and EIA, etc.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A397A-8503-4C27-B763-51CADABAED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1" name="TextBox 4"/>
          <p:cNvSpPr/>
          <p:nvPr/>
        </p:nvSpPr>
        <p:spPr>
          <a:xfrm>
            <a:off x="3924360" y="6550200"/>
            <a:ext cx="419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Source: UNDP-UNEP (2011) 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133992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Institutional and capacity strengthening (4)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Develop effective national–local coordination mechanisms, identifying the most suitable level at which to cooperate/coordinate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e.g. Rwanda: annual performance contracts between various levels of government, with clear definition of goals, indicators and activitie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Strengthen institutions at the sub-national level, matching the transfer of competences with the transfer of resource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F0692-683A-4D97-9A6C-E217A17C42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5" name="TextBox 4"/>
          <p:cNvSpPr/>
          <p:nvPr/>
        </p:nvSpPr>
        <p:spPr>
          <a:xfrm>
            <a:off x="3886200" y="6477120"/>
            <a:ext cx="419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Source: UNDP-UNEP (2011) 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250920" y="2492280"/>
            <a:ext cx="8534160" cy="1873440"/>
          </a:xfrm>
          <a:prstGeom prst="rect">
            <a:avLst/>
          </a:prstGeom>
          <a:gradFill rotWithShape="0">
            <a:gsLst>
              <a:gs pos="0">
                <a:srgbClr val="afe0e4"/>
              </a:gs>
              <a:gs pos="100000">
                <a:srgbClr val="85aaad"/>
              </a:gs>
            </a:gsLst>
            <a:lin ang="5400000"/>
          </a:gradFill>
          <a:ln w="93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 fontScale="93000"/>
          </a:bodyPr>
          <a:p>
            <a:pPr marL="318960" indent="-31896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What is mainstreaming, </a:t>
            </a:r>
            <a:br>
              <a:rPr sz="2800"/>
            </a:b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 why mainstream environment and climate change?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70E67-1E1E-4F3E-84D6-81DC9C757C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1601A-F86B-48B0-A0C0-D5266D35AC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97" name="Picture 4" descr="C:\Documents and Settings\Carlos Soria\My Documents\My Pictures\Alto Huallaga Tingo Maria Monzon Alto Bella julio 23, 2003\IM001873.JPG"/>
          <p:cNvPicPr/>
          <p:nvPr/>
        </p:nvPicPr>
        <p:blipFill>
          <a:blip r:embed="rId1"/>
          <a:stretch/>
        </p:blipFill>
        <p:spPr>
          <a:xfrm>
            <a:off x="0" y="0"/>
            <a:ext cx="91296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Box 5"/>
          <p:cNvSpPr/>
          <p:nvPr/>
        </p:nvSpPr>
        <p:spPr>
          <a:xfrm>
            <a:off x="439560" y="6396120"/>
            <a:ext cx="855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Source: Soria (2005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08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Local capaciti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324000" y="2491920"/>
            <a:ext cx="8534160" cy="1676520"/>
          </a:xfrm>
          <a:prstGeom prst="rect">
            <a:avLst/>
          </a:prstGeom>
          <a:gradFill rotWithShape="0">
            <a:gsLst>
              <a:gs pos="0">
                <a:srgbClr val="afe0e4"/>
              </a:gs>
              <a:gs pos="100000">
                <a:srgbClr val="85aaad"/>
              </a:gs>
            </a:gsLst>
            <a:lin ang="5400000"/>
          </a:gradFill>
          <a:ln w="93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marL="343080" indent="-343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Tools and actions for supporting institutional and capacity strengthening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1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27FDB-946E-446C-A970-4B5D3928AD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98100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Steps in institutional and capacity </a:t>
            </a:r>
            <a:br>
              <a:rPr sz="3000"/>
            </a:b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strengthening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3" name="Slide Number Placeholder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53C2D-C5B7-42E2-AC40-8A4CBC2756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4" name="TextBox 4"/>
          <p:cNvSpPr/>
          <p:nvPr/>
        </p:nvSpPr>
        <p:spPr>
          <a:xfrm>
            <a:off x="3886200" y="6477120"/>
            <a:ext cx="419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Source: UNDP-UNEP (2009) 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5" name="Rounded Rectangle 12"/>
          <p:cNvSpPr/>
          <p:nvPr/>
        </p:nvSpPr>
        <p:spPr>
          <a:xfrm>
            <a:off x="609480" y="1684440"/>
            <a:ext cx="2519640" cy="1042920"/>
          </a:xfrm>
          <a:prstGeom prst="roundRect">
            <a:avLst>
              <a:gd name="adj" fmla="val 16667"/>
            </a:avLst>
          </a:prstGeom>
          <a:solidFill>
            <a:srgbClr val="bdde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Verdana"/>
              </a:rPr>
              <a:t>Needs assessment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6" name="Rounded Rectangle 13"/>
          <p:cNvSpPr/>
          <p:nvPr/>
        </p:nvSpPr>
        <p:spPr>
          <a:xfrm>
            <a:off x="609480" y="3962520"/>
            <a:ext cx="2519640" cy="1044360"/>
          </a:xfrm>
          <a:prstGeom prst="roundRect">
            <a:avLst>
              <a:gd name="adj" fmla="val 16667"/>
            </a:avLst>
          </a:prstGeom>
          <a:solidFill>
            <a:srgbClr val="bdde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Verdana"/>
              </a:rPr>
              <a:t>Learning by doing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7" name="Rounded Rectangle 14"/>
          <p:cNvSpPr/>
          <p:nvPr/>
        </p:nvSpPr>
        <p:spPr>
          <a:xfrm>
            <a:off x="609480" y="2819520"/>
            <a:ext cx="2519640" cy="1044360"/>
          </a:xfrm>
          <a:prstGeom prst="roundRect">
            <a:avLst>
              <a:gd name="adj" fmla="val 16667"/>
            </a:avLst>
          </a:prstGeom>
          <a:solidFill>
            <a:srgbClr val="bdde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Verdana"/>
              </a:rPr>
              <a:t>Working mechanism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8" name="Rounded Rectangle 15"/>
          <p:cNvSpPr/>
          <p:nvPr/>
        </p:nvSpPr>
        <p:spPr>
          <a:xfrm>
            <a:off x="609480" y="5432400"/>
            <a:ext cx="2519640" cy="1044720"/>
          </a:xfrm>
          <a:prstGeom prst="roundRect">
            <a:avLst>
              <a:gd name="adj" fmla="val 16667"/>
            </a:avLst>
          </a:prstGeom>
          <a:solidFill>
            <a:srgbClr val="bdde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Verdana"/>
              </a:rPr>
              <a:t>Mainstreaming as standard practice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9" name="Rounded Rectangle 16"/>
          <p:cNvSpPr/>
          <p:nvPr/>
        </p:nvSpPr>
        <p:spPr>
          <a:xfrm>
            <a:off x="3576600" y="1684440"/>
            <a:ext cx="2651040" cy="104292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f5494"/>
                </a:solidFill>
                <a:latin typeface="Verdana"/>
              </a:rPr>
              <a:t>National capacity self-assessment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0" name="Rounded Rectangle 17"/>
          <p:cNvSpPr/>
          <p:nvPr/>
        </p:nvSpPr>
        <p:spPr>
          <a:xfrm>
            <a:off x="3576600" y="2819520"/>
            <a:ext cx="2651040" cy="104436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f5494"/>
                </a:solidFill>
                <a:latin typeface="Verdana"/>
              </a:rPr>
              <a:t>Inst</a:t>
            </a:r>
            <a:r>
              <a:rPr b="1" lang="ja-JP" sz="1400" spc="-1" strike="noStrike">
                <a:solidFill>
                  <a:srgbClr val="0f5494"/>
                </a:solidFill>
                <a:latin typeface="Verdana"/>
              </a:rPr>
              <a:t>’</a:t>
            </a:r>
            <a:r>
              <a:rPr b="1" lang="en-GB" sz="1400" spc="-1" strike="noStrike">
                <a:solidFill>
                  <a:srgbClr val="0f5494"/>
                </a:solidFill>
                <a:latin typeface="Verdana"/>
              </a:rPr>
              <a:t>l arrangement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f5494"/>
                </a:solidFill>
                <a:latin typeface="Verdana"/>
              </a:rPr>
              <a:t>Management framework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f5494"/>
                </a:solidFill>
                <a:latin typeface="Verdana"/>
              </a:rPr>
              <a:t>Work plan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1" name="Rounded Rectangle 18"/>
          <p:cNvSpPr/>
          <p:nvPr/>
        </p:nvSpPr>
        <p:spPr>
          <a:xfrm>
            <a:off x="3576600" y="3962520"/>
            <a:ext cx="2651040" cy="104436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f5494"/>
                </a:solidFill>
                <a:latin typeface="Verdana"/>
              </a:rPr>
              <a:t>Training, exchange visits, on-the-job learning, lesson learning/dissemination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212" name="Straight Arrow Connector 20"/>
          <p:cNvCxnSpPr>
            <a:stCxn id="209" idx="1"/>
            <a:endCxn id="205" idx="3"/>
          </p:cNvCxnSpPr>
          <p:nvPr/>
        </p:nvCxnSpPr>
        <p:spPr>
          <a:xfrm flipH="1">
            <a:off x="3128400" y="2204640"/>
            <a:ext cx="448200" cy="1080"/>
          </a:xfrm>
          <a:prstGeom prst="straightConnector1">
            <a:avLst/>
          </a:prstGeom>
          <a:ln w="28440">
            <a:solidFill>
              <a:srgbClr val="0f5494"/>
            </a:solidFill>
            <a:miter/>
            <a:tailEnd len="med" type="arrow" w="med"/>
          </a:ln>
        </p:spPr>
      </p:cxnSp>
      <p:cxnSp>
        <p:nvCxnSpPr>
          <p:cNvPr id="213" name="Straight Arrow Connector 21"/>
          <p:cNvCxnSpPr>
            <a:stCxn id="210" idx="1"/>
            <a:endCxn id="207" idx="3"/>
          </p:cNvCxnSpPr>
          <p:nvPr/>
        </p:nvCxnSpPr>
        <p:spPr>
          <a:xfrm flipH="1">
            <a:off x="3128400" y="3341160"/>
            <a:ext cx="448200" cy="1080"/>
          </a:xfrm>
          <a:prstGeom prst="straightConnector1">
            <a:avLst/>
          </a:prstGeom>
          <a:ln w="28440">
            <a:solidFill>
              <a:srgbClr val="0f5494"/>
            </a:solidFill>
            <a:miter/>
            <a:tailEnd len="med" type="arrow" w="med"/>
          </a:ln>
        </p:spPr>
      </p:cxnSp>
      <p:cxnSp>
        <p:nvCxnSpPr>
          <p:cNvPr id="214" name="Straight Arrow Connector 22"/>
          <p:cNvCxnSpPr>
            <a:stCxn id="211" idx="1"/>
            <a:endCxn id="206" idx="3"/>
          </p:cNvCxnSpPr>
          <p:nvPr/>
        </p:nvCxnSpPr>
        <p:spPr>
          <a:xfrm flipH="1">
            <a:off x="3128400" y="4484160"/>
            <a:ext cx="448200" cy="1080"/>
          </a:xfrm>
          <a:prstGeom prst="straightConnector1">
            <a:avLst/>
          </a:prstGeom>
          <a:ln w="28440">
            <a:solidFill>
              <a:srgbClr val="0f5494"/>
            </a:solidFill>
            <a:miter/>
            <a:tailEnd len="med" type="arrow" w="med"/>
          </a:ln>
        </p:spPr>
      </p:cxnSp>
      <p:cxnSp>
        <p:nvCxnSpPr>
          <p:cNvPr id="215" name="Straight Arrow Connector 27"/>
          <p:cNvCxnSpPr>
            <a:stCxn id="206" idx="2"/>
            <a:endCxn id="208" idx="0"/>
          </p:cNvCxnSpPr>
          <p:nvPr/>
        </p:nvCxnSpPr>
        <p:spPr>
          <a:xfrm flipH="1">
            <a:off x="1867680" y="5006880"/>
            <a:ext cx="2520" cy="427680"/>
          </a:xfrm>
          <a:prstGeom prst="straightConnector1">
            <a:avLst/>
          </a:prstGeom>
          <a:ln w="28440">
            <a:solidFill>
              <a:srgbClr val="002060"/>
            </a:solidFill>
            <a:miter/>
            <a:tailEnd len="med" type="arrow" w="med"/>
          </a:ln>
        </p:spPr>
      </p:cxnSp>
      <p:cxnSp>
        <p:nvCxnSpPr>
          <p:cNvPr id="216" name="Elbow Connector 31"/>
          <p:cNvCxnSpPr>
            <a:stCxn id="208" idx="1"/>
            <a:endCxn id="205" idx="1"/>
          </p:cNvCxnSpPr>
          <p:nvPr/>
        </p:nvCxnSpPr>
        <p:spPr>
          <a:xfrm rot="10800000">
            <a:off x="608760" y="2204280"/>
            <a:ext cx="2520" cy="3750480"/>
          </a:xfrm>
          <a:prstGeom prst="bentConnector3">
            <a:avLst>
              <a:gd name="adj1" fmla="val 14383333"/>
            </a:avLst>
          </a:prstGeom>
          <a:ln w="28440">
            <a:solidFill>
              <a:srgbClr val="002060"/>
            </a:solidFill>
            <a:prstDash val="dash"/>
            <a:miter/>
            <a:tailEnd len="med" type="arrow" w="med"/>
          </a:ln>
        </p:spPr>
      </p:cxnSp>
      <p:sp>
        <p:nvSpPr>
          <p:cNvPr id="217" name="Straight Connector 33"/>
          <p:cNvSpPr/>
          <p:nvPr/>
        </p:nvSpPr>
        <p:spPr>
          <a:xfrm>
            <a:off x="1870200" y="2727360"/>
            <a:ext cx="0" cy="92160"/>
          </a:xfrm>
          <a:prstGeom prst="line">
            <a:avLst/>
          </a:prstGeom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8" name="Straight Connector 35"/>
          <p:cNvSpPr/>
          <p:nvPr/>
        </p:nvSpPr>
        <p:spPr>
          <a:xfrm>
            <a:off x="1870200" y="3863880"/>
            <a:ext cx="0" cy="98640"/>
          </a:xfrm>
          <a:prstGeom prst="line">
            <a:avLst/>
          </a:prstGeom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9" name="Rounded Rectangle 19"/>
          <p:cNvSpPr/>
          <p:nvPr/>
        </p:nvSpPr>
        <p:spPr>
          <a:xfrm>
            <a:off x="6588000" y="1687680"/>
            <a:ext cx="2016360" cy="104436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f5494"/>
                </a:solidFill>
                <a:latin typeface="Verdana"/>
              </a:rPr>
              <a:t>Stakeholder analysi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220" name="Straight Arrow Connector 23"/>
          <p:cNvCxnSpPr>
            <a:stCxn id="219" idx="1"/>
          </p:cNvCxnSpPr>
          <p:nvPr/>
        </p:nvCxnSpPr>
        <p:spPr>
          <a:xfrm flipH="1" flipV="1">
            <a:off x="6165000" y="2204280"/>
            <a:ext cx="423000" cy="5400"/>
          </a:xfrm>
          <a:prstGeom prst="straightConnector1">
            <a:avLst/>
          </a:prstGeom>
          <a:ln w="28440">
            <a:solidFill>
              <a:srgbClr val="0f5494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0" y="133992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Needs assessment: capacity development for whom, for what?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2491920"/>
            <a:ext cx="822960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Capacity development (CD) should take place </a:t>
            </a:r>
            <a:br>
              <a:rPr sz="2400"/>
            </a:b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at three complementary levels: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the </a:t>
            </a:r>
            <a:r>
              <a:rPr b="0" lang="ja-JP" sz="2000" spc="-1" strike="noStrike">
                <a:solidFill>
                  <a:srgbClr val="0f5494"/>
                </a:solidFill>
                <a:latin typeface="Verdana"/>
              </a:rPr>
              <a:t>‘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enabling environment</a:t>
            </a:r>
            <a:r>
              <a:rPr b="0" lang="ja-JP" sz="2000" spc="-1" strike="noStrike">
                <a:solidFill>
                  <a:srgbClr val="0f5494"/>
                </a:solidFill>
                <a:latin typeface="Verdana"/>
              </a:rPr>
              <a:t>’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 or </a:t>
            </a:r>
            <a:r>
              <a:rPr b="0" lang="ja-JP" sz="2000" spc="-1" strike="noStrike">
                <a:solidFill>
                  <a:srgbClr val="0f5494"/>
                </a:solidFill>
                <a:latin typeface="Verdana"/>
              </a:rPr>
              <a:t>‘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system level</a:t>
            </a:r>
            <a:r>
              <a:rPr b="0" lang="ja-JP" sz="2000" spc="-1" strike="noStrike">
                <a:solidFill>
                  <a:srgbClr val="0f5494"/>
                </a:solidFill>
                <a:latin typeface="Verdana"/>
              </a:rPr>
              <a:t>’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 (overall institutional level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the organisation level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the individual level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03181-22DF-49A9-9EE8-2C0B559C8D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4" name="Cloud Callout 4"/>
          <p:cNvSpPr/>
          <p:nvPr/>
        </p:nvSpPr>
        <p:spPr>
          <a:xfrm>
            <a:off x="3924360" y="4076640"/>
            <a:ext cx="4876920" cy="1874880"/>
          </a:xfrm>
          <a:prstGeom prst="cloudCallout">
            <a:avLst>
              <a:gd name="adj1" fmla="val -29435"/>
              <a:gd name="adj2" fmla="val -75777"/>
            </a:avLst>
          </a:prstGeom>
          <a:solidFill>
            <a:srgbClr val="0f5494"/>
          </a:solidFill>
          <a:ln w="255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Verdana"/>
              </a:rPr>
              <a:t>Start by determining: </a:t>
            </a:r>
            <a:r>
              <a:rPr b="1" lang="ja-JP" sz="1600" spc="-1" strike="noStrike">
                <a:solidFill>
                  <a:srgbClr val="92d050"/>
                </a:solidFill>
                <a:latin typeface="Verdana"/>
              </a:rPr>
              <a:t>‘</a:t>
            </a:r>
            <a:r>
              <a:rPr b="1" lang="en-GB" sz="1600" spc="-1" strike="noStrike">
                <a:solidFill>
                  <a:srgbClr val="92d050"/>
                </a:solidFill>
                <a:latin typeface="Verdana"/>
              </a:rPr>
              <a:t>Capacity development for what?</a:t>
            </a:r>
            <a:r>
              <a:rPr b="1" lang="ja-JP" sz="1600" spc="-1" strike="noStrike">
                <a:solidFill>
                  <a:srgbClr val="92d050"/>
                </a:solidFill>
                <a:latin typeface="Verdana"/>
              </a:rPr>
              <a:t>’</a:t>
            </a:r>
            <a:r>
              <a:rPr b="1" lang="en-GB" sz="1600" spc="-1" strike="noStrike">
                <a:solidFill>
                  <a:srgbClr val="92d050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ffff"/>
                </a:solidFill>
                <a:latin typeface="Verdana"/>
              </a:rPr>
              <a:t>-&gt; Define specific objective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5" name="TextBox 4"/>
          <p:cNvSpPr/>
          <p:nvPr/>
        </p:nvSpPr>
        <p:spPr>
          <a:xfrm>
            <a:off x="3886200" y="6477120"/>
            <a:ext cx="419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Source: UNDP (2011) 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98100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Needs assessment: stakeholders</a:t>
            </a:r>
            <a:r>
              <a:rPr b="1" lang="ja-JP" sz="3000" spc="-1" strike="noStrike">
                <a:solidFill>
                  <a:srgbClr val="ffffff"/>
                </a:solidFill>
                <a:latin typeface="Verdana"/>
              </a:rPr>
              <a:t>’</a:t>
            </a: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3000"/>
            </a:b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CD needs for mainstreaming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7" name="TextBox 4"/>
          <p:cNvSpPr/>
          <p:nvPr/>
        </p:nvSpPr>
        <p:spPr>
          <a:xfrm>
            <a:off x="3708360" y="3243240"/>
            <a:ext cx="1800360" cy="91692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060"/>
                </a:solidFill>
                <a:latin typeface="Verdana"/>
              </a:rPr>
              <a:t>Stakeholder capacity building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8" name="Rounded Rectangular Callout 5"/>
          <p:cNvSpPr/>
          <p:nvPr/>
        </p:nvSpPr>
        <p:spPr>
          <a:xfrm>
            <a:off x="471600" y="1752480"/>
            <a:ext cx="1600200" cy="1371600"/>
          </a:xfrm>
          <a:prstGeom prst="wedgeRoundRectCallout">
            <a:avLst>
              <a:gd name="adj1" fmla="val 153768"/>
              <a:gd name="adj2" fmla="val 75615"/>
              <a:gd name="adj3" fmla="val 16667"/>
            </a:avLst>
          </a:prstGeom>
          <a:solidFill>
            <a:srgbClr val="0f549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Information systems &amp; analytical skill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9" name="Rounded Rectangular Callout 6"/>
          <p:cNvSpPr/>
          <p:nvPr/>
        </p:nvSpPr>
        <p:spPr>
          <a:xfrm>
            <a:off x="3290760" y="1447920"/>
            <a:ext cx="1752840" cy="990360"/>
          </a:xfrm>
          <a:prstGeom prst="wedgeRoundRectCallout">
            <a:avLst>
              <a:gd name="adj1" fmla="val 22060"/>
              <a:gd name="adj2" fmla="val 131856"/>
              <a:gd name="adj3" fmla="val 16667"/>
            </a:avLst>
          </a:prstGeom>
          <a:solidFill>
            <a:srgbClr val="0f549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Planning &amp; prioritisation skill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0" name="Rounded Rectangular Callout 7"/>
          <p:cNvSpPr/>
          <p:nvPr/>
        </p:nvSpPr>
        <p:spPr>
          <a:xfrm>
            <a:off x="6567480" y="2209680"/>
            <a:ext cx="1981080" cy="1371600"/>
          </a:xfrm>
          <a:prstGeom prst="wedgeRoundRectCallout">
            <a:avLst>
              <a:gd name="adj1" fmla="val -101791"/>
              <a:gd name="adj2" fmla="val 39912"/>
              <a:gd name="adj3" fmla="val 16667"/>
            </a:avLst>
          </a:prstGeom>
          <a:solidFill>
            <a:srgbClr val="0f549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Participatory engagement &amp; empowerment skill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1" name="Rounded Rectangular Callout 8"/>
          <p:cNvSpPr/>
          <p:nvPr/>
        </p:nvSpPr>
        <p:spPr>
          <a:xfrm>
            <a:off x="395280" y="3962520"/>
            <a:ext cx="2133720" cy="1066680"/>
          </a:xfrm>
          <a:prstGeom prst="wedgeRoundRectCallout">
            <a:avLst>
              <a:gd name="adj1" fmla="val 107791"/>
              <a:gd name="adj2" fmla="val -63949"/>
              <a:gd name="adj3" fmla="val 16667"/>
            </a:avLst>
          </a:prstGeom>
          <a:solidFill>
            <a:srgbClr val="0f549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Political &amp; communication skill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2" name="Rounded Rectangular Callout 9"/>
          <p:cNvSpPr/>
          <p:nvPr/>
        </p:nvSpPr>
        <p:spPr>
          <a:xfrm>
            <a:off x="3200400" y="5105520"/>
            <a:ext cx="1905120" cy="1066680"/>
          </a:xfrm>
          <a:prstGeom prst="wedgeRoundRectCallout">
            <a:avLst>
              <a:gd name="adj1" fmla="val 19240"/>
              <a:gd name="adj2" fmla="val -138282"/>
              <a:gd name="adj3" fmla="val 16667"/>
            </a:avLst>
          </a:prstGeom>
          <a:solidFill>
            <a:srgbClr val="0f549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Monitoring, evaluation &amp; learning skill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3" name="Rounded Rectangular Callout 10"/>
          <p:cNvSpPr/>
          <p:nvPr/>
        </p:nvSpPr>
        <p:spPr>
          <a:xfrm>
            <a:off x="6705720" y="4267080"/>
            <a:ext cx="1828800" cy="990720"/>
          </a:xfrm>
          <a:prstGeom prst="wedgeRoundRectCallout">
            <a:avLst>
              <a:gd name="adj1" fmla="val -116518"/>
              <a:gd name="adj2" fmla="val -97810"/>
              <a:gd name="adj3" fmla="val 16667"/>
            </a:avLst>
          </a:prstGeom>
          <a:solidFill>
            <a:srgbClr val="00b0f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Specific technical skill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4" name="Slide Number Placeholder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E10E9-33F1-4317-AF7B-22D5E8694F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5" name="TextBox 4"/>
          <p:cNvSpPr/>
          <p:nvPr/>
        </p:nvSpPr>
        <p:spPr>
          <a:xfrm>
            <a:off x="4484520" y="6576840"/>
            <a:ext cx="419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Source: Dalal-Clayton &amp; Bass (2009) 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6" name="Cloud Callout 12"/>
          <p:cNvSpPr/>
          <p:nvPr/>
        </p:nvSpPr>
        <p:spPr>
          <a:xfrm>
            <a:off x="395280" y="5410080"/>
            <a:ext cx="2286000" cy="1067040"/>
          </a:xfrm>
          <a:prstGeom prst="cloudCallout">
            <a:avLst>
              <a:gd name="adj1" fmla="val 56912"/>
              <a:gd name="adj2" fmla="val -110407"/>
            </a:avLst>
          </a:prstGeom>
          <a:solidFill>
            <a:srgbClr val="0f549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ffffff"/>
                </a:solidFill>
                <a:latin typeface="Verdana"/>
              </a:rPr>
              <a:t>‘</a:t>
            </a:r>
            <a:r>
              <a:rPr b="1" lang="en-GB" sz="1400" spc="-1" strike="noStrike">
                <a:solidFill>
                  <a:srgbClr val="ffffff"/>
                </a:solidFill>
                <a:latin typeface="Verdana"/>
              </a:rPr>
              <a:t>FUNCTIONAL CAPACITIES</a:t>
            </a:r>
            <a:r>
              <a:rPr b="1" lang="ja-JP" sz="1400" spc="-1" strike="noStrike">
                <a:solidFill>
                  <a:srgbClr val="ffffff"/>
                </a:solidFill>
                <a:latin typeface="Verdana"/>
              </a:rPr>
              <a:t>’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7" name="Cloud Callout 13"/>
          <p:cNvSpPr/>
          <p:nvPr/>
        </p:nvSpPr>
        <p:spPr>
          <a:xfrm>
            <a:off x="5219640" y="5410080"/>
            <a:ext cx="2592360" cy="1067040"/>
          </a:xfrm>
          <a:prstGeom prst="cloudCallout">
            <a:avLst>
              <a:gd name="adj1" fmla="val 11166"/>
              <a:gd name="adj2" fmla="val -91194"/>
            </a:avLst>
          </a:prstGeom>
          <a:solidFill>
            <a:srgbClr val="00b0f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ffffff"/>
                </a:solidFill>
                <a:latin typeface="Verdana"/>
              </a:rPr>
              <a:t>‘</a:t>
            </a:r>
            <a:r>
              <a:rPr b="1" lang="en-GB" sz="1600" spc="-1" strike="noStrike">
                <a:solidFill>
                  <a:srgbClr val="ffffff"/>
                </a:solidFill>
                <a:latin typeface="Verdana"/>
              </a:rPr>
              <a:t>TECHNICAL CAPACITIE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0" y="119700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Needs assessment: national capacity self-assessment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0" y="2060280"/>
            <a:ext cx="89647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Based on existing or ad hoc institutional assessments, consider for all relevant organisations: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Level of education &amp; awareness of env</a:t>
            </a:r>
            <a:r>
              <a:rPr b="0" lang="ja-JP" sz="2000" spc="-1" strike="noStrike">
                <a:solidFill>
                  <a:srgbClr val="0f5494"/>
                </a:solidFill>
                <a:latin typeface="Verdana"/>
              </a:rPr>
              <a:t>’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t and CC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Organisations</a:t>
            </a:r>
            <a:r>
              <a:rPr b="0" lang="ja-JP" sz="2000" spc="-1" strike="noStrike">
                <a:solidFill>
                  <a:srgbClr val="0f5494"/>
                </a:solidFill>
                <a:latin typeface="Verdana"/>
              </a:rPr>
              <a:t>’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 mandates &amp; functions with regard to environment- and climate-related issue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Influence of climate risks on capacity to function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Technical, financial, legal/regulatory capacities &amp; information systems in relation to env</a:t>
            </a:r>
            <a:r>
              <a:rPr b="0" lang="ja-JP" sz="2000" spc="-1" strike="noStrike">
                <a:solidFill>
                  <a:srgbClr val="0f5494"/>
                </a:solidFill>
                <a:latin typeface="Verdana"/>
              </a:rPr>
              <a:t>’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t and CC issue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Planning, decision-making, budget allocation &amp; programming mechanism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Collaboration &amp; coordination structures &amp; mechanism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Assessments for environment and climate change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0" name="TextBox 4"/>
          <p:cNvSpPr/>
          <p:nvPr/>
        </p:nvSpPr>
        <p:spPr>
          <a:xfrm>
            <a:off x="250920" y="655020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Adapted from: UNDP-UNEP (2011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1" name="Slide Number Placeholder 5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83044-CEA4-4BC3-9164-0FF3BB0E9E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0" y="133992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Setting up working mechanisms</a:t>
            </a:r>
            <a:br>
              <a:rPr sz="3000"/>
            </a:b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for a mainstreaming initiativ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394920" y="2492280"/>
            <a:ext cx="853452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Define institutional arrangements (political and technical) (e.g. steering and technical committees)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Set up a management framework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Leadership arrangement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Human resource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Financial arrangement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M&amp;E arrangement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Develop an operational work plan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AB4E9-43A4-48C0-B431-DD260E187B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5" name="TextBox 4"/>
          <p:cNvSpPr/>
          <p:nvPr/>
        </p:nvSpPr>
        <p:spPr>
          <a:xfrm>
            <a:off x="5003640" y="6550200"/>
            <a:ext cx="335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Source: UNDP-UNEP (2011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Learning-by-doing: multiple </a:t>
            </a:r>
            <a:br>
              <a:rPr sz="3000"/>
            </a:b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approach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95280" y="2060640"/>
            <a:ext cx="8748720" cy="441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Formal training on mainstreaming and on </a:t>
            </a:r>
            <a:br>
              <a:rPr sz="2400"/>
            </a:b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specific technical aspect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Exchange visit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On-the-job learning through national mainstreaming programmes, including:  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	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Interdisciplinary team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Twinning between organisation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Technical assistance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Demonstration project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Lesson learning and dissemination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8C685-835D-4304-9F34-1380C427BD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9" name="TextBox 4"/>
          <p:cNvSpPr/>
          <p:nvPr/>
        </p:nvSpPr>
        <p:spPr>
          <a:xfrm>
            <a:off x="395280" y="630864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Source: UNDP-UNEP (2009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0" y="1125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92c0"/>
                </a:solidFill>
                <a:latin typeface="Verdana"/>
              </a:rPr>
              <a:t>Recap – Key messag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24000" y="220464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There is a strong case for mainstreaming environment and climate change into all development planning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29040" indent="-3290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There are entry points for mainstreaming environment and climate change at all stages of the policy cycle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29040" indent="-3290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Institutional and capacity strengthening (rooted in a good diagnosis of the strengths/weaknesses of existing structures and efforts to improve governance) is a key condition for successful mainstreaming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29040" indent="-3290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Needs assessment, the setting up of effective working mechanisms and </a:t>
            </a:r>
            <a:r>
              <a:rPr b="0" lang="ja-JP" sz="2000" spc="-1" strike="noStrike">
                <a:solidFill>
                  <a:srgbClr val="0f5494"/>
                </a:solidFill>
                <a:latin typeface="Verdana"/>
              </a:rPr>
              <a:t>‘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learning by doing</a:t>
            </a:r>
            <a:r>
              <a:rPr b="0" lang="ja-JP" sz="2000" spc="-1" strike="noStrike">
                <a:solidFill>
                  <a:srgbClr val="0f5494"/>
                </a:solidFill>
                <a:latin typeface="Verdana"/>
              </a:rPr>
              <a:t>’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 can support the mainstreaming process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29040" indent="-32904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BC229-F1CE-474F-B7E6-B2B3E1C9F1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0" y="836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Key referenc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250920" y="1699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5494"/>
                </a:solidFill>
                <a:latin typeface="Verdana"/>
              </a:rPr>
              <a:t>UNDP (2011) Practitioner</a:t>
            </a:r>
            <a:r>
              <a:rPr b="0" lang="ja-JP" sz="2200" spc="-1" strike="noStrike">
                <a:solidFill>
                  <a:srgbClr val="0f5494"/>
                </a:solidFill>
                <a:latin typeface="Verdana"/>
              </a:rPr>
              <a:t>’</a:t>
            </a:r>
            <a:r>
              <a:rPr b="0" lang="en-GB" sz="2200" spc="-1" strike="noStrike">
                <a:solidFill>
                  <a:srgbClr val="0f5494"/>
                </a:solidFill>
                <a:latin typeface="Verdana"/>
              </a:rPr>
              <a:t>s Guide: Capacity </a:t>
            </a:r>
            <a:br>
              <a:rPr sz="2200"/>
            </a:br>
            <a:r>
              <a:rPr b="0" lang="en-GB" sz="2200" spc="-1" strike="noStrike">
                <a:solidFill>
                  <a:srgbClr val="0f5494"/>
                </a:solidFill>
                <a:latin typeface="Verdana"/>
              </a:rPr>
              <a:t>Development for Environmental Sustainability. United Nations Development Programme, New York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298440" indent="-298440"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5494"/>
                </a:solidFill>
                <a:latin typeface="Verdana"/>
              </a:rPr>
              <a:t>UNDP-UNEP (2009) Mainstreaming Poverty-Environment Linkages into Development Planning: A Handbook for Practitioners. UNDP-UNEP Poverty-Environment Initiative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298440" indent="-298440"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5494"/>
                </a:solidFill>
                <a:latin typeface="Verdana"/>
              </a:rPr>
              <a:t>UNDP-UNEP (2011) Mainstreaming Adaptation to Climate Change into Development Planning: A Guide for Practitioners. UNDP-UNEP Poverty-Environment Initiative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298440" indent="-298440"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5494"/>
                </a:solidFill>
                <a:latin typeface="Verdana"/>
              </a:rPr>
              <a:t>UNDP – Integrating environment into development: </a:t>
            </a:r>
            <a:r>
              <a:rPr b="0" lang="en-GB" sz="22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http://www.undp.org/mainstreaming/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298440" indent="-2984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298440" indent="-2984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EDA88-ABE3-4916-A0A3-CEA3ED839A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50920" y="1268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Beyond </a:t>
            </a:r>
            <a:r>
              <a:rPr b="1" lang="ja-JP" sz="3000" spc="-1" strike="noStrike">
                <a:solidFill>
                  <a:srgbClr val="0f5494"/>
                </a:solidFill>
                <a:latin typeface="Verdana"/>
              </a:rPr>
              <a:t>‘</a:t>
            </a: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environment</a:t>
            </a:r>
            <a:r>
              <a:rPr b="1" lang="ja-JP" sz="3000" spc="-1" strike="noStrike">
                <a:solidFill>
                  <a:srgbClr val="0f5494"/>
                </a:solidFill>
                <a:latin typeface="Verdana"/>
              </a:rPr>
              <a:t>’</a:t>
            </a: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 as a sector...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04560" y="2397240"/>
            <a:ext cx="838188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Environment and protection of natural resources is a sector in its own right, but its sustainability also depends on other sectors</a:t>
            </a:r>
            <a:r>
              <a:rPr b="0" lang="ja-JP" sz="2400" spc="-1" strike="noStrike">
                <a:solidFill>
                  <a:srgbClr val="0f5494"/>
                </a:solidFill>
                <a:latin typeface="Verdana"/>
              </a:rPr>
              <a:t>’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 policie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Other sectors</a:t>
            </a:r>
            <a:r>
              <a:rPr b="0" lang="ja-JP" sz="2400" spc="-1" strike="noStrike">
                <a:solidFill>
                  <a:srgbClr val="0f5494"/>
                </a:solidFill>
                <a:latin typeface="Verdana"/>
              </a:rPr>
              <a:t>’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 performance depends closely on the state of the environmen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It does not suffice to address the environment exclusively as a sector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Other sector</a:t>
            </a:r>
            <a:r>
              <a:rPr b="0" lang="ja-JP" sz="2000" spc="-1" strike="noStrike">
                <a:solidFill>
                  <a:srgbClr val="0f5494"/>
                </a:solidFill>
                <a:latin typeface="Verdana"/>
              </a:rPr>
              <a:t>’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s development paths need to take account of environmental sustainability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Environment tends to be an underfunded sector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6858000" y="6613560"/>
            <a:ext cx="213372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3ADB5-EFC1-4192-BB24-B5AF7EA2F1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0" y="907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Referenc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250920" y="1851120"/>
            <a:ext cx="8640720" cy="395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Dalal-Clayton B. &amp; Bass S. (2009) The challenges of environmental mainstreaming: experience of integrating environment into development institutions and decisions. International Institute for Environment and Development, London. Available from: 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http://www.environmental-mainstreaming.org/key-lit.html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Schipper E.L., Paz Cigarán M. &amp; McKenzie Hedger M. (2008) Adaptation to Climate Change: The new challenge for development in the developing world. Environment &amp; Energy Group, United Nations Development Programme, New York. Available from: 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http://www.undp.org/climatechange/docs/English/UNDP_Adaptation_final.pdf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Soria, C (2005) SEA and the NGO community in Latin America. Presentation made at the SEA and IDC Conference, Halong Bay, Vietnam, 24-28 January, 2005.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1F0C5-0FAF-4F91-ABC7-E738F8A092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1125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What is mainstreaming?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94920" y="2133720"/>
            <a:ext cx="8458200" cy="43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The </a:t>
            </a:r>
            <a:r>
              <a:rPr b="0" lang="en-GB" sz="2400" spc="-1" strike="noStrike">
                <a:solidFill>
                  <a:srgbClr val="0092c0"/>
                </a:solidFill>
                <a:latin typeface="Verdana"/>
              </a:rPr>
              <a:t>mainstream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: the prevailing or dominant </a:t>
            </a:r>
            <a:br>
              <a:rPr sz="2400"/>
            </a:b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course, current, tendency or way of thinking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92c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2c0"/>
                </a:solidFill>
                <a:latin typeface="Verdana"/>
              </a:rPr>
              <a:t>Mainstreaming</a:t>
            </a:r>
            <a:r>
              <a:rPr b="0" lang="en-GB" sz="2400" spc="-1" strike="noStrike">
                <a:solidFill>
                  <a:srgbClr val="002060"/>
                </a:solidFill>
                <a:latin typeface="Verdana"/>
              </a:rPr>
              <a:t>: 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the informed integration of a relevant value, theme or concern into the decisions of institutions that drive national, local and sectoral development policy, rules, plans, investment and action 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(adapted from Dalal-Clayton &amp; Bass 2009)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2c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2c0"/>
                </a:solidFill>
                <a:latin typeface="Verdana"/>
              </a:rPr>
              <a:t>Institutional strengthening and change 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and</a:t>
            </a:r>
            <a:r>
              <a:rPr b="0" lang="en-GB" sz="2400" spc="-1" strike="noStrike">
                <a:solidFill>
                  <a:srgbClr val="005f7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0092c0"/>
                </a:solidFill>
                <a:latin typeface="Verdana"/>
              </a:rPr>
              <a:t>capacity building 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are at the heart of any mainstreaming effor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4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E0635-1D94-4751-AD4D-2548EF7DC5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Objectives of mainstreaming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68000" y="2205000"/>
            <a:ext cx="8458200" cy="406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Mainstreaming is a long-term, iterative </a:t>
            </a:r>
            <a:br>
              <a:rPr sz="2400"/>
            </a:b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process aimed at: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transforming ideas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even more importantly, transforming policies, resource allocations and practice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in order to: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promote desired developmental outcomes (with regard to gender, environment, climate change, governance, human rights, ...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and support integrated solutions to human problem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7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CC037-04E2-4014-9031-30A41711BF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280" y="105228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Policy framework for mainstreaming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213156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European Consensus on Development (2005)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13160" indent="-27432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Explicitly recognises links between development and environment and highlights need for a </a:t>
            </a: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“strengthened approach to mainstreaming of cross-cutting issues”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Agenda for Change (2011)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13160" indent="-27432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“</a:t>
            </a: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development is not sustainable if it damages the environment, biodiversity and natural resources and increases the exposure/vulnerability to natural disasters”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EU Biodiversity Strategy to 2020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13160" indent="-27432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Calls to “biodiversity-proof” EC development cooperation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324000" y="2491920"/>
            <a:ext cx="8534160" cy="1676520"/>
          </a:xfrm>
          <a:prstGeom prst="rect">
            <a:avLst/>
          </a:prstGeom>
          <a:gradFill rotWithShape="0">
            <a:gsLst>
              <a:gs pos="0">
                <a:srgbClr val="afe0e4"/>
              </a:gs>
              <a:gs pos="100000">
                <a:srgbClr val="85aaad"/>
              </a:gs>
            </a:gsLst>
            <a:lin ang="5400000"/>
          </a:gradFill>
          <a:ln w="93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marL="343080" indent="-343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A framework for mainstreaming</a:t>
            </a:r>
            <a:br>
              <a:rPr sz="2800"/>
            </a:b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environment and climate change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66478-349F-49FD-99EE-500241834C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Entry points for mainstreaming in </a:t>
            </a:r>
            <a:br>
              <a:rPr sz="3000"/>
            </a:b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the policy cycl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7C7FE-C590-4A61-B457-E37BDCCDE8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14" name="Picture 3" descr="_Pic3"/>
          <p:cNvPicPr/>
          <p:nvPr/>
        </p:nvPicPr>
        <p:blipFill>
          <a:blip r:embed="rId1"/>
          <a:stretch/>
        </p:blipFill>
        <p:spPr>
          <a:xfrm>
            <a:off x="1371600" y="1523880"/>
            <a:ext cx="5913360" cy="4705560"/>
          </a:xfrm>
          <a:prstGeom prst="rect">
            <a:avLst/>
          </a:prstGeom>
          <a:ln w="0">
            <a:noFill/>
          </a:ln>
        </p:spPr>
      </p:pic>
      <p:sp>
        <p:nvSpPr>
          <p:cNvPr id="115" name="TextBox 7"/>
          <p:cNvSpPr/>
          <p:nvPr/>
        </p:nvSpPr>
        <p:spPr>
          <a:xfrm>
            <a:off x="3718080" y="3414600"/>
            <a:ext cx="1676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National development planning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6" name="TextBox 8"/>
          <p:cNvSpPr/>
          <p:nvPr/>
        </p:nvSpPr>
        <p:spPr>
          <a:xfrm>
            <a:off x="2422440" y="2390760"/>
            <a:ext cx="1524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Agenda setting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7" name="TextBox 9"/>
          <p:cNvSpPr/>
          <p:nvPr/>
        </p:nvSpPr>
        <p:spPr>
          <a:xfrm>
            <a:off x="5470560" y="3381480"/>
            <a:ext cx="1523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Policy making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8" name="TextBox 10"/>
          <p:cNvSpPr/>
          <p:nvPr/>
        </p:nvSpPr>
        <p:spPr>
          <a:xfrm>
            <a:off x="3184560" y="5019840"/>
            <a:ext cx="217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Implementation &amp; monitoring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9" name="Rounded Rectangular Callout 11"/>
          <p:cNvSpPr/>
          <p:nvPr/>
        </p:nvSpPr>
        <p:spPr>
          <a:xfrm>
            <a:off x="457200" y="1600200"/>
            <a:ext cx="1752480" cy="1066680"/>
          </a:xfrm>
          <a:prstGeom prst="wedgeRoundRectCallout">
            <a:avLst>
              <a:gd name="adj1" fmla="val 77625"/>
              <a:gd name="adj2" fmla="val 54203"/>
              <a:gd name="adj3" fmla="val 16667"/>
            </a:avLst>
          </a:prstGeom>
          <a:solidFill>
            <a:srgbClr val="0f549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Finding the entry points &amp; making the case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0" name="Rounded Rectangular Callout 12"/>
          <p:cNvSpPr/>
          <p:nvPr/>
        </p:nvSpPr>
        <p:spPr>
          <a:xfrm>
            <a:off x="6804000" y="2060640"/>
            <a:ext cx="1905120" cy="1143000"/>
          </a:xfrm>
          <a:prstGeom prst="wedgeRoundRectCallout">
            <a:avLst>
              <a:gd name="adj1" fmla="val -46481"/>
              <a:gd name="adj2" fmla="val 84250"/>
              <a:gd name="adj3" fmla="val 16667"/>
            </a:avLst>
          </a:prstGeom>
          <a:solidFill>
            <a:srgbClr val="0f549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Mainstreaming into policy &amp; planning processe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1" name="Rounded Rectangular Callout 13"/>
          <p:cNvSpPr/>
          <p:nvPr/>
        </p:nvSpPr>
        <p:spPr>
          <a:xfrm>
            <a:off x="250920" y="5257800"/>
            <a:ext cx="2187360" cy="990720"/>
          </a:xfrm>
          <a:prstGeom prst="wedgeRoundRectCallout">
            <a:avLst>
              <a:gd name="adj1" fmla="val 90509"/>
              <a:gd name="adj2" fmla="val -33495"/>
              <a:gd name="adj3" fmla="val 16667"/>
            </a:avLst>
          </a:prstGeom>
          <a:solidFill>
            <a:srgbClr val="0f549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Meeting the implementation challenge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2" name="TextBox 14"/>
          <p:cNvSpPr/>
          <p:nvPr/>
        </p:nvSpPr>
        <p:spPr>
          <a:xfrm>
            <a:off x="2050920" y="6308640"/>
            <a:ext cx="684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Adapted from: UNDP-UNEP (2009) Figure 3.2, p. 15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ounded Rectangle 3"/>
          <p:cNvSpPr/>
          <p:nvPr/>
        </p:nvSpPr>
        <p:spPr>
          <a:xfrm>
            <a:off x="611280" y="76320"/>
            <a:ext cx="2520720" cy="863640"/>
          </a:xfrm>
          <a:prstGeom prst="roundRect">
            <a:avLst>
              <a:gd name="adj" fmla="val 16667"/>
            </a:avLst>
          </a:prstGeom>
          <a:solidFill>
            <a:srgbClr val="3c8c93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Finding the entry points and making the case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4" name="Rounded Rectangle 4"/>
          <p:cNvSpPr/>
          <p:nvPr/>
        </p:nvSpPr>
        <p:spPr>
          <a:xfrm>
            <a:off x="3429000" y="76320"/>
            <a:ext cx="2666880" cy="863640"/>
          </a:xfrm>
          <a:prstGeom prst="roundRect">
            <a:avLst>
              <a:gd name="adj" fmla="val 16667"/>
            </a:avLst>
          </a:prstGeom>
          <a:solidFill>
            <a:srgbClr val="3c8c93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Mainstreaming into policy and planning processe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5" name="Rounded Rectangle 5"/>
          <p:cNvSpPr/>
          <p:nvPr/>
        </p:nvSpPr>
        <p:spPr>
          <a:xfrm>
            <a:off x="6400800" y="76320"/>
            <a:ext cx="2519280" cy="863640"/>
          </a:xfrm>
          <a:prstGeom prst="roundRect">
            <a:avLst>
              <a:gd name="adj" fmla="val 16667"/>
            </a:avLst>
          </a:prstGeom>
          <a:solidFill>
            <a:srgbClr val="3c8c93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Meeting the implementation challenge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6" name="Rounded Rectangle 6"/>
          <p:cNvSpPr/>
          <p:nvPr/>
        </p:nvSpPr>
        <p:spPr>
          <a:xfrm>
            <a:off x="581040" y="1066680"/>
            <a:ext cx="2663640" cy="2514600"/>
          </a:xfrm>
          <a:prstGeom prst="roundRect">
            <a:avLst>
              <a:gd name="adj" fmla="val 16667"/>
            </a:avLst>
          </a:prstGeom>
          <a:solidFill>
            <a:srgbClr val="e6e6e6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2060"/>
                </a:solidFill>
                <a:latin typeface="Calibri"/>
                <a:ea typeface="Calibri"/>
              </a:rPr>
              <a:t>Preliminary assessments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2060"/>
                </a:solidFill>
                <a:latin typeface="Calibri"/>
                <a:ea typeface="Calibri"/>
              </a:rPr>
              <a:t>Understanding the challenges and the science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2060"/>
                </a:solidFill>
                <a:latin typeface="Calibri"/>
                <a:ea typeface="Calibri"/>
              </a:rPr>
              <a:t>Understanding poverty-environment and CC–development linkages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2060"/>
                </a:solidFill>
                <a:latin typeface="Calibri"/>
                <a:ea typeface="Calibri"/>
              </a:rPr>
              <a:t>Understanding government, institutional and political contexts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7" name="Rounded Rectangle 7"/>
          <p:cNvSpPr/>
          <p:nvPr/>
        </p:nvSpPr>
        <p:spPr>
          <a:xfrm>
            <a:off x="609480" y="3657600"/>
            <a:ext cx="2667240" cy="1295280"/>
          </a:xfrm>
          <a:prstGeom prst="roundRect">
            <a:avLst>
              <a:gd name="adj" fmla="val 16667"/>
            </a:avLst>
          </a:prstGeom>
          <a:solidFill>
            <a:srgbClr val="e6e6e6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Raising awareness and building partnerships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National consensus and commitment to resilient, low-carbon development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8" name="Rounded Rectangle 8"/>
          <p:cNvSpPr/>
          <p:nvPr/>
        </p:nvSpPr>
        <p:spPr>
          <a:xfrm>
            <a:off x="612720" y="5029200"/>
            <a:ext cx="2664000" cy="990720"/>
          </a:xfrm>
          <a:prstGeom prst="roundRect">
            <a:avLst>
              <a:gd name="adj" fmla="val 16667"/>
            </a:avLst>
          </a:prstGeom>
          <a:solidFill>
            <a:srgbClr val="e6e6e6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Strengthening institutions and capacities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Needs assessment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Working mechanisms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9" name="Rounded Rectangle 9"/>
          <p:cNvSpPr/>
          <p:nvPr/>
        </p:nvSpPr>
        <p:spPr>
          <a:xfrm>
            <a:off x="3429000" y="1066680"/>
            <a:ext cx="2743200" cy="2743200"/>
          </a:xfrm>
          <a:prstGeom prst="roundRect">
            <a:avLst>
              <a:gd name="adj" fmla="val 16667"/>
            </a:avLst>
          </a:prstGeom>
          <a:solidFill>
            <a:srgbClr val="e6e6e6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2060"/>
                </a:solidFill>
                <a:latin typeface="Calibri"/>
                <a:ea typeface="Calibri"/>
              </a:rPr>
              <a:t>Collecting country-specific evidence and influencing policy processes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2060"/>
                </a:solidFill>
                <a:latin typeface="Calibri"/>
                <a:ea typeface="Calibri"/>
              </a:rPr>
              <a:t>Integrated ecosystem assessment; economic analysis…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2060"/>
                </a:solidFill>
                <a:latin typeface="Calibri"/>
                <a:ea typeface="Calibri"/>
              </a:rPr>
              <a:t>Mainstreaming in (sub)national and sector policies, strategies, programmes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2060"/>
                </a:solidFill>
                <a:latin typeface="Calibri"/>
                <a:ea typeface="Calibri"/>
              </a:rPr>
              <a:t>Understanding uncertainties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0" name="Rounded Rectangle 10"/>
          <p:cNvSpPr/>
          <p:nvPr/>
        </p:nvSpPr>
        <p:spPr>
          <a:xfrm>
            <a:off x="3429000" y="3962520"/>
            <a:ext cx="2743200" cy="990360"/>
          </a:xfrm>
          <a:prstGeom prst="roundRect">
            <a:avLst>
              <a:gd name="adj" fmla="val 16667"/>
            </a:avLst>
          </a:prstGeom>
          <a:solidFill>
            <a:srgbClr val="e6e6e6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Developing, costing, assessing and selecting policy measures, 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1" name="Rounded Rectangle 11"/>
          <p:cNvSpPr/>
          <p:nvPr/>
        </p:nvSpPr>
        <p:spPr>
          <a:xfrm>
            <a:off x="3429000" y="5029200"/>
            <a:ext cx="2743200" cy="990720"/>
          </a:xfrm>
          <a:prstGeom prst="roundRect">
            <a:avLst>
              <a:gd name="adj" fmla="val 16667"/>
            </a:avLst>
          </a:prstGeom>
          <a:solidFill>
            <a:srgbClr val="e6e6e6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Strengthening institutions and capacities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Learning by doing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2" name="Rounded Rectangle 12"/>
          <p:cNvSpPr/>
          <p:nvPr/>
        </p:nvSpPr>
        <p:spPr>
          <a:xfrm>
            <a:off x="6396120" y="1066680"/>
            <a:ext cx="2519280" cy="1219320"/>
          </a:xfrm>
          <a:prstGeom prst="roundRect">
            <a:avLst>
              <a:gd name="adj" fmla="val 16667"/>
            </a:avLst>
          </a:prstGeom>
          <a:solidFill>
            <a:srgbClr val="e6e6e6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Budgeting and financing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Mainstreaming in the budgetary process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3" name="Rounded Rectangle 13"/>
          <p:cNvSpPr/>
          <p:nvPr/>
        </p:nvSpPr>
        <p:spPr>
          <a:xfrm>
            <a:off x="6400800" y="2352600"/>
            <a:ext cx="2519280" cy="1533600"/>
          </a:xfrm>
          <a:prstGeom prst="roundRect">
            <a:avLst>
              <a:gd name="adj" fmla="val 16667"/>
            </a:avLst>
          </a:prstGeom>
          <a:solidFill>
            <a:srgbClr val="e6e6e6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Mainstreaming in monitoring systems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Performance assessment frameworks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Indicators and data collection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4" name="Rounded Rectangle 14"/>
          <p:cNvSpPr/>
          <p:nvPr/>
        </p:nvSpPr>
        <p:spPr>
          <a:xfrm>
            <a:off x="6396120" y="4011480"/>
            <a:ext cx="2519280" cy="865440"/>
          </a:xfrm>
          <a:prstGeom prst="roundRect">
            <a:avLst>
              <a:gd name="adj" fmla="val 16667"/>
            </a:avLst>
          </a:prstGeom>
          <a:solidFill>
            <a:srgbClr val="f8fbfc"/>
          </a:solidFill>
          <a:ln w="25560">
            <a:solidFill>
              <a:srgbClr val="0f5494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Supporting policy measures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National, sector and sub-national levels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5" name="Rounded Rectangle 15"/>
          <p:cNvSpPr/>
          <p:nvPr/>
        </p:nvSpPr>
        <p:spPr>
          <a:xfrm>
            <a:off x="6396120" y="5029200"/>
            <a:ext cx="2519280" cy="990720"/>
          </a:xfrm>
          <a:prstGeom prst="roundRect">
            <a:avLst>
              <a:gd name="adj" fmla="val 16667"/>
            </a:avLst>
          </a:prstGeom>
          <a:solidFill>
            <a:srgbClr val="e6e6e6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Strengthening institutions and capacities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Mainstreaming </a:t>
            </a:r>
            <a:br>
              <a:rPr sz="1500"/>
            </a:br>
            <a:r>
              <a:rPr b="0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as standard practice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6" name="Rounded Rectangle 16"/>
          <p:cNvSpPr/>
          <p:nvPr/>
        </p:nvSpPr>
        <p:spPr>
          <a:xfrm>
            <a:off x="1332000" y="6121440"/>
            <a:ext cx="6769080" cy="431640"/>
          </a:xfrm>
          <a:prstGeom prst="roundRect">
            <a:avLst>
              <a:gd name="adj" fmla="val 16667"/>
            </a:avLst>
          </a:prstGeom>
          <a:solidFill>
            <a:srgbClr val="f8fbfc"/>
          </a:solidFill>
          <a:ln w="25560">
            <a:solidFill>
              <a:srgbClr val="0f5494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Engaging stakeholders and coordinating within the development community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7" name="Flowchart: Document 17"/>
          <p:cNvSpPr/>
          <p:nvPr/>
        </p:nvSpPr>
        <p:spPr>
          <a:xfrm>
            <a:off x="76320" y="1371600"/>
            <a:ext cx="696960" cy="351000"/>
          </a:xfrm>
          <a:prstGeom prst="flowChartDocument">
            <a:avLst/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libri"/>
                <a:ea typeface="Calibri"/>
              </a:rPr>
              <a:t>Mod1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8" name="Flowchart: Document 18"/>
          <p:cNvSpPr/>
          <p:nvPr/>
        </p:nvSpPr>
        <p:spPr>
          <a:xfrm>
            <a:off x="2971800" y="3230640"/>
            <a:ext cx="696960" cy="350640"/>
          </a:xfrm>
          <a:prstGeom prst="flowChartDocument">
            <a:avLst/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libri"/>
                <a:ea typeface="Calibri"/>
              </a:rPr>
              <a:t>Mod4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9" name="Flowchart: Document 19"/>
          <p:cNvSpPr/>
          <p:nvPr/>
        </p:nvSpPr>
        <p:spPr>
          <a:xfrm>
            <a:off x="108000" y="3962520"/>
            <a:ext cx="696960" cy="350640"/>
          </a:xfrm>
          <a:prstGeom prst="flowChartDocument">
            <a:avLst/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libri"/>
                <a:ea typeface="Calibri"/>
              </a:rPr>
              <a:t>Mod5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0" name="Flowchart: Document 20"/>
          <p:cNvSpPr/>
          <p:nvPr/>
        </p:nvSpPr>
        <p:spPr>
          <a:xfrm>
            <a:off x="115920" y="5334120"/>
            <a:ext cx="696960" cy="350640"/>
          </a:xfrm>
          <a:prstGeom prst="flowChartDocument">
            <a:avLst/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libri"/>
                <a:ea typeface="Calibri"/>
              </a:rPr>
              <a:t>Mod3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1" name="Flowchart: Document 22"/>
          <p:cNvSpPr/>
          <p:nvPr/>
        </p:nvSpPr>
        <p:spPr>
          <a:xfrm>
            <a:off x="3124080" y="2697120"/>
            <a:ext cx="698760" cy="371520"/>
          </a:xfrm>
          <a:prstGeom prst="flowChartDocument">
            <a:avLst/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libri"/>
                <a:ea typeface="Calibri"/>
              </a:rPr>
              <a:t>Mod6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2" name="Flowchart: Document 23"/>
          <p:cNvSpPr/>
          <p:nvPr/>
        </p:nvSpPr>
        <p:spPr>
          <a:xfrm>
            <a:off x="3276720" y="3916440"/>
            <a:ext cx="698400" cy="350640"/>
          </a:xfrm>
          <a:prstGeom prst="flowChartDocument">
            <a:avLst/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libri"/>
                <a:ea typeface="Calibri"/>
              </a:rPr>
              <a:t>Mod7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3" name="Straight Connector 25"/>
          <p:cNvSpPr/>
          <p:nvPr/>
        </p:nvSpPr>
        <p:spPr>
          <a:xfrm>
            <a:off x="3276720" y="5524560"/>
            <a:ext cx="152280" cy="0"/>
          </a:xfrm>
          <a:prstGeom prst="line">
            <a:avLst/>
          </a:prstGeom>
          <a:ln w="2844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4" name="Straight Connector 29"/>
          <p:cNvSpPr/>
          <p:nvPr/>
        </p:nvSpPr>
        <p:spPr>
          <a:xfrm>
            <a:off x="6172200" y="5524560"/>
            <a:ext cx="223920" cy="0"/>
          </a:xfrm>
          <a:prstGeom prst="line">
            <a:avLst/>
          </a:prstGeom>
          <a:ln w="2844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5" name="Flowchart: Document 32"/>
          <p:cNvSpPr/>
          <p:nvPr/>
        </p:nvSpPr>
        <p:spPr>
          <a:xfrm>
            <a:off x="6161040" y="1704960"/>
            <a:ext cx="696960" cy="352440"/>
          </a:xfrm>
          <a:prstGeom prst="flowChartDocument">
            <a:avLst/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libri"/>
                <a:ea typeface="Calibri"/>
              </a:rPr>
              <a:t>Mod8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6" name="Flowchart: Document 33"/>
          <p:cNvSpPr/>
          <p:nvPr/>
        </p:nvSpPr>
        <p:spPr>
          <a:xfrm>
            <a:off x="6161040" y="2468520"/>
            <a:ext cx="696960" cy="351000"/>
          </a:xfrm>
          <a:prstGeom prst="flowChartDocument">
            <a:avLst/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libri"/>
                <a:ea typeface="Calibri"/>
              </a:rPr>
              <a:t>Mod9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7" name="TextBox 34"/>
          <p:cNvSpPr/>
          <p:nvPr/>
        </p:nvSpPr>
        <p:spPr>
          <a:xfrm>
            <a:off x="76320" y="6581880"/>
            <a:ext cx="859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f5494"/>
                </a:solidFill>
                <a:latin typeface="Verdana"/>
              </a:rPr>
              <a:t>Adapted from: UNDP-UNEP (2009) Figure 3.1, p. 15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8" name="Flowchart: Document 27"/>
          <p:cNvSpPr/>
          <p:nvPr/>
        </p:nvSpPr>
        <p:spPr>
          <a:xfrm>
            <a:off x="76320" y="1905120"/>
            <a:ext cx="696960" cy="350640"/>
          </a:xfrm>
          <a:prstGeom prst="flowChartDocument">
            <a:avLst/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libri"/>
                <a:ea typeface="Calibri"/>
              </a:rPr>
              <a:t>Mod2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9" name="Flowchart: Document 30"/>
          <p:cNvSpPr/>
          <p:nvPr/>
        </p:nvSpPr>
        <p:spPr>
          <a:xfrm>
            <a:off x="3341520" y="5562720"/>
            <a:ext cx="696960" cy="350640"/>
          </a:xfrm>
          <a:prstGeom prst="flowChartDocument">
            <a:avLst/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libri"/>
                <a:ea typeface="Calibri"/>
              </a:rPr>
              <a:t>Mod3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0" name="Flowchart: Document 31"/>
          <p:cNvSpPr/>
          <p:nvPr/>
        </p:nvSpPr>
        <p:spPr>
          <a:xfrm>
            <a:off x="6161040" y="5592600"/>
            <a:ext cx="696960" cy="351000"/>
          </a:xfrm>
          <a:prstGeom prst="flowChartDocument">
            <a:avLst/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libri"/>
                <a:ea typeface="Calibri"/>
              </a:rPr>
              <a:t>Mod3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1" name="Flowchart: Document 31"/>
          <p:cNvSpPr/>
          <p:nvPr/>
        </p:nvSpPr>
        <p:spPr>
          <a:xfrm>
            <a:off x="120600" y="2590920"/>
            <a:ext cx="696960" cy="350640"/>
          </a:xfrm>
          <a:prstGeom prst="flowChartDocument">
            <a:avLst/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libri"/>
                <a:ea typeface="Calibri"/>
              </a:rPr>
              <a:t>Mod3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2" name="Flowchart: Document 19"/>
          <p:cNvSpPr/>
          <p:nvPr/>
        </p:nvSpPr>
        <p:spPr>
          <a:xfrm>
            <a:off x="3200400" y="2133720"/>
            <a:ext cx="696960" cy="350640"/>
          </a:xfrm>
          <a:prstGeom prst="flowChartDocument">
            <a:avLst/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libri"/>
                <a:ea typeface="Calibri"/>
              </a:rPr>
              <a:t>Mod5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turneem</dc:creator>
  <dc:description/>
  <dc:language>en-US</dc:language>
  <cp:lastModifiedBy>Juan Palerm</cp:lastModifiedBy>
  <dcterms:modified xsi:type="dcterms:W3CDTF">2014-02-10T17:46:19Z</dcterms:modified>
  <cp:revision>120</cp:revision>
  <dc:subject/>
  <dc:title>Slide 1</dc:title>
</cp:coreProperties>
</file>