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0647-60AB-4B23-8B7C-EA0F43A68A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D138-8C12-4499-9A24-A1E8CC47FA0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F24D-F822-4B14-AA1E-D67E719E0893}" type="datetime">
              <a:rPr b="0" lang="en-US" sz="1200" spc="-1" strike="noStrike">
                <a:solidFill>
                  <a:srgbClr val="ffffff"/>
                </a:solidFill>
                <a:latin typeface="Verdana"/>
              </a:rPr>
              <a:t>07/30/26</a:t>
            </a:fld>
            <a:r>
              <a:rPr b="0" lang="en-US" sz="1200" spc="-1" strike="noStrike">
                <a:solidFill>
                  <a:srgbClr val="ffffff"/>
                </a:solidFill>
                <a:latin typeface="Verdana"/>
              </a:rPr>
              <a:t> </a:t>
            </a:r>
            <a:fld id="{0BA7F9D4-0E08-4C8C-9DDB-3963B883AC60}"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8A00-23BB-40A5-BF46-6E28C1107A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C9AA-C81D-4B5D-84C4-A08AC9F5BCA6}" type="datetime">
              <a:rPr b="0" lang="en-US" sz="1200" spc="-1" strike="noStrike">
                <a:solidFill>
                  <a:srgbClr val="ffffff"/>
                </a:solidFill>
                <a:latin typeface="Verdana"/>
              </a:rPr>
              <a:t>07/30/26</a:t>
            </a:fld>
            <a:r>
              <a:rPr b="0" lang="en-US" sz="1200" spc="-1" strike="noStrike">
                <a:solidFill>
                  <a:srgbClr val="ffffff"/>
                </a:solidFill>
                <a:latin typeface="Verdana"/>
              </a:rPr>
              <a:t> </a:t>
            </a:r>
            <a:fld id="{14693D30-A1AB-4419-8798-E3F65A34BD2F}"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095A-003B-47C5-9D86-98105EAC48C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D827-3E94-45FA-8532-CA706EF1536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5C09-5079-4CD9-87C9-6BF1EC796F1E}" type="datetime">
              <a:rPr b="0" lang="en-US" sz="1200" spc="-1" strike="noStrike">
                <a:solidFill>
                  <a:srgbClr val="ffffff"/>
                </a:solidFill>
                <a:latin typeface="Verdana"/>
              </a:rPr>
              <a:t>07/30/26</a:t>
            </a:fld>
            <a:r>
              <a:rPr b="0" lang="en-US" sz="1200" spc="-1" strike="noStrike">
                <a:solidFill>
                  <a:srgbClr val="ffffff"/>
                </a:solidFill>
                <a:latin typeface="Verdana"/>
              </a:rPr>
              <a:t> </a:t>
            </a:r>
            <a:fld id="{C06C4D58-7C2C-4FAB-83F2-5810DF061F6D}"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235D-15F2-45A6-A253-5A328E5D25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4AF0-41DD-41FF-BA67-AFC80836C384}" type="datetime">
              <a:rPr b="0" lang="en-US" sz="1200" spc="-1" strike="noStrike">
                <a:solidFill>
                  <a:srgbClr val="ffffff"/>
                </a:solidFill>
                <a:latin typeface="Verdana"/>
              </a:rPr>
              <a:t>07/30/26</a:t>
            </a:fld>
            <a:r>
              <a:rPr b="0" lang="en-US" sz="1200" spc="-1" strike="noStrike">
                <a:solidFill>
                  <a:srgbClr val="ffffff"/>
                </a:solidFill>
                <a:latin typeface="Verdana"/>
              </a:rPr>
              <a:t> </a:t>
            </a:r>
            <a:fld id="{8679D337-EADC-4B8E-89E5-F83099505B38}"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FD32-7F21-4991-8111-E900DA1A6B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6462-15D3-4E07-A80D-202004C1DD8B}" type="datetime">
              <a:rPr b="0" lang="en-US" sz="1200" spc="-1" strike="noStrike">
                <a:solidFill>
                  <a:srgbClr val="ffffff"/>
                </a:solidFill>
                <a:latin typeface="Verdana"/>
              </a:rPr>
              <a:t>07/30/26</a:t>
            </a:fld>
            <a:r>
              <a:rPr b="0" lang="en-US" sz="1200" spc="-1" strike="noStrike">
                <a:solidFill>
                  <a:srgbClr val="ffffff"/>
                </a:solidFill>
                <a:latin typeface="Verdana"/>
              </a:rPr>
              <a:t> </a:t>
            </a:r>
            <a:fld id="{D3CCEB5A-43C4-468A-AC23-6F9AEAD54D5C}"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BF74-E4D1-4490-832C-52BC128E792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122C-0863-4F0B-9AEC-FD9D17B69592}" type="datetime">
              <a:rPr b="0" lang="en-US" sz="1200" spc="-1" strike="noStrike">
                <a:solidFill>
                  <a:srgbClr val="ffffff"/>
                </a:solidFill>
                <a:latin typeface="Verdana"/>
              </a:rPr>
              <a:t>07/30/26</a:t>
            </a:fld>
            <a:r>
              <a:rPr b="0" lang="en-US" sz="1200" spc="-1" strike="noStrike">
                <a:solidFill>
                  <a:srgbClr val="ffffff"/>
                </a:solidFill>
                <a:latin typeface="Verdana"/>
              </a:rPr>
              <a:t> </a:t>
            </a:r>
            <a:fld id="{BFF844D8-D26E-4912-86B4-DA2A516D0C7A}"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7BAF-B96F-4F31-A82F-8EE1808D8A4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FE2F-B567-464D-87EF-BE2679492FB8}" type="datetime">
              <a:rPr b="0" lang="en-US" sz="1200" spc="-1" strike="noStrike">
                <a:solidFill>
                  <a:srgbClr val="ffffff"/>
                </a:solidFill>
                <a:latin typeface="Verdana"/>
              </a:rPr>
              <a:t>07/30/26</a:t>
            </a:fld>
            <a:r>
              <a:rPr b="0" lang="en-US" sz="1200" spc="-1" strike="noStrike">
                <a:solidFill>
                  <a:srgbClr val="ffffff"/>
                </a:solidFill>
                <a:latin typeface="Verdana"/>
              </a:rPr>
              <a:t> </a:t>
            </a:r>
            <a:fld id="{113FBAE2-D5D3-4C1B-BC33-EDF4D8019C0B}"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3B49-89AB-4C21-BA64-99863D6AC6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50E3-2CAE-46D9-8C24-FDC41D57AB40}" type="datetime">
              <a:rPr b="0" lang="en-US" sz="1200" spc="-1" strike="noStrike">
                <a:solidFill>
                  <a:srgbClr val="ffffff"/>
                </a:solidFill>
                <a:latin typeface="Verdana"/>
              </a:rPr>
              <a:t>07/30/26</a:t>
            </a:fld>
            <a:r>
              <a:rPr b="0" lang="en-US" sz="1200" spc="-1" strike="noStrike">
                <a:solidFill>
                  <a:srgbClr val="ffffff"/>
                </a:solidFill>
                <a:latin typeface="Verdana"/>
              </a:rPr>
              <a:t> </a:t>
            </a:r>
            <a:fld id="{C764E7A3-4D7B-47E2-A831-5CC90C5E29C9}"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3A39-E043-4597-892F-11BD0C8DBF8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52D7-DF8B-48B4-ACFE-1618822F181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2826-83B6-413C-AE75-C53E287D77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5D1B-1D43-4EAE-B416-91F5B6A57B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ECAB-70DB-4396-AF4F-38A9B987975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EE75-8D96-4C0C-B604-9EB4A7CD11C7}" type="datetime">
              <a:rPr b="0" lang="en-US" sz="1200" spc="-1" strike="noStrike">
                <a:solidFill>
                  <a:srgbClr val="ffffff"/>
                </a:solidFill>
                <a:latin typeface="Verdana"/>
              </a:rPr>
              <a:t>07/30/26</a:t>
            </a:fld>
            <a:r>
              <a:rPr b="0" lang="en-US" sz="1200" spc="-1" strike="noStrike">
                <a:solidFill>
                  <a:srgbClr val="ffffff"/>
                </a:solidFill>
                <a:latin typeface="Verdana"/>
              </a:rPr>
              <a:t> </a:t>
            </a:r>
            <a:fld id="{10C4C388-82C6-48F8-8FE2-6617465CB7F7}"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B588-B600-457C-83C1-E0B2DF4DA0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AAA0-F469-4223-A07E-D03553D1EB35}" type="datetime">
              <a:rPr b="0" lang="en-US" sz="1200" spc="-1" strike="noStrike">
                <a:solidFill>
                  <a:srgbClr val="ffffff"/>
                </a:solidFill>
                <a:latin typeface="Verdana"/>
              </a:rPr>
              <a:t>07/30/26</a:t>
            </a:fld>
            <a:r>
              <a:rPr b="0" lang="en-US" sz="1200" spc="-1" strike="noStrike">
                <a:solidFill>
                  <a:srgbClr val="ffffff"/>
                </a:solidFill>
                <a:latin typeface="Verdana"/>
              </a:rPr>
              <a:t> </a:t>
            </a:r>
            <a:fld id="{F352954B-ECFE-4A7E-A0BA-70E2950E70B8}"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2241-B43F-4E6E-A0BC-FE56E62D03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6E2D-DD4E-4402-9606-FD517ACE165C}" type="datetime">
              <a:rPr b="0" lang="en-US" sz="1200" spc="-1" strike="noStrike">
                <a:solidFill>
                  <a:srgbClr val="ffffff"/>
                </a:solidFill>
                <a:latin typeface="Verdana"/>
              </a:rPr>
              <a:t>07/30/26</a:t>
            </a:fld>
            <a:r>
              <a:rPr b="0" lang="en-US" sz="1200" spc="-1" strike="noStrike">
                <a:solidFill>
                  <a:srgbClr val="ffffff"/>
                </a:solidFill>
                <a:latin typeface="Verdana"/>
              </a:rPr>
              <a:t> </a:t>
            </a:r>
            <a:fld id="{F2D4881B-2E65-4033-9E4E-8A5DE9F30B78}"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8B13-6D34-453B-943F-98453F50F7C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A1F31-0725-4D43-AC54-8DB49706B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0D06-112A-44D4-A2D3-247F4DC4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616E1-47CA-4843-B5D1-BD0B03AA5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A6F89-B79E-4935-837A-E09F1C277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0AAA5-CF31-4A21-A058-781197800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68D65-1DC2-4172-8EE8-92299A5AB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D757D-40A1-4897-BE82-86B531AB3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A7C31-5BCA-421F-87F8-5E5729C29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CD9EF-DC45-4394-B24D-FF4F551ED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49D98-A3D5-480E-9BA2-4268FC424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FCCA8-ADCC-434D-B5EC-E3B2EB78D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3DE0-8EFE-4348-91DC-F4E07B14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98991-828F-4347-BFD2-E6104620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48B2A-DD91-4A73-A4C8-AB3A3BEDD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4121B-BEF6-4DE3-B757-648881E0E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84FE7-DF84-4CA7-AEED-87C566D73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0C60E-B011-4A77-A199-683A9B571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A2AEE-0FEA-4A88-ACD8-62954B0D2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F5FF-8E95-453E-AE4F-4CBADD75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43F94-2AD7-43D4-96A4-336D9697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7582-4DF5-40CB-8EAC-4FEFEC15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3387-1A06-43DF-B160-A48353AC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D871-1A5D-4402-BE51-926286CF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55EA-B4C8-48D1-88EE-5C4FF9A7E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2760-BE71-45EB-8938-7D55C17FBFA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23EB-A682-49B7-B786-0996737EBD9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7EDE-F38F-4A0B-9BD3-1F4879F46201}"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