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9F29-E4B1-42C9-996B-EBF09F1BC97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1B87-CF07-4875-AE71-119A1A6E96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F94F-BFA5-4586-ADF9-4ADF117B9038}" type="datetime">
              <a:rPr b="0" lang="en-US" sz="1200" spc="-1" strike="noStrike">
                <a:solidFill>
                  <a:srgbClr val="ffffff"/>
                </a:solidFill>
                <a:latin typeface="Verdana"/>
              </a:rPr>
              <a:t>07/29/26</a:t>
            </a:fld>
            <a:r>
              <a:rPr b="0" lang="en-US" sz="1200" spc="-1" strike="noStrike">
                <a:solidFill>
                  <a:srgbClr val="ffffff"/>
                </a:solidFill>
                <a:latin typeface="Verdana"/>
              </a:rPr>
              <a:t> </a:t>
            </a:r>
            <a:fld id="{E70762E7-27C3-434E-98D1-80DBA2EB6E3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8606-DCD1-4B9A-AC00-63D7136E71F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B570-203C-46F7-A28E-56F84B33FBD7}" type="datetime">
              <a:rPr b="0" lang="en-US" sz="1200" spc="-1" strike="noStrike">
                <a:solidFill>
                  <a:srgbClr val="ffffff"/>
                </a:solidFill>
                <a:latin typeface="Verdana"/>
              </a:rPr>
              <a:t>07/29/26</a:t>
            </a:fld>
            <a:r>
              <a:rPr b="0" lang="en-US" sz="1200" spc="-1" strike="noStrike">
                <a:solidFill>
                  <a:srgbClr val="ffffff"/>
                </a:solidFill>
                <a:latin typeface="Verdana"/>
              </a:rPr>
              <a:t> </a:t>
            </a:r>
            <a:fld id="{9C167CBB-B866-4F1D-81AE-8019AD68C4E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FDE9-DA0A-4CD6-8B29-B23A0511E0B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563B-D9A2-47ED-B5D1-8FA4A0FA07C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E421-73D9-49CD-A847-405EC49B1432}" type="datetime">
              <a:rPr b="0" lang="en-US" sz="1200" spc="-1" strike="noStrike">
                <a:solidFill>
                  <a:srgbClr val="ffffff"/>
                </a:solidFill>
                <a:latin typeface="Verdana"/>
              </a:rPr>
              <a:t>07/29/26</a:t>
            </a:fld>
            <a:r>
              <a:rPr b="0" lang="en-US" sz="1200" spc="-1" strike="noStrike">
                <a:solidFill>
                  <a:srgbClr val="ffffff"/>
                </a:solidFill>
                <a:latin typeface="Verdana"/>
              </a:rPr>
              <a:t> </a:t>
            </a:r>
            <a:fld id="{998713A8-B26A-4ABE-ACF1-7135D5F9047B}"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F067-A165-419B-BD30-5CEB19B3E3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B748-1321-43A2-A099-4F5571FA7267}" type="datetime">
              <a:rPr b="0" lang="en-US" sz="1200" spc="-1" strike="noStrike">
                <a:solidFill>
                  <a:srgbClr val="ffffff"/>
                </a:solidFill>
                <a:latin typeface="Verdana"/>
              </a:rPr>
              <a:t>07/29/26</a:t>
            </a:fld>
            <a:r>
              <a:rPr b="0" lang="en-US" sz="1200" spc="-1" strike="noStrike">
                <a:solidFill>
                  <a:srgbClr val="ffffff"/>
                </a:solidFill>
                <a:latin typeface="Verdana"/>
              </a:rPr>
              <a:t> </a:t>
            </a:r>
            <a:fld id="{783029E8-1309-41CB-826C-DCE30034703B}"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7388-7F07-48BE-B0AB-F685A54C08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5A16-C884-4688-8E46-71084016EC0D}" type="datetime">
              <a:rPr b="0" lang="en-US" sz="1200" spc="-1" strike="noStrike">
                <a:solidFill>
                  <a:srgbClr val="ffffff"/>
                </a:solidFill>
                <a:latin typeface="Verdana"/>
              </a:rPr>
              <a:t>07/29/26</a:t>
            </a:fld>
            <a:r>
              <a:rPr b="0" lang="en-US" sz="1200" spc="-1" strike="noStrike">
                <a:solidFill>
                  <a:srgbClr val="ffffff"/>
                </a:solidFill>
                <a:latin typeface="Verdana"/>
              </a:rPr>
              <a:t> </a:t>
            </a:r>
            <a:fld id="{7C86FF80-2488-4F75-9727-4DF9596C73E8}"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E0F0-B812-483C-ABEF-190BD55C80F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8882-3819-4DF5-8938-12710F8B2C7B}" type="datetime">
              <a:rPr b="0" lang="en-US" sz="1200" spc="-1" strike="noStrike">
                <a:solidFill>
                  <a:srgbClr val="ffffff"/>
                </a:solidFill>
                <a:latin typeface="Verdana"/>
              </a:rPr>
              <a:t>07/29/26</a:t>
            </a:fld>
            <a:r>
              <a:rPr b="0" lang="en-US" sz="1200" spc="-1" strike="noStrike">
                <a:solidFill>
                  <a:srgbClr val="ffffff"/>
                </a:solidFill>
                <a:latin typeface="Verdana"/>
              </a:rPr>
              <a:t> </a:t>
            </a:r>
            <a:fld id="{17006BC1-685F-455E-9DEF-AE7FBD5455F9}"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D66B-D199-47A1-BC7A-CB793B129F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6C94-F7C7-4C02-B6B0-97AC32025D1A}" type="datetime">
              <a:rPr b="0" lang="en-US" sz="1200" spc="-1" strike="noStrike">
                <a:solidFill>
                  <a:srgbClr val="ffffff"/>
                </a:solidFill>
                <a:latin typeface="Verdana"/>
              </a:rPr>
              <a:t>07/29/26</a:t>
            </a:fld>
            <a:r>
              <a:rPr b="0" lang="en-US" sz="1200" spc="-1" strike="noStrike">
                <a:solidFill>
                  <a:srgbClr val="ffffff"/>
                </a:solidFill>
                <a:latin typeface="Verdana"/>
              </a:rPr>
              <a:t> </a:t>
            </a:r>
            <a:fld id="{3DA868AE-F6DB-410E-837A-A32CABA5FD9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0AF6-6B35-48CB-B7DB-B2C4631E47E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6733-4EB7-44D8-9359-5528DE320473}" type="datetime">
              <a:rPr b="0" lang="en-US" sz="1200" spc="-1" strike="noStrike">
                <a:solidFill>
                  <a:srgbClr val="ffffff"/>
                </a:solidFill>
                <a:latin typeface="Verdana"/>
              </a:rPr>
              <a:t>07/29/26</a:t>
            </a:fld>
            <a:r>
              <a:rPr b="0" lang="en-US" sz="1200" spc="-1" strike="noStrike">
                <a:solidFill>
                  <a:srgbClr val="ffffff"/>
                </a:solidFill>
                <a:latin typeface="Verdana"/>
              </a:rPr>
              <a:t> </a:t>
            </a:r>
            <a:fld id="{3940184C-1DC0-44D7-BC57-E31AB267328B}"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1E26-FE24-4F19-8D49-BE3F8C6B13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8818-08F6-4421-ABCF-64CE469295B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2BDF-E876-44C6-BDBA-1188931EF66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2CE3-875D-4C25-AC49-739D1D6144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2F1D-E0CF-4592-91C7-3D55B92C73E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ED11-F602-4FD3-936D-6E2C2A11A2EB}" type="datetime">
              <a:rPr b="0" lang="en-US" sz="1200" spc="-1" strike="noStrike">
                <a:solidFill>
                  <a:srgbClr val="ffffff"/>
                </a:solidFill>
                <a:latin typeface="Verdana"/>
              </a:rPr>
              <a:t>07/29/26</a:t>
            </a:fld>
            <a:r>
              <a:rPr b="0" lang="en-US" sz="1200" spc="-1" strike="noStrike">
                <a:solidFill>
                  <a:srgbClr val="ffffff"/>
                </a:solidFill>
                <a:latin typeface="Verdana"/>
              </a:rPr>
              <a:t> </a:t>
            </a:r>
            <a:fld id="{105101BD-6DB2-4CBA-B033-88783658CB61}"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D5A4-22A5-4B42-A2A7-A4BFF409D82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BA10-69FD-4617-8D12-B458D008CB26}" type="datetime">
              <a:rPr b="0" lang="en-US" sz="1200" spc="-1" strike="noStrike">
                <a:solidFill>
                  <a:srgbClr val="ffffff"/>
                </a:solidFill>
                <a:latin typeface="Verdana"/>
              </a:rPr>
              <a:t>07/29/26</a:t>
            </a:fld>
            <a:r>
              <a:rPr b="0" lang="en-US" sz="1200" spc="-1" strike="noStrike">
                <a:solidFill>
                  <a:srgbClr val="ffffff"/>
                </a:solidFill>
                <a:latin typeface="Verdana"/>
              </a:rPr>
              <a:t> </a:t>
            </a:r>
            <a:fld id="{21DC9F15-6542-4801-BA9A-A22FFCBD45D1}"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1D85-563A-4447-A910-6F91BEC0140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6CEE-00DC-4A69-B817-1F645A059344}" type="datetime">
              <a:rPr b="0" lang="en-US" sz="1200" spc="-1" strike="noStrike">
                <a:solidFill>
                  <a:srgbClr val="ffffff"/>
                </a:solidFill>
                <a:latin typeface="Verdana"/>
              </a:rPr>
              <a:t>07/29/26</a:t>
            </a:fld>
            <a:r>
              <a:rPr b="0" lang="en-US" sz="1200" spc="-1" strike="noStrike">
                <a:solidFill>
                  <a:srgbClr val="ffffff"/>
                </a:solidFill>
                <a:latin typeface="Verdana"/>
              </a:rPr>
              <a:t> </a:t>
            </a:r>
            <a:fld id="{6D7C4190-9517-4CCA-B357-04D2F3832DF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5449-5C5E-45AE-9ED0-07AFC48279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52E83-E584-45F3-915D-A8488E0E2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C203-A0E8-46ED-B25F-CE4A64838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9D410-6CF9-4AD1-8967-6170AC86E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DB895-5E89-4D85-B8EA-8FDAB539B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EE1B2-89F2-44DA-9EB1-BB466DA3F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CDFF4-393E-4B82-99B2-4D798D26A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1A3E-CA00-43B0-8380-B65603625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91D84-EDE7-45C6-B991-1530F2C24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361E8-791A-4196-B52A-8848C48A5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E7CE6-E580-4C23-8E6A-30A3874E1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81E6F-829D-43B7-B3FD-2290E2A7C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FEA2-2EA1-454C-9B19-2E696B28E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92823-2025-46A0-A01C-F74CC56B6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150A7-6F3C-4C50-8A0A-CA105A29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C278F-2321-44A3-B56B-68BEDA62E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85525-ED0A-43BC-8B33-6ECA29165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FD64E-C3D5-473D-86BA-F84FDB804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3670-85DB-436C-90D5-72F9B3A8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2371-AAE9-40D6-95A1-3D2A83625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9E1D-3C7D-41B2-A1C4-B2A862A4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6F2E-F610-492E-87CC-3A44A6956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4950-289E-4A79-81DC-FA84800D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5B8B-F0EC-4F46-A84B-BC30CF7E4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3582-84EF-4C0E-9CD0-E80EB1AEB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065E-DA1A-4E38-AE0D-A3E7659E1D7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56AC-4A06-4643-B260-6DC9AE1CD61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58DB-3AFC-40AA-A6B0-8B65DC746966}"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