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4C7A1-C4C7-4BD3-A73D-BA93B6C15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F0E38-A631-4FBB-81F8-070B7D2B4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23A7E-B52D-4319-9811-64B9E1B48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43ECC-3F02-4220-89D1-1E6324F73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AC8427A-279A-467D-A7E5-12A8FC344A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B58761A-B2D3-4630-9404-677C8B99D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AE587B1-BFC6-4F97-9EB6-F950980DE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856B04C-0D74-481C-9560-8DB48078B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E997E29-945D-4886-9AD1-77797E0FA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4475CC0-61FE-4C80-8105-0C1165BB94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4A94168-9F73-4CE7-8AD9-524F496C4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54696-95BA-44B6-B69B-AE1E070F5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1387E41-1AF0-4C8E-ADFF-C31EA4810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622B570-50A2-4F2A-AE92-81CABA9B1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6D2AA73-E059-4BCA-8DD1-250FD3278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90AF19B-FD72-4C36-9CEE-4559070510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9577920-F629-4CC7-B348-4ABF92716A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57065-6B7D-4F92-8691-D413C3BCB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48C7E-3EAB-4B3F-B487-D55ABCD61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BC520-D9CC-4FEF-A1B2-7D5BC671D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51F80-DEA1-4DD8-80CC-0E3B1A54F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6DD00-22F1-42C1-B5E3-42AC602D0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2E055-1AF7-4574-8A26-5D121991B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9F089-3FD7-4AE4-A2DB-2D0D8C7EF9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39968-EB16-45AD-95C8-CA2752068AB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A82F0-3B93-44EE-9953-789FCDAD659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opportunities and challenges of urban planning in practice – The Case of Maseru</a:t>
            </a:r>
            <a:endParaRPr b="0" lang="en-US" sz="36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eru City Cou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planning is by nature statutory and although recent international best practices show that planning has significantly shifted towards collaborative and participatory approaches, success has in the past depended on appropriate and effectively implemented legislatio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ementation of planning laws in Lesotho has generally not been very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llenges of urban planning in Maseru</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 Maseru that the country’s most significant urban challenges are seen, including: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truction of much of the city’s physical infrastructure due to 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tenure issue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p increase in land prices and rent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evalence of HIV/AID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ate of unemploy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ccessible infrastructural services such as water, electricity, road network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gmented policies all aimed at addressing urban manage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evels of pover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adic urban sprawl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planning not implemented to the latter (development control aspect on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Key actors in urban planning in Maseru</a:t>
            </a:r>
            <a:endParaRPr b="0" lang="en-US" sz="36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Local Government &amp; Chieftainshi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Lands, Survey and Physical Plann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eru Municipal Counci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otho Housing and Land Development Corporatio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us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Public Works and Transpor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Natural Resour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CO</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ence of integrated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Uncoordinated and often conflicting plans (case of Ha Mab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a:t>
            </a:r>
            <a:endParaRPr b="0" lang="en-US" sz="36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is understood to refer to a process by which an increasing proportion of a country’s population ends up living in towns and cit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 differences exist in the way in which different countries divide their populations into urban and ru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criteria have been used in various countries, including population size, dominant economic activities/functions and legal decla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 in Lesotho</a:t>
            </a:r>
            <a:endParaRPr b="0" lang="en-US" sz="36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declaration has been used to define urban areas, with the inherent drawback that often such definition is not based on any functional or statistical criteri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stance, Lesotho had 11 proclaimed urban centres up to June 1980, after which an additional 5 rural settlements with a combined population of over 30 000 people were proclaimed as urban, thereby bringing the total number of urban centres in Lesotho to 1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6 the 5 urban centres that had been added in 1980 were again re-designated as rur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6, yet another hitherto rural settlement of Semonkong had been gazetted as urban, thereby increasing the number of urban areas to 1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hifts make it extremely difficult to compute the level of Lesotho’s urbanization with any degree of certain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Urbanisation …</a:t>
            </a:r>
            <a:endParaRPr b="0" lang="en-US" sz="36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evel of urbanization in Lesotho stood at 17%, a figure which was somewhat low compared to some of the Southern African countr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ore recent survey (CWIQ Survey 2002)put the level of urbanization in Lesotho at 2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eru City continues to increase its share of Lesotho’s urban population since 197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apid expansion of the industrial and commercial base in recent years, and the poor performance of Lesotho’s agricultural sector, has given an impetus to the migration of large numbers of the rural population to the 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pulation Indicators</a:t>
            </a:r>
            <a:endParaRPr b="0" lang="en-US" sz="2800" spc="-1" strike="noStrike">
              <a:solidFill>
                <a:srgbClr val="e3e3ff"/>
              </a:solidFill>
              <a:latin typeface="Arial"/>
            </a:endParaRPr>
          </a:p>
        </p:txBody>
      </p:sp>
      <p:graphicFrame>
        <p:nvGraphicFramePr>
          <p:cNvPr id="131" name=""/>
          <p:cNvGraphicFramePr/>
          <p:nvPr/>
        </p:nvGraphicFramePr>
        <p:xfrm>
          <a:off x="0" y="1600200"/>
          <a:ext cx="9144000" cy="4691160"/>
        </p:xfrm>
        <a:graphic>
          <a:graphicData uri="http://schemas.openxmlformats.org/drawingml/2006/table">
            <a:tbl>
              <a:tblPr/>
              <a:tblGrid>
                <a:gridCol w="1690560"/>
                <a:gridCol w="1863720"/>
                <a:gridCol w="1862280"/>
                <a:gridCol w="1863720"/>
                <a:gridCol w="1863720"/>
              </a:tblGrid>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16,8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0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41,96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72,72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7,43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0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2,4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44,541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rban as % of total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5,031</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8,0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7,8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7,8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total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1</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urban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1.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growth rate</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 Projections - 2030</a:t>
            </a:r>
            <a:endParaRPr b="0" lang="en-US" sz="4400" spc="-1" strike="noStrike">
              <a:solidFill>
                <a:srgbClr val="e3e3ff"/>
              </a:solidFill>
              <a:latin typeface="Arial"/>
            </a:endParaRPr>
          </a:p>
        </p:txBody>
      </p:sp>
      <p:graphicFrame>
        <p:nvGraphicFramePr>
          <p:cNvPr id="133" name=""/>
          <p:cNvGraphicFramePr/>
          <p:nvPr/>
        </p:nvGraphicFramePr>
        <p:xfrm>
          <a:off x="380880" y="1828800"/>
          <a:ext cx="8077320" cy="4343400"/>
        </p:xfrm>
        <a:graphic>
          <a:graphicData uri="http://schemas.openxmlformats.org/drawingml/2006/table">
            <a:tbl>
              <a:tblPr/>
              <a:tblGrid>
                <a:gridCol w="2694240"/>
                <a:gridCol w="2692440"/>
                <a:gridCol w="2690640"/>
              </a:tblGrid>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eru 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spraw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7 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4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8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ex. MU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ite Town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Status of Maseru</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a general recognition that Maseru City has today become an important settlement with regional, national and international func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ity stands out as an undisputable primate settlement in Lesotho, and as an administrative, industrial and commercial capital of the count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growth, both in terms of population and physical development, has far outpaced the provision of services, a problem that poses serious challenges for urban plann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Social Aspects</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Maseru City has expanded amongst traditional villages and the City itself has largely grown through rural-urban migrations, it has retained a very strong rural outlook in social structure where modern and customary laws are applied side by side and where the poor and the rich are closely integrated;</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 few traditional villages have remained clearly distinct and largely characterized by dilapidated housing and concentrations of poverty;</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ilarly, the central business district and its surrounds (old Maseru reserve) have not been fully integrated with peri-urban areas in terms of service provision, with the latter areas remaining largely underser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Issu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at spatial planning in Lesotho started soon after independence and continued sporadically until 1985, ending with the National Settlement Policy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local level, spatial planning appears to predate independe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plans were prepared for Maseru again ending with the Maseru Development Plan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UPTS now in place – yet to be accepted as a working document/planning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09:06:23Z</dcterms:created>
  <dc:creator>Mantai Phaila</dc:creator>
  <dc:description/>
  <dc:language>en-US</dc:language>
  <cp:lastModifiedBy>Mantai Phaila</cp:lastModifiedBy>
  <dcterms:modified xsi:type="dcterms:W3CDTF">2011-04-05T06:36:29Z</dcterms:modified>
  <cp:revision>5</cp:revision>
  <dc:subject/>
  <dc:title>Urbanisation?</dc:title>
</cp:coreProperties>
</file>