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7960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33120" y="738360"/>
            <a:ext cx="4930920" cy="369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EA33D-F9C8-417D-BDED-33399DCD331B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C9DF6-CC5C-4544-B091-DFE500EFA8CE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A6118-2A4C-417C-8850-3D7D96435B1B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Despite the lack of a coherent policy framework there are widespread actions: support to home grown reforms of SP systems, through Food Security program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81DE7-0D18-4B41-9578-5AEC53FE0907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ABEED-B446-412D-BA6A-38C4D2C89297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P: main interest around mig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Empl+SP only from 2010 and in 2nd 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Dakar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C44CA-0250-4412-B315-06D1735E7771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A0C51-DBB6-476B-B29D-1A1000CF496F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B0F5F-2BA5-43AF-9BDD-308F03C90F36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AD542-A551-4D19-9712-0B3B3B822174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EU has a long history of SP within Europe – there is a European Social Model even if there are major differences among national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DEV POL: EU Consensus – empl+social cohesion as one of 9 priority areas of EU 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009 OECD policy statement on the role of employment and social protection in making economic growth more pro-po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9EDA-EC64-4817-AB32-92A1467A345B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€</a:t>
            </a: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bn Food Facility (2008 – social transfe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€</a:t>
            </a: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bn MDG initiative (20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90F2A-8BD9-480C-B077-463CE81D3613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MDG Action Plan: support to wide-range coverage SP systems which are key element of social cohesion and st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BE1F8-DEE2-485D-8A4D-C57D6EF37CF4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2ACF8-8E89-48ED-9BE8-72ECDDE4FC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AF7D4-033A-412E-9FB4-A4FDDD1FB7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7B29C-7AE3-40DE-A312-D845878455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343E-D205-4A8E-A085-C7AEAC51E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7035-19CF-40CA-83E1-97691F65A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3B78-8CC6-4684-BAA4-AFD649D63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2F23-460B-4EBB-8528-6C7CAEB47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0105F-42A1-4E05-B182-8A84E3402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14D0B-6147-43B8-8521-903503041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72D8E-77A2-4EF2-8A90-66614F7B9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2F63B-FABE-40A3-8353-A0C94935D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B0226-BE8B-4E0C-992F-4746F2B68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F6534-DF5A-4FBD-80C2-7B07C6EA7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A8D00-4C6D-42BD-B728-ACA26E4D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8B61-EDFA-40F4-9141-F924A102F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4EBC6-E81B-4304-99C3-722D0A0C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32744-D1DF-44C4-9808-E9659935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CF04D-9630-4D34-B0C9-ACD770E47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63FCC-2057-44B9-BF00-CEA01E15A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EE4EE-5CC3-4321-803B-5AB767DCE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49DD-7811-4F12-B449-45FDF9FF8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1203-1A76-4AB5-803E-96A635A7F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0AFC-AD47-4B4C-8C5A-8BA880CEA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1D01-70E0-46E6-8E4F-5C827058F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96D2-D9B2-49D0-BA14-58ADFCD8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BE0F-EA3F-4BFC-AFC5-21A79A53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B58C-56FA-45BC-A9C6-72434E12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2CC5A-61C4-487F-B895-56BBA5A70CD6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CBF00-5830-46DB-8E05-26F3C77549D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19" descr="banner_en"/>
          <p:cNvPicPr/>
          <p:nvPr/>
        </p:nvPicPr>
        <p:blipFill>
          <a:blip r:embed="rId2"/>
          <a:stretch/>
        </p:blipFill>
        <p:spPr>
          <a:xfrm>
            <a:off x="3048120" y="557856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Object 24"/>
          <p:cNvGraphicFramePr/>
          <p:nvPr/>
        </p:nvGraphicFramePr>
        <p:xfrm>
          <a:off x="662040" y="4562640"/>
          <a:ext cx="2157480" cy="16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4562640"/>
                    <a:ext cx="215748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banner_en"/>
          <p:cNvPicPr/>
          <p:nvPr/>
        </p:nvPicPr>
        <p:blipFill>
          <a:blip r:embed="rId2"/>
          <a:stretch/>
        </p:blipFill>
        <p:spPr>
          <a:xfrm>
            <a:off x="685800" y="45720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8"/>
          <p:cNvGraphicFramePr/>
          <p:nvPr/>
        </p:nvGraphicFramePr>
        <p:xfrm>
          <a:off x="662040" y="3733920"/>
          <a:ext cx="2919240" cy="217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3733920"/>
                    <a:ext cx="29192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2026B-D704-4FF2-9BB3-E0DEA9C20806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CFC12-3AD8-45C2-AB96-BBB1C92BBC9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ec.europa.eu/europeaid/what/social-protection/index_en.htm" TargetMode="External"/><Relationship Id="rId2" Type="http://schemas.openxmlformats.org/officeDocument/2006/relationships/hyperlink" Target="http://www.africa-eu-partnership.org/" TargetMode="External"/><Relationship Id="rId3" Type="http://schemas.openxmlformats.org/officeDocument/2006/relationships/hyperlink" Target="http://www.africa-eu-partnership.org/" TargetMode="Externa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1047C-3183-4725-A4D9-8295F571C6D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EU-AU Workshop on </a:t>
            </a: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Social protection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- in the 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informal economy</a:t>
            </a:r>
            <a:br>
              <a:rPr sz="3200"/>
            </a:br>
            <a:br>
              <a:rPr sz="3200"/>
            </a:b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Nairobi 10-11 March 2011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267080" y="441972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Ogendo/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Tamás Várnai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uropean Commission DG EuropeAid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B34E7-D493-4B15-A9C6-582B5810CB8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EC is present in all regions – levels and means of cooperation / a demand driven and differentiated approach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Latin America: 40% of cooperation to social sector/social protecti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67182-DF3F-422E-8551-C1ADC321E99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sia: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increasingly political dialogue but important bilateral cooperation support to social protection reforms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Sector budget support to Kyrgyzstan, Tajikistan. 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fghanistan, China,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9312E-8A15-47A3-8355-850DD3BF75E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in Africa (country programmes)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Ethiopia: Productive Safety Net Programme (WB Trust Fund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Rwanda: comprehensive social protection programme through sector budget support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Lesotho, Zimbabwe: support to OVC (cash transfers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AFE73-7319-406F-AF56-7A0EF1F71DF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</a:t>
            </a: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frica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437920" y="1752480"/>
            <a:ext cx="6248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Joint Africa-EU Strategy  -  8 partnership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548280" indent="-5482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Peace &amp; Securit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Democratic Governance &amp; Human Right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Regional Economic Integration, Trade &amp; Infrastructure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MDG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Climate Change &amp; Environment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Energ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Migration, Mobility &amp; Employment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Science, Information Society &amp; Space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91EEE-A661-4343-828A-CF72B3FCF53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Partnership on </a:t>
            </a:r>
            <a:br>
              <a:rPr sz="3200"/>
            </a:b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Migration, Mobility and Employmen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7760" y="17521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12 initiativ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5 migration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3 employment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related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1 social protection initiative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(part of decent work initiative)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3 higher education / student mobility initiativ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F1CAE-55C9-4977-A3EE-773AA2F48CC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438280" y="1752480"/>
            <a:ext cx="64771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Decent work initiative –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AUC and EC will launch a project on extending SP in the informal economy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Supporting AU programme on upgrading the informal economy  and the Productiviy Agenda for Afric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7.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BE1B5-937D-4D77-ADE5-556F4F09A1A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437920" y="1752480"/>
            <a:ext cx="6248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7.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Labour market governance and capacity buildin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Strengthening institutional capacity of labour market institutions in Afric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Target public employment services and labour adminstration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00"/>
                </a:solidFill>
                <a:latin typeface="Tahoma"/>
              </a:rPr>
              <a:t>,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E7BB5-C63B-4A18-A200-4A68CC2AF95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971800" y="1752480"/>
            <a:ext cx="5943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8. Regional ans sub-regional fora on employment, labour, social protection and labour migrati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Support harmonisation processes of labour market and social protection frameworks at regional levels, in cooperation with the RECs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7.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C872D-0779-43D8-BB3A-151B8F1069B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More informa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Social Protection in EU cooperation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http://ec.europa.eu/europeaid/what/social-protection/index_en.htm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Joint 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Africa-EU Stra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t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gy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http://</a:t>
            </a:r>
            <a:r>
              <a:rPr b="0" lang="hu-HU" sz="20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www.africa-eu-partnership.or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A4DAF-AE0A-41F0-A679-FF74F9F7FF3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600200" y="2514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ff00"/>
                </a:solidFill>
                <a:latin typeface="Tahoma"/>
              </a:rPr>
              <a:t>Thank you for your atten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2057-9D8A-45DE-9477-6A55E5782E9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Social protection in EU development cooperation and in EU-A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U </a:t>
            </a: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relation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267080" y="441972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Ogendo/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Tamás Várnai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uropean Commission DG EuropeAid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E8FB4-0ED5-43CA-9002-05D986609EC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1. EU Political Context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2. Social protection from an EC perspective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343400" y="3962520"/>
            <a:ext cx="4114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3. EC support to social protection 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4. EU- Africa Strategy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575E3-A69A-41FC-A99E-6B767356AFB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U political contex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European Consensus for Development (2005)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Communication and Council Conclusions on ‘Promoting Decent Work for all (2006)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Staff working paper on “Promoting Employment through EU Development Cooperation” (2007) and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Council conclusions including on social protection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C68AC-E0F9-42E2-A1CB-592386DFAFA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2009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C</a:t>
            </a: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ommunication on </a:t>
            </a:r>
            <a:br>
              <a:rPr sz="2400"/>
            </a:b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Supporting developing countries </a:t>
            </a:r>
            <a:br>
              <a:rPr sz="2400"/>
            </a:b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in coping with the crisi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EU committed to support developing countries in their efforts in setting up or strengthening social protection systems and programm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2009 and 2010 Ad hoc Vulnerable Flex mechanis</a:t>
            </a:r>
            <a:r>
              <a:rPr b="0" lang="hu-HU" sz="2000" spc="-1" strike="noStrike">
                <a:solidFill>
                  <a:srgbClr val="ffff00"/>
                </a:solidFill>
                <a:latin typeface="Tahoma"/>
              </a:rPr>
              <a:t>m</a:t>
            </a: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 / safeguard social spending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00"/>
                </a:solidFill>
                <a:latin typeface="Tahoma"/>
              </a:rPr>
              <a:t>2010 Communication 12 point EU Action plan in support of the MD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AB3FE-920B-4E54-825C-75E8209C124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</a:t>
            </a: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U initiative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971440" y="19810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00"/>
                </a:solidFill>
                <a:latin typeface="Tahoma"/>
              </a:rPr>
              <a:t>European Report on Development 2010 focuses on poverty, inequality, social protection in (primarily) sub-Saharan Afric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Tahoma"/>
              </a:rPr>
              <a:t>EC Reference Document on Social Transfers in the fight against hunger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Social protection is a social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…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581280" y="2437920"/>
            <a:ext cx="55627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Promote social cohesion and stability – redistribution system as reducing inequaliti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Endorse a human rights approach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7259F-1870-4E24-BFD6-F53E28D1A7F2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581280" y="2286000"/>
            <a:ext cx="5562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b3b3b3"/>
                </a:solidFill>
                <a:latin typeface="Tahoma"/>
              </a:rPr>
              <a:t>chock absorber of crisis;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reduces poverty and supports pro-poor economic growth (impact on human development, access to education and health etc)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b3b3b3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b3b3b3"/>
                </a:solidFill>
                <a:latin typeface="Tahoma"/>
              </a:rPr>
              <a:t>social protection as a productive factor”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B2725-B54A-4157-B336-C0D45EDAF024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Tahoma"/>
              </a:rPr>
              <a:t>and an economic necessity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2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00"/>
                </a:solidFill>
                <a:latin typeface="Tahoma"/>
              </a:rPr>
              <a:t>Challenges for social protection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3809520" y="2361960"/>
            <a:ext cx="5334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Raise awareness/evidence on the positive impacts of social protection</a:t>
            </a: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ffordability – how to find fiscal space for social protection/home-grown, long term financially sustainably;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How to extend social protection for people in the informal economy/rural area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E6438-72DA-4DF3-B90B-9DAA7713E8C4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02:57:42Z</dcterms:created>
  <dc:creator>Christoph Raudonat</dc:creator>
  <dc:description/>
  <dc:language>en-US</dc:language>
  <cp:lastModifiedBy>aidco-sd-tech2</cp:lastModifiedBy>
  <dcterms:modified xsi:type="dcterms:W3CDTF">2011-03-31T14:56:36Z</dcterms:modified>
  <cp:revision>53</cp:revision>
  <dc:subject/>
  <dc:title>PowerPoint Presentation</dc:title>
</cp:coreProperties>
</file>