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D1B2356-EAF4-4820-B175-E6659997A05B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Into a group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3 main functions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Document libr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Blog : forum for discussions. It allows attach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Calendar / Events (I’m not going to show now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Here : document reposi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Documents can be defined with categories, tags,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Also full text search avail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Blog inte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Really intui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Can put a new post or respond to an existing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Into a blog post of a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C/ MoU : ce que c’est, ce que ce n’est pas, exemples pays, caneva (pas des modè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DE3167C-914B-416B-93B6-EF4E8C651E3B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oposition from our cooleague Hassane ( Del Morocco) : link Devel and European Policy (Framework Directive on Water) : examine the Framework Directive on Water through the perspective of the  cooper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D63007B-BF2A-47E7-B702-D64BAAE010C7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C/ MoU : ce que c’est, ce que ce n’est pas, exemples pays, caneva (pas des modè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1DE3708-8941-4964-85F0-B1B3E729EE3C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8D0162F-4FC1-449C-9698-7980DBC801F7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Topic : general (public) access to a specific top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Group : public or retricted popul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for dedicated discussions or exchange of docu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Must sign on to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- contribute to a blog or post a document even if public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- See the groups you’re member 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TOPICS : 26 are defined and that will be it 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A document can refer to several top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Within a topic : several areas in the Topic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1. Message/defin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2. Main documents and/or Lin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2.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2 ways to access to my groups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through the « Groups » menu : view of all the groups I can access to (as demonstrated her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Directly through « YOUR GROUPS » men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5185-DA29-49CB-AC0C-807E75E98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DDC6-F414-4039-BC69-629626506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49A1-4EA3-4C50-BDD9-4A2664DDF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8D20-986F-4B53-8001-886EA37A6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7A6BC-DBF9-4176-9C6E-5F216FA9D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7E927-D84E-4DF7-9FF1-226B7F767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5B904-FD6A-4336-8132-C8FF5C4C2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F02C7-5F25-42CE-9755-E94801826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B61CA-C357-4A79-83EE-2D1E8DFF2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43B00-39EB-4CD9-9DD1-17F31F907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13EF1-D5BD-49FD-861D-CEA8CCFCA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6095-C0EA-4147-93D8-2F29BDE5C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FB981-942D-484B-84DD-5843C6B80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00271-F2B2-456E-8E19-41A847902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8AC24-ED9B-4620-99B8-250B8A596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BE836-E435-4699-949D-10E72648A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CBDB8-2BF7-48DB-9666-A3A96E1D9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5324-4353-476A-9823-63A7BFC61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2998-0880-406C-B45D-02BBFDEC2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518B-1582-410F-A0D0-6B2D3EC40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3859-EEFF-4F5A-A086-F747D5EA5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0637-4230-460F-9000-2E2143ADD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1EA7-3B59-4E7A-8D02-D99CDABAE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C2B1-20A6-488B-8EED-705975FD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ffffff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A0677-CCF4-4923-B080-EA6104118124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8783640" y="0"/>
            <a:ext cx="360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294760" y="682560"/>
            <a:ext cx="863640" cy="1224000"/>
            <a:chOff x="8294760" y="682560"/>
            <a:chExt cx="863640" cy="1224000"/>
          </a:xfrm>
        </p:grpSpPr>
        <p:sp>
          <p:nvSpPr>
            <p:cNvPr id="7" name="Rectangle 9"/>
            <p:cNvSpPr/>
            <p:nvPr/>
          </p:nvSpPr>
          <p:spPr>
            <a:xfrm>
              <a:off x="8294760" y="161928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294760" y="115092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8294760" y="68256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103c72"/>
                  </a:solidFill>
                  <a:latin typeface="Century Gothic"/>
                </a:rPr>
                <a:t>EuropeAi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" name="Group 12"/>
          <p:cNvGrpSpPr/>
          <p:nvPr/>
        </p:nvGrpSpPr>
        <p:grpSpPr>
          <a:xfrm>
            <a:off x="8294760" y="0"/>
            <a:ext cx="863640" cy="6858000"/>
            <a:chOff x="8294760" y="0"/>
            <a:chExt cx="863640" cy="6858000"/>
          </a:xfrm>
        </p:grpSpPr>
        <p:sp>
          <p:nvSpPr>
            <p:cNvPr id="11" name="Rectangle 13"/>
            <p:cNvSpPr/>
            <p:nvPr/>
          </p:nvSpPr>
          <p:spPr>
            <a:xfrm>
              <a:off x="8783640" y="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" name="Group 14"/>
            <p:cNvGrpSpPr/>
            <p:nvPr/>
          </p:nvGrpSpPr>
          <p:grpSpPr>
            <a:xfrm>
              <a:off x="8294760" y="682560"/>
              <a:ext cx="863640" cy="1224000"/>
              <a:chOff x="8294760" y="682560"/>
              <a:chExt cx="863640" cy="1224000"/>
            </a:xfrm>
          </p:grpSpPr>
          <p:sp>
            <p:nvSpPr>
              <p:cNvPr id="13" name="Rectangle 15"/>
              <p:cNvSpPr/>
              <p:nvPr/>
            </p:nvSpPr>
            <p:spPr>
              <a:xfrm>
                <a:off x="8294760" y="161928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8294760" y="115092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8294760" y="68256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" name="Group 18"/>
          <p:cNvGrpSpPr/>
          <p:nvPr/>
        </p:nvGrpSpPr>
        <p:grpSpPr>
          <a:xfrm>
            <a:off x="8280360" y="4680"/>
            <a:ext cx="863640" cy="6858000"/>
            <a:chOff x="8280360" y="4680"/>
            <a:chExt cx="863640" cy="6858000"/>
          </a:xfrm>
        </p:grpSpPr>
        <p:sp>
          <p:nvSpPr>
            <p:cNvPr id="17" name="Rectangle 19"/>
            <p:cNvSpPr/>
            <p:nvPr/>
          </p:nvSpPr>
          <p:spPr>
            <a:xfrm>
              <a:off x="8769240" y="468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8280360" y="687240"/>
              <a:ext cx="863640" cy="1224000"/>
              <a:chOff x="8280360" y="687240"/>
              <a:chExt cx="863640" cy="1224000"/>
            </a:xfrm>
          </p:grpSpPr>
          <p:sp>
            <p:nvSpPr>
              <p:cNvPr id="19" name="Rectangle 21"/>
              <p:cNvSpPr/>
              <p:nvPr/>
            </p:nvSpPr>
            <p:spPr>
              <a:xfrm>
                <a:off x="8280360" y="162396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8280360" y="115560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8280360" y="68724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7"/>
          <p:cNvSpPr/>
          <p:nvPr/>
        </p:nvSpPr>
        <p:spPr>
          <a:xfrm>
            <a:off x="8783640" y="0"/>
            <a:ext cx="360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8"/>
          <p:cNvGrpSpPr/>
          <p:nvPr/>
        </p:nvGrpSpPr>
        <p:grpSpPr>
          <a:xfrm>
            <a:off x="8294760" y="682560"/>
            <a:ext cx="863640" cy="1224000"/>
            <a:chOff x="8294760" y="682560"/>
            <a:chExt cx="863640" cy="1224000"/>
          </a:xfrm>
        </p:grpSpPr>
        <p:sp>
          <p:nvSpPr>
            <p:cNvPr id="60" name="Rectangle 9"/>
            <p:cNvSpPr/>
            <p:nvPr/>
          </p:nvSpPr>
          <p:spPr>
            <a:xfrm>
              <a:off x="8294760" y="161928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0"/>
            <p:cNvSpPr/>
            <p:nvPr/>
          </p:nvSpPr>
          <p:spPr>
            <a:xfrm>
              <a:off x="8294760" y="115092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1"/>
            <p:cNvSpPr/>
            <p:nvPr/>
          </p:nvSpPr>
          <p:spPr>
            <a:xfrm>
              <a:off x="8294760" y="68256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103c72"/>
                  </a:solidFill>
                  <a:latin typeface="Century Gothic"/>
                </a:rPr>
                <a:t>EuropeAi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" name="Picture 12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65" name="Group 14"/>
          <p:cNvGrpSpPr/>
          <p:nvPr/>
        </p:nvGrpSpPr>
        <p:grpSpPr>
          <a:xfrm>
            <a:off x="8294760" y="0"/>
            <a:ext cx="863640" cy="6858000"/>
            <a:chOff x="8294760" y="0"/>
            <a:chExt cx="863640" cy="6858000"/>
          </a:xfrm>
        </p:grpSpPr>
        <p:sp>
          <p:nvSpPr>
            <p:cNvPr id="66" name="Rectangle 15"/>
            <p:cNvSpPr/>
            <p:nvPr/>
          </p:nvSpPr>
          <p:spPr>
            <a:xfrm>
              <a:off x="8783640" y="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oup 16"/>
            <p:cNvGrpSpPr/>
            <p:nvPr/>
          </p:nvGrpSpPr>
          <p:grpSpPr>
            <a:xfrm>
              <a:off x="8294760" y="682560"/>
              <a:ext cx="863640" cy="1224000"/>
              <a:chOff x="8294760" y="682560"/>
              <a:chExt cx="863640" cy="1224000"/>
            </a:xfrm>
          </p:grpSpPr>
          <p:sp>
            <p:nvSpPr>
              <p:cNvPr id="68" name="Rectangle 17"/>
              <p:cNvSpPr/>
              <p:nvPr/>
            </p:nvSpPr>
            <p:spPr>
              <a:xfrm>
                <a:off x="8294760" y="161928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18"/>
              <p:cNvSpPr/>
              <p:nvPr/>
            </p:nvSpPr>
            <p:spPr>
              <a:xfrm>
                <a:off x="8294760" y="115092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Rectangle 19"/>
              <p:cNvSpPr/>
              <p:nvPr/>
            </p:nvSpPr>
            <p:spPr>
              <a:xfrm>
                <a:off x="8294760" y="68256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Group 20"/>
          <p:cNvGrpSpPr/>
          <p:nvPr/>
        </p:nvGrpSpPr>
        <p:grpSpPr>
          <a:xfrm>
            <a:off x="8280360" y="4680"/>
            <a:ext cx="863640" cy="6858000"/>
            <a:chOff x="8280360" y="4680"/>
            <a:chExt cx="863640" cy="6858000"/>
          </a:xfrm>
        </p:grpSpPr>
        <p:sp>
          <p:nvSpPr>
            <p:cNvPr id="72" name="Rectangle 21"/>
            <p:cNvSpPr/>
            <p:nvPr/>
          </p:nvSpPr>
          <p:spPr>
            <a:xfrm>
              <a:off x="8769240" y="468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Group 22"/>
            <p:cNvGrpSpPr/>
            <p:nvPr/>
          </p:nvGrpSpPr>
          <p:grpSpPr>
            <a:xfrm>
              <a:off x="8280360" y="687240"/>
              <a:ext cx="863640" cy="1224000"/>
              <a:chOff x="8280360" y="687240"/>
              <a:chExt cx="863640" cy="1224000"/>
            </a:xfrm>
          </p:grpSpPr>
          <p:sp>
            <p:nvSpPr>
              <p:cNvPr id="74" name="Rectangle 23"/>
              <p:cNvSpPr/>
              <p:nvPr/>
            </p:nvSpPr>
            <p:spPr>
              <a:xfrm>
                <a:off x="8280360" y="162396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Rectangle 24"/>
              <p:cNvSpPr/>
              <p:nvPr/>
            </p:nvSpPr>
            <p:spPr>
              <a:xfrm>
                <a:off x="8280360" y="115560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Rectangle 25"/>
              <p:cNvSpPr/>
              <p:nvPr/>
            </p:nvSpPr>
            <p:spPr>
              <a:xfrm>
                <a:off x="8280360" y="68724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ffffff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4"/>
          </p:nvPr>
        </p:nvSpPr>
        <p:spPr>
          <a:xfrm>
            <a:off x="39492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5"/>
          </p:nvPr>
        </p:nvSpPr>
        <p:spPr>
          <a:xfrm>
            <a:off x="305892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D6C38-C197-48F4-A6DF-70EC8C7CBE9E}" type="slidenum">
              <a:rPr b="0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3840" cy="43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Internal E.C. Session :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reflection on </a:t>
            </a:r>
            <a:br>
              <a:rPr sz="2400"/>
            </a:b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   AIDCO E/7 – DELEGATIONS RELATIONS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René BOSMAN (E7)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737280" y="5608800"/>
            <a:ext cx="425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Arial"/>
              </a:rPr>
              <a:t>Water seminar Nairobi - October 2010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-1523880" y="-1446120"/>
            <a:ext cx="12193560" cy="975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-1523880" y="-1446120"/>
            <a:ext cx="12193560" cy="975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35812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Capacity4Dev : orientations proposed for our Water sector   </a:t>
            </a:r>
            <a:br>
              <a:rPr sz="24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2 groups : 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	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one open to external members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(free consultation but membership required to contribute)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one restricted to internal staff (Del + HQ) </a:t>
            </a:r>
            <a:br>
              <a:rPr sz="18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Focus on : 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library : recover and improve the current WaterNet content</a:t>
            </a:r>
            <a:br>
              <a:rPr sz="18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discussions / forum (to avoid multiples exchanges and chat under Outlook as today)</a:t>
            </a:r>
            <a:br>
              <a:rPr sz="1800"/>
            </a:br>
            <a:endParaRPr b="1" lang="en-US" sz="18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560" y="475920"/>
            <a:ext cx="849780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Collaboration between HQ (E7) / Delegations</a:t>
            </a:r>
            <a:br>
              <a:rPr sz="24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Continue with W&amp;S </a:t>
            </a: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regional seminars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: Fr/EN separately ?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Frequency ? Which thematics ?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(importance of the countries contributions)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Thematic studies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 ?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How to </a:t>
            </a: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network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 you ? Headquarter role ?</a:t>
            </a:r>
            <a:br>
              <a:rPr sz="2000"/>
            </a:br>
            <a:br>
              <a:rPr sz="1000"/>
            </a:br>
            <a:br>
              <a:rPr sz="1000"/>
            </a:b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What do you need ? </a:t>
            </a:r>
            <a:br>
              <a:rPr sz="2400"/>
            </a:b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What are you ready to pay ?</a:t>
            </a:r>
            <a:br>
              <a:rPr sz="2400"/>
            </a:b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Points mentioned in discussion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Why so many water web sites – what is the comparative advantage – incomplete (aquaknow / euwinet/cap4 dev)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it can easily remain unused – can it become a working tool? But how? Is easily outdated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We are meant to upload project information in CRIS (only internal) with the project number we can look at more detailed information on CRI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How to find best practice in CRIS? Perhaps C4D is the tool for best practice? Newsflash etc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they each have a different ro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there must be an incentive e.g. information will only be available on the capcity4 dev 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model TOR are potentially very useful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2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time is limited – will be get a message when documents are there (like WSP) – just a short messag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yes that feature will be there, you can define what mails you get or don’t get – we will check 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attend such seminars to hear about success stories that we can learn from – can you have frequently made mistakes or stories of success? – that would be useful e.g. in Burundi we are rehabilitating/reforming after the war, we want to avoid the classic mistakes. How to filter ? To get what you are interested in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we have to avoid too much information – we can organise sub-topic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3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are project focussed – ex post independent evaluations are talked about but rarely done or accessible. We need more such analysis – it helps to learn. Tendency to always declare projects successful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is Brussels thinking of a thematic evaluation of water and sanitation sector (beyond the project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could ex-post ROM be used as a source of information for such deeper analysi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- the thematic studies could focus on evaluation of success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sharing of good practice will reduce the mistakes and costs of other countri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there is a thematic ROM evaluation already done !!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4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it is people that initiate processes – appreciate the seminars like this one – it is motivating and avoids the overload of information problem. It increases our productivity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innovative approaches can be used to exchange information between delegations e.g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find a way to wake us up – makes us belong to the water group (and not just the seminars, build on them) – a picture and person is worth a 1000 word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should publish more, like the example of Chad – we need to make links with universities and othe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Seminars are good – but HQ based seminar allows connection with HQs, that is very useful (might lose the field trip but other advantage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- we already do that, we have seminars in Brussels each year – june/july. We invite others e.g. OECD, EIB, AFD etc  This year we had a 3 days Finance (EIB)/ Sanitation (aidco) / x cutting topics e.g. human rights (DGDev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-The regional ones have the value of the field trip and practionaires from the regio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both are good, we should not replace one with the oth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4200" y="285840"/>
            <a:ext cx="835848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In the domain of </a:t>
            </a: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Operational Guidance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, past and current support from E7 :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concept note « Complementarities and  synergies between SWAP and IWRM»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support to program formulation 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regional seminars on SWAP/IWRM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national seminars on demand 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   (initializing SWAP process – national dialog) 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horizontal studies ongoing :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CoC/MoU Water : best practices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SWAP experiences capitalization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- We get huge text reports, we cannot absorb the material / we need to do like Benin did with Google Earth – why do we not have the capacity to do this in delegations? E.g. we cannot print A3 in colour. Our (IT) tools are pathetic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good communication can help – remote assistance is possib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ater facility project template does not have an executive summary – ask them for this + readable graphs and summary. Lets be more specific on the template and encourage quality rather than volum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report dumping from Brussels …. Please give us a summary not 100+ page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2a600"/>
                </a:solidFill>
                <a:latin typeface="Verdana"/>
              </a:rPr>
              <a:t>More points: </a:t>
            </a:r>
            <a:br>
              <a:rPr sz="2000"/>
            </a:b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Q say it in one page – lets campaign for that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the seminars should be supported by the HQ not just delegations, in case they do not have enough budget – this year we had cancellations due to budget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this seminar  in Kenya was very useful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Organise more joint seminars at delegation level – we are bombarded by slogans on alignment, harmonisation, gender etc it is lip service… we need to get in touch with reality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there is also a yearly regional infrastructure seminar (only delegation) good but a bit road focussed. Should we keep the water and wider infrastructure separat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we organised a joint water and infrastructure in Liberville – it did not work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big value in having external participants – we cannot have that in a joint seminar with infrastructure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our water programs are very policy and institutional development related – water is also related to rural develop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in Namibia we found keeping roads and water separate was bes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for small delegations, the separtion of water and roads is not an issue, it is for larger delega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could organise one after the oth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one after the other has mer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hoD&lt; HOA, all have conference – perhaps we need an operations conference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do we an francophone example of successful reforms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yes at a recent seminar in Burkina Faso, a series of reforms was outline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had two sub-sectors here: water and sanitation. We discussed SBS and pooled and projects. For me the modalities as well as the sector was important – aid effectiveness was an important topic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hy are the road people boring? They are not they are very nice!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/R -What thematic studies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Technologies in sanit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nformation management by water ministries, role of information in the sector (data management, indicator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nnovative projects and initiatives (WSTF, CLTS, Ecotac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what frequency for this type of semina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Each year (we already agreed this in Pretoria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what topic would you suggest for next year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 Low cost – urban sanitation…innova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- Water framework directive of EU – compare with water policy… WR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Mobile to web application for water system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 One day on dry sanitation (vs water borne)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358120" cy="612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Capacity4Dev Platform : (AIDCO E)  </a:t>
            </a:r>
            <a:br>
              <a:rPr sz="2400"/>
            </a:b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first step - trial : starts with the T.C. reform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, also used by the Public Finance Management experts,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open to outside public (worldwide or restricted groups)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1500 users but not many actives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Too complex !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Has been fully redesigned and simplified </a:t>
            </a:r>
            <a:br>
              <a:rPr sz="1800"/>
            </a:br>
            <a:br>
              <a:rPr sz="10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00"/>
                </a:solidFill>
                <a:latin typeface="Verdana"/>
              </a:rPr>
              <a:t>NEW VERSION LAUNCHED on 15 October 2010 !</a:t>
            </a:r>
            <a:br>
              <a:rPr sz="18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Functionalities (within groups) :  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1" lang="fr-BE" sz="1800" spc="-1" strike="noStrike">
                <a:solidFill>
                  <a:srgbClr val="ffff00"/>
                </a:solidFill>
                <a:latin typeface="Verdana"/>
              </a:rPr>
              <a:t>document library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 (doc management)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1" lang="fr-BE" sz="1800" spc="-1" strike="noStrike">
                <a:solidFill>
                  <a:srgbClr val="ffff00"/>
                </a:solidFill>
                <a:latin typeface="Verdana"/>
              </a:rPr>
              <a:t>blog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 for discussions and info exchanges 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1" lang="fr-BE" sz="1800" spc="-1" strike="noStrike">
                <a:solidFill>
                  <a:srgbClr val="ffff00"/>
                </a:solidFill>
                <a:latin typeface="Verdana"/>
              </a:rPr>
              <a:t>event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/news announcement</a:t>
            </a:r>
            <a:endParaRPr b="1" lang="en-US" sz="18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1125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400" spc="-1" strike="noStrike">
                <a:solidFill>
                  <a:srgbClr val="e2a600"/>
                </a:solidFill>
                <a:latin typeface="Verdana"/>
              </a:rPr>
              <a:t>Introduction to </a:t>
            </a:r>
            <a:br>
              <a:rPr sz="4400"/>
            </a:br>
            <a:r>
              <a:rPr b="1" lang="fr-BE" sz="4400" spc="-1" strike="noStrike">
                <a:solidFill>
                  <a:srgbClr val="e2a600"/>
                </a:solidFill>
                <a:latin typeface="Verdana"/>
              </a:rPr>
              <a:t>the new </a:t>
            </a:r>
            <a:r>
              <a:rPr b="0" i="1" lang="fr-BE" sz="4400" spc="-1" strike="noStrike" u="sng">
                <a:solidFill>
                  <a:srgbClr val="e2a600"/>
                </a:solidFill>
                <a:uFillTx/>
                <a:latin typeface="Verdana"/>
              </a:rPr>
              <a:t>Capacity4dev</a:t>
            </a:r>
            <a:endParaRPr b="1" lang="en-US" sz="44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-1523880" y="-1446120"/>
            <a:ext cx="12193560" cy="975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-303120" y="-103320"/>
            <a:ext cx="9752040" cy="706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07:31:41Z</dcterms:created>
  <dc:creator>monacro</dc:creator>
  <dc:description/>
  <dc:language>en-US</dc:language>
  <cp:lastModifiedBy>aidco-sd-tech2</cp:lastModifiedBy>
  <dcterms:modified xsi:type="dcterms:W3CDTF">2010-10-28T11:12:00Z</dcterms:modified>
  <cp:revision>124</cp:revision>
  <dc:subject/>
  <dc:title>Slide 1</dc:title>
</cp:coreProperties>
</file>