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69E74-A285-46EE-BD00-D6D978A00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3DEFA-E46B-400D-AEC3-0A4E88A1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4BFA-3883-4D50-965C-CE4F948B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B159D-F084-49C8-8C87-90E833483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22A15C-D38B-4F83-81FB-147BD16739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1D6447-FA61-48F4-9D2B-04E2CFF974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879F8-5D52-4414-A60E-930FBEC902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8235E-0085-4A68-81FA-A0001F83CA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4547D-0A2D-4A3D-B4FA-C070DCFA96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7BAF3-57B7-4D16-B058-8DF5BE78F2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DFC3C-5C22-4258-B944-46229A3D9F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9AD9-788C-4BE0-B426-9810682D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58DF2-0EA2-4358-8C3A-4B6B6B0D66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13867-4665-49BB-8B58-8D67B4454C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1BF76-B5D9-4658-9EA7-B8F3E83B20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28274-E964-458A-B1B1-056296FDEE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32692E-3BFA-451A-BC73-8B82EA33F1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F8C0-0078-4562-8821-1B0741AD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0403-287A-4127-B626-D8AE242E3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E824-F91B-40E4-A69A-216348D7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B72AF-C2B5-48B4-BEE2-7C643DF17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F5A5-9EDD-48B0-A603-7C6076110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27BE-DAC0-4552-9007-92F65F9D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51E3-03B1-4E57-B5CC-BAE6656C7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6F66E4AA-72FA-43BB-8059-47C11646B715}" type="datetime11">
              <a:rPr b="0" lang="en-US" sz="1400" spc="-1" strike="noStrike">
                <a:solidFill>
                  <a:srgbClr val="ffffff"/>
                </a:solidFill>
                <a:latin typeface="Times New Roman"/>
              </a:rPr>
              <a:t>17:53:3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8685-727C-4ACE-B1D6-0A1801C3C9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F8CB-5FD9-44E1-B63F-C2CDEE959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D64E2E6B-158F-4EFA-962B-AD987DBF3350}" type="datetime11">
              <a:rPr b="0" lang="en-US" sz="1400" spc="-1" strike="noStrike">
                <a:solidFill>
                  <a:srgbClr val="ffffff"/>
                </a:solidFill>
                <a:latin typeface="Times New Roman"/>
              </a:rPr>
              <a:t>17:53:3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B07096C-EF53-4557-A9F5-56DCAF58A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44B8714-5F58-4E92-805C-B569FF033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76210C5-F7E1-420A-BD8D-29442E64D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5BD0E19-F52A-475A-83BC-CF0BE5EBDB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09960448-5BD0-4BB8-A8B8-3FFD2C607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DCC2531-F4F6-4B90-960B-ED054A00E0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632DA0-E8F3-4534-9215-0DF48583C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CA67334-DFFF-4522-B55E-68441519AC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7FB546B3-D6A7-4B43-A3D0-3070C47B68D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4B7C2DD-5B1F-4E8C-B043-FE6A7014C32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C752456-436A-48F0-8433-B744D39932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C774AD7-F90A-4945-8FEF-3B1881EE7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D472AAE-1374-4758-A779-EF9D54AE37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CF4D25-DE35-4FBB-A3FF-1077E848D7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C9AF5F4-0033-4057-BD2F-5157E46B7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7FA5BA8-2170-4267-8007-A5E0041FF4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3FE8CD6-98E1-4062-A628-3EB654CD0B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