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2433-4312-4E8F-B390-A09ED76885E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8CA6-39BE-4498-B27B-575E7ADA26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2519-90B8-484C-85A6-D694E896EC5F}" type="datetime">
              <a:rPr b="0" lang="en-US" sz="1200" spc="-1" strike="noStrike">
                <a:solidFill>
                  <a:srgbClr val="ffffff"/>
                </a:solidFill>
                <a:latin typeface="Verdana"/>
              </a:rPr>
              <a:t>07/29/26</a:t>
            </a:fld>
            <a:r>
              <a:rPr b="0" lang="en-US" sz="1200" spc="-1" strike="noStrike">
                <a:solidFill>
                  <a:srgbClr val="ffffff"/>
                </a:solidFill>
                <a:latin typeface="Verdana"/>
              </a:rPr>
              <a:t> </a:t>
            </a:r>
            <a:fld id="{D68327E1-9B12-41A4-9E5A-0628543C633F}"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673A-E875-4AAE-947E-887DD35C1F7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15D4-C431-48CF-A29E-B14BAF3B7A1B}" type="datetime">
              <a:rPr b="0" lang="en-US" sz="1200" spc="-1" strike="noStrike">
                <a:solidFill>
                  <a:srgbClr val="ffffff"/>
                </a:solidFill>
                <a:latin typeface="Verdana"/>
              </a:rPr>
              <a:t>07/29/26</a:t>
            </a:fld>
            <a:r>
              <a:rPr b="0" lang="en-US" sz="1200" spc="-1" strike="noStrike">
                <a:solidFill>
                  <a:srgbClr val="ffffff"/>
                </a:solidFill>
                <a:latin typeface="Verdana"/>
              </a:rPr>
              <a:t> </a:t>
            </a:r>
            <a:fld id="{4815492F-E62B-4C4A-B05A-BD6E0DB106BB}"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5480-E770-488D-AB56-5D5DB8101A9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E8D4-D413-4FA9-AA80-3693DA07EBC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B243-B4D0-45DD-A735-D54DF1A79536}" type="datetime">
              <a:rPr b="0" lang="en-US" sz="1200" spc="-1" strike="noStrike">
                <a:solidFill>
                  <a:srgbClr val="ffffff"/>
                </a:solidFill>
                <a:latin typeface="Verdana"/>
              </a:rPr>
              <a:t>07/29/26</a:t>
            </a:fld>
            <a:r>
              <a:rPr b="0" lang="en-US" sz="1200" spc="-1" strike="noStrike">
                <a:solidFill>
                  <a:srgbClr val="ffffff"/>
                </a:solidFill>
                <a:latin typeface="Verdana"/>
              </a:rPr>
              <a:t> </a:t>
            </a:r>
            <a:fld id="{FB75C8E4-2F33-4592-850C-B0771D2CC985}"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CCC5-4653-4DFE-8193-99205B7DDA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6826-32F1-4EA6-8BA7-8D64B67BE627}" type="datetime">
              <a:rPr b="0" lang="en-US" sz="1200" spc="-1" strike="noStrike">
                <a:solidFill>
                  <a:srgbClr val="ffffff"/>
                </a:solidFill>
                <a:latin typeface="Verdana"/>
              </a:rPr>
              <a:t>07/29/26</a:t>
            </a:fld>
            <a:r>
              <a:rPr b="0" lang="en-US" sz="1200" spc="-1" strike="noStrike">
                <a:solidFill>
                  <a:srgbClr val="ffffff"/>
                </a:solidFill>
                <a:latin typeface="Verdana"/>
              </a:rPr>
              <a:t> </a:t>
            </a:r>
            <a:fld id="{8B59FFB0-C261-43D8-93F1-FFF284AAAC3D}"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BD77-FBB3-4F8A-A85D-DE923212991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93F7-D457-4695-AA58-690CFFFCDEEB}" type="datetime">
              <a:rPr b="0" lang="en-US" sz="1200" spc="-1" strike="noStrike">
                <a:solidFill>
                  <a:srgbClr val="ffffff"/>
                </a:solidFill>
                <a:latin typeface="Verdana"/>
              </a:rPr>
              <a:t>07/29/26</a:t>
            </a:fld>
            <a:r>
              <a:rPr b="0" lang="en-US" sz="1200" spc="-1" strike="noStrike">
                <a:solidFill>
                  <a:srgbClr val="ffffff"/>
                </a:solidFill>
                <a:latin typeface="Verdana"/>
              </a:rPr>
              <a:t> </a:t>
            </a:r>
            <a:fld id="{56AFE649-ABE6-4FE3-82E6-7E56D68B00BD}"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E410-D1A1-4F8C-A14B-E8FC30560F0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A91C-B989-44D7-A5B6-326AE64C0EC7}" type="datetime">
              <a:rPr b="0" lang="en-US" sz="1200" spc="-1" strike="noStrike">
                <a:solidFill>
                  <a:srgbClr val="ffffff"/>
                </a:solidFill>
                <a:latin typeface="Verdana"/>
              </a:rPr>
              <a:t>07/29/26</a:t>
            </a:fld>
            <a:r>
              <a:rPr b="0" lang="en-US" sz="1200" spc="-1" strike="noStrike">
                <a:solidFill>
                  <a:srgbClr val="ffffff"/>
                </a:solidFill>
                <a:latin typeface="Verdana"/>
              </a:rPr>
              <a:t> </a:t>
            </a:r>
            <a:fld id="{CEEC955A-C9DA-419B-B5B6-F8B1EA6C947F}"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30EF-ECDE-41B1-A493-BA4902D979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BEA4-36AD-4E18-B08C-5DC5B40DA795}" type="datetime">
              <a:rPr b="0" lang="en-US" sz="1200" spc="-1" strike="noStrike">
                <a:solidFill>
                  <a:srgbClr val="ffffff"/>
                </a:solidFill>
                <a:latin typeface="Verdana"/>
              </a:rPr>
              <a:t>07/29/26</a:t>
            </a:fld>
            <a:r>
              <a:rPr b="0" lang="en-US" sz="1200" spc="-1" strike="noStrike">
                <a:solidFill>
                  <a:srgbClr val="ffffff"/>
                </a:solidFill>
                <a:latin typeface="Verdana"/>
              </a:rPr>
              <a:t> </a:t>
            </a:r>
            <a:fld id="{286F04DE-1F16-4F2A-B5F0-EF6358194BB3}"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A1FE-85CE-47BB-A631-FD0480F7C2D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5321-981A-40DA-9784-F7E7284FE115}" type="datetime">
              <a:rPr b="0" lang="en-US" sz="1200" spc="-1" strike="noStrike">
                <a:solidFill>
                  <a:srgbClr val="ffffff"/>
                </a:solidFill>
                <a:latin typeface="Verdana"/>
              </a:rPr>
              <a:t>07/29/26</a:t>
            </a:fld>
            <a:r>
              <a:rPr b="0" lang="en-US" sz="1200" spc="-1" strike="noStrike">
                <a:solidFill>
                  <a:srgbClr val="ffffff"/>
                </a:solidFill>
                <a:latin typeface="Verdana"/>
              </a:rPr>
              <a:t> </a:t>
            </a:r>
            <a:fld id="{FC87205F-5A75-4759-B7C5-0A6FE3A8A2C3}"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3ED0-AC96-446A-AD6E-5DE717CD00C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4931-FC23-47AF-933C-69BFFA19EC3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2766-00BC-4CCE-8F3E-E99B43D1E1C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2BF7-53FE-4D67-9137-8150B4253A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1A6B-AEBA-49D9-B31A-F5EDADCD2ED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B11B-C4B7-4067-8357-363B5687E69F}" type="datetime">
              <a:rPr b="0" lang="en-US" sz="1200" spc="-1" strike="noStrike">
                <a:solidFill>
                  <a:srgbClr val="ffffff"/>
                </a:solidFill>
                <a:latin typeface="Verdana"/>
              </a:rPr>
              <a:t>07/29/26</a:t>
            </a:fld>
            <a:r>
              <a:rPr b="0" lang="en-US" sz="1200" spc="-1" strike="noStrike">
                <a:solidFill>
                  <a:srgbClr val="ffffff"/>
                </a:solidFill>
                <a:latin typeface="Verdana"/>
              </a:rPr>
              <a:t> </a:t>
            </a:r>
            <a:fld id="{D28D646B-F406-4230-A80B-B9374AD558C7}"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B57E-1D36-4EED-AC88-C2C3FEB4D32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5338-7570-4DAB-A027-8184B76ADDDC}" type="datetime">
              <a:rPr b="0" lang="en-US" sz="1200" spc="-1" strike="noStrike">
                <a:solidFill>
                  <a:srgbClr val="ffffff"/>
                </a:solidFill>
                <a:latin typeface="Verdana"/>
              </a:rPr>
              <a:t>07/29/26</a:t>
            </a:fld>
            <a:r>
              <a:rPr b="0" lang="en-US" sz="1200" spc="-1" strike="noStrike">
                <a:solidFill>
                  <a:srgbClr val="ffffff"/>
                </a:solidFill>
                <a:latin typeface="Verdana"/>
              </a:rPr>
              <a:t> </a:t>
            </a:r>
            <a:fld id="{037763D6-C609-4F62-9942-5E78C3981493}"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19DE-21AE-4D23-8F7C-AD56A57D83A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7895-8A84-4C72-B349-E3C3FB6A65F1}" type="datetime">
              <a:rPr b="0" lang="en-US" sz="1200" spc="-1" strike="noStrike">
                <a:solidFill>
                  <a:srgbClr val="ffffff"/>
                </a:solidFill>
                <a:latin typeface="Verdana"/>
              </a:rPr>
              <a:t>07/29/26</a:t>
            </a:fld>
            <a:r>
              <a:rPr b="0" lang="en-US" sz="1200" spc="-1" strike="noStrike">
                <a:solidFill>
                  <a:srgbClr val="ffffff"/>
                </a:solidFill>
                <a:latin typeface="Verdana"/>
              </a:rPr>
              <a:t> </a:t>
            </a:r>
            <a:fld id="{073F9895-FF67-4A7B-8B18-DD9AD0EFFE08}" type="datetime10">
              <a:rPr b="0" lang="en-US" sz="1200" spc="-1" strike="noStrike">
                <a:solidFill>
                  <a:srgbClr val="ffffff"/>
                </a:solidFill>
                <a:latin typeface="Verdana"/>
              </a:rPr>
              <a:t>18:06</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9BFF-1504-4216-B97A-96F45FBB83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28895-7A21-4A33-BB9A-C53FA35A8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3B65B-F054-42F0-9E6D-05CB2A950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DA844-A257-4CC0-B7B1-BAB69C6CB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064F0-6F19-42F4-A1D1-0F150436C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1ACAE-E4E8-4C13-A66E-95EC430FC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97AFC-4A54-4371-B235-E42969270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6085A-6F63-407D-9AD2-E2449B27E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404BC-6546-46B4-8BCB-8706A7399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B186B-2207-46D5-AE4B-E2CBE8DDF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9C087-011E-40F6-8FF6-FAAA42F86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DC330-C650-4DEF-B167-F0FAC4827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D36F0-331B-4B51-91A2-4B7082DFB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776CE-19AF-4C11-8F90-EC215957C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AFCD9-4C6E-40A0-87AE-9D7FDFF2A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735A9-2EEE-4DD6-A8E6-49DF28335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2D079-7C95-4899-899D-FEADB53A0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79D51-D15C-470C-BA81-38E3BCFBE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CB21C-C159-4741-BF04-5D66050B2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FA33A-8538-469D-8F9D-749BACBAC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FC29F-47AC-49BF-928F-C15B706FD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B57E3-69DC-48AE-B682-53349A1FE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DCFA0-9305-4841-A3A7-E9EBF1AFC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329D-574E-494B-A0A4-0563C492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E606-526C-4AF5-9FD3-7E5D1EF82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3CC6-DCCE-4E04-8EE8-45315E57455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A1F7-CAE2-4745-BE6A-F66096843E8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9947-95F4-4EC9-ABA9-1D036E17ED06}"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