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7CE5-18DF-408C-B23F-2CBBCA981A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CC92-BE43-4891-83CC-96B3B2EFBA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D62D-2A23-4F0A-A4D4-53F91EE88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2744-4B4C-4D05-97FD-74DDCD6E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2CD9-F7E8-40A5-BBA0-CB3DBB07C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8941-E62D-48D5-AC0D-D78C0BFB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FD50-9D63-45E9-BB9C-E08B383E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B831-3865-428F-8D9B-3711506F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61FC-262C-4359-8E03-FB945C10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57AD-20D2-458F-974B-2797D264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5516-2CEA-4398-B3DE-D71BE93A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879A-ADA0-4281-B93B-0FED5E35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9266-E4E7-417A-BBED-6C932C81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698C-E847-4964-9C0B-50BF1F6E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7373-C6F7-4ACD-AAD7-F9CF017420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Regional Water and sanitation worksh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68360" y="1503360"/>
            <a:ext cx="81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Purp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exchange of experience between colleagues dealing with water and sanitation programmes / projects on how to face the challenges of the sec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1 - Sector dialogue  + field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2 –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3 – Institutional context and Sector budget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4 – Finance an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oss cutting topics will also be dealt with in group work and discus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centralis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dicators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are they working? How can this instrument be impro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Capacity building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- Keeping small systems simple for affordable O&amp;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insufficient resources on capacity building- roles changing – under staffing – contract managment &amp; regulation skills miss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numbers &amp; skills insufficient – governance challenges affec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O&amp;M skills with tools – limited resources for high tech back up – community empowerment is key to capacity constrai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training in O&amp;M – how to support when not a focal sec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ordination affects capacity, water good, sanitation not – poor pay, poor staff – information management importa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-  capacity plan completed – loss of skills to nearby countries – project managemen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rivatisation (PPP) and decentralisation – water resources is difficul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Strong leadership – participation of other ministries weak – tertiary education in water sector is weak –  insufficient numbers – cost recovery enhances capac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Decentralisation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he focus is on the towns – how to sustain the sector in low income are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regional offices are not involved in planning and budgetting – lack of staff local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ransition to new structures takes a long time – changes in the overall decentralisation landsca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significant increases of capacity at local level due to decentralisation – turn over is high – link between water and health needs strengthe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artial deconcentration through regional water boards – rural water supply handled centrally – political interfere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ecentralisation well supported and popular – budget problems forese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handover to community councils underway – empowering communi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istricts are clearly seen as the main actors – management capacity is a challenge – will PPP work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mmunity based management – 13 regional offices to coordinate 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Indicators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468360" y="105264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o nation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ational system started but not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system in place but baseline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MDGs are u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ational system under development – meantime using Malawi growth and development strategy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o national system – only project defined indicators – health sector has well defined indicators, we could us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Continous multi purpose survery – harmonised with MTEF – costs probl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vision 20/20 has sector indicators – but infrastructure and resource concepts are not fully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 two systems (financial and planning) – national system of 28 indicators for rural water supply – uniform system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1 Sector Dialo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39640" y="1916280"/>
            <a:ext cx="81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reforms have been take in the sector in Kenya and how did sector dialogue contribu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is experience of and lessons learnt from sector dialogue and coordination in Gha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How can the EU delegations contribute when water is not a focal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2 Sani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68360" y="1700280"/>
            <a:ext cx="82072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Demand – lessons at scale from the CLTS experience – Plan Inter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Supply – harnessing market forces - Eco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nabling environment – the role of the public sector, examples from Namibia and South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Access to services for informal settlements -  the water services trust fund - Ke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y 3 Institutional context and Sector budget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68360" y="241308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Governance and decentralisation – case study from C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Challenges of introducing sector budget support – Namibia and Lesot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Use of indicators - Nami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Day 4 Finance and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68360" y="2413080"/>
            <a:ext cx="8136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xperience of the EIB in financing water and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U procedures – how to apply innovative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Internal support session  on proced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95280" y="1197000"/>
            <a:ext cx="8209080" cy="5400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 rot="16200000">
            <a:off x="3321000" y="3528720"/>
            <a:ext cx="2405160" cy="3214440"/>
          </a:xfrm>
          <a:custGeom>
            <a:avLst/>
            <a:gdLst>
              <a:gd name="textAreaLeft" fmla="*/ 0 w 2405160"/>
              <a:gd name="textAreaRight" fmla="*/ 2405520 w 2405160"/>
              <a:gd name="textAreaTop" fmla="*/ 0 h 3214440"/>
              <a:gd name="textAreaBottom" fmla="*/ 3214800 h 32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ENABL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indent="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Policies, coordin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Regulation,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Incentiv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960480" y="2097000"/>
            <a:ext cx="2752560" cy="2349720"/>
          </a:xfrm>
          <a:custGeom>
            <a:avLst/>
            <a:gdLst>
              <a:gd name="textAreaLeft" fmla="*/ 0 w 2752560"/>
              <a:gd name="textAreaRight" fmla="*/ 2752920 w 2752560"/>
              <a:gd name="textAreaTop" fmla="*/ 0 h 2349720"/>
              <a:gd name="textAreaBottom" fmla="*/ 2350080 h 234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91" y="0"/>
                </a:lnTo>
                <a:lnTo>
                  <a:pt x="21600" y="10800"/>
                </a:lnTo>
                <a:lnTo>
                  <a:pt x="169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UPPLY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400" indent="-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Technology &amp; c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ss to sanitation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anitation as a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 flipV="1" rot="10800000">
            <a:off x="5466960" y="2008080"/>
            <a:ext cx="2871720" cy="2478240"/>
          </a:xfrm>
          <a:custGeom>
            <a:avLst/>
            <a:gdLst>
              <a:gd name="textAreaLeft" fmla="*/ 0 w 2871720"/>
              <a:gd name="textAreaRight" fmla="*/ 2872080 w 2871720"/>
              <a:gd name="textAreaTop" fmla="*/ 0 h 2478240"/>
              <a:gd name="textAreaBottom" fmla="*/ 2478240 h 247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0" y="0"/>
                </a:lnTo>
                <a:lnTo>
                  <a:pt x="21600" y="10800"/>
                </a:lnTo>
                <a:lnTo>
                  <a:pt x="169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7120" indent="-1764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DEMAND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Generation of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Hygiene &amp; sanitation promo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Behavior 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3132000" y="1312920"/>
            <a:ext cx="2810160" cy="3263760"/>
          </a:xfrm>
          <a:custGeom>
            <a:avLst/>
            <a:gdLst>
              <a:gd name="textAreaLeft" fmla="*/ 641520 w 2810160"/>
              <a:gd name="textAreaRight" fmla="*/ 2168640 w 2810160"/>
              <a:gd name="textAreaTop" fmla="*/ 744840 h 3263760"/>
              <a:gd name="textAreaBottom" fmla="*/ 2518920 h 3263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be5f1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lerated sanitation and hygi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395280" y="274680"/>
            <a:ext cx="8229600" cy="850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Day 2 demand – supply -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12:45:43Z</dcterms:created>
  <dc:creator>PC</dc:creator>
  <dc:description/>
  <dc:language>en-US</dc:language>
  <cp:lastModifiedBy>PC</cp:lastModifiedBy>
  <dcterms:modified xsi:type="dcterms:W3CDTF">2010-10-05T17:04:01Z</dcterms:modified>
  <cp:revision>15</cp:revision>
  <dc:subject/>
  <dc:title>Water and sanitation EC-EIB seminar</dc:title>
</cp:coreProperties>
</file>