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5B7C-FF82-4F7D-9585-AA55E5CDB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FE8B-F556-4F40-B316-9AA62B753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07D0-2B9A-46A0-BCD2-69D1B449E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E0ED-43E6-4A12-A2A8-909162404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34A4-118D-48E2-915F-3F02A2694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FB7D-AA80-4154-8128-E3EC925FA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44BF-034E-4D78-92B5-3ECC77536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1817-4E82-4275-AD3D-37501CEA5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2909_EFI_Powerpoint_back_base2b"/>
          <p:cNvPicPr/>
          <p:nvPr/>
        </p:nvPicPr>
        <p:blipFill>
          <a:blip r:embed="rId2"/>
          <a:stretch/>
        </p:blipFill>
        <p:spPr>
          <a:xfrm>
            <a:off x="0" y="6138720"/>
            <a:ext cx="9145440" cy="719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"/>
          <p:cNvSpPr/>
          <p:nvPr/>
        </p:nvSpPr>
        <p:spPr>
          <a:xfrm>
            <a:off x="228600" y="2057400"/>
            <a:ext cx="837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a353"/>
                </a:solidFill>
                <a:latin typeface="Arial"/>
              </a:rPr>
              <a:t>FLEGT Action Plan and VPA process: over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228600" y="4468680"/>
            <a:ext cx="518148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a353"/>
                </a:solidFill>
                <a:latin typeface="Arial"/>
              </a:rPr>
              <a:t>11 January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a353"/>
                </a:solidFill>
                <a:latin typeface="Arial"/>
              </a:rPr>
              <a:t>Julia Falco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2909_EFI_Powerpoint_background2a"/>
          <p:cNvPicPr/>
          <p:nvPr/>
        </p:nvPicPr>
        <p:blipFill>
          <a:blip r:embed="rId1"/>
          <a:stretch/>
        </p:blipFill>
        <p:spPr>
          <a:xfrm>
            <a:off x="0" y="0"/>
            <a:ext cx="9145440" cy="14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" descr="2909_EFI_Powerpoint_background2b"/>
          <p:cNvPicPr/>
          <p:nvPr/>
        </p:nvPicPr>
        <p:blipFill>
          <a:blip r:embed="rId1"/>
          <a:stretch/>
        </p:blipFill>
        <p:spPr>
          <a:xfrm>
            <a:off x="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867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deforestation rates still occur at alarming rate – 13 million hectares a year.  And illegal logging is one of the major drivers of deforestation. Deforestation is responsible for half of the emissions from developing countries and account for close to 20% of global emiss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llegal logging means that across the world $15 billion of revenues are lost every year, money that should be spent on development, furthermore it is estimated that this depresses timber prices by 16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ests are key to life. For people, for biodiversity, for carbon and water storage.  1.2 billion people, a fifth of the world’s population, depend on forests for their livelihoo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is one of the largest consumers of timber in the world: in 2007 imported equivalent of 180 million m3 of timber or a value of $40 billion. Though difficult to estimate, studies suggest that 20-40% of trade from tropical countries has been illegally harvested ti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228600" y="1600200"/>
            <a:ext cx="5638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Key fig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7"/>
          <p:cNvSpPr/>
          <p:nvPr/>
        </p:nvSpPr>
        <p:spPr>
          <a:xfrm>
            <a:off x="250920" y="1484280"/>
            <a:ext cx="8353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FLEGT : fight against illegal lo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2909_EFI_Powerpoint_background2c"/>
          <p:cNvPicPr/>
          <p:nvPr/>
        </p:nvPicPr>
        <p:blipFill>
          <a:blip r:embed="rId1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250920" y="2133720"/>
            <a:ext cx="844704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EGT stands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forcemen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vernance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55560" y="2781360"/>
            <a:ext cx="8482680" cy="916920"/>
            <a:chOff x="655560" y="2781360"/>
            <a:chExt cx="8482680" cy="916920"/>
          </a:xfrm>
        </p:grpSpPr>
        <p:sp>
          <p:nvSpPr>
            <p:cNvPr id="57" name=""/>
            <p:cNvSpPr/>
            <p:nvPr/>
          </p:nvSpPr>
          <p:spPr>
            <a:xfrm>
              <a:off x="655560" y="2781360"/>
              <a:ext cx="2160720" cy="647280"/>
            </a:xfrm>
            <a:prstGeom prst="ellipse">
              <a:avLst/>
            </a:prstGeom>
            <a:noFill/>
            <a:ln w="25560">
              <a:solidFill>
                <a:srgbClr val="36a3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16280" y="3141360"/>
              <a:ext cx="2376360" cy="0"/>
            </a:xfrm>
            <a:prstGeom prst="line">
              <a:avLst/>
            </a:prstGeom>
            <a:ln w="25560">
              <a:solidFill>
                <a:srgbClr val="36a35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269320" y="2781360"/>
              <a:ext cx="3868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ters for all stakeholders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inforced by role in climate chang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D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95280" y="3357720"/>
            <a:ext cx="8552880" cy="1074240"/>
            <a:chOff x="395280" y="3357720"/>
            <a:chExt cx="8552880" cy="1074240"/>
          </a:xfrm>
        </p:grpSpPr>
        <p:sp>
          <p:nvSpPr>
            <p:cNvPr id="61" name=""/>
            <p:cNvSpPr/>
            <p:nvPr/>
          </p:nvSpPr>
          <p:spPr>
            <a:xfrm>
              <a:off x="395280" y="3357720"/>
              <a:ext cx="3995640" cy="100800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27640" y="3860640"/>
              <a:ext cx="865080" cy="730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67240" y="3789360"/>
              <a:ext cx="358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ters for government agenci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rule of law, taxes, …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941400" y="4292640"/>
            <a:ext cx="8197920" cy="1492920"/>
            <a:chOff x="941400" y="4292640"/>
            <a:chExt cx="8197920" cy="1492920"/>
          </a:xfrm>
        </p:grpSpPr>
        <p:sp>
          <p:nvSpPr>
            <p:cNvPr id="65" name=""/>
            <p:cNvSpPr/>
            <p:nvPr/>
          </p:nvSpPr>
          <p:spPr>
            <a:xfrm>
              <a:off x="941400" y="4292640"/>
              <a:ext cx="2771640" cy="647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13040" y="4652640"/>
              <a:ext cx="1944720" cy="431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662080" y="4868640"/>
              <a:ext cx="3477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ters for civil societ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ecision-making, human right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igenous people, corruptio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1042920" y="4797360"/>
            <a:ext cx="7050240" cy="1650600"/>
            <a:chOff x="1042920" y="4797360"/>
            <a:chExt cx="7050240" cy="1650600"/>
          </a:xfrm>
        </p:grpSpPr>
        <p:sp>
          <p:nvSpPr>
            <p:cNvPr id="69" name=""/>
            <p:cNvSpPr/>
            <p:nvPr/>
          </p:nvSpPr>
          <p:spPr>
            <a:xfrm>
              <a:off x="1042920" y="4797360"/>
              <a:ext cx="1439640" cy="647640"/>
            </a:xfrm>
            <a:prstGeom prst="ellipse">
              <a:avLst/>
            </a:prstGeom>
            <a:noFill/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482560" y="5157720"/>
              <a:ext cx="865440" cy="64764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76360" y="5805360"/>
              <a:ext cx="481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ters for private sector (access to market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nfair competitio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0" descr="2909_EFI_Powerpoint_back_base2b"/>
          <p:cNvPicPr/>
          <p:nvPr/>
        </p:nvPicPr>
        <p:blipFill>
          <a:blip r:embed="rId1"/>
          <a:stretch/>
        </p:blipFill>
        <p:spPr>
          <a:xfrm>
            <a:off x="0" y="6138720"/>
            <a:ext cx="9145440" cy="719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2909_EFI_Powerpoint_background2c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7"/>
          <p:cNvSpPr/>
          <p:nvPr/>
        </p:nvSpPr>
        <p:spPr>
          <a:xfrm>
            <a:off x="0" y="1484280"/>
            <a:ext cx="896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a353"/>
                </a:solidFill>
                <a:latin typeface="Arial"/>
              </a:rPr>
              <a:t>THE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0" y="2708280"/>
            <a:ext cx="89647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U FLEGT Action Plan (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gislation, MS &amp; EU policy, DevCooperation, Non govt Initi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EGT Regulation (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luntary Partnership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10 : Illegal Timber Regulation (due diligence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ep illegal timber and timber products off the EU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7"/>
          <p:cNvSpPr/>
          <p:nvPr/>
        </p:nvSpPr>
        <p:spPr>
          <a:xfrm>
            <a:off x="0" y="1341360"/>
            <a:ext cx="8604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FLEGT : key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2909_EFI_Powerpoint_background2c"/>
          <p:cNvPicPr/>
          <p:nvPr/>
        </p:nvPicPr>
        <p:blipFill>
          <a:blip r:embed="rId1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79280" y="1844640"/>
            <a:ext cx="8964720" cy="20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ed responsibilities (EU &amp; Timber produc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&amp; T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and &amp;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ission &amp; Member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oluntary: Strengthen partner country’s ownershi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3860640"/>
            <a:ext cx="8964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ercial Treaty but not a commercial negot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Creates an opportunity for stakeholder eng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customs to block entry of non-licensed ti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ystem to verify legal compliance, confirmed though a lic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ependent Audit/ monitor of 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Associated transparency and communication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Finance : outside the agreement but importa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0" y="3500280"/>
            <a:ext cx="8604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VPA : key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0" descr="2909_EFI_Powerpoint_back_base2b"/>
          <p:cNvPicPr/>
          <p:nvPr/>
        </p:nvPicPr>
        <p:blipFill>
          <a:blip r:embed="rId1"/>
          <a:stretch/>
        </p:blipFill>
        <p:spPr>
          <a:xfrm>
            <a:off x="0" y="6138720"/>
            <a:ext cx="9145440" cy="719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2909_EFI_Powerpoint_background2c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108000" y="1484280"/>
            <a:ext cx="8820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Key elements of a V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0" y="206064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gality Definition: partners laws, c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gality Assurance System: verifies compliance with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censing of verified legal ti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ependent Audit/ monitor of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 has requirements set out in briefing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galit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2400" spc="-1" strike="noStrike">
                <a:solidFill>
                  <a:srgbClr val="36a353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based on existing legal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2400" spc="-1" strike="noStrike">
                <a:solidFill>
                  <a:srgbClr val="36a353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36a353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ted against established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lti-stakeholder process </a:t>
            </a:r>
            <a:r>
              <a:rPr b="0" lang="en-GB" sz="2400" spc="-1" strike="noStrike">
                <a:solidFill>
                  <a:srgbClr val="36a353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redibility nationally &amp; internation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0" descr="2909_EFI_Powerpoint_back_base2b"/>
          <p:cNvPicPr/>
          <p:nvPr/>
        </p:nvPicPr>
        <p:blipFill>
          <a:blip r:embed="rId1"/>
          <a:stretch/>
        </p:blipFill>
        <p:spPr>
          <a:xfrm>
            <a:off x="0" y="6138720"/>
            <a:ext cx="9145440" cy="7192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250920" y="1484280"/>
            <a:ext cx="856908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a353"/>
                </a:solidFill>
                <a:latin typeface="Arial"/>
              </a:rPr>
              <a:t>Steps in building Partnership Agre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Establishes platform for stakeholder input throughou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Designed to encourage substantive reform where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2909_EFI_Powerpoint_background2c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8675640" y="476280"/>
            <a:ext cx="9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Diagram 4" descr=""/>
          <p:cNvPicPr/>
          <p:nvPr/>
        </p:nvPicPr>
        <p:blipFill>
          <a:blip r:embed="rId3"/>
          <a:stretch/>
        </p:blipFill>
        <p:spPr>
          <a:xfrm>
            <a:off x="0" y="2349360"/>
            <a:ext cx="914400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2360" y="1217520"/>
            <a:ext cx="8856720" cy="4011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08000" y="115920"/>
            <a:ext cx="287280" cy="216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8000" y="979560"/>
            <a:ext cx="287280" cy="216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115920"/>
            <a:ext cx="367200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GT licenses (not y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negot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o negot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ation, in-country consensus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VP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8000" y="331920"/>
            <a:ext cx="287280" cy="215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8000" y="763560"/>
            <a:ext cx="287280" cy="216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8000" y="547560"/>
            <a:ext cx="287280" cy="216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71640" y="3573000"/>
            <a:ext cx="864000" cy="1658160"/>
            <a:chOff x="4571640" y="3573000"/>
            <a:chExt cx="864000" cy="1658160"/>
          </a:xfrm>
        </p:grpSpPr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4859280" y="4653000"/>
              <a:ext cx="57636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881240" y="4984920"/>
              <a:ext cx="55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Cong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4571640" y="3573000"/>
              <a:ext cx="35892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716000" y="3357720"/>
            <a:ext cx="1656360" cy="1901880"/>
            <a:chOff x="4716000" y="3357720"/>
            <a:chExt cx="1656360" cy="1901880"/>
          </a:xfrm>
        </p:grpSpPr>
        <p:grpSp>
          <p:nvGrpSpPr>
            <p:cNvPr id="102" name=""/>
            <p:cNvGrpSpPr/>
            <p:nvPr/>
          </p:nvGrpSpPr>
          <p:grpSpPr>
            <a:xfrm>
              <a:off x="5796000" y="4653000"/>
              <a:ext cx="576360" cy="606600"/>
              <a:chOff x="5796000" y="4653000"/>
              <a:chExt cx="576360" cy="606600"/>
            </a:xfrm>
          </p:grpSpPr>
          <p:sp>
            <p:nvSpPr>
              <p:cNvPr id="103" name=""/>
              <p:cNvSpPr/>
              <p:nvPr/>
            </p:nvSpPr>
            <p:spPr>
              <a:xfrm>
                <a:off x="5817240" y="5013360"/>
                <a:ext cx="552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C.A.R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796000" y="4653000"/>
                <a:ext cx="576360" cy="384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5" name=""/>
            <p:cNvSpPr/>
            <p:nvPr/>
          </p:nvSpPr>
          <p:spPr>
            <a:xfrm flipH="1" flipV="1">
              <a:off x="4716000" y="3357720"/>
              <a:ext cx="13683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6803640" y="2997360"/>
            <a:ext cx="2158200" cy="504360"/>
            <a:chOff x="6803640" y="2997360"/>
            <a:chExt cx="2158200" cy="504360"/>
          </a:xfrm>
        </p:grpSpPr>
        <p:grpSp>
          <p:nvGrpSpPr>
            <p:cNvPr id="107" name=""/>
            <p:cNvGrpSpPr/>
            <p:nvPr/>
          </p:nvGrpSpPr>
          <p:grpSpPr>
            <a:xfrm>
              <a:off x="8282880" y="2997360"/>
              <a:ext cx="678960" cy="504360"/>
              <a:chOff x="8282880" y="2997360"/>
              <a:chExt cx="678960" cy="504360"/>
            </a:xfrm>
          </p:grpSpPr>
          <p:sp>
            <p:nvSpPr>
              <p:cNvPr id="108" name=""/>
              <p:cNvSpPr/>
              <p:nvPr/>
            </p:nvSpPr>
            <p:spPr>
              <a:xfrm>
                <a:off x="8282880" y="3255480"/>
                <a:ext cx="678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Malaysi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344440" y="2997360"/>
                <a:ext cx="582840" cy="323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0" name=""/>
            <p:cNvSpPr/>
            <p:nvPr/>
          </p:nvSpPr>
          <p:spPr>
            <a:xfrm flipH="1">
              <a:off x="6803640" y="3141720"/>
              <a:ext cx="15130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876720" y="3500280"/>
            <a:ext cx="2097720" cy="606600"/>
            <a:chOff x="6876720" y="3500280"/>
            <a:chExt cx="2097720" cy="606600"/>
          </a:xfrm>
        </p:grpSpPr>
        <p:grpSp>
          <p:nvGrpSpPr>
            <p:cNvPr id="112" name=""/>
            <p:cNvGrpSpPr/>
            <p:nvPr/>
          </p:nvGrpSpPr>
          <p:grpSpPr>
            <a:xfrm>
              <a:off x="8246520" y="3500280"/>
              <a:ext cx="727920" cy="606600"/>
              <a:chOff x="8246520" y="3500280"/>
              <a:chExt cx="727920" cy="606600"/>
            </a:xfrm>
          </p:grpSpPr>
          <p:sp>
            <p:nvSpPr>
              <p:cNvPr id="113" name=""/>
              <p:cNvSpPr/>
              <p:nvPr/>
            </p:nvSpPr>
            <p:spPr>
              <a:xfrm>
                <a:off x="8246520" y="3860640"/>
                <a:ext cx="727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Indonesi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316720" y="3500280"/>
                <a:ext cx="575640" cy="384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</p:grpSp>
        <p:sp>
          <p:nvSpPr>
            <p:cNvPr id="115" name=""/>
            <p:cNvSpPr/>
            <p:nvPr/>
          </p:nvSpPr>
          <p:spPr>
            <a:xfrm flipH="1" flipV="1">
              <a:off x="6876720" y="3645000"/>
              <a:ext cx="14396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278880" y="3357720"/>
            <a:ext cx="1221840" cy="1900080"/>
            <a:chOff x="3278880" y="3357720"/>
            <a:chExt cx="1221840" cy="1900080"/>
          </a:xfrm>
        </p:grpSpPr>
        <p:grpSp>
          <p:nvGrpSpPr>
            <p:cNvPr id="117" name=""/>
            <p:cNvGrpSpPr/>
            <p:nvPr/>
          </p:nvGrpSpPr>
          <p:grpSpPr>
            <a:xfrm>
              <a:off x="3278880" y="4653000"/>
              <a:ext cx="770400" cy="604800"/>
              <a:chOff x="3278880" y="4653000"/>
              <a:chExt cx="770400" cy="604800"/>
            </a:xfrm>
          </p:grpSpPr>
          <p:pic>
            <p:nvPicPr>
              <p:cNvPr id="11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421440" y="4653000"/>
                <a:ext cx="576000" cy="38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3278880" y="5011560"/>
                <a:ext cx="770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Camero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 flipV="1">
              <a:off x="3635280" y="3357720"/>
              <a:ext cx="86544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39640" y="3357720"/>
            <a:ext cx="3600360" cy="1730520"/>
            <a:chOff x="539640" y="3357720"/>
            <a:chExt cx="3600360" cy="1730520"/>
          </a:xfrm>
        </p:grpSpPr>
        <p:grpSp>
          <p:nvGrpSpPr>
            <p:cNvPr id="122" name=""/>
            <p:cNvGrpSpPr/>
            <p:nvPr/>
          </p:nvGrpSpPr>
          <p:grpSpPr>
            <a:xfrm>
              <a:off x="539640" y="4510080"/>
              <a:ext cx="563760" cy="578160"/>
              <a:chOff x="539640" y="4510080"/>
              <a:chExt cx="563760" cy="578160"/>
            </a:xfrm>
          </p:grpSpPr>
          <p:pic>
            <p:nvPicPr>
              <p:cNvPr id="12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39640" y="4510080"/>
                <a:ext cx="563760" cy="38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"/>
              <p:cNvSpPr/>
              <p:nvPr/>
            </p:nvSpPr>
            <p:spPr>
              <a:xfrm>
                <a:off x="540720" y="4842000"/>
                <a:ext cx="56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Ghan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 flipV="1">
              <a:off x="1104480" y="3357720"/>
              <a:ext cx="303552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39640" y="3357360"/>
            <a:ext cx="3384360" cy="821160"/>
            <a:chOff x="539640" y="3357360"/>
            <a:chExt cx="3384360" cy="821160"/>
          </a:xfrm>
        </p:grpSpPr>
        <p:grpSp>
          <p:nvGrpSpPr>
            <p:cNvPr id="127" name=""/>
            <p:cNvGrpSpPr/>
            <p:nvPr/>
          </p:nvGrpSpPr>
          <p:grpSpPr>
            <a:xfrm>
              <a:off x="539640" y="3645000"/>
              <a:ext cx="564120" cy="533520"/>
              <a:chOff x="539640" y="3645000"/>
              <a:chExt cx="564120" cy="533520"/>
            </a:xfrm>
          </p:grpSpPr>
          <p:sp>
            <p:nvSpPr>
              <p:cNvPr id="128" name=""/>
              <p:cNvSpPr/>
              <p:nvPr/>
            </p:nvSpPr>
            <p:spPr>
              <a:xfrm>
                <a:off x="542160" y="3932280"/>
                <a:ext cx="558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Liberi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39640" y="3645000"/>
                <a:ext cx="564120" cy="303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0" name=""/>
            <p:cNvSpPr/>
            <p:nvPr/>
          </p:nvSpPr>
          <p:spPr>
            <a:xfrm flipV="1">
              <a:off x="1103760" y="3357360"/>
              <a:ext cx="28202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08000" y="1195560"/>
            <a:ext cx="287280" cy="21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3564000" y="44280"/>
            <a:ext cx="5400720" cy="13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FLEGT VPA partner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a353"/>
                </a:solidFill>
                <a:latin typeface="Arial"/>
              </a:rPr>
              <a:t>November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140360" y="3573360"/>
            <a:ext cx="576000" cy="2305440"/>
            <a:chOff x="4140360" y="3573360"/>
            <a:chExt cx="576000" cy="2305440"/>
          </a:xfrm>
        </p:grpSpPr>
        <p:pic>
          <p:nvPicPr>
            <p:cNvPr id="134" name="" descr=""/>
            <p:cNvPicPr/>
            <p:nvPr/>
          </p:nvPicPr>
          <p:blipFill>
            <a:blip r:embed="rId9"/>
            <a:stretch/>
          </p:blipFill>
          <p:spPr>
            <a:xfrm>
              <a:off x="4140360" y="5291280"/>
              <a:ext cx="576000" cy="3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4141080" y="5632560"/>
              <a:ext cx="560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Gab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356000" y="3573360"/>
              <a:ext cx="7164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788000" y="3644640"/>
            <a:ext cx="1403280" cy="2262600"/>
            <a:chOff x="4788000" y="3644640"/>
            <a:chExt cx="1403280" cy="2262600"/>
          </a:xfrm>
        </p:grpSpPr>
        <p:pic>
          <p:nvPicPr>
            <p:cNvPr id="138" name="" descr=""/>
            <p:cNvPicPr/>
            <p:nvPr/>
          </p:nvPicPr>
          <p:blipFill>
            <a:blip r:embed="rId10"/>
            <a:stretch/>
          </p:blipFill>
          <p:spPr>
            <a:xfrm>
              <a:off x="5651640" y="5300640"/>
              <a:ext cx="539640" cy="3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654160" y="5661000"/>
              <a:ext cx="45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DR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4788000" y="3644640"/>
              <a:ext cx="1079280" cy="16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804000" y="2276640"/>
            <a:ext cx="2085120" cy="647640"/>
            <a:chOff x="6804000" y="2276640"/>
            <a:chExt cx="2085120" cy="647640"/>
          </a:xfrm>
        </p:grpSpPr>
        <p:pic>
          <p:nvPicPr>
            <p:cNvPr id="142" name="" descr=""/>
            <p:cNvPicPr/>
            <p:nvPr/>
          </p:nvPicPr>
          <p:blipFill>
            <a:blip r:embed="rId11"/>
            <a:stretch/>
          </p:blipFill>
          <p:spPr>
            <a:xfrm>
              <a:off x="8278920" y="2276640"/>
              <a:ext cx="57600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 flipH="1">
              <a:off x="6804000" y="2492280"/>
              <a:ext cx="144000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6520" y="2637000"/>
              <a:ext cx="64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Vietn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alcoju</cp:lastModifiedBy>
  <dcterms:modified xsi:type="dcterms:W3CDTF">2011-01-07T19:44:34Z</dcterms:modified>
  <cp:revision>42</cp:revision>
  <dc:subject/>
  <dc:title>PowerPoint Presentation</dc:title>
</cp:coreProperties>
</file>