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59B7-B819-40A0-A4EA-D6AE5B9B2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E260-E632-4904-9176-9E1290EB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B88C-CDF6-4D6B-BC66-5F0D7EA79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2DBF-EB01-4E5F-A58D-F5CBEEDFB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656C-1294-45A8-A758-974F4F13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3F48-94E9-4161-8228-127E088B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A7F2-0859-49A5-A70D-D023163B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D12C-B5E8-46FE-B5DA-24B464B9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11CB-655C-4F23-A807-F699E30C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1E48-6A47-4690-AB8F-837483A2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AA05-BCB5-45C0-877C-608D7C59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766C-8DB8-4F50-9B9F-922181F7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5255-65B0-44FB-8C31-2E0A1B89C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political economy being us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years ago pe not in donor 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w many donors using pe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Sid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power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DFI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Drivers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Netherland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SG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World Ban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problem driven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UN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Asia Found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political sett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s point to importance of politic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impact of public sector reform, best practice appr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rns about corru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n fragile states highlights politics of state 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erent approaches, common experi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down, bottom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or less prescrip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or technocratic 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ry, sector or problem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of analyst, country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ly for own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ly with partner country changes 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: 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development, diplomacy, security,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 best practice, comprehensive PSR, crude condi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mental change; more nuanced narrative about corru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ation and accoun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-building l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of internal de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: country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ersity, complexity of country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realism about objectives, donor leverage (SGA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fundamental shifts in strategy (Nigeria, Nep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 of donor behaviour, aid mod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: sector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l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Uganda roads, Bangladesh w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portunit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ifferent entry points, global drivers, changed narrat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 driven ana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raction, risk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pe f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doing bett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act fragmented: no fundamental re-think about development, donor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vergence between internal debate and external narrative (alignment, reform in return for aid, all good things go together, zero tolerance for corrup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changes to donor staffing, incen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sk missing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A just the next donor fash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1:06:57Z</dcterms:created>
  <dc:creator>UNSWORTH</dc:creator>
  <dc:description/>
  <dc:language>en-US</dc:language>
  <cp:lastModifiedBy>UNSWORTH</cp:lastModifiedBy>
  <dcterms:modified xsi:type="dcterms:W3CDTF">2011-01-07T12:07:37Z</dcterms:modified>
  <cp:revision>10</cp:revision>
  <dc:subject/>
  <dc:title>How is political economy being used?</dc:title>
</cp:coreProperties>
</file>