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3F3-3265-4846-AD52-031EF97E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1D2-CA81-47EB-BC36-A62AA921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85F-A08C-4870-AB65-010DA446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3B1-81A9-4B6E-B095-BA579C60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40CC-244D-42AE-B192-BE297667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A8C-5C60-43F8-9779-6405E36A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5A9-2DAE-4197-B5DC-3808E0B9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722-3B74-4D5D-A82B-AFE04FAC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BC0-52D8-4B4F-B54F-C019C3A1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083-1691-43B9-A3F2-57FF578D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F88-665C-41B5-84BA-0099AE9D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07A-EF01-4E29-A1A8-B1418253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E6A4-8FF1-42F4-AECB-4DF155BA1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political economy being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years ago pe not in donor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many donors using p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Sid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w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DF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Driver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Netherlan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G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World Ba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blem drive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UN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sia Found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litical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 point to importance of politic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impact of public sector reform, best practice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bout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fragile states highlights politics of state 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approaches, common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down, botto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r less pr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r technocratic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, sector or problem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analyst, country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for ow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with partner country changes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development, diplomacy, security,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best practice, comprehensive PSR, crude condi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change; more nuanced narrative about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tion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-building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internal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country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ty, complexity of countr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alism about objectives, donor leverage (SGA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damental shifts in strategy (Nigeria, Nep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donor behaviour, aid mod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sector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ganda roads, Bangladesh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portunit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fferent entry points, global drivers, changed narr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driven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ction, risk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doing be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fragmented: no fundamental re-think about development, donor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ergence between internal debate and external narrative (alignment, reform in return for aid, all good things go together, zero tolerance for corru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changes to donor staffing,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sk miss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A just the next donor fash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06:57Z</dcterms:created>
  <dc:creator>UNSWORTH</dc:creator>
  <dc:description/>
  <dc:language>en-US</dc:language>
  <cp:lastModifiedBy>UNSWORTH</cp:lastModifiedBy>
  <dcterms:modified xsi:type="dcterms:W3CDTF">2011-01-07T12:07:37Z</dcterms:modified>
  <cp:revision>10</cp:revision>
  <dc:subject/>
  <dc:title>How is political economy being used?</dc:title>
</cp:coreProperties>
</file>