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ED11-B8D1-4D91-A261-2484310931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1F35-1346-46D7-AA7D-86D83E126D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2DEE-6EF7-414E-8E09-DA8D30C0A2A9}" type="datetime">
              <a:rPr b="0" lang="en-US" sz="1200" spc="-1" strike="noStrike">
                <a:solidFill>
                  <a:srgbClr val="ffffff"/>
                </a:solidFill>
                <a:latin typeface="Verdana"/>
              </a:rPr>
              <a:t>07/29/26</a:t>
            </a:fld>
            <a:r>
              <a:rPr b="0" lang="en-US" sz="1200" spc="-1" strike="noStrike">
                <a:solidFill>
                  <a:srgbClr val="ffffff"/>
                </a:solidFill>
                <a:latin typeface="Verdana"/>
              </a:rPr>
              <a:t> </a:t>
            </a:r>
            <a:fld id="{FF8D8BFC-0B84-4F47-B8E6-B209638C8D7B}"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DF87-25D0-4ED6-B10B-A3C8762DA0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1972-84B7-4C11-B926-1840D4632E65}" type="datetime">
              <a:rPr b="0" lang="en-US" sz="1200" spc="-1" strike="noStrike">
                <a:solidFill>
                  <a:srgbClr val="ffffff"/>
                </a:solidFill>
                <a:latin typeface="Verdana"/>
              </a:rPr>
              <a:t>07/29/26</a:t>
            </a:fld>
            <a:r>
              <a:rPr b="0" lang="en-US" sz="1200" spc="-1" strike="noStrike">
                <a:solidFill>
                  <a:srgbClr val="ffffff"/>
                </a:solidFill>
                <a:latin typeface="Verdana"/>
              </a:rPr>
              <a:t> </a:t>
            </a:r>
            <a:fld id="{3E08F7E8-72BA-4DA4-9085-26A72A1D1339}"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DD23-9A24-4574-AB36-A32069DD91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EA72-DA78-4F53-93C4-DC3DB38C10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72B7-6791-48DA-82CE-F481C419FEE9}" type="datetime">
              <a:rPr b="0" lang="en-US" sz="1200" spc="-1" strike="noStrike">
                <a:solidFill>
                  <a:srgbClr val="ffffff"/>
                </a:solidFill>
                <a:latin typeface="Verdana"/>
              </a:rPr>
              <a:t>07/29/26</a:t>
            </a:fld>
            <a:r>
              <a:rPr b="0" lang="en-US" sz="1200" spc="-1" strike="noStrike">
                <a:solidFill>
                  <a:srgbClr val="ffffff"/>
                </a:solidFill>
                <a:latin typeface="Verdana"/>
              </a:rPr>
              <a:t> </a:t>
            </a:r>
            <a:fld id="{8BE42AE4-B539-4C7E-879E-519CD23C67C2}"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ACA4-CD59-404B-B71E-BF752F9EA7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BB7-D035-4856-BFC4-D880354FAB0D}" type="datetime">
              <a:rPr b="0" lang="en-US" sz="1200" spc="-1" strike="noStrike">
                <a:solidFill>
                  <a:srgbClr val="ffffff"/>
                </a:solidFill>
                <a:latin typeface="Verdana"/>
              </a:rPr>
              <a:t>07/29/26</a:t>
            </a:fld>
            <a:r>
              <a:rPr b="0" lang="en-US" sz="1200" spc="-1" strike="noStrike">
                <a:solidFill>
                  <a:srgbClr val="ffffff"/>
                </a:solidFill>
                <a:latin typeface="Verdana"/>
              </a:rPr>
              <a:t> </a:t>
            </a:r>
            <a:fld id="{C917E782-B9F7-4DA9-AEFD-BBDC7792B8FC}"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050D-97CD-4D98-878B-131619EF6F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9076-FB64-4AB6-AAAC-7388FC322262}" type="datetime">
              <a:rPr b="0" lang="en-US" sz="1200" spc="-1" strike="noStrike">
                <a:solidFill>
                  <a:srgbClr val="ffffff"/>
                </a:solidFill>
                <a:latin typeface="Verdana"/>
              </a:rPr>
              <a:t>07/29/26</a:t>
            </a:fld>
            <a:r>
              <a:rPr b="0" lang="en-US" sz="1200" spc="-1" strike="noStrike">
                <a:solidFill>
                  <a:srgbClr val="ffffff"/>
                </a:solidFill>
                <a:latin typeface="Verdana"/>
              </a:rPr>
              <a:t> </a:t>
            </a:r>
            <a:fld id="{EA573818-3753-41C7-BE93-EFB18F286672}"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9C77-9A09-4907-9C57-FFF1C3F90F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E484-6D37-48FC-9F42-A4E316A0FABE}" type="datetime">
              <a:rPr b="0" lang="en-US" sz="1200" spc="-1" strike="noStrike">
                <a:solidFill>
                  <a:srgbClr val="ffffff"/>
                </a:solidFill>
                <a:latin typeface="Verdana"/>
              </a:rPr>
              <a:t>07/29/26</a:t>
            </a:fld>
            <a:r>
              <a:rPr b="0" lang="en-US" sz="1200" spc="-1" strike="noStrike">
                <a:solidFill>
                  <a:srgbClr val="ffffff"/>
                </a:solidFill>
                <a:latin typeface="Verdana"/>
              </a:rPr>
              <a:t> </a:t>
            </a:r>
            <a:fld id="{7CE5F8C0-9457-4960-B797-DC2CCCE94A75}"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6F00-AB54-4969-B6FF-CA0D964A54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BCE5-EDBB-4A81-A0DF-F98992D4602A}" type="datetime">
              <a:rPr b="0" lang="en-US" sz="1200" spc="-1" strike="noStrike">
                <a:solidFill>
                  <a:srgbClr val="ffffff"/>
                </a:solidFill>
                <a:latin typeface="Verdana"/>
              </a:rPr>
              <a:t>07/29/26</a:t>
            </a:fld>
            <a:r>
              <a:rPr b="0" lang="en-US" sz="1200" spc="-1" strike="noStrike">
                <a:solidFill>
                  <a:srgbClr val="ffffff"/>
                </a:solidFill>
                <a:latin typeface="Verdana"/>
              </a:rPr>
              <a:t> </a:t>
            </a:r>
            <a:fld id="{D99E847F-793B-4CAB-B4CF-95E49CF7F17A}"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FB78-3420-47B6-A371-B21AE18CA72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1F6D-74AC-4D50-AB84-98E1E6914055}" type="datetime">
              <a:rPr b="0" lang="en-US" sz="1200" spc="-1" strike="noStrike">
                <a:solidFill>
                  <a:srgbClr val="ffffff"/>
                </a:solidFill>
                <a:latin typeface="Verdana"/>
              </a:rPr>
              <a:t>07/29/26</a:t>
            </a:fld>
            <a:r>
              <a:rPr b="0" lang="en-US" sz="1200" spc="-1" strike="noStrike">
                <a:solidFill>
                  <a:srgbClr val="ffffff"/>
                </a:solidFill>
                <a:latin typeface="Verdana"/>
              </a:rPr>
              <a:t> </a:t>
            </a:r>
            <a:fld id="{334B952B-BEF3-40F0-87B7-8E11C157C004}"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77C7-FD5C-4695-92F2-29B9995451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B44F-307A-4BEA-BE0F-D6160C5766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A05F-0308-4B98-97C1-A442D10650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045F-2D34-4331-9FC8-E10A3F38E7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60A5-0505-4630-AD31-0F1C5C7360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147B-6AA1-4806-999E-FB072A711B82}" type="datetime">
              <a:rPr b="0" lang="en-US" sz="1200" spc="-1" strike="noStrike">
                <a:solidFill>
                  <a:srgbClr val="ffffff"/>
                </a:solidFill>
                <a:latin typeface="Verdana"/>
              </a:rPr>
              <a:t>07/29/26</a:t>
            </a:fld>
            <a:r>
              <a:rPr b="0" lang="en-US" sz="1200" spc="-1" strike="noStrike">
                <a:solidFill>
                  <a:srgbClr val="ffffff"/>
                </a:solidFill>
                <a:latin typeface="Verdana"/>
              </a:rPr>
              <a:t> </a:t>
            </a:r>
            <a:fld id="{5AAA8936-AEEE-4EAE-9CC2-C518F6976AC8}"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B1A4-0AAA-4F6A-97A5-046D0B3F43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F64A-4843-449C-AA93-1F30C9094E43}" type="datetime">
              <a:rPr b="0" lang="en-US" sz="1200" spc="-1" strike="noStrike">
                <a:solidFill>
                  <a:srgbClr val="ffffff"/>
                </a:solidFill>
                <a:latin typeface="Verdana"/>
              </a:rPr>
              <a:t>07/29/26</a:t>
            </a:fld>
            <a:r>
              <a:rPr b="0" lang="en-US" sz="1200" spc="-1" strike="noStrike">
                <a:solidFill>
                  <a:srgbClr val="ffffff"/>
                </a:solidFill>
                <a:latin typeface="Verdana"/>
              </a:rPr>
              <a:t> </a:t>
            </a:r>
            <a:fld id="{02EA60F5-4A4E-42EF-BC49-705E6B03AC72}"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F3C9-BC95-4263-8BDC-B86415BF24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377C-E1C8-4B52-858B-BD9DE1934710}" type="datetime">
              <a:rPr b="0" lang="en-US" sz="1200" spc="-1" strike="noStrike">
                <a:solidFill>
                  <a:srgbClr val="ffffff"/>
                </a:solidFill>
                <a:latin typeface="Verdana"/>
              </a:rPr>
              <a:t>07/29/26</a:t>
            </a:fld>
            <a:r>
              <a:rPr b="0" lang="en-US" sz="1200" spc="-1" strike="noStrike">
                <a:solidFill>
                  <a:srgbClr val="ffffff"/>
                </a:solidFill>
                <a:latin typeface="Verdana"/>
              </a:rPr>
              <a:t> </a:t>
            </a:r>
            <a:fld id="{770E6BD1-86AE-4695-B521-47C94FAB6319}"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5C99-9E69-4D57-88F0-871F92CD1F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8FDA5-9BBF-4F5C-8FBB-6A0ADB97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108C-26FC-4568-9EEE-86318453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5B87B-D8F3-41AE-B70F-B2B3069E0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C5553-4BEC-4638-AB5E-0C60990F5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8ED7D-0A3B-4DE4-916C-0B2C89472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6EF41-D6D1-406E-A82F-38AE46E11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FCA1A-1AB3-4006-A761-8B8994595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01085-75DA-45CF-845D-92FECCB4C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C4C6D-7F9E-49C9-8D85-C8010CB9D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D59DE-70BF-4D2A-84D5-C3872BCEC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BE52D-2151-443D-8662-4B8B6FE9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E2B4-4B03-4A6B-BE7F-F7B8DAAA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B7573-3FD8-4081-8255-B942F59CF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A5072-D79E-4FA6-91F1-46F67E6D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96553-CF21-477E-B1E3-2D27B5970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6026F-07F3-4E72-B92E-306CD2A7C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5EC66-B16F-408C-85E4-41CFF3DA7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0735E-AA6F-47B9-836A-AEB638B1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9495-D94F-489B-93FA-0035DCF1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264E2-81F4-4428-9CC1-273EF67BE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89F1-26C7-429A-9E47-8DD86A8A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F3E4-888B-43F0-8AEF-DDF26993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023F-D6AD-41C7-BAED-4843D493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BE07-F5B4-49BC-8FA0-0C338AA37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60B1-9FB1-4933-AC5D-702027799C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4F17-6E36-48B5-BEF2-518A3F1C69E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0D33-550A-49EC-8C6D-90BAD40C35C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