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DCA0-0660-498F-9A4F-CFE224669CD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5D3D-0BAF-4768-84AC-22143B80200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609A-585A-4521-BD00-9037CDC571C9}" type="datetime">
              <a:rPr b="0" lang="en-US" sz="1200" spc="-1" strike="noStrike">
                <a:solidFill>
                  <a:srgbClr val="ffffff"/>
                </a:solidFill>
                <a:latin typeface="Verdana"/>
              </a:rPr>
              <a:t>07/30/26</a:t>
            </a:fld>
            <a:r>
              <a:rPr b="0" lang="en-US" sz="1200" spc="-1" strike="noStrike">
                <a:solidFill>
                  <a:srgbClr val="ffffff"/>
                </a:solidFill>
                <a:latin typeface="Verdana"/>
              </a:rPr>
              <a:t> </a:t>
            </a:r>
            <a:fld id="{39A6AF85-6FE1-4880-82BB-DE6C9A1B4F1E}"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7B6B-BB3B-4BE3-99C8-1EE26729519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53E9-061A-4DA9-8025-88ACE83B0EED}" type="datetime">
              <a:rPr b="0" lang="en-US" sz="1200" spc="-1" strike="noStrike">
                <a:solidFill>
                  <a:srgbClr val="ffffff"/>
                </a:solidFill>
                <a:latin typeface="Verdana"/>
              </a:rPr>
              <a:t>07/30/26</a:t>
            </a:fld>
            <a:r>
              <a:rPr b="0" lang="en-US" sz="1200" spc="-1" strike="noStrike">
                <a:solidFill>
                  <a:srgbClr val="ffffff"/>
                </a:solidFill>
                <a:latin typeface="Verdana"/>
              </a:rPr>
              <a:t> </a:t>
            </a:r>
            <a:fld id="{620CBCE7-2763-4386-99D4-CAD111AE1EE9}"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E4C9-2FAA-44D2-AD78-7BC2ACEF63C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EAC3-1318-45A6-BB7D-22445CFD50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36DE-21C8-46B0-BCEC-4314DE36EF7E}" type="datetime">
              <a:rPr b="0" lang="en-US" sz="1200" spc="-1" strike="noStrike">
                <a:solidFill>
                  <a:srgbClr val="ffffff"/>
                </a:solidFill>
                <a:latin typeface="Verdana"/>
              </a:rPr>
              <a:t>07/30/26</a:t>
            </a:fld>
            <a:r>
              <a:rPr b="0" lang="en-US" sz="1200" spc="-1" strike="noStrike">
                <a:solidFill>
                  <a:srgbClr val="ffffff"/>
                </a:solidFill>
                <a:latin typeface="Verdana"/>
              </a:rPr>
              <a:t> </a:t>
            </a:r>
            <a:fld id="{833E4B55-1D02-43C6-A504-5C14F384CA72}"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B16D-4951-4511-A426-D2344AAD0A3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C372-4E20-4DA8-8DE9-C5B01694A5B9}" type="datetime">
              <a:rPr b="0" lang="en-US" sz="1200" spc="-1" strike="noStrike">
                <a:solidFill>
                  <a:srgbClr val="ffffff"/>
                </a:solidFill>
                <a:latin typeface="Verdana"/>
              </a:rPr>
              <a:t>07/30/26</a:t>
            </a:fld>
            <a:r>
              <a:rPr b="0" lang="en-US" sz="1200" spc="-1" strike="noStrike">
                <a:solidFill>
                  <a:srgbClr val="ffffff"/>
                </a:solidFill>
                <a:latin typeface="Verdana"/>
              </a:rPr>
              <a:t> </a:t>
            </a:r>
            <a:fld id="{61A90551-649A-4FCF-817A-0225AFEB0080}"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7642-D684-49DD-A7CE-437B326E8AF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D9BA-D936-42F7-A83C-71CA62C407C0}" type="datetime">
              <a:rPr b="0" lang="en-US" sz="1200" spc="-1" strike="noStrike">
                <a:solidFill>
                  <a:srgbClr val="ffffff"/>
                </a:solidFill>
                <a:latin typeface="Verdana"/>
              </a:rPr>
              <a:t>07/30/26</a:t>
            </a:fld>
            <a:r>
              <a:rPr b="0" lang="en-US" sz="1200" spc="-1" strike="noStrike">
                <a:solidFill>
                  <a:srgbClr val="ffffff"/>
                </a:solidFill>
                <a:latin typeface="Verdana"/>
              </a:rPr>
              <a:t> </a:t>
            </a:r>
            <a:fld id="{48561362-7E96-4BF4-A062-9EC02CE6F316}"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852C-E69C-4B27-8F9D-3AEE4671ADA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9F62-F3B4-4F6A-9926-A6C42EE28CC2}" type="datetime">
              <a:rPr b="0" lang="en-US" sz="1200" spc="-1" strike="noStrike">
                <a:solidFill>
                  <a:srgbClr val="ffffff"/>
                </a:solidFill>
                <a:latin typeface="Verdana"/>
              </a:rPr>
              <a:t>07/30/26</a:t>
            </a:fld>
            <a:r>
              <a:rPr b="0" lang="en-US" sz="1200" spc="-1" strike="noStrike">
                <a:solidFill>
                  <a:srgbClr val="ffffff"/>
                </a:solidFill>
                <a:latin typeface="Verdana"/>
              </a:rPr>
              <a:t> </a:t>
            </a:r>
            <a:fld id="{E305E762-9724-409E-8804-5F19640A8061}"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E0C7-B458-45F6-B384-532CC48E6F1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C0C5-634B-49A8-9CDD-E74A2F0A1F76}" type="datetime">
              <a:rPr b="0" lang="en-US" sz="1200" spc="-1" strike="noStrike">
                <a:solidFill>
                  <a:srgbClr val="ffffff"/>
                </a:solidFill>
                <a:latin typeface="Verdana"/>
              </a:rPr>
              <a:t>07/30/26</a:t>
            </a:fld>
            <a:r>
              <a:rPr b="0" lang="en-US" sz="1200" spc="-1" strike="noStrike">
                <a:solidFill>
                  <a:srgbClr val="ffffff"/>
                </a:solidFill>
                <a:latin typeface="Verdana"/>
              </a:rPr>
              <a:t> </a:t>
            </a:r>
            <a:fld id="{4168CD8B-AA84-4454-945B-2FD09FBB366F}"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5898-D8D1-414F-9769-0A9EE817C5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5730-C16B-4309-BAB0-D8915D1E4AB1}" type="datetime">
              <a:rPr b="0" lang="en-US" sz="1200" spc="-1" strike="noStrike">
                <a:solidFill>
                  <a:srgbClr val="ffffff"/>
                </a:solidFill>
                <a:latin typeface="Verdana"/>
              </a:rPr>
              <a:t>07/30/26</a:t>
            </a:fld>
            <a:r>
              <a:rPr b="0" lang="en-US" sz="1200" spc="-1" strike="noStrike">
                <a:solidFill>
                  <a:srgbClr val="ffffff"/>
                </a:solidFill>
                <a:latin typeface="Verdana"/>
              </a:rPr>
              <a:t> </a:t>
            </a:r>
            <a:fld id="{115780D8-8627-4F11-A257-44673894DFC1}"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E2C4-2BFB-4BCF-AB45-F37773C24F2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497B-F753-4BFA-A92B-8A5BFD31B05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D224-D641-4A88-A583-7182C4FA55A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B6F0-4882-4C07-8C7F-964C7C8324A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E2C5-3459-4724-AEB6-D98A688D78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63E3-4A35-4C81-9BC7-BC992E9DD434}" type="datetime">
              <a:rPr b="0" lang="en-US" sz="1200" spc="-1" strike="noStrike">
                <a:solidFill>
                  <a:srgbClr val="ffffff"/>
                </a:solidFill>
                <a:latin typeface="Verdana"/>
              </a:rPr>
              <a:t>07/30/26</a:t>
            </a:fld>
            <a:r>
              <a:rPr b="0" lang="en-US" sz="1200" spc="-1" strike="noStrike">
                <a:solidFill>
                  <a:srgbClr val="ffffff"/>
                </a:solidFill>
                <a:latin typeface="Verdana"/>
              </a:rPr>
              <a:t> </a:t>
            </a:r>
            <a:fld id="{814D1DD5-5E7C-4D57-8AD5-F35F6E3DCE42}"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901C-2914-4918-B1C1-A7FC810885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693E-46AD-416C-806A-A62A10E76405}" type="datetime">
              <a:rPr b="0" lang="en-US" sz="1200" spc="-1" strike="noStrike">
                <a:solidFill>
                  <a:srgbClr val="ffffff"/>
                </a:solidFill>
                <a:latin typeface="Verdana"/>
              </a:rPr>
              <a:t>07/30/26</a:t>
            </a:fld>
            <a:r>
              <a:rPr b="0" lang="en-US" sz="1200" spc="-1" strike="noStrike">
                <a:solidFill>
                  <a:srgbClr val="ffffff"/>
                </a:solidFill>
                <a:latin typeface="Verdana"/>
              </a:rPr>
              <a:t> </a:t>
            </a:r>
            <a:fld id="{276F7043-63CD-4D65-930D-1F7C5DDD0505}"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9663-5B4A-4A67-86E4-DCF0463B852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59A3-B90F-4C3F-AA47-E23CBBA36876}" type="datetime">
              <a:rPr b="0" lang="en-US" sz="1200" spc="-1" strike="noStrike">
                <a:solidFill>
                  <a:srgbClr val="ffffff"/>
                </a:solidFill>
                <a:latin typeface="Verdana"/>
              </a:rPr>
              <a:t>07/30/26</a:t>
            </a:fld>
            <a:r>
              <a:rPr b="0" lang="en-US" sz="1200" spc="-1" strike="noStrike">
                <a:solidFill>
                  <a:srgbClr val="ffffff"/>
                </a:solidFill>
                <a:latin typeface="Verdana"/>
              </a:rPr>
              <a:t> </a:t>
            </a:r>
            <a:fld id="{73A34BD2-E72D-4C61-A5AA-9018D1654213}"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4EE2-84BD-4530-B74E-8570B34077E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A0BC5-970C-43FC-8CA0-9C8305997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4706-E8C6-4E90-832F-2F09C8A09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BFE87-992E-43A5-A23B-A2A54AD62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BC624-9CA9-4AC3-B69C-CBCB51C18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C637E-1295-4DF6-A2FA-E5E7B94E1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FC275-B38B-4A39-A965-1E1E31C55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37F12-29C6-44E0-8CB5-783665BBE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90470-4A04-404F-905F-E41BEDF35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213AA-2935-4FB9-9CF7-5A2FD9CB3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2C337-CFF6-48F4-B5E1-263AE7927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41792-BFD0-44AE-A460-03615CCDF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B9CC-9D90-4A21-A120-0CDAFC481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8586E-8521-48B2-9008-64F6CE88B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3A501-F87A-43A5-B2EF-42AA7F8D3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B2CE0-BFB5-413C-B56B-4C00096BF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D2FC8-3D42-4669-B3B5-83831DC57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72AE7-B2D1-4E96-AA52-3C81F1D7E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0016-F9A0-42E5-AE60-EEC3003D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8054F-919C-486D-974C-99BB6BE67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9FC3B-AC6E-4DE2-AC3E-84DB276E3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AC113-AA4C-494B-AD15-E69D5977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AEAC-3F85-416F-B347-3C2135F7D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960A-D338-44EE-8E07-4FED9B74C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A944-35EA-4FE9-88F8-9D2F183D4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DF4D-C7D7-4239-A414-4AC7632E22D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9AA8-A0F1-4024-9D76-F063AC4B1A0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0C1C-867B-4CCC-B129-69377407F434}"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