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9A57-CD1E-44DD-9723-754F869FB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5167-ED06-48C3-98B9-C9C6167B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B565-BB37-4ED2-A520-53BE8A4B1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F073-47E3-4CFF-A074-8CA342BEC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2C69-2886-4F1C-B1F2-9DCF16FAE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26AA-DAD4-408A-A8EB-26256D16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8A88-BB05-4995-A615-855B4FE6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9052-B8DD-4EB0-A7C8-290BA744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5396-334E-43E6-A77D-2DE438BB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F10F-9ECD-40F6-9069-CC71B508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C54D-BAAD-4610-902A-3EE7409E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309A-B254-4B64-B4DA-8CAA11B0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2D8D-2227-47AB-B2F1-7BC52ED4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4BFB-F858-4390-B923-EFA8D31D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0F31-C00C-41EC-9CAC-E7D0D4C0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03B5-795F-4394-AEBD-185A39B6A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0483-C63E-4824-8F3E-8ABF47F18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DDE0D-51FA-466F-81E1-2D47F31DA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9BB4C-A630-4BBC-9E75-61650F98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4B953-FB4B-4FB5-8C69-DC30E9F2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FD21E-11A0-476F-BB8A-BDA26D7F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27A4E-69E6-4CAE-AC86-3BA425BD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B477-D5D4-48CA-9FFC-BAB46908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1472E-E406-42B9-8D30-F7C4B542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A412E-2118-4039-B996-3AD4F297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CF759-346A-4AFB-989E-3022000E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937AA-DE3A-4A9A-9631-9B9A6A63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1A7F4-3F4B-476A-BEF3-6B52E483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D731C-D0EA-46F4-BB3C-30413CBE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FE49A-DEC0-45BA-BB5E-28B4AE292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76850-4CFD-467B-8550-3843940EE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A6F22-2A07-4602-BF4D-538FC2E2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5DFF0-4BF6-45D6-A144-C18BEB1D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CBF0-C5C8-4A93-AB81-70889068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BE878-9909-4A0B-8A5E-64C39FAA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35659-4167-4F69-901B-86C189AC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44ECF-CA10-44AF-A4B6-39FA5015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4F1D8-8226-4D36-B991-34C80692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513B6-2D2B-475A-8A9C-124123F3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84073-6566-40B0-B18D-1F7FB26E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56652-3B2D-46EC-9EF0-9843DA81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0F925-85E3-44C0-9B7D-A2EB342B0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9E2C6-E15D-4BCC-91B2-8FA188B13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9159-A5C9-4C6F-A908-F8DDB15A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CF49-71EA-4D30-968F-8B508438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9F71-F3D7-4632-B162-3A0F2545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761B-B6A8-42B7-99F7-AE6A6C29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CA4F-A1C8-4A34-9971-59F06566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1291-6CF4-4703-90F6-C46BD00C93D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6ADA-7B1F-4D9D-B582-C45D453AA79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F2D3-229E-466E-BC10-7A66D312548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03E4-0D03-48A8-BD57-7AED4C47003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7832520" cy="2505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03280" y="3142800"/>
            <a:ext cx="6383520" cy="214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Presentation at the Workshop Held  on  the 07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nstanti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April 2011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Lisema Lekhooan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PAF OBJECTIV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serve as a tool to measure sector performance on selected indicators which represents key sector performance are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provide evidence that investments are actually achieving the intended developm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influence Government and donors in deciding on priority areas for suppor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STRATEGIC PRIORITY AREAS FOR 2010-2012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rban Domestic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ural Water Supp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mestic Sani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titutional and Capacity Develop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WATER SUPPLY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portion of the rural households using piped water and public boreholes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WATER SUPPL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   Proportion of the urban households using piped water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 (cont.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BASELINE AND TARGE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3325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Content Placeholder 3" descr=""/>
          <p:cNvPicPr/>
          <p:nvPr/>
        </p:nvPicPr>
        <p:blipFill>
          <a:blip r:embed="rId1"/>
          <a:stretch/>
        </p:blipFill>
        <p:spPr>
          <a:xfrm>
            <a:off x="728640" y="208296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CHALLENGES and POTENTIAL CONSTRAIN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rmonization of Sector Information and a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Capacity for Monitoring and Evaluation especially key sector departments and agenc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information flow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nor Coordination and agreement to common approach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420840" y="414360"/>
            <a:ext cx="8321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0:04:22Z</dcterms:created>
  <dc:creator> </dc:creator>
  <dc:description/>
  <dc:language>en-US</dc:language>
  <cp:lastModifiedBy>user</cp:lastModifiedBy>
  <dcterms:modified xsi:type="dcterms:W3CDTF">2011-04-06T14:05:57Z</dcterms:modified>
  <cp:revision>110</cp:revision>
  <dc:subject/>
  <dc:title>MONITORING AND EVALUATION</dc:title>
</cp:coreProperties>
</file>