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D98D-C59D-4B22-BF02-CBFE0A24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02B5-671E-446A-B221-0531990C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4989-C2AB-410C-86BB-A85D01CE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F0F1-086E-4CD2-A8A2-80692B84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FADF-F971-4E73-90A2-D12116DA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73DF-7EE4-4150-82DE-8080176E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D4D8-0175-43CB-8224-B3BC0DA7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0B51-BACA-4BBE-8047-F31426FD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CD16-AC66-4B5D-A1E9-AE4F2DD3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4A41-2C4E-4B3F-A2B3-4AF9AB03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D2CC-C832-46A2-B24C-1A22039D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7E86-21A2-4AEB-9664-4A21EE25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3A48-8C32-46A0-9B98-E42A5C3E6F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DE74-7854-4A50-BCF7-FCD8A7632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eek 20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st Effects of a Lack of Spatial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95FF-6514-410D-AB92-7E4E228DD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is new infrastructure financ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larger community pay (taxes on existing residents to provide services to new resident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residents of the new community p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Charges = entry fee for urba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iest when you have greenfield and organized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possible when there are multiple 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still possible for servicing in-si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7FC7-E147-466C-920B-6B1C83A6E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, Choices, and Trade-Off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charges make explicit the cost of providing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?  There is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another 10 or 20 years for someone else to pa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 and pay for services that you can enjoy now and that increases the value of the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AB73-4EED-4777-BA28-0CAE9F426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ase of Wate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and sanitation is the most difficult and expensive infrastructure to pro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Co is one of the better utilities in Africa, but it doesn’t generate enough excess funds through existing tariffs to pay for major network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’t “pre-invest” in new development areas without up-front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A1BF-3EBD-4FC5-BCFE-DA421680A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funding for water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 government or local authority – to service a specific industrial or residential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side donors – to provide services to underserved areas, at concessional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al real estate developers?  Effectively paying development charge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ed communities?  Pooling or raising fund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49C4-32C5-4FF6-BC4A-59A4AB05B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025C-F2DB-48D8-9E67-BB5BBA3AA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817D-FB2C-46DE-BA30-A2B7C3848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and Characteristics of Urban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shi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marketability and transf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ail financial sector / willingness to l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urba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characteristics of urb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9834-5CBD-4FAC-82B6-F030725C1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essions of Mase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 to draw conclusions about Maseru and envi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limited planning; some haphazard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“leapfrog”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x of housing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road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3D3B-7D71-4FA3-B41E-D9CCAF827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ion of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: the addition of new res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aw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 cause and consequence of a lack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A889-B58D-4E36-95DB-84EF84642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ope of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:  roads and paths, water and sanitation, solid waste management, public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:  schools, health clinics, space for places of w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nities: parks, places for civic gathering, play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sion of (and financing of)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C649-D2EF-4D2F-9C91-C359D54EB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 of Unplanned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and monetary costs for transportation and fo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safety and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unclear costs with respect to electricity and solid waste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service providers for later retrofit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ularly high for water and sanitation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58A1-65A4-4567-9AF0-74698FD41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incidental benefits of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(or lack of density) means that existing sanitation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effects of poor sanitation are relatively mi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ible mix in the quality of housing = neighborhoods are not limited to a single incom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9638-01EC-46BD-965E-887DD0C2E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ing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he value of serviced land vs. unserviced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competitive property market, this is the value that society places on thos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or may not be a good approximat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providing thos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seru, cost &gt;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the state of affairs (and wait…)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o reduce the costs of provid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07BD-84EE-4A1E-8557-C457E64AF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for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ahead for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human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, enforceable land-use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ble and transparent way to convert land from non-urban to urban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transferable land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073B-9231-49A1-AC86-0EC63E58C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43:31Z</dcterms:created>
  <dc:creator>wb112884</dc:creator>
  <dc:description/>
  <dc:language>en-US</dc:language>
  <cp:lastModifiedBy>new</cp:lastModifiedBy>
  <dcterms:modified xsi:type="dcterms:W3CDTF">2011-04-05T09:09:27Z</dcterms:modified>
  <cp:revision>16</cp:revision>
  <dc:subject/>
  <dc:title>Slide 1</dc:title>
</cp:coreProperties>
</file>