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B6FB-69A3-4983-84E2-EF336CC4F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932C-F380-4095-B9E5-9335BA9BCA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193E-6426-4A48-B2C1-B32E1648AD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5340-FE5B-475F-91F7-8E0BB0AE46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4309-37DF-4876-9902-B256270B60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59B3-CF85-4D97-8763-CB86F7CC2B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DF8E-8658-4F42-AB69-45B0763D652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6E02-DAF4-43D6-A8EA-8EDCD9B760F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730E-8310-4182-B344-393941D58A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7140-18B0-440F-AE81-0EDBE4EC69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0280" cy="3706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53CF-9F2C-4FA3-887B-2C235C55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56F4-550E-48AE-A6B4-BA0120B4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FA42-CABA-40DA-9ACE-DD5D7A53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76A0-AD26-47B7-A8D1-9DFA5483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3FF5-8116-43D1-A874-3F5AA0CD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B4ED-19DB-4511-BBFF-D3F20346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7F4B-5C33-4960-88F7-4F54C79F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BCC-158F-4F89-95DC-73394744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E3AA-9E1E-400D-8165-E562E39D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529-8C2A-4072-B46D-2B3C1899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E194-B6ED-4D14-B078-2FD3B95C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09A7-5AAD-41F8-BD8E-A8CB4ABC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920" y="6453000"/>
            <a:ext cx="25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633720"/>
            <a:ext cx="252072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BAE3-6194-442E-B413-6E76FC1D944D}" type="slidenum">
              <a:rPr b="0" lang="en-GB" sz="10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Timo.voipio@formin.f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284720" y="0"/>
            <a:ext cx="48592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2009)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uture work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Timo Voi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FA-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cc13"/>
                </a:solidFill>
                <a:uFillTx/>
                <a:latin typeface="Arial"/>
                <a:hlinkClick r:id="rId2"/>
              </a:rPr>
              <a:t>timo.voipio@formin.f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/EU Part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So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irobi 10-11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illennium Development Go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Multi-dimensi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8935-6FE8-493E-8A57-9F9C47CF31DE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2A2E-FA8E-4A94-9D71-7287535295C5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7"/>
          <p:cNvSpPr/>
          <p:nvPr/>
        </p:nvSpPr>
        <p:spPr>
          <a:xfrm>
            <a:off x="6084720" y="4941720"/>
            <a:ext cx="19432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067280" y="5516640"/>
            <a:ext cx="40338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4140360" y="6093000"/>
            <a:ext cx="2376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12"/>
          <p:cNvSpPr/>
          <p:nvPr/>
        </p:nvSpPr>
        <p:spPr>
          <a:xfrm>
            <a:off x="6659640" y="3141720"/>
            <a:ext cx="144144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13"/>
          <p:cNvSpPr/>
          <p:nvPr/>
        </p:nvSpPr>
        <p:spPr>
          <a:xfrm>
            <a:off x="3780000" y="1125360"/>
            <a:ext cx="216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AD15-7A6C-4A63-80BE-C48C9390F087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026"/>
          <p:cNvSpPr/>
          <p:nvPr/>
        </p:nvSpPr>
        <p:spPr>
          <a:xfrm>
            <a:off x="4572000" y="2743200"/>
            <a:ext cx="3657600" cy="3429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59284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VELOPMENT and PovReduction ?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growth + redistribution, if any...?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redistribution of opportunity...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All the other s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where poor peopl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29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31"/>
          <p:cNvSpPr/>
          <p:nvPr/>
        </p:nvSpPr>
        <p:spPr>
          <a:xfrm>
            <a:off x="5105520" y="3276720"/>
            <a:ext cx="2590560" cy="2438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32"/>
          <p:cNvSpPr/>
          <p:nvPr/>
        </p:nvSpPr>
        <p:spPr>
          <a:xfrm rot="13623600">
            <a:off x="6561720" y="3030840"/>
            <a:ext cx="1057320" cy="1611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33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35"/>
          <p:cNvSpPr/>
          <p:nvPr/>
        </p:nvSpPr>
        <p:spPr>
          <a:xfrm rot="19941000">
            <a:off x="5715000" y="312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36"/>
          <p:cNvSpPr/>
          <p:nvPr/>
        </p:nvSpPr>
        <p:spPr>
          <a:xfrm rot="16048200">
            <a:off x="4952880" y="40384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37"/>
          <p:cNvSpPr/>
          <p:nvPr/>
        </p:nvSpPr>
        <p:spPr>
          <a:xfrm rot="6979200">
            <a:off x="7390440" y="4571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38"/>
          <p:cNvSpPr/>
          <p:nvPr/>
        </p:nvSpPr>
        <p:spPr>
          <a:xfrm rot="11289600">
            <a:off x="6019920" y="53334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2715000">
            <a:off x="6933600" y="34290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41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03640" y="256536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3"/>
          <p:cNvSpPr/>
          <p:nvPr/>
        </p:nvSpPr>
        <p:spPr>
          <a:xfrm flipH="1">
            <a:off x="2916360" y="2997360"/>
            <a:ext cx="576000" cy="7128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5"/>
          <p:cNvSpPr/>
          <p:nvPr/>
        </p:nvSpPr>
        <p:spPr>
          <a:xfrm flipH="1" flipV="1">
            <a:off x="2123640" y="5300280"/>
            <a:ext cx="144360" cy="57636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P-strategies of Africa + POVN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unis, 27-30 June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21F7-95E1-4BED-8C7C-D8141847AEFC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733920" y="2133720"/>
            <a:ext cx="5257800" cy="4419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with trust and social protection, people dare to move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029200" y="3124080"/>
            <a:ext cx="2590920" cy="2438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 rot="13623600">
            <a:off x="6543000" y="2446920"/>
            <a:ext cx="1595520" cy="2301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 rot="19941000">
            <a:off x="5022720" y="2133360"/>
            <a:ext cx="1432080" cy="1690560"/>
          </a:xfrm>
          <a:prstGeom prst="upArrow">
            <a:avLst>
              <a:gd name="adj1" fmla="val 50000"/>
              <a:gd name="adj2" fmla="val 2951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 rot="16048200">
            <a:off x="3986640" y="3395880"/>
            <a:ext cx="1305000" cy="1675080"/>
          </a:xfrm>
          <a:prstGeom prst="upArrow">
            <a:avLst>
              <a:gd name="adj1" fmla="val 50000"/>
              <a:gd name="adj2" fmla="val 3209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6979200">
            <a:off x="7299720" y="4137480"/>
            <a:ext cx="1493640" cy="1508400"/>
          </a:xfrm>
          <a:prstGeom prst="upArrow">
            <a:avLst>
              <a:gd name="adj1" fmla="val 50000"/>
              <a:gd name="adj2" fmla="val 25247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rot="11289600">
            <a:off x="5616360" y="5365440"/>
            <a:ext cx="1617480" cy="1311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rot="2715000">
            <a:off x="6927120" y="2481840"/>
            <a:ext cx="1339560" cy="1859040"/>
          </a:xfrm>
          <a:prstGeom prst="upArrow">
            <a:avLst>
              <a:gd name="adj1" fmla="val 50000"/>
              <a:gd name="adj2" fmla="val 34695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21"/>
          <p:cNvCxnSpPr/>
          <p:nvPr/>
        </p:nvCxnSpPr>
        <p:spPr>
          <a:xfrm flipV="1">
            <a:off x="6515640" y="4005000"/>
            <a:ext cx="648360" cy="172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3" name="Straight Arrow Connector 22"/>
          <p:cNvCxnSpPr/>
          <p:nvPr/>
        </p:nvCxnSpPr>
        <p:spPr>
          <a:xfrm>
            <a:off x="5435640" y="2997360"/>
            <a:ext cx="1729440" cy="57636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4" name="Straight Arrow Connector 23"/>
          <p:cNvCxnSpPr/>
          <p:nvPr/>
        </p:nvCxnSpPr>
        <p:spPr>
          <a:xfrm flipH="1" flipV="1">
            <a:off x="5002920" y="4436280"/>
            <a:ext cx="1513800" cy="136908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5" name="Straight Arrow Connector 24"/>
          <p:cNvCxnSpPr/>
          <p:nvPr/>
        </p:nvCxnSpPr>
        <p:spPr>
          <a:xfrm flipV="1">
            <a:off x="5219280" y="3933360"/>
            <a:ext cx="1801080" cy="504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6" name="Straight Arrow Connector 30"/>
          <p:cNvCxnSpPr/>
          <p:nvPr/>
        </p:nvCxnSpPr>
        <p:spPr>
          <a:xfrm flipH="1" flipV="1">
            <a:off x="5002920" y="4365360"/>
            <a:ext cx="2233080" cy="28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sp>
        <p:nvSpPr>
          <p:cNvPr id="217" name="TextBox 33"/>
          <p:cNvSpPr/>
          <p:nvPr/>
        </p:nvSpPr>
        <p:spPr>
          <a:xfrm>
            <a:off x="6948360" y="189000"/>
            <a:ext cx="22622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frican sm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er agric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6 x larger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n in overseas export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324000" y="2637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0" y="5805360"/>
            <a:ext cx="58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structural change           from sector to 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38"/>
          <p:cNvSpPr/>
          <p:nvPr/>
        </p:nvSpPr>
        <p:spPr>
          <a:xfrm flipV="1">
            <a:off x="4647600" y="5157360"/>
            <a:ext cx="1003320" cy="862200"/>
          </a:xfrm>
          <a:prstGeom prst="line">
            <a:avLst/>
          </a:prstGeom>
          <a:ln w="38160">
            <a:solidFill>
              <a:srgbClr val="001b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ACE0-56AA-4D03-9E9B-10A49A5E3FEC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Credible Social Protection needed for poor people to be able to participate in and contribute to grow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>
            <a:off x="826920" y="2421000"/>
            <a:ext cx="180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F373-66BD-49F2-A424-D535496E0F4A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403884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0" y="1268280"/>
            <a:ext cx="3348000" cy="39344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ECD-POVNE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Prot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Good for Pro-P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1CE3-647B-49D9-B4BD-AEA58BBE00C2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Social Protection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1071720"/>
            <a:ext cx="44960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-poor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void shocks that derai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innovation,    risk taking and 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eracts irreversible asset de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t accumulation + broadening tax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gregate demand in the economy/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0" y="1071720"/>
            <a:ext cx="4572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ights-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.22-28 UDH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Gs, bas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socio-economic ‘floor’ /’compact’ (minimum standar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cratic partic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cycle and inter-generation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9528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+ Fastest way to achieve MD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5010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Universal Declaration of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Human Rights (1948)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61084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Everyone, as a member of society, has the 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ocial security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 (Art 2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k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 freely chosen...under just conditions and remuneration...and to join unions..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and to a decent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 of living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7"/>
          <p:cNvSpPr/>
          <p:nvPr/>
        </p:nvSpPr>
        <p:spPr>
          <a:xfrm>
            <a:off x="5651640" y="2924280"/>
            <a:ext cx="33130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3564000" y="3645000"/>
            <a:ext cx="46800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771640" y="0"/>
            <a:ext cx="70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4500720" y="476280"/>
            <a:ext cx="0" cy="6381720"/>
          </a:xfrm>
          <a:prstGeom prst="line">
            <a:avLst/>
          </a:prstGeom>
          <a:ln w="93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nor polic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Guidelines on: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  Cash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wth-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f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ord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-cycle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, 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gil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ada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saster Risk Reduc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5580000" y="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47d"/>
                </a:solidFill>
                <a:latin typeface="Bauhaus Hv BT"/>
              </a:rPr>
              <a:t>The ILO Campaign on Social Security and Coverage for 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-468360" y="1052640"/>
            <a:ext cx="10296720" cy="64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89000"/>
            <a:ext cx="914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Social Protection </a:t>
            </a:r>
            <a:r>
              <a:rPr b="1" lang="en-US" sz="4400" spc="-1" strike="noStrike" u="sng">
                <a:solidFill>
                  <a:srgbClr val="fae073"/>
                </a:solidFill>
                <a:uFillTx/>
                <a:latin typeface="Calibri"/>
                <a:ea typeface="Gulim"/>
              </a:rPr>
              <a:t>Floor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</a:t>
            </a:r>
            <a:r>
              <a:rPr b="1" lang="en-US" sz="4400" spc="-1" strike="noStrike">
                <a:solidFill>
                  <a:srgbClr val="fae073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towards higher level services and protection…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y: Our Concept of Development and Progr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uld we measure progress in terms of GDP 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in terms of numbers of women and men, young, old and disabled who have gain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ecent jobs, sustainable livelihoods or reliable social prote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who are therefore able to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articipate as active citizens and economic actor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’transformative’ proces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55736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Aft>
                <a:spcPts val="700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on EMPOWERMENT and Pro-Poor Growth soon…(2009-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Making Green Growth Pro-Poor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Food Security/Access to Food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4) Social Protection Flo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ask Team 2011-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ordinate with EU/AU + UN-SPF-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olicy / social protection analytic capacity + staff train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rotection statistics (DAC-co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0" descr="pov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916360" y="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</a:rPr>
              <a:t>POVNET WORK 2009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0" y="1557360"/>
            <a:ext cx="9144000" cy="58226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TOWARDS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now to show DEMAND and require BUDGETS and ACTION by EUC/AUC + 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+ Network of EU and African Experts (+ POVNET + UN SocProtFloor Initiat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ICSW Global Conferenc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Brasilia 16-19 July, 200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Entry points for ICSW to promo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ocial Justice in PRS-proc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47A9-43E2-4FF2-B4F0-95A7AF30234E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2578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876312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O-1992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IO-2012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stainable dev’t 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dev’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0532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19720" y="1523880"/>
            <a:ext cx="304560" cy="4114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5397000">
            <a:off x="4419360" y="-761760"/>
            <a:ext cx="304920" cy="48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33720" y="182880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58000" y="175248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556272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0" y="0"/>
            <a:ext cx="144360" cy="6858000"/>
          </a:xfrm>
          <a:prstGeom prst="rect">
            <a:avLst/>
          </a:prstGeom>
          <a:solidFill>
            <a:srgbClr val="88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332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-D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094800" y="530064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I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426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0"/>
            <a:ext cx="846144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ich Country Club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61 - 201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C = ’Donor brainstorming forum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0,7% GDP, aid untying, ’ownership’, ’aid coordination’, ’aid harmonization’, (Paris/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VNET = Poverty Network 1998 – 20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DERNET + ENVIRONET +  GOV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cid:image001.gif@01CB536A.B5658840"/>
          <p:cNvPicPr/>
          <p:nvPr/>
        </p:nvPicPr>
        <p:blipFill>
          <a:blip r:embed="rId1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6400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40328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Poverty is context-specific, 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fae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…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Poverty is </a:t>
            </a:r>
            <a:r>
              <a:rPr b="1" lang="en-US" sz="3600" spc="-1" strike="noStrike" u="sng">
                <a:solidFill>
                  <a:srgbClr val="00247d"/>
                </a:solidFill>
                <a:uFillTx/>
                <a:latin typeface="Arial"/>
                <a:ea typeface="Arial Unicode MS"/>
              </a:rPr>
              <a:t>multi-dimensional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 (OEC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52680" y="838080"/>
            <a:ext cx="259092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ROTECTIVE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sk, vulnerability             social protection / social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238880" y="2208240"/>
            <a:ext cx="1905120" cy="173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LITIC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ghts        freedoms        voice &amp;    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791320" y="5049720"/>
            <a:ext cx="182880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OCIO-CULTUR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spect,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2208240"/>
            <a:ext cx="198144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nsump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come           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600200" y="5035680"/>
            <a:ext cx="1695600" cy="1592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ealth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duca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unger, th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733920" y="2743200"/>
            <a:ext cx="167616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DER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VIRON-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371600" y="1219320"/>
            <a:ext cx="182880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3600" y="121932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444840" y="572616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1219320" y="3429000"/>
            <a:ext cx="1044360" cy="14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2286000" y="24382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6773760" y="3771720"/>
            <a:ext cx="1046160" cy="1143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257800" y="2362320"/>
            <a:ext cx="1022400" cy="25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2849400" y="2286000"/>
            <a:ext cx="1036800" cy="2689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3352680" y="3349440"/>
            <a:ext cx="3587760" cy="1795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 flipV="1">
            <a:off x="2133720" y="3192120"/>
            <a:ext cx="3527280" cy="1839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ähän maapallo ja  lap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beleni - Future - Tulevaisu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http://www.unbotswana.org.bw/img/photo/system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3857760" y="4000680"/>
            <a:ext cx="642960" cy="26431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2000 – Millennium Declar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and MD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42908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s. Tarja  Halonen, President of 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ir of the Millennium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51:28Z</dcterms:created>
  <dc:creator>kilpiha</dc:creator>
  <dc:description/>
  <dc:language>en-US</dc:language>
  <cp:lastModifiedBy>Timo Voipio</cp:lastModifiedBy>
  <dcterms:modified xsi:type="dcterms:W3CDTF">2011-03-10T09:29:51Z</dcterms:modified>
  <cp:revision>499</cp:revision>
  <dc:subject/>
  <dc:title>COMMUNCATION Ministry for Foreign Affairs Fin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itional information">
    <vt:lpwstr/>
  </property>
  <property fmtid="{D5CDD505-2E9C-101B-9397-08002B2CF9AE}" pid="3" name="Creator">
    <vt:lpwstr/>
  </property>
  <property fmtid="{D5CDD505-2E9C-101B-9397-08002B2CF9AE}" pid="4" name="Date">
    <vt:lpwstr>2009-02-17T00:00:00Z</vt:lpwstr>
  </property>
  <property fmtid="{D5CDD505-2E9C-101B-9397-08002B2CF9AE}" pid="5" name="Unit">
    <vt:lpwstr/>
  </property>
</Properties>
</file>