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2.png" ContentType="image/png"/>
  <Override PartName="/ppt/media/image7.wmf" ContentType="image/x-wmf"/>
  <Override PartName="/ppt/media/image15.png" ContentType="image/png"/>
  <Override PartName="/ppt/media/image5.jpeg" ContentType="image/jpeg"/>
  <Override PartName="/ppt/media/image14.png" ContentType="image/png"/>
  <Override PartName="/ppt/media/image9.png" ContentType="image/png"/>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97C385-5650-4104-BAEF-AD01B61B8B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9693DF-2862-475D-BF23-2D65095531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4C762B-F108-45DA-A154-2192BE99DA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686062-CECA-4BD4-8BA7-0F3896E6DB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F2BA76-89ED-433D-96F2-77C65D020C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019019-9C02-40EB-A225-068B0C2B4C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CB97CA-1B71-4547-B2DF-B6A67F1369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5FF530-876F-45DF-9149-9FC4A3225F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D09182-E2DD-436F-A151-7258D1205D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A48953-3EE6-4260-ADEA-F29C828860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008622-D0DE-43B3-92E3-B296590B9F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D2BFEF-785E-4B12-A5D6-C3B8B48F30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49E5C9-C624-47EF-9960-63B75B94B8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5BAC68-85EE-4E18-AED2-225A15711E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44DDEE-69D5-4246-A874-8C1CD49818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1C2427-13CA-48DC-81BE-3FC90A8FB7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11D588-F2C6-4456-85F4-794D6E357A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ACC6564-182F-4B54-B2D3-5D3FAB03BE0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1F3ECD-9984-4474-9DAE-0C9800AA0D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DD578E-20F2-49D0-B10A-A17EB64E1F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9548FC-38BD-46E3-BBE1-0CB1E7C9B7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F4D3A0-E477-4931-A510-5F705A5450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14686A-A5B1-4336-B079-1D2E19308E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9F0078-6FA5-4BDC-AFDC-1F157D1746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0BE1BB-F40D-4767-A77D-2D01D1C0BE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0A9434-5CCD-4F4E-AC2B-A5784533D8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65EACB-17FF-427E-9BF4-1E43C04611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2BF3DA-824C-44E5-AEA2-055BB54F26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8C2E83-8B62-4A9D-A2A1-751AF1A6861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4417505-6FFC-4538-A665-0EF7FD61A0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DD12FD3-5276-4A59-B49A-FA39AA5192D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ECE867-DFBC-4A2A-A375-DDCBE9E404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2BA24A-4BAA-4DAA-8331-D112382677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DF13C-E41F-4E49-B03D-991631B35C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C132BE-B1BC-44B5-A5A8-AC1A1355A0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E71409-47E1-4CEA-A9A4-684F0C3B2E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C61657-9FDF-4296-8EA1-C6413B34FE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4F9922-FB22-4B69-A0AC-8E7385DBE8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114F8A-8502-4C91-A196-57B429CB59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93F75D-3F2B-450D-982A-FF57FA7E9F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85282D-B576-4E2E-A1CD-45176D62F1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5F7CAB3-9926-49B6-BA8F-9541996D8BB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CC9ACAB-C9E9-4C5B-A12B-68A4EB4C398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B125A79-EEC1-4858-9B5F-3FD307CE9B2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1F8383-DDC9-477B-91F1-F0BA60B65E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316432-4254-4DCD-B30D-DB3D8B52D0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A2A19D-1AF4-4E99-BB45-799406A5E2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268035-F214-4850-A1A3-A267EDA907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F7FEFC-C826-4D04-AD3B-B1F6D85E2D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CC48102-54BE-45E4-88E3-71D60B6227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209D5D-D7C1-416D-8568-B2EFB1AC2F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19B2AE-9769-44D9-A3F6-AFDB155742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D1ED45-C40C-4A6E-A70F-038582732D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57210F-14A6-4C27-BEBE-1C041ED2AB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D10FF17-3658-46E2-9D52-F0F72F29DD6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9EBE08-4FBF-449F-B86B-39662D6D3A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3F732F4-1ABF-494D-B593-68F2F258BD5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8085A-0830-4C00-BE93-1D1F9E0A66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C5F54-0887-4AAF-8B35-B73B2F2D58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92420-0F56-4904-A881-4A656A4631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CDCC9-D03F-4CFE-93A8-18E89F92773A}"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4"/>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5"/>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DDE31-0095-45D7-B6E0-DF7F799FE3EC}"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91AF6-40E6-4921-AB6D-63144AD3FA88}"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B7770-0258-425C-ABA1-0B1BC15977AA}"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0479B-E422-4F59-B47C-88B46ABB364E}"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Subtitle 2" descr=""/>
          <p:cNvPicPr/>
          <p:nvPr/>
        </p:nvPicPr>
        <p:blipFill>
          <a:blip r:embed="rId1"/>
          <a:stretch/>
        </p:blipFill>
        <p:spPr>
          <a:xfrm>
            <a:off x="755640" y="3492360"/>
            <a:ext cx="7480440" cy="3067200"/>
          </a:xfrm>
          <a:prstGeom prst="rect">
            <a:avLst/>
          </a:prstGeom>
          <a:ln w="0">
            <a:noFill/>
          </a:ln>
        </p:spPr>
      </p:pic>
      <p:pic>
        <p:nvPicPr>
          <p:cNvPr id="229" name="Title 1" descr=""/>
          <p:cNvPicPr/>
          <p:nvPr/>
        </p:nvPicPr>
        <p:blipFill>
          <a:blip r:embed="rId2"/>
          <a:stretch/>
        </p:blipFill>
        <p:spPr>
          <a:xfrm>
            <a:off x="530280" y="2389320"/>
            <a:ext cx="7785000" cy="896760"/>
          </a:xfrm>
          <a:prstGeom prst="rect">
            <a:avLst/>
          </a:prstGeom>
          <a:ln w="0">
            <a:noFill/>
          </a:ln>
        </p:spPr>
      </p:pic>
      <p:sp>
        <p:nvSpPr>
          <p:cNvPr id="230" name="Rectangle 3"/>
          <p:cNvSpPr/>
          <p:nvPr/>
        </p:nvSpPr>
        <p:spPr>
          <a:xfrm>
            <a:off x="-3522600" y="2136600"/>
            <a:ext cx="183960" cy="922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1" name="Picture 6" descr="logo"/>
          <p:cNvPicPr/>
          <p:nvPr/>
        </p:nvPicPr>
        <p:blipFill>
          <a:blip r:embed="rId3"/>
          <a:stretch/>
        </p:blipFill>
        <p:spPr>
          <a:xfrm>
            <a:off x="3352680" y="152280"/>
            <a:ext cx="2171880" cy="2186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Title 3" descr=""/>
          <p:cNvPicPr/>
          <p:nvPr/>
        </p:nvPicPr>
        <p:blipFill>
          <a:blip r:embed="rId1"/>
          <a:stretch/>
        </p:blipFill>
        <p:spPr>
          <a:xfrm>
            <a:off x="208080" y="79200"/>
            <a:ext cx="8485200" cy="908280"/>
          </a:xfrm>
          <a:prstGeom prst="rect">
            <a:avLst/>
          </a:prstGeom>
          <a:ln w="0">
            <a:noFill/>
          </a:ln>
        </p:spPr>
      </p:pic>
      <p:sp>
        <p:nvSpPr>
          <p:cNvPr id="249" name=""/>
          <p:cNvSpPr txBox="1"/>
          <p:nvPr/>
        </p:nvSpPr>
        <p:spPr>
          <a:xfrm>
            <a:off x="457200" y="1599840"/>
            <a:ext cx="8229600" cy="4724280"/>
          </a:xfrm>
          <a:prstGeom prst="rect">
            <a:avLst/>
          </a:prstGeom>
          <a:noFill/>
          <a:ln w="0">
            <a:noFill/>
          </a:ln>
        </p:spPr>
        <p:txBody>
          <a:bodyPr lIns="90000" rIns="90000" tIns="46800" bIns="46800" anchor="t">
            <a:normAutofit/>
          </a:bodyPr>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Facilitate regional dialogue </a:t>
            </a:r>
            <a:endParaRPr b="0" lang="en-US" sz="2600" spc="-1" strike="noStrike">
              <a:solidFill>
                <a:srgbClr val="000000"/>
              </a:solidFill>
              <a:latin typeface="Perpetua"/>
            </a:endParaRPr>
          </a:p>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Regional platform </a:t>
            </a:r>
            <a:endParaRPr b="0" lang="en-US" sz="2600" spc="-1" strike="noStrike">
              <a:solidFill>
                <a:srgbClr val="000000"/>
              </a:solidFill>
              <a:latin typeface="Perpetua"/>
            </a:endParaRPr>
          </a:p>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Regional policy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6" descr="logo"/>
          <p:cNvPicPr/>
          <p:nvPr/>
        </p:nvPicPr>
        <p:blipFill>
          <a:blip r:embed="rId1"/>
          <a:stretch/>
        </p:blipFill>
        <p:spPr>
          <a:xfrm>
            <a:off x="1638360" y="380880"/>
            <a:ext cx="5295960" cy="5105520"/>
          </a:xfrm>
          <a:prstGeom prst="rect">
            <a:avLst/>
          </a:prstGeom>
          <a:ln w="0">
            <a:noFill/>
          </a:ln>
        </p:spPr>
      </p:pic>
      <p:pic>
        <p:nvPicPr>
          <p:cNvPr id="251" name="Rectangle 3" descr=""/>
          <p:cNvPicPr/>
          <p:nvPr/>
        </p:nvPicPr>
        <p:blipFill>
          <a:blip r:embed="rId2"/>
          <a:stretch/>
        </p:blipFill>
        <p:spPr>
          <a:xfrm>
            <a:off x="244440" y="5857920"/>
            <a:ext cx="8539200" cy="780840"/>
          </a:xfrm>
          <a:prstGeom prst="rect">
            <a:avLst/>
          </a:prstGeom>
          <a:ln w="0">
            <a:noFill/>
          </a:ln>
        </p:spPr>
      </p:pic>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Title 3" descr=""/>
          <p:cNvPicPr/>
          <p:nvPr/>
        </p:nvPicPr>
        <p:blipFill>
          <a:blip r:embed="rId1"/>
          <a:stretch/>
        </p:blipFill>
        <p:spPr>
          <a:xfrm>
            <a:off x="208080" y="85680"/>
            <a:ext cx="8485200" cy="901800"/>
          </a:xfrm>
          <a:prstGeom prst="rect">
            <a:avLst/>
          </a:prstGeom>
          <a:ln w="0">
            <a:noFill/>
          </a:ln>
        </p:spPr>
      </p:pic>
      <p:pic>
        <p:nvPicPr>
          <p:cNvPr id="233" name="Picture 2" descr=""/>
          <p:cNvPicPr/>
          <p:nvPr/>
        </p:nvPicPr>
        <p:blipFill>
          <a:blip r:embed="rId2"/>
          <a:stretch/>
        </p:blipFill>
        <p:spPr>
          <a:xfrm>
            <a:off x="228600" y="990720"/>
            <a:ext cx="8610480" cy="5486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omprised of seven countries  of East and Horn of Africa Region namely Djibouti, Eritrea, Ethiopia, Kenya, Uganda, Somalia, Sudan</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eadquarter in Djibouti</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reated in 1986 to combat drought and desertification</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Mandate expanded in 1996 to economic integration and Peace an Security</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IGAD is one of the 8 RECS in the continent</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pic>
        <p:nvPicPr>
          <p:cNvPr id="235" name="Rectangle 3" descr=""/>
          <p:cNvPicPr/>
          <p:nvPr/>
        </p:nvPicPr>
        <p:blipFill>
          <a:blip r:embed="rId1"/>
          <a:stretch/>
        </p:blipFill>
        <p:spPr>
          <a:xfrm>
            <a:off x="225360" y="268200"/>
            <a:ext cx="8547120" cy="1195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457200" y="1600200"/>
            <a:ext cx="8229600" cy="50292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Mission of IGAD is to assist Member States to achieve  regional integration through closer collaboration in the areas of :</a:t>
            </a:r>
            <a:endParaRPr b="0" lang="en-US" sz="26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Economic Integration</a:t>
            </a:r>
            <a:endParaRPr b="0" lang="en-US" sz="32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Peace and Security</a:t>
            </a:r>
            <a:endParaRPr b="0" lang="en-US" sz="32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Agriculture, Food Security </a:t>
            </a:r>
            <a:r>
              <a:rPr b="1" lang="en-US" sz="3200" spc="-1" strike="noStrike">
                <a:solidFill>
                  <a:srgbClr val="000000"/>
                </a:solidFill>
                <a:latin typeface="Perpetua"/>
              </a:rPr>
              <a:t>&amp; </a:t>
            </a:r>
            <a:r>
              <a:rPr b="1" lang="en-US" sz="3200" spc="-1" strike="noStrike">
                <a:solidFill>
                  <a:srgbClr val="000000"/>
                </a:solidFill>
                <a:latin typeface="Arial Narrow"/>
              </a:rPr>
              <a:t>Environment</a:t>
            </a:r>
            <a:endParaRPr b="0" lang="en-US" sz="32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ocial Development</a:t>
            </a:r>
            <a:endParaRPr b="0" lang="en-US" sz="3200" spc="-1" strike="noStrike">
              <a:solidFill>
                <a:srgbClr val="000000"/>
              </a:solidFill>
              <a:latin typeface="Perpetua"/>
            </a:endParaRPr>
          </a:p>
        </p:txBody>
      </p:sp>
      <p:pic>
        <p:nvPicPr>
          <p:cNvPr id="237" name="Rectangle 3" descr=""/>
          <p:cNvPicPr/>
          <p:nvPr/>
        </p:nvPicPr>
        <p:blipFill>
          <a:blip r:embed="rId1"/>
          <a:stretch/>
        </p:blipFill>
        <p:spPr>
          <a:xfrm>
            <a:off x="298440" y="281160"/>
            <a:ext cx="8089920" cy="101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457200" y="1599840"/>
            <a:ext cx="8229600" cy="487692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Established in 2000</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Promote Social Policies ( Health-education-Social protection,, migration…</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Address the need of mobile population ( Nomads, Refugees, Migrants…etc</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Health: Provide basic  health package for the cross border and mobile populations mobile</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Education: Access to the basic needs particularly for the remote people- Mobile schools</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Migration: addressing  the issues if irregular migration in the region  and particularly the human trafficking</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39" name="Rectangle 3" descr=""/>
          <p:cNvPicPr/>
          <p:nvPr/>
        </p:nvPicPr>
        <p:blipFill>
          <a:blip r:embed="rId1"/>
          <a:stretch/>
        </p:blipFill>
        <p:spPr>
          <a:xfrm>
            <a:off x="285840" y="311040"/>
            <a:ext cx="8229600" cy="858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1"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IGAD member countries share common concern about the movement of irregular migrant populations whether inspired by a search for economic opportunity or by other motivation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Title 3" descr=""/>
          <p:cNvPicPr/>
          <p:nvPr/>
        </p:nvPicPr>
        <p:blipFill>
          <a:blip r:embed="rId1"/>
          <a:stretch/>
        </p:blipFill>
        <p:spPr>
          <a:xfrm>
            <a:off x="208080" y="85680"/>
            <a:ext cx="8485200" cy="901800"/>
          </a:xfrm>
          <a:prstGeom prst="rect">
            <a:avLst/>
          </a:prstGeom>
          <a:ln w="0">
            <a:noFill/>
          </a:ln>
        </p:spPr>
      </p:pic>
      <p:sp>
        <p:nvSpPr>
          <p:cNvPr id="243"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GAD Social Protection &amp; Promote the role of social protection as an instrument in  reducing chronic poverty&amp; Food insecurity in the region</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GAD region is one of the most environmental hostile part of the World</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mportant population of nomadic pastoralist dependant  on long term food</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Poverty and Food Security are both pervasive &amp; Chronic</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Program funded by EU trough the  9EDF and its objective is to:</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mprove regional and national policies, to analyze policies and programs, to manage chronic food insecurity and to assess the role of Social protection approaches in sustainably reducing food insecurity and poverty</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Title 3" descr=""/>
          <p:cNvPicPr/>
          <p:nvPr/>
        </p:nvPicPr>
        <p:blipFill>
          <a:blip r:embed="rId1"/>
          <a:stretch/>
        </p:blipFill>
        <p:spPr>
          <a:xfrm>
            <a:off x="208080" y="85680"/>
            <a:ext cx="8485200" cy="901800"/>
          </a:xfrm>
          <a:prstGeom prst="rect">
            <a:avLst/>
          </a:prstGeom>
          <a:ln w="0">
            <a:noFill/>
          </a:ln>
        </p:spPr>
      </p:pic>
      <p:sp>
        <p:nvSpPr>
          <p:cNvPr id="245" name=""/>
          <p:cNvSpPr txBox="1"/>
          <p:nvPr/>
        </p:nvSpPr>
        <p:spPr>
          <a:xfrm>
            <a:off x="457200" y="1143000"/>
            <a:ext cx="8229600" cy="541008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 </a:t>
            </a:r>
            <a:r>
              <a:rPr b="1" lang="en-US" sz="2300" spc="-1" strike="noStrike">
                <a:solidFill>
                  <a:srgbClr val="000000"/>
                </a:solidFill>
                <a:latin typeface="Arial Narrow"/>
              </a:rPr>
              <a:t>The program has the following main activities:</a:t>
            </a: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Review of existing policies and programs</a:t>
            </a: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Review of existing policies and programs</a:t>
            </a:r>
            <a:endParaRPr b="0" lang="en-US" sz="2300" spc="-1" strike="noStrike">
              <a:solidFill>
                <a:srgbClr val="000000"/>
              </a:solidFill>
              <a:latin typeface="Perpetua"/>
            </a:endParaRPr>
          </a:p>
          <a:p>
            <a:pPr lvl="1" marL="547560" indent="-228600">
              <a:lnSpc>
                <a:spcPct val="10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IGAD in collaboration with Member States have undertaken an inventory of existing Social Protection programs and Actors.</a:t>
            </a: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The process of mapping and review  of social interventions are expected to:</a:t>
            </a:r>
            <a:endParaRPr b="0" lang="en-US" sz="23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Provide learning opportunity</a:t>
            </a:r>
            <a:endParaRPr b="0" lang="en-US" sz="19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Stimulate debate &amp; contribute towards the coordination and harmonization of efforts by all stakeholders implementing social protection</a:t>
            </a:r>
            <a:endParaRPr b="0" lang="en-US" sz="19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Findings contribute to policy dialogue with government and key stakeholders</a:t>
            </a:r>
            <a:endParaRPr b="0" lang="en-US" sz="19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contribute to the national protection strategy</a:t>
            </a:r>
            <a:endParaRPr b="0" lang="en-US" sz="1900" spc="-1" strike="noStrike">
              <a:solidFill>
                <a:srgbClr val="000000"/>
              </a:solidFill>
              <a:latin typeface="Perpetua"/>
            </a:endParaRPr>
          </a:p>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Title 3" descr=""/>
          <p:cNvPicPr/>
          <p:nvPr/>
        </p:nvPicPr>
        <p:blipFill>
          <a:blip r:embed="rId1"/>
          <a:stretch/>
        </p:blipFill>
        <p:spPr>
          <a:xfrm>
            <a:off x="208080" y="85680"/>
            <a:ext cx="8485200" cy="901800"/>
          </a:xfrm>
          <a:prstGeom prst="rect">
            <a:avLst/>
          </a:prstGeom>
          <a:ln w="0">
            <a:noFill/>
          </a:ln>
        </p:spPr>
      </p:pic>
      <p:sp>
        <p:nvSpPr>
          <p:cNvPr id="247"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upport to countries in establishing  a national and platform  for sharing experience in the region</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lvl="1" marL="547560" indent="-228600">
              <a:lnSpc>
                <a:spcPct val="10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Most countries have established national Platform</a:t>
            </a:r>
            <a:endParaRPr b="0" lang="en-US" sz="24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osman</cp:lastModifiedBy>
  <dcterms:modified xsi:type="dcterms:W3CDTF">2011-03-10T08:21:36Z</dcterms:modified>
  <cp:revision>1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