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67888-4802-47F2-9346-C61FF7E549C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83AA8-75ED-446A-94BE-BA9AF2FB381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366BF-4009-4E10-BBDA-D226E6A43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B11A9-6958-4476-AB67-4EB7D48E4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524E3-4159-4D90-8BBF-8C0B0C314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FA5FA-FCD0-4BC9-B702-BB11D86C5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0947D-3515-4A8E-B08E-8F62C29D1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657D0-D262-4D3C-98C4-C42B30552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E8358-82A6-40F8-A048-A4331C969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3CE15-DD36-498A-9B32-27976CB13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7FD0E-280B-4E4D-8843-EE2625D79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F0A7C-4358-4725-8DC2-06E01F67E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2C4AF-583B-4008-B212-E01EC96FC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4543F-00BF-4F97-AD2B-16EF066D6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23803-9B33-438F-B82E-FE71CE1A9003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CSOs’ Experiences in Social Protection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98989"/>
                </a:solidFill>
                <a:latin typeface="Verdana"/>
                <a:ea typeface="Verdana"/>
              </a:rPr>
              <a:t>AUC/AU Worksho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98989"/>
                </a:solidFill>
                <a:latin typeface="Verdana"/>
                <a:ea typeface="Verdana"/>
              </a:rPr>
              <a:t>Pan Afric Hotel, Nairob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98989"/>
                </a:solidFill>
                <a:latin typeface="Verdana"/>
                <a:ea typeface="Verdana"/>
              </a:rPr>
              <a:t>10-11  March 201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98989"/>
                </a:solidFill>
                <a:latin typeface="Verdana"/>
                <a:ea typeface="Verdana"/>
              </a:rPr>
              <a:t>Tavengwa M Nhong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98989"/>
                </a:solidFill>
                <a:latin typeface="Verdana"/>
                <a:ea typeface="Verdana"/>
              </a:rPr>
              <a:t>Africa Platform for Social Protec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1" descr="C:\Users\TOSHIBA\Documents\ACSP - Admin docs\Letter head, Logo\APSP_Logo.jpg"/>
          <p:cNvPicPr/>
          <p:nvPr/>
        </p:nvPicPr>
        <p:blipFill>
          <a:blip r:embed="rId1"/>
          <a:stretch/>
        </p:blipFill>
        <p:spPr>
          <a:xfrm>
            <a:off x="7572240" y="6086520"/>
            <a:ext cx="1009800" cy="7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e APS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The Africa Platform for Social Protection (APSP) was established by a group of national and regional organisations from across the African continent as a response to the growing demand for “voice” and more active engagement of African civil society in the shaping of Social Protection policies, programmes, and practices in Africa. It is a network of individuals and organizations operating at national and regional levels, with a commitment to promoting and strengthening the social contract between states and citizen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1" descr="C:\Users\TOSHIBA\Documents\ACSP - Admin docs\Letter head, Logo\APSP_Logo.jpg"/>
          <p:cNvPicPr/>
          <p:nvPr/>
        </p:nvPicPr>
        <p:blipFill>
          <a:blip r:embed="rId1"/>
          <a:stretch/>
        </p:blipFill>
        <p:spPr>
          <a:xfrm>
            <a:off x="8134200" y="6086520"/>
            <a:ext cx="1009800" cy="7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e Experiences of CSO’s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Defining CSO’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CSO’s as the small grassroots group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CSO’s as the small organised groups and registered locally or nationall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CSO’s as big national/regional organisation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CSO’s as the large international NGO’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The presentation looks at al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1" descr="C:\Users\TOSHIBA\Documents\ACSP - Admin docs\Letter head, Logo\APSP_Logo.jpg"/>
          <p:cNvPicPr/>
          <p:nvPr/>
        </p:nvPicPr>
        <p:blipFill>
          <a:blip r:embed="rId1"/>
          <a:stretch/>
        </p:blipFill>
        <p:spPr>
          <a:xfrm>
            <a:off x="8134200" y="6086520"/>
            <a:ext cx="1009800" cy="7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Experiences of CSO’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he INGO’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Have made huge contributions to raising awareness on Social Protectio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Have supported efforts to generate evidence through pilots, reviews, resear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Have supported training/capacity building of those in government and the NGO’s (e.g. EPRI cours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Have funded and supported programmes on S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But Franchophone West Africa has not had the same level of suppor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1" descr="C:\Users\TOSHIBA\Documents\ACSP - Admin docs\Letter head, Logo\APSP_Logo.jpg"/>
          <p:cNvPicPr/>
          <p:nvPr/>
        </p:nvPicPr>
        <p:blipFill>
          <a:blip r:embed="rId1"/>
          <a:stretch/>
        </p:blipFill>
        <p:spPr>
          <a:xfrm>
            <a:off x="8134200" y="6086520"/>
            <a:ext cx="1009800" cy="7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Experiences of CSO’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CSO’s – national level and grassroots organis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Have largely remained out of the wider action on Social Prote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Have not managed to push the demand for SP from the grassroo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Have largely not engaged with the policy  dialogue at the local and national government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1" descr="C:\Users\TOSHIBA\Documents\ACSP - Admin docs\Letter head, Logo\APSP_Logo.jpg"/>
          <p:cNvPicPr/>
          <p:nvPr/>
        </p:nvPicPr>
        <p:blipFill>
          <a:blip r:embed="rId1"/>
          <a:stretch/>
        </p:blipFill>
        <p:spPr>
          <a:xfrm>
            <a:off x="8134200" y="6086520"/>
            <a:ext cx="1009800" cy="7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 way forwar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Value the contributions of the CSO’s and involve them (donors, govts, UN, AU, RECS, etc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CSO’s to work with and along governments since their ownership of programmes will ensure sustainabil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CSO’s to collaborate -not compete/duplicate effor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CSO’s to work with smaller organisations as partn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CSO’s to work with grassroots organisations to increase demand of SP from the botto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nclude Franchophone Africa in the agend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1" descr="C:\Users\TOSHIBA\Documents\ACSP - Admin docs\Letter head, Logo\APSP_Logo.jpg"/>
          <p:cNvPicPr/>
          <p:nvPr/>
        </p:nvPicPr>
        <p:blipFill>
          <a:blip r:embed="rId1"/>
          <a:stretch/>
        </p:blipFill>
        <p:spPr>
          <a:xfrm>
            <a:off x="8134200" y="6086520"/>
            <a:ext cx="1009800" cy="7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 way forwar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Demand from the to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Government action and buy in                     S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Demand from the grassroo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1" descr="C:\Users\TOSHIBA\Documents\ACSP - Admin docs\Letter head, Logo\APSP_Logo.jpg"/>
          <p:cNvPicPr/>
          <p:nvPr/>
        </p:nvPicPr>
        <p:blipFill>
          <a:blip r:embed="rId1"/>
          <a:stretch/>
        </p:blipFill>
        <p:spPr>
          <a:xfrm>
            <a:off x="8134200" y="6086520"/>
            <a:ext cx="1009800" cy="771480"/>
          </a:xfrm>
          <a:prstGeom prst="rect">
            <a:avLst/>
          </a:prstGeom>
          <a:ln w="0">
            <a:noFill/>
          </a:ln>
        </p:spPr>
      </p:pic>
      <p:sp>
        <p:nvSpPr>
          <p:cNvPr id="69" name="Down Arrow 4"/>
          <p:cNvSpPr/>
          <p:nvPr/>
        </p:nvSpPr>
        <p:spPr>
          <a:xfrm>
            <a:off x="7286760" y="2071800"/>
            <a:ext cx="484200" cy="977760"/>
          </a:xfrm>
          <a:prstGeom prst="downArrow">
            <a:avLst>
              <a:gd name="adj1" fmla="val 50000"/>
              <a:gd name="adj2" fmla="val 5001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Up Arrow 6"/>
          <p:cNvSpPr/>
          <p:nvPr/>
        </p:nvSpPr>
        <p:spPr>
          <a:xfrm>
            <a:off x="7358040" y="4286160"/>
            <a:ext cx="484200" cy="978120"/>
          </a:xfrm>
          <a:prstGeom prst="upArrow">
            <a:avLst>
              <a:gd name="adj1" fmla="val 50000"/>
              <a:gd name="adj2" fmla="val 50034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ight Arrow 7"/>
          <p:cNvSpPr/>
          <p:nvPr/>
        </p:nvSpPr>
        <p:spPr>
          <a:xfrm>
            <a:off x="6500880" y="3429000"/>
            <a:ext cx="977760" cy="48420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4T18:44:29Z</dcterms:created>
  <dc:creator>user</dc:creator>
  <dc:description/>
  <dc:language>en-US</dc:language>
  <cp:lastModifiedBy>tnhongo</cp:lastModifiedBy>
  <dcterms:modified xsi:type="dcterms:W3CDTF">2011-03-09T18:16:16Z</dcterms:modified>
  <cp:revision>51</cp:revision>
  <dc:subject/>
  <dc:title>KENYA PLATFORM ON SOCIAL PROTECTION  STRATEGIC PLAN WORKSHOP 25TH -26TH JANUARY 2011  PANAFRIC HOTEL, NAIROBI.</dc:title>
</cp:coreProperties>
</file>