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5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4AAA-3FFE-454E-9377-D41A4D7C3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0f51"/>
                </a:solidFill>
                <a:latin typeface="Tahoma"/>
              </a:rPr>
              <a:t>WIEGOand Senior Research AssociateSchool of Development StudiesUniversity of KwaZulu-Natal4041 Durb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social security system remains fragmented, institutionally weak and unevenly regulated; there exist considerable disparities in social security coverage– by location (urban/rural), gender and employment status; coverage is particularly low among women workers and those in the rural are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 Mapping and Analysis - legislation, national/local govt domain, who controls the physical environment where informal workers are active, training institutions and curricula, platforms/forums for involvement of informal workers in discussions of work conditions and work improv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stat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of the workforce is in the informal sector - they exist everywhere, in every sector and in every profession - for some it is their primary earning, for others informal work supplements their earnings from their formal job. Micro-traders are the largest group of informal opera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1 – this new expanded definition of the “informal economy” or “informal employment” has been endorsed by the 2002 International Labour Conference and the 2003 International Conference of Labour Statistici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2 – the international definition of the “informal sector” that was adopted by the 1993 International Conference of Labour Statisticians included only those who work in informal enterprises (shown in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italic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abo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minantly women &amp; youth : high poverty risk, low earnings - base of the pyram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2363-FEA7-4882-B2C0-1E76FDB28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s engaged in the informal econom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cky entrepreneurs” – to borrow Hernando de Soto’s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poor – as depicted in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 of working Ghanaians &gt;15 yrs, ….% of working Tanzanians over 15 yrs are employed inform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cy reforms should be done through dialogues and nego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ps = large and growing share of self-employment, especially own account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F389-3CEE-4041-B464-576D57C31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E68A-E32A-4ED1-932E-171DA644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EE6A-3D9D-41AA-947D-DE4FBF967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2684-CA74-40F2-89D5-F772E1872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E329-4E7D-4B6E-924D-C8DD6678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9C03-7D41-4C27-B3FF-B6620DB1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6510-E6FB-44D1-A3D9-87825ED4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4563-72EF-4486-B0C6-56EB6B0B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4DFE-3C56-479F-B527-8ECDF236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A0FA-EA83-46A2-8739-CF7EA608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3F2D-8C18-43BA-87D8-BA9D81C5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0825-AF25-4F63-B58A-63C3B302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3ECF-FD93-4D50-9DA4-28595F7E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A12D-7EE0-4A25-B9E4-DDBB0013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1241-0371-4406-AFD2-CDBCEBDF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C477-7DC5-4F92-AE82-F6072F54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71E1-9D93-4C84-AD21-455ADAF4D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BEBA-9BDB-490C-A37C-DFFD4AB9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2F4B-5BBE-43DD-85C4-D5870F11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81DE-43E6-44FB-85F6-3E8BEE6B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B7CE-D5F0-42C2-BDA4-2FF00110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5B0B-D249-41CC-B402-67FB2931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3A0D-D3BE-4604-859F-11DE5DC6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D300-490C-481A-94E5-65DBD7B5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B205-44DE-4741-B2A3-32DDA3F67CB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C785-AA1B-4D7A-A3D4-FEC2CC666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wiego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9FE9-E1FB-4803-A191-5D7326600B8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CUPATIONAL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Protection in Afr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Experiences on the Informal Econom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 &amp; AU Commission Capacity Building Worksh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11 March 2011, Nairobi, Keny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uma Mamdani, Senior Researcher, Ifakara Health Institute, Tanz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ie Lund, WIEGO (SP-OHS Programme Director) and Senior Research Associate, Univ. of KwaZulu, Durban, 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business_card"/>
          <p:cNvPicPr/>
          <p:nvPr/>
        </p:nvPicPr>
        <p:blipFill>
          <a:blip r:embed="rId1"/>
          <a:stretch/>
        </p:blipFill>
        <p:spPr>
          <a:xfrm>
            <a:off x="3603600" y="274680"/>
            <a:ext cx="1967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cial Protection: The Con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t majority of poor who work informal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arious &amp; high risk expos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no social security cover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rotect against short term risks or life-time contin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afford private insurance, 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little access to social in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orer people </a:t>
            </a:r>
            <a:r>
              <a:rPr b="1" lang="en-US" sz="2200" spc="-1" strike="noStrike">
                <a:solidFill>
                  <a:srgbClr val="ce2450"/>
                </a:solidFill>
                <a:latin typeface="Arial"/>
              </a:rPr>
              <a:t>live and work in poor communit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where it is hard to insure against ri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veloping count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insurance do not target informal workers, wage employed or self-em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assistance for poorer and vulnerable people do not target able bodied people of working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Domestic work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tential for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tegrating into existing labour policy and legis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line with ‘extend social protection’ campa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85840" y="1447560"/>
            <a:ext cx="4800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Street and market vend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t national government)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service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duce risk AND increase productivity AND protect both informal workers and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Industrial outwork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employer/ owner-of-capital insur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clude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 social protection for informal workers in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trade agreements/ codes of con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2450"/>
                </a:solidFill>
                <a:latin typeface="Arial"/>
              </a:rPr>
              <a:t>Waste-pick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tiate with municipalities/private sector for provision of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safety equip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reduction of hazards at the place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access for workers 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/private sector social prov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health services and health insurance, training courses, educational burs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re-think OHS as a mo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clusive discip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or different types of informal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titutional re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be necessary – at national and local government level - to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each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informal workers be 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integ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inclusive and sustainable platforms for negotiation and policy develop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PROGRAM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rica 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ana, Tanz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i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hmedabad and Pu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in Americ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, Pe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pational groups, inclu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et ven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genous cate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based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l recycling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estic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icultural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weed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Understanding the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ormal economy in th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mapping and analysis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Participatory research on risks and hazards with M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groups discussions, mobility mapping, time and motion studies, household/ enterprise interviews, photography, health check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EC95-BF5D-459B-88CF-BC36CB7AF03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ZANIA MAINLAND: DATA ON OCCUPATIONAL INJ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data - hugely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der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workers covered by the system - those largely working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round a tenth of workplaces are registe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Environmental haz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idesp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 especially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the majority of the work force is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ers - ofte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a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 OH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ss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emain vulnerable to occupational inju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: OPPORTUNITIES FOR IMPROVED STATISTICS ON OCCUPATIONAL INJURY AND DISEASE FOR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ngthening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 routine coll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district/counci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ed (and nested) questions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eriodic surve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BS, LFS, DHS, census) at nationa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ngoing data collection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rengthening the ro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Municipalities or Counc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ocal Government (LG)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management and implementation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mproved statistics =&gt; improved understanding of OHS complexity =&gt; informed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 SOCIAL PROTECTION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protective laws, policies, programmes &amp; projec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lving multiple state and non-state 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ttered, ill-coordinated and the general impact of these has been limi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t is therefore not just about building new systems and new programmes. It is also about assessing the effectiveness or rather weaknesses of existing systems and programm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: POOR OPERATORS LACK INCENTIVE TO MAINTAIN CLEAN WORKING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genous Caterers Association, Accra: survey of 20 chop bars (informal eating establish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 operators on average spent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around US$ 1,142 annu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water, refuse removal, use of toilets, cleaning equipment, employee health certificates &amp; fire fighting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ow to make OHS more affordable for informal busine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E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global research and advocacy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orking in some 40 countries, promoting and advancing the interests of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er informal work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specially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l work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r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o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es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 member-based organisations (MBOs),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orks with, builds &amp; strength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tworks of informal worker organisations (MBO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s MBOs and informal worker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visibility, voice, and validity (recogn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9A1A-AE7C-452B-BCAA-F4E7556B667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 &amp; TANZANIA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ITUTIONAL PROBLEMS OF LOCAL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horizontal 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ocal government departments that have jurisdiction over various aspects of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 enough fit betwe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LG and national gov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institutionalised 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G and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 dissemination of public in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aws, policies, regulations, by-laws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ufficient reg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privatis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ENTIONS: PREVENTION OF RISKS, IMPROVING WORK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ory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ealth screen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morbidity and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prototypes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rov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new/ modifi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Exchanging good pract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countries; and between national, regional and international organisations &amp; networks of informal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men in Informal Employmen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izing and Organi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160" y="2428920"/>
            <a:ext cx="83055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iego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th OHS micros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inclusivecities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0D40-205A-4D15-9637-6AD91AF24F8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G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ocial Protection, Urban Policies, Global T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3 content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atistics Pro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undamental to greater visibility and recognition, changed the way labour force data is collected in many countries, inc. 14 Af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Organization &amp; Repres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dvocacy wing in direct contact with ‘worker org’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ing &amp;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kshops, policy dialogue, regional meetings, papers, articles, development and dissemination of accessible mater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ANDED DEFINITION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FORMAL ECONOMY (IE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35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E - the diversified set of economic activities, enterprises, and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worker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that are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not</a:t>
            </a:r>
            <a:r>
              <a:rPr b="0" lang="en-GB" sz="1600" spc="-1" strike="noStrike">
                <a:solidFill>
                  <a:srgbClr val="ce245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gulated or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protecte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by the sta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 (or informal employment) includ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e2450"/>
                </a:solidFill>
                <a:latin typeface="Times New Roman"/>
              </a:rPr>
              <a:t>Self-employment in informal enterprise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mploy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wn account ope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npaid contributing family wor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ce2450"/>
                </a:solidFill>
                <a:latin typeface="Times New Roman"/>
              </a:rPr>
              <a:t>Wage employment in informal jobs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in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asual or day labou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ndustrial outworkers (also called homework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Italic"/>
              </a:rPr>
              <a:t>IE</a:t>
            </a:r>
            <a:r>
              <a:rPr b="1" lang="en-US" sz="2000" spc="-1" strike="noStrike">
                <a:solidFill>
                  <a:srgbClr val="ce2450"/>
                </a:solidFill>
                <a:latin typeface="Arial Italic"/>
              </a:rPr>
              <a:t>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inside</a:t>
            </a:r>
            <a:r>
              <a:rPr b="0" i="1" lang="en-US" sz="2000" spc="-1" strike="noStrike">
                <a:solidFill>
                  <a:srgbClr val="000000"/>
                </a:solidFill>
                <a:latin typeface="Arial Ital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and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outside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 informal enterprises (whether carried out for formal sector enterprises or househo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IEGO promoted this expanded definition in collaboration with the ILO and the International Expert Group on Informal Sector Statistics (the Delhi Group): it was endorsed by the International Conference of Labour Statisticians (ICLS) in 2003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GMENTED LABOR MARKETS/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MENT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do we mean by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ts exist which prevent individuals from moving into better employment opportunities (or improving the quality of existing em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causes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imination, social norms, unequal wealth/assets, unpaid care responsibilities, lack of credit, lack of public goods/service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 does ‘segmentation’ ma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inforces existing patterns of poverty and social exclu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equity: gender, racial, caste seg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basic rights and the choices available to individu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e245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e2450"/>
                </a:solidFill>
                <a:latin typeface="Times New Roman"/>
              </a:rPr>
              <a:t>In summary: a social justice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240" y="114300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914400" y="228600"/>
            <a:ext cx="783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GMENTATION OF THE INFORMAL ECONOMY: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Y SEX, AVERAGE EARNINGS, AND POVERTY RISK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RKING POOR IN THE INFORMAL ECONO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2"/>
          <p:cNvGraphicFramePr/>
          <p:nvPr/>
        </p:nvGraphicFramePr>
        <p:xfrm>
          <a:off x="6172200" y="1143000"/>
          <a:ext cx="2514600" cy="19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143000"/>
                    <a:ext cx="2514600" cy="19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3"/>
          <p:cNvGraphicFramePr/>
          <p:nvPr/>
        </p:nvGraphicFramePr>
        <p:xfrm>
          <a:off x="457200" y="5105520"/>
          <a:ext cx="251460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105520"/>
                    <a:ext cx="25146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4"/>
          <p:cNvGraphicFramePr/>
          <p:nvPr/>
        </p:nvGraphicFramePr>
        <p:xfrm>
          <a:off x="6172200" y="3276720"/>
          <a:ext cx="259092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3276720"/>
                    <a:ext cx="25909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6"/>
          <p:cNvSpPr/>
          <p:nvPr/>
        </p:nvSpPr>
        <p:spPr>
          <a:xfrm>
            <a:off x="3200400" y="1219320"/>
            <a:ext cx="44197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Unregulated Factories: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Small Workshop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rap metal recyclers 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av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 and 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per-bag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n Streets or In Open Spac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ree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sh-car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bage collect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adside barb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struction wor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Fields, Pastures, and Fores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mall farm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gricultural labou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epherd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est gath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  Hom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wor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ma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tisans or craft produc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semblers of electronic part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111" name="Object 5"/>
          <p:cNvGraphicFramePr/>
          <p:nvPr/>
        </p:nvGraphicFramePr>
        <p:xfrm>
          <a:off x="457200" y="3200400"/>
          <a:ext cx="2438280" cy="167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200400"/>
                    <a:ext cx="2438280" cy="16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457200" y="1219320"/>
          <a:ext cx="2438280" cy="185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1219320"/>
                    <a:ext cx="243828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7"/>
          <p:cNvGraphicFramePr/>
          <p:nvPr/>
        </p:nvGraphicFramePr>
        <p:xfrm>
          <a:off x="6172200" y="5181480"/>
          <a:ext cx="2666880" cy="1676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5181480"/>
                    <a:ext cx="26668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LOYMENT, INFORMALITY, POVERTY</a:t>
            </a:r>
            <a:br>
              <a:rPr sz="36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ment - the most important way in which the benefits of growth can be sha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of the world’s poor – especially in developing countries –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l rather than formal employment is on the r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vast majority of the working poor – those who earn less than US$ 1 per day - earn their living in the informal economy 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 earnings are 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 are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Poverty reduction is not possible wi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formal employment opportuniti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the assets and earning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reducing the risks of those who work in the informal econo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CY AND INSTITUTIONAL REFORM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THROUGH DIALOGUE AND NEGO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partite dialogues and negot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initiat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nvolving multiple relevant stakehold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e.g.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Fair Trade and Ethical T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Global Compa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refor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Times New Roman"/>
              </a:rPr>
              <a:t>Process should involve all relevant key stakehold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government (national &amp; local), private sector, civil society (trade unions + MBOs of working poor + NGOs working on labor and employment issues, employer associ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0:03:53Z</dcterms:created>
  <dc:creator>user</dc:creator>
  <dc:description/>
  <dc:language>en-US</dc:language>
  <cp:lastModifiedBy>user</cp:lastModifiedBy>
  <dcterms:modified xsi:type="dcterms:W3CDTF">2011-03-09T12:18:44Z</dcterms:modified>
  <cp:revision>26</cp:revision>
  <dc:subject/>
  <dc:title>PowerPoint Presentation</dc:title>
</cp:coreProperties>
</file>