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7960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796800" cy="985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33120" y="738360"/>
            <a:ext cx="4930920" cy="369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4ADAB-856D-4E94-9D2C-BDC4603551AC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FA5F9-FC30-45B7-829F-315D316C5105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F8C9A-5506-4996-AB83-9F9FC52FCD64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Despite the lack of a coherent policy framework there are widespread actions: support to home grown reforms of SP systems, through Food Security programm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A8E9A-FF4D-4F6A-B834-80EAE766C8FF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1st Africa-EU Summit: 2000 Cairo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2nd 2007 Lisbon =&gt; JAES: strategic partnership beyond development (political dialogu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3rd 2010 Tripoli =&gt; 2nd Action Pl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99C12-1BA9-4CBC-91F4-4E366351B033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1st AP: main interest around mig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Empl+SP only from 2010 and in 2nd A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Dakar 20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47797-6EBE-415D-A7AB-518D9AEBFCEF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1st Africa-EU Summit: 2000 Cairo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2nd 2007 Lisbon =&gt; JAES: strategic partnership beyond development (political dialogu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3rd 2010 Tripoli =&gt; 2nd Action Pl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19DA1-D5E8-40DE-819C-6268C33EFD45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1st Africa-EU Summit: 2000 Cairo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2nd 2007 Lisbon =&gt; JAES: strategic partnership beyond development (political dialogu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3rd 2010 Tripoli =&gt; 2nd Action Pl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7CA95-C6B7-475D-804E-7BAF1F88F54A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1st Africa-EU Summit: 2000 Cairo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2nd 2007 Lisbon =&gt; JAES: strategic partnership beyond development (political dialogu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3rd 2010 Tripoli =&gt; 2nd Action Pl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38B7D-CF04-4C46-B15F-CB65A9DFFAFD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EU has a long history of SP within Europe – there is a European Social Model even if there are major differences among national syste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DEV POL: EU Consensus – empl+social cohesion as one of 9 priority areas of EU 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2009 OECD policy statement on the role of employment and social protection in making economic growth more pro-po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34B3D-F926-4A3A-A9C5-9526FB2C9551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€</a:t>
            </a: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1bn Food Facility (2008 – social transfer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€</a:t>
            </a: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1bn MDG initiative (201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7C1BB-2683-4EA1-B62A-40CB7DC733F0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MDG Action Plan: support to wide-range coverage SP systems which are key element of social cohesion and stabil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62F63-E1CC-4DF9-98E6-4F7F701A12DE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FF52F-B011-4628-9BB5-5AC56816D9C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30927-F38C-4D15-BD4A-E0E246F1E8F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F097A-B694-43A7-916A-FB6C866D781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3006-C97B-43C7-9290-CABA9C198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1F46-ADB9-4B42-8154-BE901B2D9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FBB5-757C-4DD9-9B04-781B565FB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8024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123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477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98024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123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C267-D14B-4044-8449-DB2BFFDAA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0736C-456F-40FB-9719-2403BBBBD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0D383-1C12-4FE2-AAB5-2BB46CB13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4C4CC-A83E-4744-90B5-E9B655FEC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F7B1D-ADA1-48DB-AA0D-137B14840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D4EE9-DEAD-41A7-A682-E67BB2A77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440" y="83772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ACB1B-2475-4451-AF8B-D368AFA55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7A199-8F38-4E99-A332-AB391645B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99F3-0DFA-405C-8B61-1F7FDFB04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AE365-C908-4E6D-AD2F-0CBC90B90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5A124-5A9B-409B-BC22-0BEF24618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83431-0BC3-4AFE-BD93-DEA4156D8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1B346-F66F-4C6F-83E1-15062C4C4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8024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9123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0477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498024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9123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49C08-4021-429A-93AA-C671B06FB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BD5A-2BBD-4A52-AFA0-673F76335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E9BE-FF03-4542-AC47-F7C34618D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69EE-AD59-4CD5-8266-0B6ADE9C4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440" y="83772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05B4-2A4F-4677-852B-3EA4D26A1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E670-862A-4077-BAB3-DABB31033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751E-ECD5-4344-8D93-C5A1AF042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1709-904D-4CEF-B9F3-1E555A8B1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2" marL="1017000" indent="-20340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3" marL="1424160" indent="-20340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4" marL="1830960" indent="-203400">
              <a:spcBef>
                <a:spcPts val="700"/>
              </a:spcBef>
              <a:buClr>
                <a:srgbClr val="ffff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5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6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78D20-9AA4-4D4E-957B-BDB634F9CE79}" type="datetime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689BA-962A-4E6C-B06C-F1F4586D089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Picture 19" descr="banner_en"/>
          <p:cNvPicPr/>
          <p:nvPr/>
        </p:nvPicPr>
        <p:blipFill>
          <a:blip r:embed="rId2"/>
          <a:stretch/>
        </p:blipFill>
        <p:spPr>
          <a:xfrm>
            <a:off x="3048120" y="5578560"/>
            <a:ext cx="5715000" cy="593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" name="Object 24"/>
          <p:cNvGraphicFramePr/>
          <p:nvPr/>
        </p:nvGraphicFramePr>
        <p:xfrm>
          <a:off x="662040" y="4562640"/>
          <a:ext cx="2157480" cy="1609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" name="Object 2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2040" y="4562640"/>
                    <a:ext cx="2157480" cy="160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7" descr="banner_en"/>
          <p:cNvPicPr/>
          <p:nvPr/>
        </p:nvPicPr>
        <p:blipFill>
          <a:blip r:embed="rId2"/>
          <a:stretch/>
        </p:blipFill>
        <p:spPr>
          <a:xfrm>
            <a:off x="685800" y="457200"/>
            <a:ext cx="5715000" cy="593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8"/>
          <p:cNvGraphicFramePr/>
          <p:nvPr/>
        </p:nvGraphicFramePr>
        <p:xfrm>
          <a:off x="662040" y="3733920"/>
          <a:ext cx="2919240" cy="217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2040" y="3733920"/>
                    <a:ext cx="2919240" cy="21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2" marL="1017000" indent="-20340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3" marL="1424160" indent="-20340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4" marL="1830960" indent="-203400">
              <a:spcBef>
                <a:spcPts val="700"/>
              </a:spcBef>
              <a:buClr>
                <a:srgbClr val="ffff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5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6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440A6-5440-4B0D-9B91-8FA83643111E}" type="datetime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147BF-01A3-45F8-89F8-F842ED197F6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ec.europa.eu/europeaid/what/social-protection/index_en.htm" TargetMode="External"/><Relationship Id="rId2" Type="http://schemas.openxmlformats.org/officeDocument/2006/relationships/hyperlink" Target="http://www.africa-eu-partnership.org/" TargetMode="External"/><Relationship Id="rId3" Type="http://schemas.openxmlformats.org/officeDocument/2006/relationships/hyperlink" Target="http://www.africa-eu-partnership.org/" TargetMode="External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AC019-16CC-4CDE-89B6-26D6F48BA50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1752480"/>
            <a:ext cx="84582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ahoma"/>
              </a:rPr>
              <a:t>EU-AU Workshop on </a:t>
            </a: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Social protection</a:t>
            </a:r>
            <a:br>
              <a:rPr sz="3600"/>
            </a:b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- in the </a:t>
            </a:r>
            <a:r>
              <a:rPr b="0" lang="sv-SE" sz="3200" spc="-1" strike="noStrike">
                <a:solidFill>
                  <a:srgbClr val="ffff00"/>
                </a:solidFill>
                <a:latin typeface="Tahoma"/>
              </a:rPr>
              <a:t>informal economy</a:t>
            </a:r>
            <a:br>
              <a:rPr sz="3200"/>
            </a:br>
            <a:br>
              <a:rPr sz="3200"/>
            </a:br>
            <a:r>
              <a:rPr b="0" i="1" lang="sv-SE" sz="2800" spc="-1" strike="noStrike">
                <a:solidFill>
                  <a:srgbClr val="ffff00"/>
                </a:solidFill>
                <a:latin typeface="Tahoma"/>
              </a:rPr>
              <a:t>Nairobi 10-11 March 2011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267080" y="441972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Hjördis Ogendo/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Tamás Várnai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European Commission DG EuropeAid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4FB49-3F69-4D2B-8D09-DC10FECD4AE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EC support to social protection </a:t>
            </a: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EC is present in all regions – levels and means of cooperation / a demand driven and differentiated approach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Latin America: 40% of cooperation to social sector/social protection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47065-B3AA-4DCD-95E1-55F572DE05D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EC support to social protection </a:t>
            </a: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Asia: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increasingly political dialogue but important bilateral cooperation support to social protection reforms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Sector budget support to Kyrgyzstan, Tajikistan. 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Afghanistan, China,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B4EE6-1863-4934-A7FB-2964EB68475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EC support to social protection </a:t>
            </a:r>
            <a:br>
              <a:rPr sz="3600"/>
            </a:b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in Africa (country programmes)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00"/>
                </a:solidFill>
                <a:latin typeface="Tahoma"/>
              </a:rPr>
              <a:t>Ethiopia: Productive Safety Net Programme (WB Trust Fund)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00"/>
                </a:solidFill>
                <a:latin typeface="Tahoma"/>
              </a:rPr>
              <a:t>Rwanda: comprehensive social protection programme through sector budget support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00"/>
                </a:solidFill>
                <a:latin typeface="Tahoma"/>
              </a:rPr>
              <a:t>Lesotho, Zimbabwe: support to OVC (cash transfers)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490D0-8BC9-4280-B7D5-DD811B6A409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EU-A</a:t>
            </a:r>
            <a:r>
              <a:rPr b="0" lang="en-GB" sz="3200" spc="-1" strike="noStrike">
                <a:solidFill>
                  <a:srgbClr val="ffff00"/>
                </a:solidFill>
                <a:latin typeface="Tahoma"/>
              </a:rPr>
              <a:t>frica</a:t>
            </a: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 cooperation on social protection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2437920" y="1752480"/>
            <a:ext cx="62485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48280" indent="-5482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Tahoma"/>
              </a:rPr>
              <a:t>Joint Africa-EU Strategy  -  8 partnerships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548280" indent="-5482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Peace &amp; Security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Democratic Governance &amp; Human Rights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Regional Economic Integration, Trade &amp; Infrastructure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MDGs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Climate Change &amp; Environment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Energy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Migration, Mobility &amp; Employment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Science, Information Society &amp; Space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F5E0F-A3E9-4D41-A9AE-A6F71A6DB98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Partnership on </a:t>
            </a:r>
            <a:br>
              <a:rPr sz="3200"/>
            </a:b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Migration, Mobility and Employment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7760" y="1752120"/>
            <a:ext cx="57150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800" spc="-1" strike="noStrike">
                <a:solidFill>
                  <a:srgbClr val="ffff00"/>
                </a:solidFill>
                <a:latin typeface="Tahoma"/>
              </a:rPr>
              <a:t>12 initiatives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5 migration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3 employment</a:t>
            </a: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 related</a:t>
            </a: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1 social protection initiative</a:t>
            </a: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 (part of decent work initiative)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3 higher education / student mobility initiatives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10CF4-4E34-4166-B54E-4F9BEB43E03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EU-AU cooperation on social protection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2438280" y="1752480"/>
            <a:ext cx="64771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432720" indent="-432720"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Decent work initiative –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AUC and EC will launch a project on extending SP in the informal economy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Supporting AU programme on upgrading the informal economy  and the Productiviy Agenda for Africa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7.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BEBD4-5F4D-4C17-AD3C-4F61DC6A47D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EU-AU cooperation on social protection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2437920" y="1752480"/>
            <a:ext cx="62485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7.</a:t>
            </a: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Labour market governance and capacity building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603360" indent="-60336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Strengthening institutional capacity of labour market institutions in Africa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Target public employment services and labour adminstrations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603360" indent="-60336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603360" indent="-60336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00"/>
                </a:solidFill>
                <a:latin typeface="Tahoma"/>
              </a:rPr>
              <a:t>,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ECC6B-FD96-4955-8DFC-22B5F619200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EU-AU cooperation on social protection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2971800" y="1752480"/>
            <a:ext cx="59436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481320" indent="-4813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8. Regional ans sub-regional fora on employment, labour, social protection and labour migration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81320" indent="-4813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81320" indent="-4813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Support harmonisation processes of labour market and social protection frameworks at regional levels, in cooperation with the RECs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81320" indent="-4813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81320" indent="-481320"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81320" indent="-4813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81320" indent="-481320"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81320" indent="-4813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7.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63FE8-DDF6-4FA4-9FD7-F4A19BA1AFF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More information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7760" y="2209320"/>
            <a:ext cx="57150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Social Protection in EU cooperation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 u="sng">
                <a:solidFill>
                  <a:srgbClr val="ccccff"/>
                </a:solidFill>
                <a:uFillTx/>
                <a:latin typeface="Tahoma"/>
                <a:hlinkClick r:id="rId1"/>
              </a:rPr>
              <a:t>http://ec.europa.eu/europeaid/what/social-protection/index_en.htm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Joint </a:t>
            </a: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Africa-EU Stra</a:t>
            </a: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t</a:t>
            </a: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egy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 u="sng">
                <a:solidFill>
                  <a:srgbClr val="ccccff"/>
                </a:solidFill>
                <a:uFillTx/>
                <a:latin typeface="Tahoma"/>
                <a:hlinkClick r:id="rId2"/>
              </a:rPr>
              <a:t>http://</a:t>
            </a:r>
            <a:r>
              <a:rPr b="0" lang="hu-HU" sz="2000" spc="-1" strike="noStrike" u="sng">
                <a:solidFill>
                  <a:srgbClr val="ccccff"/>
                </a:solidFill>
                <a:uFillTx/>
                <a:latin typeface="Tahoma"/>
                <a:hlinkClick r:id="rId3"/>
              </a:rPr>
              <a:t>www.africa-eu-partnership.org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6B42B-252B-4AAA-AC38-7FF34404029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1600200" y="2514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ffff00"/>
                </a:solidFill>
                <a:latin typeface="Tahoma"/>
              </a:rPr>
              <a:t>Thank you for your attention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6EEFD-4E75-475E-AE3F-004270567A7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1752480"/>
            <a:ext cx="84582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Social protection in EU development cooperation and in EU-A</a:t>
            </a: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U </a:t>
            </a: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relations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267080" y="441972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Hjördis Ogendo/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Tamás Várnai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European Commission DG EuropeAid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8F2E5-417F-46CB-9CA4-35D3338AD8A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440" y="1752480"/>
            <a:ext cx="8458200" cy="32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1. EU Political Context</a:t>
            </a:r>
            <a:br>
              <a:rPr sz="2800"/>
            </a:br>
            <a:br>
              <a:rPr sz="2800"/>
            </a:b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2. Social protection from an EC perspective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343400" y="3962520"/>
            <a:ext cx="41148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3. EC support to social protection </a:t>
            </a:r>
            <a:br>
              <a:rPr sz="2800"/>
            </a:b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4. EU- Africa Strategy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F13E0-6A57-48B2-BCD3-32C29990F82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EU political context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ffff00"/>
              </a:buClr>
              <a:buSzPct val="6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600" spc="-1" strike="noStrike">
                <a:solidFill>
                  <a:srgbClr val="ffff00"/>
                </a:solidFill>
                <a:latin typeface="Tahoma"/>
              </a:rPr>
              <a:t>European Consensus for Development (2005)</a:t>
            </a: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ff00"/>
              </a:buClr>
              <a:buSzPct val="6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600" spc="-1" strike="noStrike">
                <a:solidFill>
                  <a:srgbClr val="ffff00"/>
                </a:solidFill>
                <a:latin typeface="Tahoma"/>
              </a:rPr>
              <a:t>Communication and Council Conclusions on ‘Promoting Decent Work for all (2006)</a:t>
            </a: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ff00"/>
              </a:buClr>
              <a:buSzPct val="6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600" spc="-1" strike="noStrike">
                <a:solidFill>
                  <a:srgbClr val="ffff00"/>
                </a:solidFill>
                <a:latin typeface="Tahoma"/>
              </a:rPr>
              <a:t>Staff working paper on “Promoting Employment through EU Development Cooperation” (2007) and </a:t>
            </a: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6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i="1" lang="en-IE" sz="1600" spc="-1" strike="noStrike">
                <a:solidFill>
                  <a:srgbClr val="ffff00"/>
                </a:solidFill>
                <a:latin typeface="Tahoma"/>
              </a:rPr>
              <a:t>Council conclusions including on social protection </a:t>
            </a: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C436C-44F2-4BA2-9B24-9833B5338B6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00"/>
                </a:solidFill>
                <a:latin typeface="Tahoma"/>
              </a:rPr>
              <a:t>2009 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C</a:t>
            </a:r>
            <a:r>
              <a:rPr b="0" lang="hu-HU" sz="2400" spc="-1" strike="noStrike">
                <a:solidFill>
                  <a:srgbClr val="ffff00"/>
                </a:solidFill>
                <a:latin typeface="Tahoma"/>
              </a:rPr>
              <a:t>ommunication on </a:t>
            </a:r>
            <a:br>
              <a:rPr sz="2400"/>
            </a:br>
            <a:r>
              <a:rPr b="0" lang="hu-HU" sz="2400" spc="-1" strike="noStrike">
                <a:solidFill>
                  <a:srgbClr val="ffff00"/>
                </a:solidFill>
                <a:latin typeface="Tahoma"/>
              </a:rPr>
              <a:t>Supporting developing countries </a:t>
            </a:r>
            <a:br>
              <a:rPr sz="2400"/>
            </a:br>
            <a:r>
              <a:rPr b="0" lang="hu-HU" sz="2400" spc="-1" strike="noStrike">
                <a:solidFill>
                  <a:srgbClr val="ffff00"/>
                </a:solidFill>
                <a:latin typeface="Tahoma"/>
              </a:rPr>
              <a:t>in coping with the crisis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00"/>
                </a:solidFill>
                <a:latin typeface="Tahoma"/>
              </a:rPr>
              <a:t>EU committed to support developing countries in their efforts in setting up or strengthening social protection systems and programm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00"/>
                </a:solidFill>
                <a:latin typeface="Tahoma"/>
              </a:rPr>
              <a:t>2009 and 2010 Ad hoc Vulnerable Flex mechanis</a:t>
            </a:r>
            <a:r>
              <a:rPr b="0" lang="hu-HU" sz="2000" spc="-1" strike="noStrike">
                <a:solidFill>
                  <a:srgbClr val="ffff00"/>
                </a:solidFill>
                <a:latin typeface="Tahoma"/>
              </a:rPr>
              <a:t>m</a:t>
            </a:r>
            <a:r>
              <a:rPr b="0" lang="sv-SE" sz="2000" spc="-1" strike="noStrike">
                <a:solidFill>
                  <a:srgbClr val="ffff00"/>
                </a:solidFill>
                <a:latin typeface="Tahoma"/>
              </a:rPr>
              <a:t> / safeguard social spending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00"/>
                </a:solidFill>
                <a:latin typeface="Tahoma"/>
              </a:rPr>
              <a:t>2010 Communication 12 point EU Action plan in support of the MDG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89BE8-45A2-4FCE-94D7-A6583144106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E</a:t>
            </a:r>
            <a:r>
              <a:rPr b="0" lang="en-GB" sz="3600" spc="-1" strike="noStrike">
                <a:solidFill>
                  <a:srgbClr val="ffff00"/>
                </a:solidFill>
                <a:latin typeface="Tahoma"/>
              </a:rPr>
              <a:t>U initiatives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2971440" y="19810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6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6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00"/>
                </a:solidFill>
                <a:latin typeface="Tahoma"/>
              </a:rPr>
              <a:t>European Report on Development 2010 focuses on poverty, inequality, social protection in (primarily) sub-Saharan Africa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6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6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00"/>
                </a:solidFill>
                <a:latin typeface="Tahoma"/>
              </a:rPr>
              <a:t>EC Reference Document on Social Transfers in the fight against hunger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6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00"/>
                </a:solidFill>
                <a:latin typeface="Tahoma"/>
              </a:rPr>
              <a:t>Social protection is a social</a:t>
            </a: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 ….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3581280" y="2437920"/>
            <a:ext cx="556272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b3b3b3"/>
                </a:solidFill>
                <a:latin typeface="Tahoma"/>
              </a:rPr>
              <a:t>Promote social cohesion and stability – redistribution system as reducing inequalities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b3b3b3"/>
                </a:solidFill>
                <a:latin typeface="Tahoma"/>
              </a:rPr>
              <a:t>Endorse a human rights approach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”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30A1C-00F5-4AB8-B01F-A80422E56710}" type="slidenum">
              <a:rPr b="0" lang="en-GB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581280" y="2286000"/>
            <a:ext cx="55627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b3b3b3"/>
                </a:solidFill>
                <a:latin typeface="Tahoma"/>
              </a:rPr>
              <a:t>chock absorber of crisis;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b3b3b3"/>
                </a:solidFill>
                <a:latin typeface="Tahoma"/>
              </a:rPr>
              <a:t>reduces poverty and supports pro-poor economic growth (impact on human development, access to education and health etc)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b3b3b3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b3b3b3"/>
                </a:solidFill>
                <a:latin typeface="Tahoma"/>
              </a:rPr>
              <a:t>social protection as a productive factor”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2387F-46D2-404E-8D24-17EC085BA5D1}" type="slidenum">
              <a:rPr b="0" lang="en-GB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Tahoma"/>
              </a:rPr>
              <a:t>and an economic necessity</a:t>
            </a:r>
            <a:br>
              <a:rPr sz="2400"/>
            </a:b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2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00"/>
                </a:solidFill>
                <a:latin typeface="Tahoma"/>
              </a:rPr>
              <a:t>Challenges for social protection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3809520" y="2361960"/>
            <a:ext cx="53341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Raise awareness/evidence on the positive impacts of social protection</a:t>
            </a: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Affordability – how to find fiscal space for social protection/home-grown, long term financially sustainably;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How to extend social protection for people in the informal economy/rural areas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1425F-F0C8-47C7-B731-21D24111895F}" type="slidenum">
              <a:rPr b="0" lang="en-GB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1T02:57:42Z</dcterms:created>
  <dc:creator>Christoph Raudonat</dc:creator>
  <dc:description/>
  <dc:language>en-US</dc:language>
  <cp:lastModifiedBy>aidco-sd-tech2</cp:lastModifiedBy>
  <dcterms:modified xsi:type="dcterms:W3CDTF">2011-03-31T14:56:36Z</dcterms:modified>
  <cp:revision>53</cp:revision>
  <dc:subject/>
  <dc:title>PowerPoint Presentation</dc:title>
</cp:coreProperties>
</file>